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5D7B-CBE8-4D7D-8FC2-A02A329D2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3C6F-F7DA-447A-9694-B29F24321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0368-045B-40A1-ADB0-61FED06F5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1F5E-EE6E-42D1-86A0-25D05D6AE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CEF1-8CEF-4A42-9BFB-C9FE4B76D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E878-F0D6-4444-BF63-CED57DB9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5E35-1451-4A81-AF9D-206C52C5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AE23-B0D3-402B-B2CD-ADCE4AFDA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955A-C44A-4F30-A18F-DD8D8CA16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2E0F-835E-4DE1-9DA7-5ED5CB19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806B-F6BE-43B9-8F78-B6A795A1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7695-9AAF-478B-AB12-825BE218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3FF50-D827-4787-A2D2-D28D9CE655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228600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The Markstrat Challenge I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47242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icencia MS350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partamento de Ingeniería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pública 7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ntiago,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y requiere además trabajar efectivamente con su departamento de I&amp;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oficina" descr=""/>
          <p:cNvPicPr/>
          <p:nvPr/>
        </p:nvPicPr>
        <p:blipFill>
          <a:blip r:embed="rId1"/>
          <a:stretch/>
        </p:blipFill>
        <p:spPr>
          <a:xfrm>
            <a:off x="1143000" y="3390840"/>
            <a:ext cx="2057400" cy="18511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838080" y="2971800"/>
            <a:ext cx="259092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LUZ" descr=""/>
          <p:cNvPicPr/>
          <p:nvPr/>
        </p:nvPicPr>
        <p:blipFill>
          <a:blip r:embed="rId2"/>
          <a:stretch/>
        </p:blipFill>
        <p:spPr>
          <a:xfrm flipH="1">
            <a:off x="1981080" y="2666880"/>
            <a:ext cx="349200" cy="6303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36232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43828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7652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2286000" y="25142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76520" y="2514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133720" y="2361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1752480" y="29718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3581280"/>
            <a:ext cx="3581280" cy="838440"/>
          </a:xfrm>
          <a:prstGeom prst="hexagon">
            <a:avLst>
              <a:gd name="adj" fmla="val 33143"/>
              <a:gd name="vf" fmla="val 11547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5880" y="1523880"/>
            <a:ext cx="1981440" cy="1981440"/>
          </a:xfrm>
          <a:prstGeom prst="downArrowCallout">
            <a:avLst>
              <a:gd name="adj1" fmla="val 25002"/>
              <a:gd name="adj2" fmla="val 25000"/>
              <a:gd name="adj3" fmla="val 16667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úmer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0800000">
            <a:off x="6095880" y="4571640"/>
            <a:ext cx="1981440" cy="1981080"/>
          </a:xfrm>
          <a:prstGeom prst="downArrowCallout">
            <a:avLst>
              <a:gd name="adj1" fmla="val 25007"/>
              <a:gd name="adj2" fmla="val 25005"/>
              <a:gd name="adj3" fmla="val 16667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54280" y="5486400"/>
            <a:ext cx="168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imi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86480" y="1752480"/>
            <a:ext cx="412488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 &amp; D = Centro de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0720" y="5410080"/>
            <a:ext cx="483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veer suficientes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ijar costos unitarios esp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029200" y="1676520"/>
            <a:ext cx="0" cy="480060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l realizar I&amp;D, tenga presente considerar factores de posicionamiento y económ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8600" y="2438280"/>
            <a:ext cx="914400" cy="838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2438280"/>
            <a:ext cx="914400" cy="838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09680" y="2438280"/>
            <a:ext cx="914400" cy="838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00400" y="2438280"/>
            <a:ext cx="914400" cy="838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Fre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Máx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91120" y="2438280"/>
            <a:ext cx="91440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" y="3505320"/>
            <a:ext cx="48769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013480" y="1752480"/>
            <a:ext cx="13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95280" y="3733920"/>
            <a:ext cx="27198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ás import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8080" y="4572000"/>
            <a:ext cx="3581640" cy="2057400"/>
          </a:xfrm>
          <a:prstGeom prst="upArrowCallout">
            <a:avLst>
              <a:gd name="adj1" fmla="val 43525"/>
              <a:gd name="adj2" fmla="val 43521"/>
              <a:gd name="adj3" fmla="val 16667"/>
              <a:gd name="adj4" fmla="val 666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ecesidades del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rcas competi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ango fact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supuesto de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876920" y="4572000"/>
            <a:ext cx="4038480" cy="2057400"/>
          </a:xfrm>
          <a:prstGeom prst="upArrowCallout">
            <a:avLst>
              <a:gd name="adj1" fmla="val 38735"/>
              <a:gd name="adj2" fmla="val 42202"/>
              <a:gd name="adj3" fmla="val 16667"/>
              <a:gd name="adj4" fmla="val 666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rgen espe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de otros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supuesto de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mpacto de 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559840" y="2895480"/>
            <a:ext cx="274572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(a 100K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e produc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554160" y="1752480"/>
            <a:ext cx="91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mpacto de las características físicas en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0880" y="1600200"/>
            <a:ext cx="8305920" cy="2362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0880" y="4114800"/>
            <a:ext cx="8305920" cy="2362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1600200"/>
            <a:ext cx="274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ientras MAYOR sea la característica solicitada, MAYOR será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4114800"/>
            <a:ext cx="259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ientras MAYOR sea la característica solicitada, MENOR será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6200" y="60958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886200" y="42670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99960" y="4191120"/>
            <a:ext cx="7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67840" y="609588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racterístic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86200" y="35812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3886200" y="17524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99960" y="1676520"/>
            <a:ext cx="7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67840" y="358128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racterístic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114800" y="4495680"/>
            <a:ext cx="1600200" cy="1371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4038480" y="1828440"/>
            <a:ext cx="182880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411960" y="1905120"/>
            <a:ext cx="23428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Frecuencia Má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ut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632280" y="4648320"/>
            <a:ext cx="14803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iáme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presupuesto requerido para completar un proyecto de I&amp;D es función de diversos fac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4920" y="1371600"/>
            <a:ext cx="8001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cerdo" descr=""/>
          <p:cNvPicPr/>
          <p:nvPr/>
        </p:nvPicPr>
        <p:blipFill>
          <a:blip r:embed="rId1"/>
          <a:stretch/>
        </p:blipFill>
        <p:spPr>
          <a:xfrm>
            <a:off x="7162920" y="609480"/>
            <a:ext cx="1751040" cy="20574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2362320" y="1600200"/>
            <a:ext cx="2514600" cy="160020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xper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n I &amp;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10800000">
            <a:off x="2361960" y="5105160"/>
            <a:ext cx="2514600" cy="152388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rot="16200000">
            <a:off x="190440" y="3085560"/>
            <a:ext cx="2514600" cy="228600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04920" y="38862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829600" y="5562720"/>
            <a:ext cx="1550880" cy="7038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sto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Requer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38280" y="3505320"/>
            <a:ext cx="245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supuesto de I &amp; D requer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952880" y="2819520"/>
            <a:ext cx="3810240" cy="373356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8760" y="3005280"/>
            <a:ext cx="32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averiguar má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181480" y="3657600"/>
            <a:ext cx="1752840" cy="91440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xact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181480" y="5257800"/>
            <a:ext cx="1752840" cy="91440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elo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517360" y="464832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34320" y="3657600"/>
            <a:ext cx="176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Estudio de factibil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934320" y="5257800"/>
            <a:ext cx="176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Preguntas en lín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Hay dos posibles resultados de un proyecto de I &amp;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flechas3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728640" cy="76212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650880" y="1371600"/>
            <a:ext cx="31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royecto sometido a I &amp; 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860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18288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0512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74320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fre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má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581280" y="18288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860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066680" y="22860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90512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74320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581280" y="22860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00440" y="2843280"/>
            <a:ext cx="289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aso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osto base requerido = $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55560" y="3397320"/>
            <a:ext cx="36576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ahoma"/>
              </a:rPr>
              <a:t>(el costo base requerido está bajo el mínimo, pero la I &amp; D tratará de desarrollar el proyecto a un mínimo costo ba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0" y="1981080"/>
            <a:ext cx="838080" cy="762120"/>
          </a:xfrm>
          <a:prstGeom prst="rightArrow">
            <a:avLst>
              <a:gd name="adj1" fmla="val 50000"/>
              <a:gd name="adj2" fmla="val 2749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181480" y="1752480"/>
            <a:ext cx="3276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El costo base mínimo es calculado en una etapa temprana del proye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osto Base mínimo = $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95680" y="2895480"/>
            <a:ext cx="4648320" cy="3962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252400" y="2887560"/>
            <a:ext cx="301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aso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osto base requerido = $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3886200"/>
            <a:ext cx="815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El presupuesto requerido para completarlo es también calculado en una etapa temprana del proye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" y="5289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0" y="502920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975960" y="5029200"/>
            <a:ext cx="9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76160" y="5002200"/>
            <a:ext cx="9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-151200" y="5362560"/>
            <a:ext cx="48045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asignado  por equipo para perío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60680" y="55911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1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17000" y="55911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8600" y="6276960"/>
            <a:ext cx="19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válido a costo base = 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219320" y="5896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200400" y="589608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02200" y="6276960"/>
            <a:ext cx="20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fraca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-131400" y="4495680"/>
            <a:ext cx="47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requerido para completarlo = $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a costo base = $1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099040" y="5289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927840" y="502920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545440" y="502920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215480" y="500220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490640" y="5362560"/>
            <a:ext cx="48045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asignado  por equipo para perío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402520" y="55911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1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458840" y="55911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870440" y="6276960"/>
            <a:ext cx="19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válido a costo base = 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861160" y="5896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842240" y="589608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944040" y="6276960"/>
            <a:ext cx="20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fraca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510440" y="4495680"/>
            <a:ext cx="47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requerido para completarlo = $5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a costo base = $13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n proyecto de I &amp; D completo puede ser usado para modificar marcas existentes y/o introducir nuev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3429000" y="2057400"/>
            <a:ext cx="0" cy="457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0880" y="4267080"/>
            <a:ext cx="5943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591640" y="1574640"/>
            <a:ext cx="181908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330600" y="4089240"/>
            <a:ext cx="141804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10552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962520" y="5029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286000" y="3429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3808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3520" y="3352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105520" y="4572000"/>
            <a:ext cx="304560" cy="304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943600" y="4952880"/>
            <a:ext cx="2133720" cy="762120"/>
          </a:xfrm>
          <a:prstGeom prst="wedgeRoundRectCallout">
            <a:avLst>
              <a:gd name="adj1" fmla="val -68972"/>
              <a:gd name="adj2" fmla="val -77916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Nueva 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ayor rend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05520" y="5943600"/>
            <a:ext cx="30456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248520" y="6248520"/>
            <a:ext cx="1676160" cy="380880"/>
          </a:xfrm>
          <a:prstGeom prst="wedgeRoundRectCallout">
            <a:avLst>
              <a:gd name="adj1" fmla="val -90814"/>
              <a:gd name="adj2" fmla="val -103333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Vieja 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5257800" y="49528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905120" y="3886200"/>
            <a:ext cx="304560" cy="3049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8600" y="4495680"/>
            <a:ext cx="1752480" cy="762120"/>
          </a:xfrm>
          <a:prstGeom prst="wedgeRoundRectCallout">
            <a:avLst>
              <a:gd name="adj1" fmla="val 42574"/>
              <a:gd name="adj2" fmla="val -101875"/>
              <a:gd name="adj3" fmla="val 166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Nueva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SAMY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Traer proyectos exitosos de I &amp; D al mercado genera  inventario obso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dinero4" descr=""/>
          <p:cNvPicPr/>
          <p:nvPr/>
        </p:nvPicPr>
        <p:blipFill>
          <a:blip r:embed="rId1"/>
          <a:stretch/>
        </p:blipFill>
        <p:spPr>
          <a:xfrm>
            <a:off x="3962520" y="2895480"/>
            <a:ext cx="1110960" cy="478080"/>
          </a:xfrm>
          <a:prstGeom prst="rect">
            <a:avLst/>
          </a:prstGeom>
          <a:ln w="0">
            <a:noFill/>
          </a:ln>
        </p:spPr>
      </p:pic>
      <p:grpSp>
        <p:nvGrpSpPr>
          <p:cNvPr id="365" name=""/>
          <p:cNvGrpSpPr/>
          <p:nvPr/>
        </p:nvGrpSpPr>
        <p:grpSpPr>
          <a:xfrm>
            <a:off x="228600" y="3962520"/>
            <a:ext cx="837720" cy="945360"/>
            <a:chOff x="228600" y="3962520"/>
            <a:chExt cx="837720" cy="945360"/>
          </a:xfrm>
        </p:grpSpPr>
        <p:sp>
          <p:nvSpPr>
            <p:cNvPr id="366" name=""/>
            <p:cNvSpPr/>
            <p:nvPr/>
          </p:nvSpPr>
          <p:spPr>
            <a:xfrm>
              <a:off x="228600" y="4090680"/>
              <a:ext cx="651960" cy="817200"/>
            </a:xfrm>
            <a:prstGeom prst="rect">
              <a:avLst/>
            </a:prstGeom>
            <a:solidFill>
              <a:srgbClr val="ff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80560" y="3964320"/>
              <a:ext cx="182160" cy="941400"/>
            </a:xfrm>
            <a:custGeom>
              <a:avLst/>
              <a:gdLst/>
              <a:ahLst/>
              <a:rect l="l" t="t" r="r" b="b"/>
              <a:pathLst>
                <a:path w="317" h="1295">
                  <a:moveTo>
                    <a:pt x="0" y="175"/>
                  </a:moveTo>
                  <a:lnTo>
                    <a:pt x="0" y="1295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808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31840" y="3962520"/>
              <a:ext cx="834480" cy="130320"/>
            </a:xfrm>
            <a:custGeom>
              <a:avLst/>
              <a:gdLst/>
              <a:ahLst/>
              <a:rect l="l" t="t" r="r" b="b"/>
              <a:pathLst>
                <a:path w="1441" h="180">
                  <a:moveTo>
                    <a:pt x="0" y="180"/>
                  </a:moveTo>
                  <a:lnTo>
                    <a:pt x="1119" y="180"/>
                  </a:lnTo>
                  <a:lnTo>
                    <a:pt x="1441" y="0"/>
                  </a:lnTo>
                  <a:lnTo>
                    <a:pt x="362" y="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ffff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914400" y="3962520"/>
            <a:ext cx="837720" cy="945360"/>
            <a:chOff x="914400" y="3962520"/>
            <a:chExt cx="837720" cy="945360"/>
          </a:xfrm>
        </p:grpSpPr>
        <p:sp>
          <p:nvSpPr>
            <p:cNvPr id="370" name=""/>
            <p:cNvSpPr/>
            <p:nvPr/>
          </p:nvSpPr>
          <p:spPr>
            <a:xfrm>
              <a:off x="914400" y="4090680"/>
              <a:ext cx="651960" cy="817200"/>
            </a:xfrm>
            <a:prstGeom prst="rect">
              <a:avLst/>
            </a:prstGeom>
            <a:solidFill>
              <a:srgbClr val="00c0c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566360" y="3964320"/>
              <a:ext cx="182160" cy="941400"/>
            </a:xfrm>
            <a:custGeom>
              <a:avLst/>
              <a:gdLst/>
              <a:ahLst/>
              <a:rect l="l" t="t" r="r" b="b"/>
              <a:pathLst>
                <a:path w="316" h="1295">
                  <a:moveTo>
                    <a:pt x="0" y="175"/>
                  </a:moveTo>
                  <a:lnTo>
                    <a:pt x="0" y="1295"/>
                  </a:lnTo>
                  <a:lnTo>
                    <a:pt x="316" y="1075"/>
                  </a:lnTo>
                  <a:lnTo>
                    <a:pt x="316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00606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915840" y="3962520"/>
              <a:ext cx="836280" cy="130320"/>
            </a:xfrm>
            <a:custGeom>
              <a:avLst/>
              <a:gdLst/>
              <a:ahLst/>
              <a:rect l="l" t="t" r="r" b="b"/>
              <a:pathLst>
                <a:path w="1441" h="180">
                  <a:moveTo>
                    <a:pt x="0" y="180"/>
                  </a:moveTo>
                  <a:lnTo>
                    <a:pt x="1120" y="180"/>
                  </a:lnTo>
                  <a:lnTo>
                    <a:pt x="1441" y="0"/>
                  </a:lnTo>
                  <a:lnTo>
                    <a:pt x="362" y="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40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676520" y="3962520"/>
            <a:ext cx="837720" cy="943920"/>
            <a:chOff x="1676520" y="3962520"/>
            <a:chExt cx="837720" cy="943920"/>
          </a:xfrm>
        </p:grpSpPr>
        <p:sp>
          <p:nvSpPr>
            <p:cNvPr id="374" name=""/>
            <p:cNvSpPr/>
            <p:nvPr/>
          </p:nvSpPr>
          <p:spPr>
            <a:xfrm>
              <a:off x="1676520" y="4088880"/>
              <a:ext cx="653760" cy="81756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328480" y="3964680"/>
              <a:ext cx="184320" cy="941400"/>
            </a:xfrm>
            <a:custGeom>
              <a:avLst/>
              <a:gdLst/>
              <a:ahLst/>
              <a:rect l="l" t="t" r="r" b="b"/>
              <a:pathLst>
                <a:path w="317" h="1294">
                  <a:moveTo>
                    <a:pt x="0" y="174"/>
                  </a:moveTo>
                  <a:lnTo>
                    <a:pt x="0" y="1294"/>
                  </a:lnTo>
                  <a:lnTo>
                    <a:pt x="317" y="1074"/>
                  </a:lnTo>
                  <a:lnTo>
                    <a:pt x="317" y="0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8000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679760" y="3962520"/>
              <a:ext cx="834480" cy="128520"/>
            </a:xfrm>
            <a:custGeom>
              <a:avLst/>
              <a:gdLst/>
              <a:ahLst/>
              <a:rect l="l" t="t" r="r" b="b"/>
              <a:pathLst>
                <a:path w="1442" h="179">
                  <a:moveTo>
                    <a:pt x="0" y="179"/>
                  </a:moveTo>
                  <a:lnTo>
                    <a:pt x="1120" y="179"/>
                  </a:lnTo>
                  <a:lnTo>
                    <a:pt x="1442" y="0"/>
                  </a:lnTo>
                  <a:lnTo>
                    <a:pt x="362" y="0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ff40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380880" y="3124080"/>
            <a:ext cx="838080" cy="917280"/>
            <a:chOff x="380880" y="3124080"/>
            <a:chExt cx="838080" cy="917280"/>
          </a:xfrm>
        </p:grpSpPr>
        <p:sp>
          <p:nvSpPr>
            <p:cNvPr id="378" name=""/>
            <p:cNvSpPr/>
            <p:nvPr/>
          </p:nvSpPr>
          <p:spPr>
            <a:xfrm>
              <a:off x="380880" y="3224160"/>
              <a:ext cx="651960" cy="817200"/>
            </a:xfrm>
            <a:prstGeom prst="rect">
              <a:avLst/>
            </a:prstGeom>
            <a:solidFill>
              <a:srgbClr val="ff8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032840" y="3124080"/>
              <a:ext cx="183960" cy="915480"/>
            </a:xfrm>
            <a:custGeom>
              <a:avLst/>
              <a:gdLst/>
              <a:ahLst/>
              <a:rect l="l" t="t" r="r" b="b"/>
              <a:pathLst>
                <a:path w="317" h="1262">
                  <a:moveTo>
                    <a:pt x="0" y="143"/>
                  </a:moveTo>
                  <a:lnTo>
                    <a:pt x="0" y="1262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804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82680" y="3124080"/>
              <a:ext cx="836280" cy="102600"/>
            </a:xfrm>
            <a:custGeom>
              <a:avLst/>
              <a:gdLst/>
              <a:ahLst/>
              <a:rect l="l" t="t" r="r" b="b"/>
              <a:pathLst>
                <a:path w="1443" h="143">
                  <a:moveTo>
                    <a:pt x="0" y="143"/>
                  </a:moveTo>
                  <a:lnTo>
                    <a:pt x="1121" y="143"/>
                  </a:lnTo>
                  <a:lnTo>
                    <a:pt x="1443" y="0"/>
                  </a:lnTo>
                  <a:lnTo>
                    <a:pt x="362" y="0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fa04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1133640" y="3111480"/>
            <a:ext cx="837720" cy="917280"/>
            <a:chOff x="1133640" y="3111480"/>
            <a:chExt cx="837720" cy="917280"/>
          </a:xfrm>
        </p:grpSpPr>
        <p:sp>
          <p:nvSpPr>
            <p:cNvPr id="382" name=""/>
            <p:cNvSpPr/>
            <p:nvPr/>
          </p:nvSpPr>
          <p:spPr>
            <a:xfrm>
              <a:off x="1133640" y="3211200"/>
              <a:ext cx="651600" cy="817560"/>
            </a:xfrm>
            <a:prstGeom prst="rect">
              <a:avLst/>
            </a:prstGeom>
            <a:solidFill>
              <a:srgbClr val="00e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785240" y="3111480"/>
              <a:ext cx="184320" cy="917280"/>
            </a:xfrm>
            <a:custGeom>
              <a:avLst/>
              <a:gdLst/>
              <a:ahLst/>
              <a:rect l="l" t="t" r="r" b="b"/>
              <a:pathLst>
                <a:path w="317" h="1262">
                  <a:moveTo>
                    <a:pt x="0" y="141"/>
                  </a:moveTo>
                  <a:lnTo>
                    <a:pt x="0" y="1262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006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135080" y="3111480"/>
              <a:ext cx="836280" cy="102240"/>
            </a:xfrm>
            <a:custGeom>
              <a:avLst/>
              <a:gdLst/>
              <a:ahLst/>
              <a:rect l="l" t="t" r="r" b="b"/>
              <a:pathLst>
                <a:path w="1443" h="141">
                  <a:moveTo>
                    <a:pt x="0" y="141"/>
                  </a:moveTo>
                  <a:lnTo>
                    <a:pt x="1121" y="141"/>
                  </a:lnTo>
                  <a:lnTo>
                    <a:pt x="1443" y="0"/>
                  </a:lnTo>
                  <a:lnTo>
                    <a:pt x="362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80ff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685800" y="2362320"/>
            <a:ext cx="836280" cy="879120"/>
            <a:chOff x="685800" y="2362320"/>
            <a:chExt cx="836280" cy="879120"/>
          </a:xfrm>
        </p:grpSpPr>
        <p:sp>
          <p:nvSpPr>
            <p:cNvPr id="386" name=""/>
            <p:cNvSpPr/>
            <p:nvPr/>
          </p:nvSpPr>
          <p:spPr>
            <a:xfrm>
              <a:off x="685800" y="2423160"/>
              <a:ext cx="652320" cy="818280"/>
            </a:xfrm>
            <a:prstGeom prst="rect">
              <a:avLst/>
            </a:prstGeom>
            <a:solidFill>
              <a:srgbClr val="ff0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38120" y="2362320"/>
              <a:ext cx="183960" cy="879120"/>
            </a:xfrm>
            <a:custGeom>
              <a:avLst/>
              <a:gdLst/>
              <a:ahLst/>
              <a:rect l="l" t="t" r="r" b="b"/>
              <a:pathLst>
                <a:path w="318" h="1209">
                  <a:moveTo>
                    <a:pt x="0" y="90"/>
                  </a:moveTo>
                  <a:lnTo>
                    <a:pt x="0" y="1209"/>
                  </a:lnTo>
                  <a:lnTo>
                    <a:pt x="318" y="1063"/>
                  </a:lnTo>
                  <a:lnTo>
                    <a:pt x="318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7600" y="2362320"/>
              <a:ext cx="834480" cy="65160"/>
            </a:xfrm>
            <a:custGeom>
              <a:avLst/>
              <a:gdLst/>
              <a:ahLst/>
              <a:rect l="l" t="t" r="r" b="b"/>
              <a:pathLst>
                <a:path w="1440" h="90">
                  <a:moveTo>
                    <a:pt x="0" y="90"/>
                  </a:moveTo>
                  <a:lnTo>
                    <a:pt x="1121" y="90"/>
                  </a:lnTo>
                  <a:lnTo>
                    <a:pt x="1440" y="0"/>
                  </a:lnTo>
                  <a:lnTo>
                    <a:pt x="353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404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9" name="DINERO4" descr=""/>
          <p:cNvPicPr/>
          <p:nvPr/>
        </p:nvPicPr>
        <p:blipFill>
          <a:blip r:embed="rId2"/>
          <a:stretch/>
        </p:blipFill>
        <p:spPr>
          <a:xfrm>
            <a:off x="6553080" y="2666880"/>
            <a:ext cx="990720" cy="349200"/>
          </a:xfrm>
          <a:prstGeom prst="rect">
            <a:avLst/>
          </a:prstGeom>
          <a:ln w="0">
            <a:noFill/>
          </a:ln>
        </p:spPr>
      </p:pic>
      <p:pic>
        <p:nvPicPr>
          <p:cNvPr id="390" name="opera" descr=""/>
          <p:cNvPicPr/>
          <p:nvPr/>
        </p:nvPicPr>
        <p:blipFill>
          <a:blip r:embed="rId3"/>
          <a:stretch/>
        </p:blipFill>
        <p:spPr>
          <a:xfrm>
            <a:off x="4343400" y="2666880"/>
            <a:ext cx="2678040" cy="26784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 rot="18900000">
            <a:off x="907560" y="42757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rot="18900000">
            <a:off x="1821960" y="42757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rot="18900000">
            <a:off x="222120" y="419976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rot="18900000">
            <a:off x="1202760" y="327744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rot="18900000">
            <a:off x="374040" y="34423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rot="18900000">
            <a:off x="755640" y="253440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895480" y="2133720"/>
            <a:ext cx="0" cy="4114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9051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arca Modific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onserva nomb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981080" y="541008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tiro de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438280" y="3505320"/>
            <a:ext cx="1371600" cy="10666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bsol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724280" y="5410080"/>
            <a:ext cx="144792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17181" dir="296163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MPAÑ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MER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10800000">
            <a:off x="7391520" y="3504960"/>
            <a:ext cx="1371600" cy="10666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582320" y="3657600"/>
            <a:ext cx="129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enta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24280" y="1523880"/>
            <a:ext cx="4114800" cy="762120"/>
          </a:xfrm>
          <a:prstGeom prst="wedgeRoundRectCallout">
            <a:avLst>
              <a:gd name="adj1" fmla="val -33796"/>
              <a:gd name="adj2" fmla="val 8229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raré productos a un 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ado de su costo de transf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3124080" y="762120"/>
            <a:ext cx="3810240" cy="4876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800600" y="3124080"/>
            <a:ext cx="26668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895480" y="609480"/>
            <a:ext cx="45720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276720" y="0"/>
            <a:ext cx="3809880" cy="4876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876920" y="2514600"/>
            <a:ext cx="26668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895480" y="0"/>
            <a:ext cx="45720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n la reducción de costos de proyectos hay que considerar el efecto de la curva de 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25146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514600" y="2971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276720" y="29718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514600" y="47242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419720" y="47242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251424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297080" y="2819520"/>
            <a:ext cx="125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bas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295280" y="3962520"/>
            <a:ext cx="12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bas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59200" y="4443480"/>
            <a:ext cx="2264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c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de transferencia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076760" y="1676520"/>
            <a:ext cx="280368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Costo de Transfer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026680" y="6172200"/>
            <a:ext cx="279576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Producción acumul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894760" y="601992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0 KU        225 K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026880" y="4222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349800" y="26668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413960" y="4343400"/>
            <a:ext cx="4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86680" y="2666880"/>
            <a:ext cx="32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ducto ac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urva de experiencia inic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13680" y="4495680"/>
            <a:ext cx="32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ducto con costo reduc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urva de experiencia nuev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4572000" y="480060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3428640" y="29718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estudio MDS mide la percepción de marca en tres dimension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600200" y="1447920"/>
            <a:ext cx="72388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ercado SON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Influencia de la característica de la marca en dimensiones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DS en P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28600" y="1523880"/>
            <a:ext cx="1066680" cy="9907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" y="502920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nd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" y="426708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c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28600" y="5791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nveni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9810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81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1148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1814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rec. Má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2485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3152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1814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2485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3152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1814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2485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3152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810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0481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1148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021480" y="579132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15484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22188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288560" y="426708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3581280" y="59436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571500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678168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772400" y="45720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54000" y="5715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987360" y="5715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12108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05440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18776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133720" y="61722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267080" y="61722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7467480" y="53341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6477120" y="46483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5410080" y="46483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752480" y="2590920"/>
            <a:ext cx="320040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conomí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, si la frec. max. aum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638680" y="2590920"/>
            <a:ext cx="320040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conomí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, si la frec. max. decr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8229240" y="3200400"/>
            <a:ext cx="30492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52880" y="2971800"/>
            <a:ext cx="30492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18560" y="3429000"/>
            <a:ext cx="140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racterís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83240" y="396252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imens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las que son influenciadas en distinta magnitud por los diversos atributos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600200" y="1447920"/>
            <a:ext cx="72388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ercado VOD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Influencia de la característica de la marca en dimensiones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DS en P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28600" y="502920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lexib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28600" y="426708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fica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28600" y="5791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c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9810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ut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0481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rec. Má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1148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áme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1814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2485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3152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676520" y="2590920"/>
            <a:ext cx="327636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ficaci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 si, la frec. max. aum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715000" y="2590920"/>
            <a:ext cx="312408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flexibilidad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 si, el peso decr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238880" y="32004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3809880" y="3200400"/>
            <a:ext cx="45720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80880" y="1600200"/>
            <a:ext cx="914400" cy="1371600"/>
          </a:xfrm>
          <a:prstGeom prst="flowChartMagneticDisk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9810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0481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148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3152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3152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2485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1814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1814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05440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5410080" y="46483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98736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267080" y="5334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2485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12108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400800" y="5334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95444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251460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021480" y="4267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u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3733920" y="441936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288560" y="579132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u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8001000" y="59436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18560" y="3429000"/>
            <a:ext cx="140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racterís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83240" y="396252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imens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u éxito en Markstrat dependerá enormemente en su habilidad para gestionar el desarrollo y posicionamiento de su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62320" y="228600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73720" y="2730600"/>
            <a:ext cx="399384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Posi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2320" y="396252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43920" y="4406760"/>
            <a:ext cx="127800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I &amp; 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057400"/>
            <a:ext cx="3276360" cy="342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strateg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uevas decisiones en el período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85800" y="1905120"/>
            <a:ext cx="7238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rtafolio de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bjetivos perceptuales (en escalamiento semántico o escalamiento multidimens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ahora puede ampliar su portafolio al introducir nuevas marcas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5952960" cy="3200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5562720" y="3352680"/>
            <a:ext cx="3190680" cy="3238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67" name=""/>
          <p:cNvSpPr/>
          <p:nvPr/>
        </p:nvSpPr>
        <p:spPr>
          <a:xfrm>
            <a:off x="5715000" y="2590920"/>
            <a:ext cx="99072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Usted también puede modificar marcas exist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6629400" cy="3564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71" name=""/>
          <p:cNvSpPr/>
          <p:nvPr/>
        </p:nvSpPr>
        <p:spPr>
          <a:xfrm flipH="1">
            <a:off x="6019560" y="312408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2"/>
          <a:stretch/>
        </p:blipFill>
        <p:spPr>
          <a:xfrm>
            <a:off x="5715000" y="3352680"/>
            <a:ext cx="3191040" cy="3238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73" name=""/>
          <p:cNvSpPr/>
          <p:nvPr/>
        </p:nvSpPr>
        <p:spPr>
          <a:xfrm>
            <a:off x="7162920" y="312408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010280" y="1676520"/>
            <a:ext cx="1905120" cy="8380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antiene 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ismo nomb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8000640" y="2514600"/>
            <a:ext cx="6858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514600" y="5486400"/>
            <a:ext cx="2133720" cy="8380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eleccione 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royecto de I &amp;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4648320" y="4419360"/>
            <a:ext cx="281916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transmitir el mensaje correcto al mercado, Usted puede fijar objetivos perceptuales para cada una de sus me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2514600" y="1523880"/>
            <a:ext cx="6381720" cy="495324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>
            <a:off x="0" y="1676520"/>
            <a:ext cx="236232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Desea comuni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dimensiones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DS o escalamie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emántic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0" y="3505320"/>
            <a:ext cx="2362320" cy="1143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En cuá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mensiones des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munica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0" y="5105520"/>
            <a:ext cx="243828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grese 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ordenadas del pu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que Usted des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lcanzar en el ma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219320" y="30481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19320" y="46483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438280" y="5715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puede iniciar hasta cinco proyectos de I&amp;D por período y por tipo de producto (cinco SONITE y cinco VODI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6076800" cy="455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3581280" y="4038480"/>
            <a:ext cx="5324760" cy="2533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91" name=""/>
          <p:cNvSpPr/>
          <p:nvPr/>
        </p:nvSpPr>
        <p:spPr>
          <a:xfrm>
            <a:off x="6934320" y="38098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943600" y="38098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400800" y="1600200"/>
            <a:ext cx="2743200" cy="2057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Haga </a:t>
            </a:r>
            <a:r>
              <a:rPr b="0" i="1" lang="es-ES_tradnl" sz="18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btener una esti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l costo base míni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y presupue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querido para complet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l proy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5943600" y="3429000"/>
            <a:ext cx="5335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Usted ahora lo sabe todo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De ahora en adelante, depende de su estrategia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6" name="dardos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288936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lientes realizan sus decisiones de compra basándose en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us propias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ercepciones de su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examinar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2127240" cy="2286000"/>
          </a:xfrm>
          <a:prstGeom prst="rect">
            <a:avLst/>
          </a:prstGeom>
          <a:ln w="0">
            <a:noFill/>
          </a:ln>
        </p:spPr>
      </p:pic>
      <p:pic>
        <p:nvPicPr>
          <p:cNvPr id="53" name="interrog" descr=""/>
          <p:cNvPicPr/>
          <p:nvPr/>
        </p:nvPicPr>
        <p:blipFill>
          <a:blip r:embed="rId2"/>
          <a:stretch/>
        </p:blipFill>
        <p:spPr>
          <a:xfrm>
            <a:off x="380880" y="3886200"/>
            <a:ext cx="2446560" cy="2666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566160" y="1600200"/>
            <a:ext cx="317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u percepción de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49760" y="2176560"/>
            <a:ext cx="99036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40120" y="217656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30840" y="217656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21560" y="2176560"/>
            <a:ext cx="99036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49760" y="3166920"/>
            <a:ext cx="4572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571080" y="317340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lidad téc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81280" y="3886200"/>
            <a:ext cx="474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percepción de los clientes sobre las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81680" y="57913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44197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29200" y="48769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86600" y="4800600"/>
            <a:ext cx="990720" cy="7621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67080" y="56386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7120" y="4648320"/>
            <a:ext cx="0" cy="1981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535960" y="548640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4000" y="43434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“Mapa Perceptual” es una valiosa herramienta para visualizar el posicionammiento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905120"/>
            <a:ext cx="495288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95480" y="1905120"/>
            <a:ext cx="180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4267080"/>
            <a:ext cx="495288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1905120"/>
            <a:ext cx="180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7652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2971800"/>
            <a:ext cx="495288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5486400"/>
            <a:ext cx="495288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1240" y="3968640"/>
            <a:ext cx="171396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Necesidad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070360" y="1447920"/>
            <a:ext cx="171396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Necesidad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1337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560" y="213372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29000" y="4114800"/>
            <a:ext cx="38880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30440" y="41148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76520" y="30481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77240" y="304812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35053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5840" y="35542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14800" y="5638680"/>
            <a:ext cx="38088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6240" y="56386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91320" y="541800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92760" y="54180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410080"/>
            <a:ext cx="30492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2971800"/>
            <a:ext cx="30456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50292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59436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95680" y="609588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571500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2666880"/>
            <a:ext cx="304920" cy="304920"/>
          </a:xfrm>
          <a:prstGeom prst="flowChartMer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2057400"/>
            <a:ext cx="304920" cy="304920"/>
          </a:xfrm>
          <a:prstGeom prst="flowChartMer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2057400"/>
            <a:ext cx="380880" cy="38088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3505320"/>
            <a:ext cx="380880" cy="38088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19810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O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6720" y="228600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L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3080" y="259092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9360" y="2971800"/>
            <a:ext cx="6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U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31160" y="541008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U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78680" y="563868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B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53920" y="37339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1640" y="5029200"/>
            <a:ext cx="6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A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49760" y="60199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5880" y="601992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5875200"/>
            <a:ext cx="30492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230880" y="5380200"/>
            <a:ext cx="24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unto ideal del seg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32680" y="5764320"/>
            <a:ext cx="260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osición perceptual de las mar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941160" y="4876920"/>
            <a:ext cx="10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l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86400" y="4884840"/>
            <a:ext cx="335268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1752480"/>
            <a:ext cx="35812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apa Percep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basado en un estudio MDS (</a:t>
            </a:r>
            <a:r>
              <a:rPr b="1" i="1" lang="es-ES_tradnl" sz="2000" spc="-1" strike="noStrike">
                <a:solidFill>
                  <a:srgbClr val="000000"/>
                </a:solidFill>
                <a:latin typeface="Tahoma"/>
              </a:rPr>
              <a:t>Escalamiento Multi-Dimensional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-251640" y="6491160"/>
            <a:ext cx="57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-10                   0                 10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0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00" y="2743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-90720" y="52959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0" y="6248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Hay dos formas para re-posicionar un marca en Markstr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1905120"/>
            <a:ext cx="525780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67080" y="1905120"/>
            <a:ext cx="180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4267080"/>
            <a:ext cx="525780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6272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7180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00200" y="3048120"/>
            <a:ext cx="525780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00200" y="5334120"/>
            <a:ext cx="525780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62320" y="35053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8120" y="30481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62320" y="53341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514600" y="38862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590920" y="3276720"/>
            <a:ext cx="4572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4572000"/>
            <a:ext cx="1904760" cy="685800"/>
          </a:xfrm>
          <a:custGeom>
            <a:avLst/>
            <a:gdLst>
              <a:gd name="textAreaLeft" fmla="*/ 0 w 1904760"/>
              <a:gd name="textAreaRight" fmla="*/ 1905120 w 19047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2971800"/>
            <a:ext cx="2133360" cy="68580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47720" y="1523880"/>
            <a:ext cx="20170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86080" y="3886200"/>
            <a:ext cx="158904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40760" y="6491160"/>
            <a:ext cx="619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-10                    0                   10   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708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9672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624852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posicionamiento físico involucra tratar de  igualar las características de las marcas a las necesidades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2286000"/>
            <a:ext cx="80010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ecesidades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gente1" descr=""/>
          <p:cNvPicPr/>
          <p:nvPr/>
        </p:nvPicPr>
        <p:blipFill>
          <a:blip r:embed="rId1"/>
          <a:stretch/>
        </p:blipFill>
        <p:spPr>
          <a:xfrm>
            <a:off x="7086600" y="1600200"/>
            <a:ext cx="1868400" cy="1173240"/>
          </a:xfrm>
          <a:prstGeom prst="rect">
            <a:avLst/>
          </a:prstGeom>
          <a:ln w="0">
            <a:noFill/>
          </a:ln>
        </p:spPr>
      </p:pic>
      <p:pic>
        <p:nvPicPr>
          <p:cNvPr id="151" name="gente1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1868400" cy="11732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85800" y="2971800"/>
            <a:ext cx="259092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2971800"/>
            <a:ext cx="259092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72200" y="2971800"/>
            <a:ext cx="251460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Conven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9525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6200000">
            <a:off x="32385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39243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rec. Má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56768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6200000">
            <a:off x="63626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6200000">
            <a:off x="70484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5791320"/>
            <a:ext cx="800100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aracterísticas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4114800"/>
            <a:ext cx="990720" cy="990720"/>
          </a:xfrm>
          <a:prstGeom prst="cube">
            <a:avLst>
              <a:gd name="adj" fmla="val 197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18900000">
            <a:off x="305280" y="4495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sicionar vía publicidad requiere fijar “Objetivos Perceptual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95280" y="1905120"/>
            <a:ext cx="541044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14800" y="1905120"/>
            <a:ext cx="144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5280" y="4267080"/>
            <a:ext cx="541044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10080" y="1905120"/>
            <a:ext cx="180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4320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95280" y="3048120"/>
            <a:ext cx="541044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5486400"/>
            <a:ext cx="541044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95440" y="1523880"/>
            <a:ext cx="20170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33440" y="3886200"/>
            <a:ext cx="158904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5053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86400" y="30481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38680" y="3352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114800" y="32004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411480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3440" y="42670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88200" y="4267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11320" y="3048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11320" y="3505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11800" y="6491160"/>
            <a:ext cx="625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-10                     0                   10   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1620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16200" y="2819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812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15840" y="52578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9880" y="6248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15000" y="289548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16440" y="28954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u éxito en Markstrat dependerá enormemente en su habilidad para gestionar el desarrollo y posicionamiento de su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62320" y="228600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73720" y="2730600"/>
            <a:ext cx="399384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Posi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62320" y="396252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43920" y="4406760"/>
            <a:ext cx="12780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I &amp; 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2057400"/>
            <a:ext cx="3276360" cy="342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strateg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éxito en I&amp;D involucra pensar con un horizonte de lago plazo e identificar la evolución de oportunidad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19320" y="182880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266688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638680" y="175248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00600" y="259092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00400" y="4648320"/>
            <a:ext cx="0" cy="1676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09680" y="533412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472428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67280" y="556272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724280" y="1752480"/>
            <a:ext cx="38916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25720" y="17524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3880" y="1905120"/>
            <a:ext cx="38916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525320" y="19051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00800" y="5943600"/>
            <a:ext cx="38880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02240" y="59436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19920" y="59436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828800" y="16765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33920" y="464832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962520" y="472428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63240" y="47242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05320" y="4800600"/>
            <a:ext cx="30456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14600" y="4800600"/>
            <a:ext cx="30492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95480" y="49528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6858000" y="5790960"/>
            <a:ext cx="6094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1219320" y="2209680"/>
            <a:ext cx="30456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253840" y="3048120"/>
            <a:ext cx="234792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Nuevo seg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941880" y="4495680"/>
            <a:ext cx="191340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resión so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árg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873800" y="5943600"/>
            <a:ext cx="287532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mpetidor entr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6920" y="3429000"/>
            <a:ext cx="195912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ambios 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neces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e seg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8T00:10:55Z</dcterms:created>
  <dc:creator>Marcelo y Tomás Münzenmayer S</dc:creator>
  <dc:description/>
  <dc:language>en-US</dc:language>
  <cp:lastModifiedBy>Universidad De Chile</cp:lastModifiedBy>
  <cp:lastPrinted>2000-03-10T16:13:12Z</cp:lastPrinted>
  <dcterms:modified xsi:type="dcterms:W3CDTF">2001-10-18T15:16:40Z</dcterms:modified>
  <cp:revision>21</cp:revision>
  <dc:subject/>
  <dc:title>Sin título de diapositiva</dc:title>
</cp:coreProperties>
</file>