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56B-7736-44C7-8B07-ED9B705A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89A-CF7B-47EE-AAB0-ADE444A3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68B-1722-4157-8FBE-75BD8527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94B-0111-4C84-AE93-34766AF7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72E-1940-422E-AC19-B541242E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28F-0A0D-42ED-92C0-081A4A2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715-B84C-4613-BF37-07F6C3D1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DDD-E70D-4561-A8BF-6B5B5F98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8B0-D4CA-4050-A050-92B2E40F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82F-C542-4C7F-A4DE-CA41CF27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07B-A036-4BF9-BD8A-1837121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02D-22E8-4A3B-A147-757A865F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C823-8732-43F6-BE82-037ADE13F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9-23T15:37:39Z</dcterms:modified>
  <cp:revision>82</cp:revision>
  <dc:subject/>
  <dc:title>Arbol lógico</dc:title>
</cp:coreProperties>
</file>