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B0F-826C-4503-B065-6088C364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D05-D2FB-493D-BC93-71D492C8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71A-2CB3-4916-8817-D750E8AC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A3E-D479-40A5-9DC1-543827E7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B89-4FF5-476E-8C7A-5C61588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CDC-8325-4C2D-8408-B4B90B54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0EE-FB03-4BC0-8B63-CA9BB9B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113-580C-4C1B-A09C-AC9163A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55F-0C77-45EE-A4EF-E06A9018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CDD-0912-424B-AC91-94B38E7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28D-574F-4206-A5D4-94D16CC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7F2-AD14-4811-8DC6-8F7D74A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D423-A21A-4F0E-89E5-663199254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9-23T15:37:39Z</dcterms:modified>
  <cp:revision>82</cp:revision>
  <dc:subject/>
  <dc:title>Arbol lógico</dc:title>
</cp:coreProperties>
</file>