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0A87-F078-4FE7-B149-201F5725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CBAE-2555-44F5-9021-C8310727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30FA-043C-4A73-8925-95D80167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6A4F-51D5-400C-9F5C-86330362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A13C-5251-46A1-9DF9-ACA43ACE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C888-F1BB-4333-BFAE-CA20D20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5202-BB0B-46F9-93BB-F95CD23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8C6-3A2B-4E2B-AA6B-F7C0ED0C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1AF-9876-4EE6-A291-646F1EF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7F2-8364-4C3D-ACD9-D423024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E8BF-D4CC-4D4C-AC34-D557BD7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1EC8-2906-4E7E-8AF1-92CBD23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63A5-CCCA-4247-9204-DCDC789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5AF-B745-424F-8750-10E33F8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5E32-0228-420E-98B2-1D9767F3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CFDE-05D8-470E-9576-E6C9EBEE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16E-433D-4F90-85C9-3DDF4733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439D-9A5B-4F7D-8F92-76879E2D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6AC4-49C0-474E-9621-84E422C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7FEC-31EE-4D78-8569-54689F6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001E-0A85-4C3F-903A-27DC8965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708C-C758-4EC0-84BA-ED41A72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3E78-B818-4751-A811-D6CA25E1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EFA9-16B9-4A96-A9E4-D95E75D4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9BE5-A457-40FA-B1E6-42B2E681F9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D0D-1359-4076-9E16-1752C66CEB0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a Már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ela Oliv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T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fdef6"/>
                </a:solidFill>
                <a:latin typeface="Arial"/>
              </a:rPr>
              <a:t>PalmOne</a:t>
            </a: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8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crea subsidiaria para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mpañía vende la unidad 20 mill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os modelos (i705, m130 y m5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 IBM acuerda programas para revend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anzan las primeras 2 submarcas: Zire y Tung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recibe inversión de MMUS$20 por parte de Sony (licencia de Palm 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ga soporte a Bluetooth (conectiv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0A0B-E007-4754-A39E-E399CAFEC4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ncia adquisición de Hand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ción definitiva de PalmSource (Palm OS) y PalmOne (Handhe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anza estratégica entre PalmSource y QUALC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Tungsten T, T2; Zire 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su primer Smartphone: Treo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6B08-3BAC-46D4-8ABB-0A8F97A83E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acuerdo con RealNetworks para introducir música a sus disposi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Zire 31, 72; Tungsten T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One acuerda unión de fuerzas con Sprint para entregar mejores soluciones móviles para el cuidado de l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71F2-553C-43B3-A1E4-F810074A6E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volución de merc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39640" y="1547640"/>
            <a:ext cx="8064720" cy="454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F133-FF36-4D52-8B59-497CA71F36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Z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2F46-07C0-41C0-92FB-1121D6DDB2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740400" cy="40989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807080" y="1628640"/>
            <a:ext cx="3746520" cy="41054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0363-9D6E-40E5-9A67-53DE2A2BDB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3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37240" cy="4176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50C1-0199-473D-ABA5-6AB5A77428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7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019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34FC-1CB4-4BCB-9F5F-8A949132EF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ungs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A7D4-D32C-4454-8CE2-81EEAAB566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765600" cy="4033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CACE-3FC3-4CE3-9981-F30423D3F5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960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11DE-CB9E-41A0-A990-30843BCF2F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3960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65600" cy="3960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A4EC-F40F-4A46-8810-93B23EC55B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3887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887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58A7-EB7D-45EC-AE9A-917B9DD215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re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o 6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DB1B-1300-46BA-B8FD-F914995114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eo 6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39640" y="1427040"/>
            <a:ext cx="3888000" cy="4449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572000" y="1446120"/>
            <a:ext cx="4016520" cy="44308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004C-3499-40B1-9864-8059E29557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264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4E57-FEAF-4EC8-A861-E6296D9579B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639040" cy="6264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4D8C-7A29-4C51-B4BD-35141D1EA41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90840" y="189000"/>
            <a:ext cx="5962320" cy="6264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D35A-4849-4B5A-9194-24C867AF064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 los líderes globales de la administración de información móvil 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rcionar a empresas y consumidores innovadoras soluciones de computación para computadoras de man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jar con concesionarios mundiales y casi 200.000 programadores de software con el fin de crear la plataforma estándar de la industria para administrar la información en las computadoras de mano;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car el poder de la Internet en cada computadora de mano Palm™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730C-5D30-474A-A6C3-42A81C91F2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643040" y="189000"/>
            <a:ext cx="5857920" cy="6264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83B3-034F-42E3-8B63-A5271412738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819440" y="189000"/>
            <a:ext cx="5505120" cy="6264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D03B-95BD-4B17-9A39-F7F68613CA9C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576440" y="189000"/>
            <a:ext cx="5991120" cy="6264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EF2B-E591-4E06-B044-E4D3096394E8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anales de Vent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ífica para residentes de EEUU y 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ida en The Treo Store y The Palm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recen todos sus productos principales y sus acces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uede complementar con servicio telefónico (compra y atención clien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3D80-9978-4EF8-8C54-6F2CED4D3A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vendedo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vididos en Reseller y Reseller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mOne entrega diversas herramientas de ventas y mercad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hile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 y C Tecnología Limitada (mundopalm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biletech S.A. (mobiletech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IGG TECNOLOGIA (rigg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iadis Logística S.A (triadi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licon Tecnología Chile Ltda. (silicon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B74C-5A5E-4CCA-A1E8-570852EFDD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tail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h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abella (falabella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G Portables (portable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EUU la compañía ha abierto sus propios locales “palmOne Retail St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8E36-C49E-4D1C-8FE9-A1A9579EFE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á dividido según línea de pro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o de última generación tiene preci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Zire es la más econó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72: US$299 (promoción –US$50 devolución por correo, incluye estuc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31: US$1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21: US$99 (Software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6889-CEA2-4A73-9261-5907C219A9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l primer organizador: Pilot 1000 y Pilot 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za su primer lanzamiento internacional, entra al mercado fran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primer premio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FBC9-AF37-4235-A4DA-75236A7BF7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ungsten tiene mayores precios ya que está enfocada a profes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5: US$399 (envío al día siguiente gratui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C: US$39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3: US$34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E: US$19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re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o 600: US$3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18A1-2854-42DC-8CC0-6165490430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rcad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cado ac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ompras de PDA a nivel mundial se han estancado en aproximadamente 11 millones de unidades 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da presión competitiva en mercado de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y, Toshiba y Sharp han dejado de producir para EEUU (Jap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rte aumento de Pocket PC (HP, D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9DBF-11DB-46F5-BF7A-0A76D1FE4F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mbio en prefer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FABD-051D-449B-B0CB-96BFF8D76AB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a generación de PalmPilot: Professional y Personal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taforma obtiene respaldo de 2.000 desarrolladores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a alianza: Franklin Quest (Personaliz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Com compra a U.S. Robotics, dueña de P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enza a vender licencias de su sistema operativo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Symbol Team comienzan a entregar soluciones de marketing vertical: códigos de barra, registros de inve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1A43-6B57-4880-AE41-55DE57F9F0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3.5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pring licencia Palm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segundo gran premio “MVP Award”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8DFE-E755-48AC-9948-9067A4704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x y Palm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el 73% del mercado EEUU y 68% del mercado mundial de P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13.7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 la Palm VII la primera con acceso a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o al “Diseño de la Década” (Bwe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1A1F-495E-4D66-97D8-0D3B3B405E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 en escena la Palm IIIc, la primera con pantalla 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logra la cifra de 41.000 (Marzo); 65.000 (Abril) y 100.000 (Septiembre)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Inc. ingresa a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acuerda alianza estratégica con IBM (e-busi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l mercado el teclado para P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F840-DD22-45CE-A98A-27E12D8EE8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OS obtiene 140.000 desarroll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ra acuerdo con Handspring para licenciar su sistema 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a acuerdo con la Universidad de Dakota para la entrega de dispositivos a alumnos de primer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ntra al mercado de 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Panasonic firman acuerdo para popularizar las memorias 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zamiento de nuevos productos (m105, m125, m500 y m5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D458-B844-4200-97EB-6EC64A2C8D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7:19Z</dcterms:created>
  <dc:creator>Felipe Tapia Navarro</dc:creator>
  <dc:description/>
  <dc:language>en-US</dc:language>
  <cp:lastModifiedBy>Jorge Lara</cp:lastModifiedBy>
  <dcterms:modified xsi:type="dcterms:W3CDTF">2004-11-19T01:35:19Z</dcterms:modified>
  <cp:revision>18</cp:revision>
  <dc:subject/>
  <dc:title>Diapositiva 1</dc:title>
</cp:coreProperties>
</file>