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61DCF-AC24-437F-A1EF-3FC58CCB7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1004B-1311-4CD9-9CFF-E24E2C521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9EB58-D6AF-4750-9C66-3879CF15D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39797-2576-432F-AFA3-9E21A2998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BE77F-F699-4913-9AA2-B8A31F5A4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506CD-2694-494D-BC03-B3A2820F5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BD12F-0940-4474-95C7-7FE859659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20D84-B2A8-4398-99D5-AD4CACE65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07317-0501-4059-AAEA-5ED0F241C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87D26-A660-4A4C-943F-EEE4AB813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D5D51-5720-409B-9CA7-A61C211F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6EE7F-1EF2-4BD8-8C79-78FB37E39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E45DE-5314-40DE-A2F8-3441FF4D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D1275-0078-41A2-AF51-71A9910C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FFA63-CE56-4597-9AF3-564BEDFF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E70A8-F10A-459C-AF8C-2DB5F5717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94972-630E-4A22-B0A6-D8330F35A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F1768-F10C-4533-BBD7-C52EAF8B8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1D717-6FFB-440C-8211-6244375A5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1D61E-0638-40F4-9314-E901A3107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7D03F-1F7A-4EF7-8719-7AE0A452E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D6053-D7FD-4AA9-8ABC-AC0172D2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049D5-D06C-4FD0-B63A-54E5A1E2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EEFA4-3278-4354-9F56-5532ED6E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15F0D-3243-44CA-B6C0-688B3EBE3623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5F486-D9EA-4D7F-85E7-69EB13CF3357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ika Márque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cela Oliva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lipe Tap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dfdef6"/>
                </a:solidFill>
                <a:latin typeface="Arial"/>
              </a:rPr>
              <a:t>PalmOne</a:t>
            </a:r>
            <a:r>
              <a:rPr b="1" i="1" lang="en-US" sz="5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7812000" y="189000"/>
            <a:ext cx="1104840" cy="102384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10808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Historia de la compañí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02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lm crea subsidiaria para Palm 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compañía vende la unidad 20 mill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evos modelos (i705, m130 y m51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lm e IBM acuerda programas para revended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lanzan las primeras 2 submarcas: Zire y Tungs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lm recibe inversión de MMUS$20 por parte de Sony (licencia de Palm 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tra al mercado Chi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rega soporte a Bluetooth (conectivida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2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65F2E-AA24-4B43-823B-D567C0B8DE2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Historia de la compañí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uncia adquisición de Handsp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paración definitiva de PalmSource (Palm OS) y PalmOne (Handhel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ianza estratégica entre PalmSource y QUALCOM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evos modelos (Tungsten T, T2; Zire 7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zamiento de su primer Smartphone: Treo 6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2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EC95D-1EB8-495C-AAE8-1CE84661F9C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Historia de la compañí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gra acuerdo con RealNetworks para introducir música a sus disposi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evos modelos (Zire 31, 72; Tungsten T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lmOne acuerda unión de fuerzas con Sprint para entregar mejores soluciones móviles para el cuidado de la salu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2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86306-AFD0-4FED-A30F-47EFA73A32A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volución de mercad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2"/>
          <a:stretch/>
        </p:blipFill>
        <p:spPr>
          <a:xfrm>
            <a:off x="539640" y="1547640"/>
            <a:ext cx="8064720" cy="4545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3ED36-1489-4A79-BC1D-654C9F1192E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PRODUCTOS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Línea Zir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ire 2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ire 3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ire 7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F47CC-066A-4037-BD98-89A8A3B2BF4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Zire 21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3740400" cy="409896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2"/>
          <a:stretch/>
        </p:blipFill>
        <p:spPr>
          <a:xfrm>
            <a:off x="4807080" y="1628640"/>
            <a:ext cx="3746520" cy="4105440"/>
          </a:xfrm>
          <a:prstGeom prst="rect">
            <a:avLst/>
          </a:prstGeom>
          <a:ln w="0">
            <a:noFill/>
          </a:ln>
        </p:spPr>
      </p:pic>
      <p:pic>
        <p:nvPicPr>
          <p:cNvPr id="559" name="" descr=""/>
          <p:cNvPicPr/>
          <p:nvPr/>
        </p:nvPicPr>
        <p:blipFill>
          <a:blip r:embed="rId3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5EA15-0192-4050-8733-DBBEBE62ADE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Zire 31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3816360" cy="417672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"/>
          <p:cNvPicPr/>
          <p:nvPr/>
        </p:nvPicPr>
        <p:blipFill>
          <a:blip r:embed="rId2"/>
          <a:stretch/>
        </p:blipFill>
        <p:spPr>
          <a:xfrm>
            <a:off x="4716360" y="1557360"/>
            <a:ext cx="3837240" cy="4176720"/>
          </a:xfrm>
          <a:prstGeom prst="rect">
            <a:avLst/>
          </a:prstGeom>
          <a:ln w="0">
            <a:noFill/>
          </a:ln>
        </p:spPr>
      </p:pic>
      <p:pic>
        <p:nvPicPr>
          <p:cNvPr id="563" name="" descr=""/>
          <p:cNvPicPr/>
          <p:nvPr/>
        </p:nvPicPr>
        <p:blipFill>
          <a:blip r:embed="rId3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EAE54-DD88-41FB-9DC4-C63E184FE35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Zire 72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3816360" cy="403236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4788000" y="1628640"/>
            <a:ext cx="3816360" cy="401976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3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3BDB7-B0E0-46EB-8DC1-767A24F6E3C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Línea Tungste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ngsten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ngsten T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ngsten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ngsten T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5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79E7B-C6DC-4BD7-96C3-16AB2D22866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EMPRESA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ungsten 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3744720" cy="4033800"/>
          </a:xfrm>
          <a:prstGeom prst="rect">
            <a:avLst/>
          </a:prstGeom>
          <a:ln w="0">
            <a:noFill/>
          </a:ln>
        </p:spPr>
      </p:pic>
      <p:pic>
        <p:nvPicPr>
          <p:cNvPr id="573" name="" descr=""/>
          <p:cNvPicPr/>
          <p:nvPr/>
        </p:nvPicPr>
        <p:blipFill>
          <a:blip r:embed="rId2"/>
          <a:stretch/>
        </p:blipFill>
        <p:spPr>
          <a:xfrm>
            <a:off x="4859280" y="1700280"/>
            <a:ext cx="3765600" cy="403380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/>
          <p:cNvPicPr/>
          <p:nvPr/>
        </p:nvPicPr>
        <p:blipFill>
          <a:blip r:embed="rId3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65470-C710-41F6-9688-B3D584C3077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ungsten T3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3816360" cy="3960720"/>
          </a:xfrm>
          <a:prstGeom prst="rect">
            <a:avLst/>
          </a:prstGeom>
          <a:ln w="0">
            <a:noFill/>
          </a:ln>
        </p:spPr>
      </p:pic>
      <p:pic>
        <p:nvPicPr>
          <p:cNvPr id="577" name="" descr=""/>
          <p:cNvPicPr/>
          <p:nvPr/>
        </p:nvPicPr>
        <p:blipFill>
          <a:blip r:embed="rId2"/>
          <a:stretch/>
        </p:blipFill>
        <p:spPr>
          <a:xfrm>
            <a:off x="4716360" y="1773360"/>
            <a:ext cx="3837240" cy="3960720"/>
          </a:xfrm>
          <a:prstGeom prst="rect">
            <a:avLst/>
          </a:prstGeom>
          <a:ln w="0">
            <a:noFill/>
          </a:ln>
        </p:spPr>
      </p:pic>
      <p:pic>
        <p:nvPicPr>
          <p:cNvPr id="578" name="" descr=""/>
          <p:cNvPicPr/>
          <p:nvPr/>
        </p:nvPicPr>
        <p:blipFill>
          <a:blip r:embed="rId3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540C4-E609-435C-AA08-0BCC2520BED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ungsten C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3744720" cy="396072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"/>
          <p:cNvPicPr/>
          <p:nvPr/>
        </p:nvPicPr>
        <p:blipFill>
          <a:blip r:embed="rId2"/>
          <a:stretch/>
        </p:blipFill>
        <p:spPr>
          <a:xfrm>
            <a:off x="4788000" y="1773360"/>
            <a:ext cx="3765600" cy="3960720"/>
          </a:xfrm>
          <a:prstGeom prst="rect">
            <a:avLst/>
          </a:prstGeom>
          <a:ln w="0">
            <a:noFill/>
          </a:ln>
        </p:spPr>
      </p:pic>
      <p:pic>
        <p:nvPicPr>
          <p:cNvPr id="582" name="" descr=""/>
          <p:cNvPicPr/>
          <p:nvPr/>
        </p:nvPicPr>
        <p:blipFill>
          <a:blip r:embed="rId3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45850-4285-4AC0-B7F8-5CC2E9415A7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ungsten T5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3816360" cy="388764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2"/>
          <a:stretch/>
        </p:blipFill>
        <p:spPr>
          <a:xfrm>
            <a:off x="4716360" y="1773360"/>
            <a:ext cx="3837240" cy="3887640"/>
          </a:xfrm>
          <a:prstGeom prst="rect">
            <a:avLst/>
          </a:prstGeom>
          <a:ln w="0">
            <a:noFill/>
          </a:ln>
        </p:spPr>
      </p:pic>
      <p:pic>
        <p:nvPicPr>
          <p:cNvPr id="586" name="" descr=""/>
          <p:cNvPicPr/>
          <p:nvPr/>
        </p:nvPicPr>
        <p:blipFill>
          <a:blip r:embed="rId3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E20B1-A9D5-4270-9E8C-67CFA342945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Línea Tre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o 6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2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84D8D-7A6B-4279-97CB-695C430BE08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reo 600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539640" y="1427040"/>
            <a:ext cx="3888000" cy="444996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2"/>
          <a:stretch/>
        </p:blipFill>
        <p:spPr>
          <a:xfrm>
            <a:off x="4572000" y="1446120"/>
            <a:ext cx="4016520" cy="443088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3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197D3-2716-49E9-BAEE-8F25283D58B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Publicidad Productos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692360" y="189000"/>
            <a:ext cx="5759280" cy="626436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6C457-9221-4066-A5C0-E8E7426BA9A7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" descr=""/>
          <p:cNvPicPr/>
          <p:nvPr/>
        </p:nvPicPr>
        <p:blipFill>
          <a:blip r:embed="rId1"/>
          <a:stretch/>
        </p:blipFill>
        <p:spPr>
          <a:xfrm>
            <a:off x="1752480" y="189000"/>
            <a:ext cx="5639040" cy="626436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2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8315B-C785-40C7-BD56-C671F9CC3CD3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" descr=""/>
          <p:cNvPicPr/>
          <p:nvPr/>
        </p:nvPicPr>
        <p:blipFill>
          <a:blip r:embed="rId1"/>
          <a:stretch/>
        </p:blipFill>
        <p:spPr>
          <a:xfrm>
            <a:off x="1590840" y="189000"/>
            <a:ext cx="5962320" cy="6264360"/>
          </a:xfrm>
          <a:prstGeom prst="rect">
            <a:avLst/>
          </a:prstGeom>
          <a:ln w="0">
            <a:noFill/>
          </a:ln>
        </p:spPr>
      </p:pic>
      <p:pic>
        <p:nvPicPr>
          <p:cNvPr id="600" name="" descr=""/>
          <p:cNvPicPr/>
          <p:nvPr/>
        </p:nvPicPr>
        <p:blipFill>
          <a:blip r:embed="rId2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CD88E-0E58-4AFE-A289-E998F67BAA0A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Misió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 los líderes globales de la administración de información móvil 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porcionar a empresas y consumidores innovadoras soluciones de computación para computadoras de mano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bajar con concesionarios mundiales y casi 200.000 programadores de software con el fin de crear la plataforma estándar de la industria para administrar la información en las computadoras de mano; 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ocar el poder de la Internet en cada computadora de mano Palm™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2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C7520-6B96-41C4-9EE7-310E85A39EF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Publicidad Empresa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" descr=""/>
          <p:cNvPicPr/>
          <p:nvPr/>
        </p:nvPicPr>
        <p:blipFill>
          <a:blip r:embed="rId1"/>
          <a:stretch/>
        </p:blipFill>
        <p:spPr>
          <a:xfrm>
            <a:off x="1643040" y="189000"/>
            <a:ext cx="5857920" cy="6264360"/>
          </a:xfrm>
          <a:prstGeom prst="rect">
            <a:avLst/>
          </a:prstGeom>
          <a:ln w="0">
            <a:noFill/>
          </a:ln>
        </p:spPr>
      </p:pic>
      <p:pic>
        <p:nvPicPr>
          <p:cNvPr id="603" name="" descr=""/>
          <p:cNvPicPr/>
          <p:nvPr/>
        </p:nvPicPr>
        <p:blipFill>
          <a:blip r:embed="rId2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57955-0590-4F16-88DA-F7BD22E9BC89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1819440" y="189000"/>
            <a:ext cx="5505120" cy="626436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2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6097F-2CD0-4C8F-AC19-871E7356A2A9}" type="slidenum">
              <a:t>3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1576440" y="189000"/>
            <a:ext cx="5991120" cy="6264360"/>
          </a:xfrm>
          <a:prstGeom prst="rect">
            <a:avLst/>
          </a:prstGeom>
          <a:ln w="0">
            <a:noFill/>
          </a:ln>
        </p:spPr>
      </p:pic>
      <p:pic>
        <p:nvPicPr>
          <p:cNvPr id="607" name="" descr=""/>
          <p:cNvPicPr/>
          <p:nvPr/>
        </p:nvPicPr>
        <p:blipFill>
          <a:blip r:embed="rId2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A452F-A222-4ADD-872C-624BF91C9BB0}" type="slidenum">
              <a:t>3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anales de Venta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terne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pecífica para residentes de EEUU y Canad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vidida en The Treo Store y The Palm St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recen todos sus productos principales y sus acceso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 puede complementar con servicio telefónico (compra y atención client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5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B6163-FC14-455E-B551-D160C397C79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evendedor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ivididos en Reseller y Reseller P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almOne entrega diversas herramientas de ventas y mercade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n Chile s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 y C Tecnología Limitada (mundopalm.c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Mobiletech S.A. (mobiletech.c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IGG TECNOLOGIA (rigg.c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riadis Logística S.A (triadis.c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ilicon Tecnología Chile Ltda. (silicon.c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4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4F495-3E4C-4B6E-B683-36552486D10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etailer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 Chil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labella (falabella.c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GG Portables (portables.c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 EEUU la compañía ha abierto sus propios locales “palmOne Retail Stor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7" name="" descr=""/>
          <p:cNvPicPr/>
          <p:nvPr/>
        </p:nvPicPr>
        <p:blipFill>
          <a:blip r:embed="rId3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1BA88-EA69-4631-BD4A-CDC9331C3CE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Precios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recios y promocion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á dividido según línea de produc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to de última generación tiene precio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rem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ínea Zire es la más económic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ire 72: US$299 (promoción –US$50 devolución por correo, incluye estuch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ire 31: US$149 (envío grat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ire 21: US$99 (Software grat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1" name="" descr=""/>
          <p:cNvPicPr/>
          <p:nvPr/>
        </p:nvPicPr>
        <p:blipFill>
          <a:blip r:embed="rId4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430CC-1CB9-4B11-A5A7-B146A467F1F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Historia de la compañí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9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ción del primer organizador: Pilot 1000 y Pilot 5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liza su primer lanzamiento internacional, entra al mercado franc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tiene su primer premio otorgado por PC Compu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4B6BA-E040-4BF2-AB30-CD1768219A5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recios y promocion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ínea Tungsten tiene mayores precios ya que está enfocada a profesion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ngsten T5: US$399 (envío al día siguiente gratuit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ngsten C: US$399 (envío grat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ngsten T3: US$349 (Memoria 64mb grat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ngsten E: US$199 (Memoria 64mb grat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ínea Treo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o 600: US$349 (envío grat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3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54085-0A3A-4D7B-B475-E5EB718787D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Mercado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Mercado actual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 compras de PDA a nivel mundial se han estancado en aproximadamente 11 millones de unidades anu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vada presión competitiva en mercado de EEU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ny, Toshiba y Sharp han dejado de producir para EEUU (Japó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erte aumento de Pocket PC (HP, Del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68641-4270-462B-9A2D-B3D178B3EEA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ambio en preferencia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629" name="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5905440" cy="5113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CCBA0-3A8E-4959-B94F-7BC1028E54B8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FIN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Historia de la compañí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97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eva generación de PalmPilot: Professional y Personal Ed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plataforma obtiene respaldo de 2.000 desarrolladores de soft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mera alianza: Franklin Quest (Personalizació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Com compra a U.S. Robotics, dueña de Pal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ienza a vender licencias de su sistema operativo Palm 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lm y Symbol Team comienzan a entregar soluciones de marketing vertical: códigos de barra, registros de inventar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2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04347-DA49-4C5F-ABCA-C84EF4AB0BB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Historia de la compañí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9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zamiento de la Palm I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lm OS alcanza los 3.500 desarrollad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ndspring licencia Palm 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tiene su segundo gran premio “MVP Award” otorgado por PC Compu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2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C5D49-EAF7-4BE7-B167-D0A2E289B50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Historia de la compañí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9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zamiento de la Palm IIIx y Palm 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gra el 73% del mercado EEUU y 68% del mercado mundial de P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lm OS alcanza los 13.700 desarrollad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ción de la Palm VII la primera con acceso a Interne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mio al “Diseño de la Década” (Bwee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2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DCCEF-491F-481A-9B63-402E7EE0C4D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Historia de la compañí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ra en escena la Palm IIIc, la primera con pantalla a col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lm OS logra la cifra de 41.000 (Marzo); 65.000 (Abril) y 100.000 (Septiembre) desarrollad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lm Inc. ingresa a NASDA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lm acuerda alianza estratégica con IBM (e-busin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e al mercado el teclado para Pal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2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D2655-45FA-49A8-85BC-D7F3BC92FE9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Historia de la compañí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0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lm OS obtiene 140.000 desarrollad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gra acuerdo con Handspring para licenciar su sistema opera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ma acuerdo con la Universidad de Dakota para la entrega de dispositivos a alumnos de primer añ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lm entra al mercado de Ind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lm y Panasonic firman acuerdo para popularizar las memorias S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nzamiento de nuevos productos (m105, m125, m500 y m50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298E1-4F88-4BD3-B5B0-21B9B3AAA61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5T01:07:19Z</dcterms:created>
  <dc:creator>Felipe Tapia Navarro</dc:creator>
  <dc:description/>
  <dc:language>en-US</dc:language>
  <cp:lastModifiedBy>Jorge Lara</cp:lastModifiedBy>
  <dcterms:modified xsi:type="dcterms:W3CDTF">2004-11-19T01:35:19Z</dcterms:modified>
  <cp:revision>18</cp:revision>
  <dc:subject/>
  <dc:title>Diapositiva 1</dc:title>
</cp:coreProperties>
</file>