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913BD-3CA7-44DE-95D4-F234B1B5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6C3B-48D1-4054-A765-2F896B8F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5B13-CD5B-4FBB-8A25-45537E6E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28EF-4154-4937-B974-992D03AA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6681-5995-43F9-83C4-B2916D9C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61BE-DF6F-4DD3-B1A6-399301AA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9109-94AF-4C96-9916-985089D6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611E-51A6-43A4-86A7-3CAFF842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EDC4-84F7-4606-A4D8-3D98F675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4EB4-D4D6-421C-8B17-C500FCE8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010E-157C-452E-A67F-864CEB96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ED1C-E663-4857-9997-5C0ACDC3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F1CF-4420-436D-A75F-711321F2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60E8-852A-4710-BEFC-434DFD0E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A449-0E7D-413E-9891-1439BC4F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7B01-F620-4786-95BE-3A63097D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1F78-5FE5-469B-A7DD-269F207F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0B47-A4FB-436C-A41B-6C8CADC1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2DF8-EB4F-4D35-8450-F3682425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FD4E-3F2A-4B42-AB76-F2003026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2B54-00FE-4F30-BDCC-EBC1149B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2E94-7BF1-4201-BA7A-7E294CCE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A710-C1B7-4A6D-B9B5-30C4965B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C343-AFCB-43F8-BBD1-D73E2893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E522-90AD-4823-B23A-272EF73FD29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5001-6730-4D39-88B2-5E1A210825A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ka Már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ela Oliv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ipe Tap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dfdef6"/>
                </a:solidFill>
                <a:latin typeface="Arial"/>
              </a:rPr>
              <a:t>PalmOne</a:t>
            </a:r>
            <a:r>
              <a:rPr b="1" i="1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04840" cy="10238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1080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crea subsidiaria para Palm 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ompañía vende la unidad 20 mill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evos modelos (i705, m130 y m51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e IBM acuerda programas para revende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lanzan las primeras 2 submarcas: Zire y Tung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recibe inversión de MMUS$20 por parte de Sony (licencia de Palm 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a a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ega soporte a Bluetooth (conectivid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9D67-5BE8-4EAD-B939-A47021FE3E4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uncia adquisición de Handsp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ción definitiva de PalmSource (Palm OS) y PalmOne (Handhel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anza estratégica entre PalmSource y QUALCO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evos modelos (Tungsten T, T2; Zire 7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zamiento de su primer Smartphone: Treo 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BC08-EC57-488A-BDF6-CCF89BC2C9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ra acuerdo con RealNetworks para introducir música a sus disposi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evos modelos (Zire 31, 72; Tungsten T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One acuerda unión de fuerzas con Sprint para entregar mejores soluciones móviles para el cuidado de la sal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BCE5-D73C-4B67-B702-C4C1C365D3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volución de merca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39640" y="1547640"/>
            <a:ext cx="8064720" cy="454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43BDF-D594-4404-BAAD-3AF44BE684C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RODUCT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ínea Zi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re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re 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re 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3430-B861-4915-904A-AB461749C86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Zire 2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740400" cy="40989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4807080" y="1628640"/>
            <a:ext cx="3746520" cy="410544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62B1-89FE-4A9E-ACB0-A8C2C5C19B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Zire 3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816360" cy="41767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837240" cy="41767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9031-0C03-4CF8-A662-FF58A0B8EA1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Zire 7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816360" cy="40323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816360" cy="40197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DEF1-76B3-46D0-B87C-1A31F42F5F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ínea Tungst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gsten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gsten 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gste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gsten T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0A53-A143-484C-8CCE-10B6AF2631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EMPRES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gsten 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744720" cy="40338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765600" cy="40338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B2B5-31A2-4E45-9112-F364B42DCC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gsten T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816360" cy="39607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837240" cy="39607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7148-026A-4AF7-A632-F4CB755CEA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gsten C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744720" cy="39607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765600" cy="39607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18A8-5E46-4F53-A1BD-F53AEB863CE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gsten T5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388764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837240" cy="38876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E975-EBDA-412C-8340-6825B52BFCD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ínea Tre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o 6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C755-8814-4CBB-845C-87F58737CE4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eo 6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39640" y="1427040"/>
            <a:ext cx="3888000" cy="44499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4572000" y="1446120"/>
            <a:ext cx="4016520" cy="44308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9C75-A65F-4721-A846-935CEEC95E2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ublicidad Product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759280" cy="626436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DD0B-99E1-4B65-BE8C-D4EB7005347C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1752480" y="189000"/>
            <a:ext cx="5639040" cy="626436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F69B-C22A-4BBB-9D80-917B83991801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1590840" y="189000"/>
            <a:ext cx="5962320" cy="62643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6C96-B0CD-4312-96E8-083E07D7E855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is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 los líderes globales de la administración de información móvil 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rcionar a empresas y consumidores innovadoras soluciones de computación para computadoras de man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bajar con concesionarios mundiales y casi 200.000 programadores de software con el fin de crear la plataforma estándar de la industria para administrar la información en las computadoras de mano;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car el poder de la Internet en cada computadora de mano Palm™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DD79-CD56-43B2-843F-27F4361984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ublicidad Empres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1643040" y="189000"/>
            <a:ext cx="5857920" cy="62643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A7BD-F2AD-4A6A-832A-6BD1E2B30B91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1819440" y="189000"/>
            <a:ext cx="5505120" cy="62643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9DE4-C6C5-46C7-A249-013F8EB8D5E7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576440" y="189000"/>
            <a:ext cx="5991120" cy="626436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CE5A-3155-455C-8A4C-AA0CE0FF2854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anales de Vent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cífica para residentes de EEUU y Canad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ida en The Treo Store y The Palm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recen todos sus productos principales y sus acceso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puede complementar con servicio telefónico (compra y atención clien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5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2ED3-E7F3-456E-AF94-3D86E67ED7F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vendedor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vididos en Reseller y Reseller P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lmOne entrega diversas herramientas de ventas y mercade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Chile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 y C Tecnología Limitada (mundopalm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obiletech S.A. (mobiletech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IGG TECNOLOGIA (rigg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riadis Logística S.A (triadis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licon Tecnología Chile Ltda. (silicon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4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7846-40B3-4B23-A5C5-C33F9160291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tail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Chi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abella (falabella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G Portables (portables.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EEUU la compañía ha abierto sus propios locales “palmOne Retail Sto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F66F-3D78-484B-9C77-9C3614C03F7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reci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ecios y promocion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á dividido según línea de produc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o de última generación tiene preci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m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Zire es la más económ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re 72: US$299 (promoción –US$50 devolución por correo, incluye estuch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re 31: US$149 (envío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re 21: US$99 (Software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29C1-049A-4182-9135-D27588E6ECC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 del primer organizador: Pilot 1000 y Pilot 5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iza su primer lanzamiento internacional, entra al mercado franc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iene su primer premio otorgado por PC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EE5D-83C4-4793-BDDC-2B424FC55A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ecios y promocion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Tungsten tiene mayores precios ya que está enfocada a profes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 T5: US$399 (envío al día siguiente gratui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 C: US$399 (envío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 T3: US$349 (Memoria 64mb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gsten E: US$199 (Memoria 64mb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Tre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o 600: US$349 (envío gra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BB9A-8281-455C-A0E5-AD58A045FB3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Mercado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ercado actu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compras de PDA a nivel mundial se han estancado en aproximadamente 11 millones de unidades an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vada presión competitiva en mercado de EEU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y, Toshiba y Sharp han dejado de producir para EEUU (Japó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erte aumento de Pocket PC (HP, D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9E6C-230E-46CB-970C-1641C146B7F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mbio en preferenci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905440" cy="511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AD5C-46E5-4DB5-9DFF-B67EA372A6F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7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eva generación de PalmPilot: Professional y Personal E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lataforma obtiene respaldo de 2.000 desarrolladores d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a alianza: Franklin Quest (Personaliz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Com compra a U.S. Robotics, dueña de Pal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ienza a vender licencias de su sistema operativo Palm 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y Symbol Team comienzan a entregar soluciones de marketing vertical: códigos de barra, registros de inven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39C1-614A-4B48-BFF2-64AF5798B9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zamiento de la Palm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OS alcanza los 3.500 desarroll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spring licencia Palm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iene su segundo gran premio “MVP Award” otorgado por PC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D4F5-306D-4131-9F18-350B0DD66B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zamiento de la Palm IIIx y Palm 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ra el 73% del mercado EEUU y 68% del mercado mundial de P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OS alcanza los 13.700 desarroll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 de la Palm VII la primera con acceso a Intern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io al “Diseño de la Década” (Bwee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9078-6E07-424E-A09F-B8A64A63AB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a en escena la Palm IIIc, la primera con pantalla a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OS logra la cifra de 41.000 (Marzo); 65.000 (Abril) y 100.000 (Septiembre) desarroll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Inc. ingresa a NASDA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m acuerda alianza estratégica con IBM (e-busi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e al mercado el teclado para Pa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B0A3-B970-438A-A5A8-423D808050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storia de la compañí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OS obtiene 140.000 desarroll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ra acuerdo con Handspring para licenciar su sistema oper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a acuerdo con la Universidad de Dakota para la entrega de dispositivos a alumnos de primer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entra al mercado de In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m y Panasonic firman acuerdo para popularizar las memorias 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zamiento de nuevos productos (m105, m125, m500 y m5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333440" cy="5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Dirección de Marketing - IN77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D6DD-531C-4093-AE0F-9C0F8CAAFC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Octu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1:07:19Z</dcterms:created>
  <dc:creator>Felipe Tapia Navarro</dc:creator>
  <dc:description/>
  <dc:language>en-US</dc:language>
  <cp:lastModifiedBy>Jorge Lara</cp:lastModifiedBy>
  <dcterms:modified xsi:type="dcterms:W3CDTF">2004-11-19T01:35:19Z</dcterms:modified>
  <cp:revision>18</cp:revision>
  <dc:subject/>
  <dc:title>Diapositiva 1</dc:title>
</cp:coreProperties>
</file>