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B940-7720-45BE-90C5-703472E3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F5AE-BA95-45DC-BA25-9718A00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701D-6649-4534-B374-875893ED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DD66-3A7B-4DE7-BA0D-78AFA6E6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3933-B0DE-4E68-8C7F-324072F1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CAA-D71F-4FEA-BAD7-9DD2F4D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51AC-B5DB-45B0-A51D-64DCDA9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22B6-03ED-4D36-8507-4B149A23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EE7-B9F3-4C77-96CD-D794108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6438-818D-4FC9-AF99-D5E04511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8037-E01E-44C7-904C-64A98F4A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2083-5114-4CF4-96DF-4D049CA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674D-0D73-4235-888A-64003DA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1F2-DC43-422A-A47A-C650649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2FE1-5502-4E2A-88E1-187AD3D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BDDD-9CEB-4F37-8DDD-A86134B8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13BC-168B-4460-856E-43CF6E15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15CF-45E8-4DBF-9814-6CEEEBE0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CB4B-0799-4AA2-A200-624C3AF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2288-A752-4A73-B05A-9BF05161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523F-6A08-415F-8368-73D0AB7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4038-7267-4F3C-BF04-E9625BC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38A4-5B5C-470F-92D7-7CDD5F7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63A9-DA49-47CC-B246-E58B7FD3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E4B1-BC77-463D-B1EC-03DA8E79CA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B70-2A4D-478D-A4C8-0B246C44B2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a Már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ela Oliv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T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fdef6"/>
                </a:solidFill>
                <a:latin typeface="Arial"/>
              </a:rPr>
              <a:t>PalmOne</a:t>
            </a:r>
            <a:r>
              <a:rPr b="1" i="1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04840" cy="1023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08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crea subsidiaria para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mpañía vende la unidad 20 mill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os modelos (i705, m130 y m5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 IBM acuerda programas para revend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lanzan las primeras 2 submarcas: Zire y Tung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recibe inversión de MMUS$20 por parte de Sony (licencia de Palm 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a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ga soporte a Bluetooth (conectivi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D81D-1939-41AD-BC04-FDA6218981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ncia adquisición de Hand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ción definitiva de PalmSource (Palm OS) y PalmOne (Handhe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anza estratégica entre PalmSource y QUALCO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Tungsten T, T2; Zire 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su primer Smartphone: Treo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CA86-2306-4ED1-B29D-34EA2C88E8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acuerdo con RealNetworks para introducir música a sus disposi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Zire 31, 72; Tungsten T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One acuerda unión de fuerzas con Sprint para entregar mejores soluciones móviles para el cuidado de la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39C1-FE01-4072-A5B5-33920D888F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volución de merc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39640" y="1547640"/>
            <a:ext cx="8064720" cy="454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19E8-41CF-435F-AF1B-DAAB69D24F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Z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3011-D754-4BE1-82E5-872EEFBD54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740400" cy="40989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807080" y="1628640"/>
            <a:ext cx="3746520" cy="41054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72F7-8F12-4841-B191-02CCF6499B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3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837240" cy="4176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36D1-4103-4D03-9720-92F160A580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7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16360" cy="4032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16360" cy="4019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A3FE-5C68-48CB-81DA-76F36F25CB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ungs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1DFF-EFCE-4F25-85D7-DBAF6002B9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40338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765600" cy="4033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168D-AB58-429A-9F06-CC9C906FC2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960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9ED6-3D11-4A2B-A4C8-02AEA74513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3960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65600" cy="3960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DA83-568B-4BD3-967A-E3F5845003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38876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887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5B1C-A84E-4F9E-A77A-69B0B83B2E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re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o 6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0154-AB78-4341-9B64-F56EC3554B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eo 6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39640" y="1427040"/>
            <a:ext cx="3888000" cy="4449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572000" y="1446120"/>
            <a:ext cx="4016520" cy="44308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24C0-0846-4E2F-9C3E-1D2C58B972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264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9898-EA57-49B8-9527-0A31620443C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52480" y="189000"/>
            <a:ext cx="5639040" cy="6264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8944-1F7E-45A3-BAEE-F04EB21F6367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590840" y="189000"/>
            <a:ext cx="5962320" cy="6264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B723-8E00-4F07-B24E-5FEC3A32C58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 los líderes globales de la administración de información móvil 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rcionar a empresas y consumidores innovadoras soluciones de computación para computadoras de man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bajar con concesionarios mundiales y casi 200.000 programadores de software con el fin de crear la plataforma estándar de la industria para administrar la información en las computadoras de mano;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car el poder de la Internet en cada computadora de mano Palm™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8646-598D-4F9F-91EC-BA430A56A3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643040" y="189000"/>
            <a:ext cx="5857920" cy="6264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34FA-2FE9-4955-9B14-3AC263053C7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819440" y="189000"/>
            <a:ext cx="5505120" cy="62643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770A-650B-4E92-9D60-8B32A99BA401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576440" y="189000"/>
            <a:ext cx="5991120" cy="6264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95BC-06C9-48CC-972D-3FD4F7AEA9AA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anales de Vent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ífica para residentes de EEUU y Canad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ida en The Treo Store y The Palm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recen todos sus productos principales y sus acces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uede complementar con servicio telefónico (compra y atención clien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BE88-34C0-4CC9-8F43-183B560831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vendedo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vididos en Reseller y Reseller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lmOne entrega diversas herramientas de ventas y mercad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hile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 y C Tecnología Limitada (mundopalm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biletech S.A. (mobiletech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IGG TECNOLOGIA (rigg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iadis Logística S.A (triadi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licon Tecnología Chile Ltda. (silicon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A418-D356-41E7-BBB4-32242C7126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tail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hi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abella (falabella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G Portables (portable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EUU la compañía ha abierto sus propios locales “palmOne Retail St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2C64-68C2-4ED0-B409-9BB12A964A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eci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á dividido según línea de pro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o de última generación tiene preci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Zire es la más econó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72: US$299 (promoción –US$50 devolución por correo, incluye estuch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31: US$1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21: US$99 (Software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C96D-0892-41D6-80C5-57DCFD09A6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l primer organizador: Pilot 1000 y Pilot 5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za su primer lanzamiento internacional, entra al mercado franc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primer premio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8D0F-3E62-4F8D-B543-DCF013F539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ungsten tiene mayores precios ya que está enfocada a profes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5: US$399 (envío al día siguiente gratui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C: US$39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3: US$34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E: US$19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re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o 600: US$3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77EE-6684-4C63-BC8B-9CD1691F94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ercad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rcado ac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ompras de PDA a nivel mundial se han estancado en aproximadamente 11 millones de unidades 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da presión competitiva en mercado de EEU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y, Toshiba y Sharp han dejado de producir para EEUU (Jap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rte aumento de Pocket PC (HP, D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5207-6D5C-4EA4-BAAA-B45F22DA8B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mbio en prefer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0544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89B2-B72B-45B6-AB56-FE471CD11F2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a generación de PalmPilot: Professional y Personal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taforma obtiene respaldo de 2.000 desarrolladores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a alianza: Franklin Quest (Personaliz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Com compra a U.S. Robotics, dueña de P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enza a vender licencias de su sistema operativo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Symbol Team comienzan a entregar soluciones de marketing vertical: códigos de barra, registros de inven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8142-7B23-47E5-B188-54187B5913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3.5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pring licencia Palm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segundo gran premio “MVP Award”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3139-40D4-4F54-A254-BB56DD32DE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x y Palm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el 73% del mercado EEUU y 68% del mercado mundial de P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13.7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 la Palm VII la primera con acceso a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o al “Diseño de la Década” (Bwe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7761-5CE0-4BFA-9D3F-D06598177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 en escena la Palm IIIc, la primera con pantalla a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logra la cifra de 41.000 (Marzo); 65.000 (Abril) y 100.000 (Septiembre)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Inc. ingresa a NASD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acuerda alianza estratégica con IBM (e-busi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l mercado el teclado para P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2695-BAA0-4535-8B54-A24B6C47F4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OS obtiene 140.000 desarroll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ra acuerdo con Handspring para licenciar su sistema op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a acuerdo con la Universidad de Dakota para la entrega de dispositivos a alumnos de primer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ntra al mercado de I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Panasonic firman acuerdo para popularizar las memorias 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zamiento de nuevos productos (m105, m125, m500 y m5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7EB0-7675-46E2-B7DB-4575D019A6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1:07:19Z</dcterms:created>
  <dc:creator>Felipe Tapia Navarro</dc:creator>
  <dc:description/>
  <dc:language>en-US</dc:language>
  <cp:lastModifiedBy>Jorge Lara</cp:lastModifiedBy>
  <dcterms:modified xsi:type="dcterms:W3CDTF">2004-11-19T01:35:19Z</dcterms:modified>
  <cp:revision>18</cp:revision>
  <dc:subject/>
  <dc:title>Diapositiva 1</dc:title>
</cp:coreProperties>
</file>