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565D-FD23-41E7-85D7-16919699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B879-688B-4EB5-A9C5-7664F237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7AE98-5BC7-48D4-BD1F-7306A8B6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5F63-6BF0-4D69-B5D2-5F53C335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8A27-DCCB-47AA-8985-F4A9495B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6744-666C-40DA-A75F-C36C181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851-4754-4331-8BE6-00DF266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D28-322D-4F6C-B6FC-95E98DBC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93C-60BB-4BE7-83DB-1D248A6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7ACE-9887-4928-8D54-743EC33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715E-577A-4E54-A181-CF56DD8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060C-0276-4B36-BCCE-39D703C0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889E-7C64-403F-B07D-E25DAD2C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814-8A61-42B1-9B46-46778CE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62E-43F0-49D9-92CD-F4FC614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A79-61A7-42D9-A3DB-5C0DC2C0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073-E946-451A-90E3-1991E96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3574-32EA-49E2-A6AD-60ABEE7C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129B-E546-426A-873F-516F451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C3CD-730E-4D91-828E-2CF19EE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313C-DE00-427A-983B-CED4DBC4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EAB5-C172-4D93-9AF9-8A986BC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0F04-7252-4AD5-9650-6CBD3E0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9AE7-3C81-459C-833E-9668456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147-6C6F-47F2-9B00-DC8B6262337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60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EE2-CFA3-490B-9B45-233952F135E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asa &amp; Ide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167440" y="4220640"/>
            <a:ext cx="39765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do Gaggero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orge Passi Riuma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/Noviembre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ara la discus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s sustentable en el tiempo el éxito de Casa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estrategia apropiada para la expansión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Los precios de Casa&amp;Ideas son realmente baj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otras marcas pueden aparecer con 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Breve Historia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 en 1993 con el nombr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1998 cambia a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tiene 22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n una estrategia de diferenciación que les abre un lugar en el mercado del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reportan ventas anuales por U$ 5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ofa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ña del Mar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Á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mu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rto Mo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48360" y="2276640"/>
            <a:ext cx="3671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Las Co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quindo (Niño&amp;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uman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orid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ip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rarráza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que Ara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O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Vespu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tal La Deh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v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li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1700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La Re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Ranc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Temu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za Jockey (Lima, 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2349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ianza Cenco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Estrategia de Fideliz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6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rjeta Casa&amp;Ideas (más de 700.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sos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eque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616720" cy="204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Segment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os útiles, simples y amigables para el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rca del 80% de las Tarjetas Casa&amp;Ideas pertenecen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en mujeres A, B, C1, C2, 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de Niño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rovecharon un nicho que estab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“</a:t>
            </a: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Management” de sus Client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án donde están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en una tienda en Pucón en 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tos motivos de acuerdo a las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 renovación de la mer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esas de novedad, responsabilidad y belleza, a baj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lugar para descubr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313848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¿Cómo lo hacen?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 Manager para cada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 productos de Asia Or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de renovación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plio manejo de la cadena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ción de SAP R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Paso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rnac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nio tarjeta Rip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a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28:48Z</dcterms:created>
  <dc:creator>Jorge Passi Riumalló</dc:creator>
  <dc:description/>
  <dc:language>en-US</dc:language>
  <cp:lastModifiedBy>Jorge Lara</cp:lastModifiedBy>
  <dcterms:modified xsi:type="dcterms:W3CDTF">2004-11-17T18:17:40Z</dcterms:modified>
  <cp:revision>64</cp:revision>
  <dc:subject/>
  <dc:title>Diapositiva 1</dc:title>
</cp:coreProperties>
</file>