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652B0-B5C1-4E71-B06D-4F976FD9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944DC-D332-47CE-8755-12EFB10B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EEAA8-5A71-41A8-99DC-3AB1AAD5B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7FAC9-FB3C-44CA-A155-A7C9793D8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5709-F5FC-48B3-AEE9-CA624FEF7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6C79-D90B-4D53-8A69-196D43E0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7E0F-919F-4C7F-BF64-1B7291B7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1474-E93E-443E-891F-675AFFFA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4B4B-3151-4B86-97DB-673E0BD2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98CD-F11C-4287-A09E-6AFDDEE7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266F-1222-4F50-9CD3-08BB0090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37861-C828-4E6C-BBC8-2A4D38B0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6C48-A979-4010-B348-90D45A8B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8916-5325-4F72-8BFB-E64BF36F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30F6-4711-4756-8124-0A57A1F8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9206-DDC1-45AF-B671-8101E9ED3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1610-1807-4B3F-9886-5719E4DC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42735-4C78-4B8E-ABFF-E1BB6E99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5F81F-EEA9-4CF1-AA4C-44C064C8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B1AD6-245B-4A9B-BCBF-335B9806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728DC-791F-4E5D-B946-EAE6C181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6EE5D-217C-444B-8494-6E600224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65B0E-63FF-4537-BDC0-25613199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96F6F-8241-4EDF-9DE1-7C4000CB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53BE-0D05-460C-A6E6-9C31768DE29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60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6012000" y="6165720"/>
            <a:ext cx="2842920" cy="52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8D98-8410-4C0D-BC71-1DD3085B62C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Casa &amp; Idea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167440" y="4220640"/>
            <a:ext cx="397656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do Gaggero Mad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Jorge Passi Riumall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237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1/Noviembre/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12000" y="6165720"/>
            <a:ext cx="2842920" cy="5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bd60d"/>
                </a:solidFill>
                <a:latin typeface="Arial"/>
              </a:rPr>
              <a:t>Para la discusión</a:t>
            </a: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Es sustentable en el tiempo el éxito de Casa&amp;Id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Cuál es la estrategia apropiada para la expansión internacion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Los precios de Casa&amp;Ideas son realmente baj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Qué otras marcas pueden aparecer con &amp;Id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19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bd60d"/>
                </a:solidFill>
                <a:latin typeface="Arial"/>
              </a:rPr>
              <a:t>Breve Historia</a:t>
            </a: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ace en 1993 con el nombre C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1998 cambia a Casa&amp;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ctualmente tiene 22 lo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plican una estrategia de diferenciación que les abre un lugar en el mercado del r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ctualmente reportan ventas anuales por U$ 50 mill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bd60d"/>
                </a:solidFill>
                <a:latin typeface="Arial"/>
              </a:rPr>
              <a:t>Locales</a:t>
            </a: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tofaga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Ser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iña del Mar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l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ce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Áng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emu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aldi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uerto Mon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277040" y="0"/>
            <a:ext cx="1866960" cy="18669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148360" y="2276640"/>
            <a:ext cx="367164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o Las Con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oquindo (Niño&amp;Ide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uman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lorida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aip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rarráza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que Arau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laza Oe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laza Vespu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ortal La Deh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vid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uilic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56000" y="1700280"/>
            <a:ext cx="237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bd60d"/>
                </a:solidFill>
                <a:latin typeface="Arial"/>
              </a:rPr>
              <a:t>Próximos Locales</a:t>
            </a: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ortal La Re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ortal Ranca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ortal Temu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laza Jockey (Lima, Per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00720" y="2492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234936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lianza Cencos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19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bd60d"/>
                </a:solidFill>
                <a:latin typeface="Arial"/>
              </a:rPr>
              <a:t>Estrategia de Fidelización</a:t>
            </a: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6635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arjeta Casa&amp;Ideas (más de 700.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sos Casa&amp;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heque Casa&amp;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08000" y="3860640"/>
            <a:ext cx="5616720" cy="2041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277040" y="0"/>
            <a:ext cx="186696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bd60d"/>
                </a:solidFill>
                <a:latin typeface="Arial"/>
              </a:rPr>
              <a:t>Segmentación</a:t>
            </a: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ductos útiles, simples y amigables para el ho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erca del 80% de las Tarjetas Casa&amp;Ideas pertenecen muj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foque en mujeres A, B, C1, C2, C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pertura de Niño&amp;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provecharon un nicho que estaba descuid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19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bd60d"/>
                </a:solidFill>
                <a:latin typeface="Arial"/>
              </a:rPr>
              <a:t>“</a:t>
            </a:r>
            <a:r>
              <a:rPr b="0" lang="es-CL" sz="4400" spc="-1" strike="noStrike">
                <a:solidFill>
                  <a:srgbClr val="ebd60d"/>
                </a:solidFill>
                <a:latin typeface="Arial"/>
              </a:rPr>
              <a:t>Management” de sus Clientes</a:t>
            </a: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án donde están sus cl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bren una tienda en Pucón en el Ver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tintos motivos de acuerdo a las est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stante renovación de la mercade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mesas de novedad, responsabilidad y belleza, a bajos pre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 lugar para descubri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796000" y="4941720"/>
            <a:ext cx="3138480" cy="12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bd60d"/>
                </a:solidFill>
                <a:latin typeface="Arial"/>
              </a:rPr>
              <a:t>¿Cómo lo hacen?</a:t>
            </a: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35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duct Manager para cada línea de produ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mportan productos de Asia Or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olítica de renovación contin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mplio manejo de la cadena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mplementación de SAP R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19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bd60d"/>
                </a:solidFill>
                <a:latin typeface="Arial"/>
              </a:rPr>
              <a:t>Próximos Pasos</a:t>
            </a: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ternacion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venio tarjeta Rip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pertura a Bol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190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19:28:48Z</dcterms:created>
  <dc:creator>Jorge Passi Riumalló</dc:creator>
  <dc:description/>
  <dc:language>en-US</dc:language>
  <cp:lastModifiedBy>Jorge Lara</cp:lastModifiedBy>
  <dcterms:modified xsi:type="dcterms:W3CDTF">2004-11-17T18:17:40Z</dcterms:modified>
  <cp:revision>64</cp:revision>
  <dc:subject/>
  <dc:title>Diapositiva 1</dc:title>
</cp:coreProperties>
</file>