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88A7-2D3D-4BD2-B075-58C47C01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7DB8-1274-49F8-9976-2C109341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9254-BDA3-402F-AF18-E5B5FC3E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290A0-75CD-4735-B37F-B1F36308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A696-8D8E-43D5-BA34-3E1EBCBC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20A8-A5A2-4730-B593-6F4AB458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9C56-6D7F-4606-B44F-C0D41574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8858-BDC9-4BCE-ACBE-6CDC52B4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4CC3-0B6A-4568-BC19-5319D7A3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1356-6BBD-459A-8F93-FD8FD01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D207-B657-4A5F-A2B7-B9855B6E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FB65-EAC6-4B09-9154-FC44E7DC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EC3F-7CE9-4E74-B2FC-FCB752F9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0C6D-B6C5-4688-A43F-9FEE5A97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17B5-2697-430B-86E1-1F15B7E7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0CD4-07D5-4D90-84E1-4AB370BF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6995-1F33-4F45-8EEA-B8553887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4437-7801-413C-B671-38394091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1D44-CD77-4AF0-BBA7-5B3F5A1C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5DF6-7675-40CB-B2A5-9B193333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20C2-D937-404B-9A17-0F8A518B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8084F-F2D1-4619-BC37-10FC704C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516D-07FE-4D1B-80D9-632D0154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02E2-F246-4B0D-AB13-5854C3A7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3438-46DB-47A7-A586-7E4E035966D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60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6012000" y="6165720"/>
            <a:ext cx="284292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06D8-CA8E-4034-A181-2563BA3680D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Casa &amp; Ide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167440" y="4220640"/>
            <a:ext cx="397656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do Gaggero 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Jorge Passi Riumal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23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1/Noviembre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12000" y="6165720"/>
            <a:ext cx="284292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ara la discus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Es sustentable en el tiempo el éxito de Casa&amp;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 es la estrategia apropiada para la expansión internaci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Los precios de Casa&amp;Ideas son realmente baj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otras marcas pueden aparecer con &amp;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Breve Historia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ace en 1993 con el nombre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1998 cambia a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ualmente tiene 22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lican una estrategia de diferenciación que les abre un lugar en el mercado del r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ualmente reportan ventas anuales por U$ 5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Local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ofag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e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ña del Mar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Á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mu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ld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erto Mo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277040" y="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48360" y="2276640"/>
            <a:ext cx="36716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Las Co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quindo (Niño&amp;Id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uman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lorida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ip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rarráza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que Arau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za O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za Vespu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tal La Deh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vi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lic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170028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róximos Local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La Re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Ranc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Temu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za Jockey (Lima, Per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2349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ianza Cenco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Estrategia de Fidelizac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6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rjeta Casa&amp;Ideas (más de 700.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sos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heque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5616720" cy="2041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277040" y="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Segmentac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tos útiles, simples y amigables para el ho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erca del 80% de las Tarjetas Casa&amp;Ideas pertenecen muj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foque en mujeres A, B, C1, C2, 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ertura de Niño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rovecharon un nicho que estaba des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“</a:t>
            </a: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Management” de sus Client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án donde están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ren una tienda en Pucón en el Ve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intos motivos de acuerdo a las es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ante renovación de la mercad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mesas de novedad, responsabilidad y belleza, a bajos pre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lugar para descubri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313848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¿Cómo lo hacen?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t Manager para cada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 productos de Asia Or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lítica de renovación cont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mplio manejo de la cadena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ementación de SAP R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róximos Paso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ternacion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nio tarjeta Rip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ertura a Bo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9:28:48Z</dcterms:created>
  <dc:creator>Jorge Passi Riumalló</dc:creator>
  <dc:description/>
  <dc:language>en-US</dc:language>
  <cp:lastModifiedBy>Jorge Lara</cp:lastModifiedBy>
  <dcterms:modified xsi:type="dcterms:W3CDTF">2004-11-17T18:17:40Z</dcterms:modified>
  <cp:revision>64</cp:revision>
  <dc:subject/>
  <dc:title>Diapositiva 1</dc:title>
</cp:coreProperties>
</file>