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526544-9DA6-48D3-8CAA-3FCF71DE5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60d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DBAC5C-3C0A-41B0-B974-410314E8C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60d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0E91B1-4D2B-4E8A-9233-39ECBE67F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60d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19CF0C-747B-4F51-9718-81F6FF197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DE9A1-4F21-419B-9293-2991F492A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60d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A2EC6-1570-4A8C-B84C-FE98804ED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60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DBE85-E163-4E31-B711-00EFCB33C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60d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A0F28-BE21-4ADA-9B07-B898D9A79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60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0BB3C-6F8A-41B2-BBB7-486617214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323F1-0F42-472D-BE8B-853018C64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60d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6F072-0991-4749-ADC3-C8FB26B28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60d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68C71D-F4F6-467F-8B1C-72B76584C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60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765A6-3491-4BE9-B353-B984A4523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60d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0D51E-FE2E-4EFB-BBDC-4A129A740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60d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019D0-D958-4A72-BCA7-5B16A9D83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60d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3F392-67CB-4625-9A73-2D6888800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60d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D99C6-CC52-4B96-B8B4-4AD344CE0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60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32663D-F3FC-4C66-943F-44E91FC9D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60d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9089FC-3CB5-4906-813B-305486972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60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BA0F05-A77D-46B9-84C7-AA6D188ED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29506F-DCE1-4E43-AFF2-6803AF703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60d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6C1581-93F5-474E-8858-9A2DA7F36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60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45CB1D-4C17-45B3-BFAC-12C3F92DD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60d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F7E86F-F263-479F-B2D6-D7D9E037B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2729D-6965-45C2-A5B1-BEA4B775565C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60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60d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/>
          <p:cNvPicPr/>
          <p:nvPr/>
        </p:nvPicPr>
        <p:blipFill>
          <a:blip r:embed="rId2"/>
          <a:stretch/>
        </p:blipFill>
        <p:spPr>
          <a:xfrm>
            <a:off x="6012000" y="6165720"/>
            <a:ext cx="2842920" cy="522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3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6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CE1A6-2F26-47BF-A74E-2C2DAF87881D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ffffff"/>
                </a:solidFill>
                <a:latin typeface="Arial"/>
              </a:rPr>
              <a:t>Casa &amp; Ideas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5167440" y="4220640"/>
            <a:ext cx="3976560" cy="10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Aldo Gaggero Madr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Jorge Passi Riumall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50920" y="623736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11/Noviembre/20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6012000" y="6165720"/>
            <a:ext cx="2842920" cy="52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ebd60d"/>
                </a:solidFill>
                <a:latin typeface="Arial"/>
              </a:rPr>
              <a:t>Para la discusión</a:t>
            </a:r>
            <a:endParaRPr b="0" lang="en-US" sz="4400" spc="-1" strike="noStrike">
              <a:solidFill>
                <a:srgbClr val="ebd60d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002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¿Es sustentable en el tiempo el éxito de Casa&amp;Idea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¿Cuál es la estrategia apropiada para la expansión internaciona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¿Los precios de Casa&amp;Ideas son realmente bajo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¿Qué otras marcas pueden aparecer con &amp;Idea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7236000" y="0"/>
            <a:ext cx="1908000" cy="190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ebd60d"/>
                </a:solidFill>
                <a:latin typeface="Arial"/>
              </a:rPr>
              <a:t>Breve Historia</a:t>
            </a:r>
            <a:endParaRPr b="0" lang="en-US" sz="4400" spc="-1" strike="noStrike">
              <a:solidFill>
                <a:srgbClr val="ebd60d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Nace en 1993 con el nombre Ca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n 1998 cambia a Casa&amp;Id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Actualmente tiene 22 loc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Aplican una estrategia de diferenciación que les abre un lugar en el mercado del reta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Actualmente reportan ventas anuales por U$ 50 mill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7164360" y="0"/>
            <a:ext cx="1979640" cy="19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ebd60d"/>
                </a:solidFill>
                <a:latin typeface="Arial"/>
              </a:rPr>
              <a:t>Locales</a:t>
            </a:r>
            <a:endParaRPr b="0" lang="en-US" sz="4400" spc="-1" strike="noStrike">
              <a:solidFill>
                <a:srgbClr val="ebd60d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ntofagas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La Sere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Viña del Mar 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Tal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oncep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Los Ánge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Temu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Valdiv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uerto Mont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7277040" y="0"/>
            <a:ext cx="1866960" cy="186696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5148360" y="2276640"/>
            <a:ext cx="3671640" cy="37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lto Las Con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poquindo (Niño&amp;Idea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puman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Florida Ce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Maip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Irarrázav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arque Arau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laza Oes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laza Vespuc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ortal La Dehe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roviden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Quilic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356000" y="1700280"/>
            <a:ext cx="2376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Santia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ebd60d"/>
                </a:solidFill>
                <a:latin typeface="Arial"/>
              </a:rPr>
              <a:t>Próximos Locales</a:t>
            </a:r>
            <a:endParaRPr b="0" lang="en-US" sz="4400" spc="-1" strike="noStrike">
              <a:solidFill>
                <a:srgbClr val="ebd60d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Portal La Re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Portal Rancagu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Portal Temu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Plaza Jockey (Lima, Perú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500720" y="249228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08720" y="2349360"/>
            <a:ext cx="223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Alianza Cencosu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7236000" y="0"/>
            <a:ext cx="1908000" cy="190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ebd60d"/>
                </a:solidFill>
                <a:latin typeface="Arial"/>
              </a:rPr>
              <a:t>Estrategia de Fidelización</a:t>
            </a:r>
            <a:endParaRPr b="0" lang="en-US" sz="4400" spc="-1" strike="noStrike">
              <a:solidFill>
                <a:srgbClr val="ebd60d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66358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Tarjeta Casa&amp;Ideas (más de 700.00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Pesos Casa&amp;Id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Cheque Casa&amp;Id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908000" y="3860640"/>
            <a:ext cx="5616720" cy="204156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7277040" y="0"/>
            <a:ext cx="1866960" cy="1866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ebd60d"/>
                </a:solidFill>
                <a:latin typeface="Arial"/>
              </a:rPr>
              <a:t>Segmentación</a:t>
            </a:r>
            <a:endParaRPr b="0" lang="en-US" sz="4400" spc="-1" strike="noStrike">
              <a:solidFill>
                <a:srgbClr val="ebd60d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002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Productos útiles, simples y amigables para el hog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Cerca del 80% de las Tarjetas Casa&amp;Ideas pertenecen muj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nfoque en mujeres A, B, C1, C2, C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Apertura de Niño&amp;Id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Aprovecharon un nicho que estaba descuid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7236000" y="0"/>
            <a:ext cx="1908000" cy="190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ebd60d"/>
                </a:solidFill>
                <a:latin typeface="Arial"/>
              </a:rPr>
              <a:t>“</a:t>
            </a:r>
            <a:r>
              <a:rPr b="0" lang="es-CL" sz="4400" spc="-1" strike="noStrike">
                <a:solidFill>
                  <a:srgbClr val="ebd60d"/>
                </a:solidFill>
                <a:latin typeface="Arial"/>
              </a:rPr>
              <a:t>Management” de sus Clientes</a:t>
            </a:r>
            <a:endParaRPr b="0" lang="en-US" sz="4400" spc="-1" strike="noStrike">
              <a:solidFill>
                <a:srgbClr val="ebd60d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002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stán donde están sus clie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Abren una tienda en Pucón en el Vera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Distintos motivos de acuerdo a las esta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Constante renovación de la mercaderí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Promesas de novedad, responsabilidad y belleza, a bajos prec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Un lugar para descubri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5796000" y="4941720"/>
            <a:ext cx="3138480" cy="120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ebd60d"/>
                </a:solidFill>
                <a:latin typeface="Arial"/>
              </a:rPr>
              <a:t>¿Cómo lo hacen?</a:t>
            </a:r>
            <a:endParaRPr b="0" lang="en-US" sz="4400" spc="-1" strike="noStrike">
              <a:solidFill>
                <a:srgbClr val="ebd60d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4358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Product Manager para cada línea de produc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Importan productos de Asia Orie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Política de renovación continu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Amplio manejo de la cadena de abastecimi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Implementación de SAP R/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7236000" y="0"/>
            <a:ext cx="1908000" cy="190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ebd60d"/>
                </a:solidFill>
                <a:latin typeface="Arial"/>
              </a:rPr>
              <a:t>Próximos Pasos</a:t>
            </a:r>
            <a:endParaRPr b="0" lang="en-US" sz="4400" spc="-1" strike="noStrike">
              <a:solidFill>
                <a:srgbClr val="ebd60d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002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Internacionaliz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Convenio tarjeta Rip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Apertura a Bol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7236000" y="0"/>
            <a:ext cx="1908000" cy="1908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2T19:28:48Z</dcterms:created>
  <dc:creator>Jorge Passi Riumalló</dc:creator>
  <dc:description/>
  <dc:language>en-US</dc:language>
  <cp:lastModifiedBy>Jorge Lara</cp:lastModifiedBy>
  <dcterms:modified xsi:type="dcterms:W3CDTF">2004-11-17T18:17:40Z</dcterms:modified>
  <cp:revision>64</cp:revision>
  <dc:subject/>
  <dc:title>Diapositiva 1</dc:title>
</cp:coreProperties>
</file>