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976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976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3640" y="696960"/>
            <a:ext cx="4628880" cy="34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0880" y="4403880"/>
            <a:ext cx="5054400" cy="4241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55A2E4-44FE-490B-8E64-1635C9523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7EBE88-2CDE-4700-B8FA-DD33B75D4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27160" y="70488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9080" y="4427280"/>
            <a:ext cx="5058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43080"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spcBef>
                <a:spcPts val="675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9440" indent="-219240">
              <a:spcBef>
                <a:spcPts val="675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94560" y="656424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3847-BD3F-4CD3-92BD-85A45D851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02480" y="6580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524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8600" algn="ctr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04760" algn="ctr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09680" y="60958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ubr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8267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541008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ión de objetivo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bles, ambiciosos, realistas, y subordinados a la estrategia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ventas, en ingresos y en vo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pos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ición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, por producto o línea de productos, por cliente o segm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PI’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1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65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7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515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373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5488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762440" y="1562040"/>
            <a:ext cx="4152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52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ción de estrategia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 de las acciones para la consecución de los objetiv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lí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re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segu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espe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56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42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866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31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8992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5880" y="2514600"/>
            <a:ext cx="1032120" cy="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2819520"/>
            <a:ext cx="949320" cy="4744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553080" y="3200400"/>
            <a:ext cx="1033560" cy="83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760400" y="3700440"/>
            <a:ext cx="779760" cy="110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133720" y="4614840"/>
            <a:ext cx="795240" cy="4399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35240" y="5275440"/>
            <a:ext cx="879480" cy="13464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iterios de evaluación de la estrate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133720" y="1724040"/>
            <a:ext cx="4876560" cy="4219560"/>
          </a:xfrm>
          <a:prstGeom prst="parallelogram">
            <a:avLst>
              <a:gd name="adj" fmla="val 28887"/>
            </a:avLst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205740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4080" y="468792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1806480"/>
            <a:ext cx="361800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c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.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1082520"/>
            <a:ext cx="449892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canales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a nivel de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22860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La competencia es cosa seri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planes, actividades y/o proyectos para conseguir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ción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ización de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84240" y="194760"/>
            <a:ext cx="717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00019"/>
                </a:solidFill>
                <a:latin typeface="Arial"/>
              </a:rPr>
              <a:t>Estrategia de Implementació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71640" y="3141720"/>
            <a:ext cx="2733840" cy="2200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38520" y="1141560"/>
            <a:ext cx="2735280" cy="20350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35640" y="1131840"/>
            <a:ext cx="2865240" cy="2081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35640" y="3138480"/>
            <a:ext cx="2881440" cy="218772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7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30480" y="1566720"/>
            <a:ext cx="26640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57680" y="1195560"/>
            <a:ext cx="260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noAutofit/>
          </a:bodyPr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2924280"/>
            <a:ext cx="1690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o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3440" y="1119240"/>
            <a:ext cx="1457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áx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66840" y="4853160"/>
            <a:ext cx="9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ín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81360" y="5877000"/>
            <a:ext cx="884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92000" y="5877000"/>
            <a:ext cx="699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6019920"/>
            <a:ext cx="4097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icultad de 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rograma de Camb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43280" y="1341360"/>
            <a:ext cx="2273400" cy="307080"/>
            <a:chOff x="2843280" y="1341360"/>
            <a:chExt cx="2273400" cy="307080"/>
          </a:xfrm>
        </p:grpSpPr>
        <p:sp>
          <p:nvSpPr>
            <p:cNvPr id="214" name=""/>
            <p:cNvSpPr/>
            <p:nvPr/>
          </p:nvSpPr>
          <p:spPr>
            <a:xfrm>
              <a:off x="3059280" y="13413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/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43280" y="134136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132000" y="1700280"/>
            <a:ext cx="1679400" cy="459720"/>
            <a:chOff x="3132000" y="1700280"/>
            <a:chExt cx="1679400" cy="459720"/>
          </a:xfrm>
        </p:grpSpPr>
        <p:sp>
          <p:nvSpPr>
            <p:cNvPr id="217" name=""/>
            <p:cNvSpPr/>
            <p:nvPr/>
          </p:nvSpPr>
          <p:spPr>
            <a:xfrm>
              <a:off x="3287520" y="1700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32000" y="181620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492360" y="2133720"/>
            <a:ext cx="1944360" cy="459720"/>
            <a:chOff x="3492360" y="2133720"/>
            <a:chExt cx="1944360" cy="459720"/>
          </a:xfrm>
        </p:grpSpPr>
        <p:sp>
          <p:nvSpPr>
            <p:cNvPr id="220" name=""/>
            <p:cNvSpPr/>
            <p:nvPr/>
          </p:nvSpPr>
          <p:spPr>
            <a:xfrm>
              <a:off x="3672360" y="2133720"/>
              <a:ext cx="17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92360" y="2249640"/>
              <a:ext cx="33264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796000" y="1341360"/>
            <a:ext cx="2231640" cy="459720"/>
            <a:chOff x="5796000" y="1341360"/>
            <a:chExt cx="2231640" cy="459720"/>
          </a:xfrm>
        </p:grpSpPr>
        <p:sp>
          <p:nvSpPr>
            <p:cNvPr id="223" name=""/>
            <p:cNvSpPr/>
            <p:nvPr/>
          </p:nvSpPr>
          <p:spPr>
            <a:xfrm>
              <a:off x="6002640" y="1341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6000" y="1457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300720" y="1773360"/>
            <a:ext cx="2231640" cy="459720"/>
            <a:chOff x="6300720" y="1773360"/>
            <a:chExt cx="2231640" cy="459720"/>
          </a:xfrm>
        </p:grpSpPr>
        <p:sp>
          <p:nvSpPr>
            <p:cNvPr id="226" name=""/>
            <p:cNvSpPr/>
            <p:nvPr/>
          </p:nvSpPr>
          <p:spPr>
            <a:xfrm>
              <a:off x="6507360" y="1773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00720" y="1889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651640" y="3500280"/>
            <a:ext cx="2231640" cy="459720"/>
            <a:chOff x="5651640" y="3500280"/>
            <a:chExt cx="2231640" cy="459720"/>
          </a:xfrm>
        </p:grpSpPr>
        <p:sp>
          <p:nvSpPr>
            <p:cNvPr id="229" name=""/>
            <p:cNvSpPr/>
            <p:nvPr/>
          </p:nvSpPr>
          <p:spPr>
            <a:xfrm>
              <a:off x="5858280" y="350028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51640" y="361620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124000" y="1125360"/>
            <a:ext cx="287280" cy="4175280"/>
          </a:xfrm>
          <a:prstGeom prst="upArrow">
            <a:avLst>
              <a:gd name="adj1" fmla="val 50000"/>
              <a:gd name="adj2" fmla="val 363346"/>
            </a:avLst>
          </a:prstGeom>
          <a:gradFill rotWithShape="0">
            <a:gsLst>
              <a:gs pos="0">
                <a:srgbClr val="ff3300"/>
              </a:gs>
              <a:gs pos="100000">
                <a:srgbClr val="f9f2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71640" y="5589720"/>
            <a:ext cx="5400720" cy="215640"/>
          </a:xfrm>
          <a:prstGeom prst="rightArrow">
            <a:avLst>
              <a:gd name="adj1" fmla="val 50000"/>
              <a:gd name="adj2" fmla="val 626127"/>
            </a:avLst>
          </a:prstGeom>
          <a:gradFill rotWithShape="0">
            <a:gsLst>
              <a:gs pos="0">
                <a:srgbClr val="00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o del plan para verificar su cumplimiento y la introducción de cambios cuando sea requer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Informacione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52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898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310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75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961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627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072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485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930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451640" y="12682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788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096400" y="12351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752480" y="22860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28600" y="1562040"/>
          <a:ext cx="8591400" cy="4670640"/>
        </p:xfrm>
        <a:graphic>
          <a:graphicData uri="http://schemas.openxmlformats.org/drawingml/2006/table">
            <a:tbl>
              <a:tblPr/>
              <a:tblGrid>
                <a:gridCol w="1295280"/>
                <a:gridCol w="2819520"/>
                <a:gridCol w="447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ción, revisión de conceptos, reglas del juego y conformación de equi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uación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. Ambler y F. Kokkinaki, ¿Cómo se mide el market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 Sternthal y A. Lee: Evaluar las pruebas de anun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in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. Green  y A. Krieger, Trocear y dividir el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. MacMillan y R. McGrath, Discovering new points of differe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DA y establecimiento de obje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 S. Armstrong, Previsiones: principios que funcion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 Ashton, F. Cook y P. Schmitz: La generación de valor empieza por c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04920" y="1600200"/>
          <a:ext cx="8381880" cy="4533840"/>
        </p:xfrm>
        <a:graphic>
          <a:graphicData uri="http://schemas.openxmlformats.org/drawingml/2006/table">
            <a:tbl>
              <a:tblPr/>
              <a:tblGrid>
                <a:gridCol w="1371600"/>
                <a:gridCol w="1904760"/>
                <a:gridCol w="51055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ón de estrateg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. Lane: The brand report c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. Shankar y L. Krishnamurthi: ¿Cuáles son las opciones para los que entran más tard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 Hock, y J. Raja: ¿Son las marcas propias una amenaza para las marcas nacional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. Krishnamurthi: Precios: parte arte, parte ci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. Soberman: Sobrecarga de información y los nuevos distribuidores de da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. Schmittlein: El poder de una base de datos bien administr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/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02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362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s: asistencia oblig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arán en equipos desarrollando un plan de marketing para una empres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integrante del equipo con acceso a información de la empresa selecc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ximo 3, y cada uno de ellos con al menos 3 integr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mater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do clase a clase será el informe final (impreso y anill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algún equipo quiere presentar un informe escrito diferente del exhibido clase a clase, podrá hacerlo, pero no recibirá crédito extra por 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ibertad para elegir una estructura para el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se presentará el avance de la semana anterior, y, de las recomendaciones realizadas al material presen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expositores se posicionarán como consultores de la empresa que les solicitó el plan de marketing. El resto de la clase, como su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un equipo de dos personas expondrá un caso relevante de la actualidad nacional o internacional para discusión en clases. A más tardar el día lunes de esa semana, el enunciado del caso deberá ser expuesto en el foro de U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cero al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346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nota final será 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cálculo ponderado entre: Nota de concepto (30%), CTP’s (30%), y Examen (4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ota de examen contempla el trabajo final entregado y su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aprobar es requisito tener nota superior a 4.0 en todos los quesito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partir de la segunda clase se realizarán controles de lectura. La nota final se calculará en base a las 5 mejores 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os evaluación nota de concep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ticipación en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ción del caso de la realidad nacional o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umplimiento de reg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cidad de buscar y aplicar ay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ortamiento adecuado a un clima de negocios durante el desarrollo del 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8580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ción de las clases de cáted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08:30 – 08:45 Control de l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:45 – 10:00 Discusión hecho de la actu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00 – 10:15 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15 – 10:45 Presentación Equip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45 – 11:15 Presentación Equip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15 – 11:45 Presentación Equip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76520" y="2133720"/>
            <a:ext cx="579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752480" y="2209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859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lidad 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ifica: contenido, forma, y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fíen en la intuición sol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que produzcan debe ser v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jen desde el prin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carta Gantt hagan previsiones de preparación del material para la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imagen vale por mil pala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4479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778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final de este curso habrán sido capaces d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arrollar un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render a analizar accion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486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5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2421000"/>
            <a:ext cx="7321320" cy="17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5360" indent="-22536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ive me six hours to chop down a tree and I will spend the first four sharpening the axe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5734080"/>
            <a:ext cx="510840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marL="290520" indent="-290520" algn="ctr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, estrategias y planes de acción que permiten la consecución de los objetivos dictados a nivel corporativo, año a año,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-308520">
              <a:lnSpc>
                <a:spcPct val="11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árquicamente el desarrollo de un plan de marketing se puede realizar en las siguientes 7 f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Interno (incl. cos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imiento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ción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94920" y="-360"/>
            <a:ext cx="857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 - F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657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4038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44956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8769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53341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7150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61722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3920" y="652320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Cutropía Fernández: El 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9480" y="1295280"/>
            <a:ext cx="8209080" cy="5562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8688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52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ción de mercad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udio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afectan el análisis ex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segment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es competidores y su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mercialización de compet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encias del mercado en la 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975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420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33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278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7240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1136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31200" y="13381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151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800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interno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óstico del punto inicial para las acciones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ía uti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79628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61680"/>
            <a:ext cx="525780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era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buil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abilidad por producto, cliente,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s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2190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26740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OD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igido principalmente a las áreas de marketing, comercial, producción e investigación y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17:27:29Z</dcterms:created>
  <dc:creator>KPMG</dc:creator>
  <dc:description/>
  <dc:language>en-US</dc:language>
  <cp:lastModifiedBy>Jorge Lara</cp:lastModifiedBy>
  <cp:lastPrinted>2000-05-08T17:12:16Z</cp:lastPrinted>
  <dcterms:modified xsi:type="dcterms:W3CDTF">2004-10-14T00:41:29Z</dcterms:modified>
  <cp:revision>440</cp:revision>
  <dc:subject/>
  <dc:title>UCAD Call Centre Transition Plan</dc:title>
</cp:coreProperties>
</file>