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97688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97600" cy="932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90672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33640" y="696960"/>
            <a:ext cx="4628880" cy="34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20880" y="4403880"/>
            <a:ext cx="5054400" cy="42415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90672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9F869B-76BF-49CB-A903-B42880CC3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0672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163D74-5F0B-4607-98BA-B7927665A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0672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27160" y="70488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9080" y="4427280"/>
            <a:ext cx="50580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93048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668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7688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668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7688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1680" y="836280"/>
            <a:ext cx="8572320" cy="47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9088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93048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9088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668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7688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668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7688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1680" y="836280"/>
            <a:ext cx="8572320" cy="47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95400"/>
            <a:ext cx="3670200" cy="28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380880"/>
            <a:ext cx="9142560" cy="64756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72880" y="654120"/>
            <a:ext cx="8869680" cy="620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675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343080"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86080" indent="-343080">
              <a:spcBef>
                <a:spcPts val="675"/>
              </a:spcBef>
              <a:buClr>
                <a:srgbClr val="0033cc"/>
              </a:buClr>
              <a:buSzPct val="7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19440" indent="-219240">
              <a:spcBef>
                <a:spcPts val="675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62160" indent="-228600">
              <a:spcBef>
                <a:spcPts val="67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162160" indent="-228600">
              <a:spcBef>
                <a:spcPts val="67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162160" indent="-228600">
              <a:spcBef>
                <a:spcPts val="67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494560" y="6564240"/>
            <a:ext cx="879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ED667-925A-4F22-9758-F089A264B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95400"/>
            <a:ext cx="3670200" cy="28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80880"/>
            <a:ext cx="9142560" cy="64756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2880" y="654120"/>
            <a:ext cx="8869680" cy="620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502480" y="65800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228600" algn="ctr">
              <a:spcBef>
                <a:spcPts val="524"/>
              </a:spcBef>
              <a:buClr>
                <a:srgbClr val="0033cc"/>
              </a:buClr>
              <a:buSzPct val="70000"/>
              <a:buFont typeface="Monotype Sort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228600" algn="ctr"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04760" algn="ctr">
              <a:spcBef>
                <a:spcPts val="400"/>
              </a:spcBef>
              <a:buClr>
                <a:srgbClr val="000000"/>
              </a:buClr>
              <a:buFont typeface="Book Antiqu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5" marL="1828800" indent="104760">
              <a:spcBef>
                <a:spcPts val="4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6" marL="1828800" indent="104760">
              <a:spcBef>
                <a:spcPts val="4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18288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rección de Mark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209680" y="6095880"/>
            <a:ext cx="64008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tubre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1320" y="380880"/>
            <a:ext cx="8267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5410080" cy="499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ción de objetivo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bles, ambiciosos, realistas, y subordinados a la estrategia de la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tivo de ventas, en ingresos y en volu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tivo de posicion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osición de va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m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de med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tivo de rent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, por producto o línea de productos, por cliente o segment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PI’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216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6657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074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515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960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0373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54880" y="16430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762440" y="3904920"/>
            <a:ext cx="4152960" cy="21906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4762440" y="1562040"/>
            <a:ext cx="41529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19144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1529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ción de estrategia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arrollo de las acciones para la consecución de los objetivo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ing M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pos de estrateg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ategia del lí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ategia del ret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ategia del segu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ategia del especial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ción de la estrate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562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4008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420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866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43112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7724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089920" y="16430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762440" y="1562040"/>
            <a:ext cx="41529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095880" y="2514600"/>
            <a:ext cx="1032120" cy="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324480" y="2819520"/>
            <a:ext cx="949320" cy="47448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6553080" y="3200400"/>
            <a:ext cx="1033560" cy="83016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760400" y="3700440"/>
            <a:ext cx="779760" cy="110016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133720" y="4614840"/>
            <a:ext cx="795240" cy="43992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235240" y="5275440"/>
            <a:ext cx="879480" cy="13464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riterios de evaluación de la estrategi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2133720" y="1724040"/>
            <a:ext cx="4876560" cy="4219560"/>
          </a:xfrm>
          <a:prstGeom prst="parallelogram">
            <a:avLst>
              <a:gd name="adj" fmla="val 28887"/>
            </a:avLst>
          </a:prstGeom>
          <a:solidFill>
            <a:srgbClr val="ffffff"/>
          </a:solidFill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38880" y="2057400"/>
            <a:ext cx="1528920" cy="91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84080" y="4687920"/>
            <a:ext cx="1528920" cy="91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84360" y="1806480"/>
            <a:ext cx="3618000" cy="40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ec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lid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sten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. Sh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23880" y="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cc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76200" y="1123920"/>
            <a:ext cx="874224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287280" indent="-287280">
              <a:lnSpc>
                <a:spcPct val="70000"/>
              </a:lnSpc>
              <a:tabLst>
                <a:tab algn="l" pos="0"/>
                <a:tab algn="l" pos="57636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3880" y="1957320"/>
            <a:ext cx="8494920" cy="2114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2280" y="1082520"/>
            <a:ext cx="4498920" cy="35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Autofit/>
          </a:bodyPr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entre 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entre 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entre canales 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a nivel de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entre paí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95280" y="228600"/>
            <a:ext cx="60199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¡La competencia es cosa seria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320" y="38088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415296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junto de planes, actividades y/o proyectos para conseguir los 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ción de a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upue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ización de resul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689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5134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47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1992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5438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8850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202600" y="16430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762440" y="1562040"/>
            <a:ext cx="41529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84240" y="194760"/>
            <a:ext cx="7175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900019"/>
                </a:solidFill>
                <a:latin typeface="Arial"/>
              </a:rPr>
              <a:t>Estrategia de Implementación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771640" y="3141720"/>
            <a:ext cx="2733840" cy="220032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738520" y="1141560"/>
            <a:ext cx="2735280" cy="2035080"/>
          </a:xfrm>
          <a:prstGeom prst="rect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435640" y="1131840"/>
            <a:ext cx="2865240" cy="20811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435640" y="3138480"/>
            <a:ext cx="2881440" cy="2187720"/>
          </a:xfrm>
          <a:prstGeom prst="rect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87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30480" y="1566720"/>
            <a:ext cx="2664000" cy="18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57680" y="1195560"/>
            <a:ext cx="2602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3480" bIns="33480" anchor="t">
            <a:noAutofit/>
          </a:bodyPr>
          <a:p>
            <a:pPr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8360" y="2924280"/>
            <a:ext cx="169056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acto en 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03440" y="1119240"/>
            <a:ext cx="14572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áxi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66840" y="4853160"/>
            <a:ext cx="99864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íni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81360" y="5877000"/>
            <a:ext cx="884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an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092000" y="5877000"/>
            <a:ext cx="6991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n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29000" y="6019920"/>
            <a:ext cx="40971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icultad de 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-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Programa de Cambi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843280" y="1341360"/>
            <a:ext cx="2273400" cy="307080"/>
            <a:chOff x="2843280" y="1341360"/>
            <a:chExt cx="2273400" cy="307080"/>
          </a:xfrm>
        </p:grpSpPr>
        <p:sp>
          <p:nvSpPr>
            <p:cNvPr id="214" name=""/>
            <p:cNvSpPr/>
            <p:nvPr/>
          </p:nvSpPr>
          <p:spPr>
            <a:xfrm>
              <a:off x="3059280" y="134136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/P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43280" y="1341360"/>
              <a:ext cx="28728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132000" y="1700280"/>
            <a:ext cx="1679400" cy="459720"/>
            <a:chOff x="3132000" y="1700280"/>
            <a:chExt cx="1679400" cy="459720"/>
          </a:xfrm>
        </p:grpSpPr>
        <p:sp>
          <p:nvSpPr>
            <p:cNvPr id="217" name=""/>
            <p:cNvSpPr/>
            <p:nvPr/>
          </p:nvSpPr>
          <p:spPr>
            <a:xfrm>
              <a:off x="3287520" y="170028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 2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32000" y="1816200"/>
              <a:ext cx="28728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492360" y="2133720"/>
            <a:ext cx="1944360" cy="459720"/>
            <a:chOff x="3492360" y="2133720"/>
            <a:chExt cx="1944360" cy="459720"/>
          </a:xfrm>
        </p:grpSpPr>
        <p:sp>
          <p:nvSpPr>
            <p:cNvPr id="220" name=""/>
            <p:cNvSpPr/>
            <p:nvPr/>
          </p:nvSpPr>
          <p:spPr>
            <a:xfrm>
              <a:off x="3672360" y="2133720"/>
              <a:ext cx="176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492360" y="2249640"/>
              <a:ext cx="33264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5796000" y="1341360"/>
            <a:ext cx="2231640" cy="459720"/>
            <a:chOff x="5796000" y="1341360"/>
            <a:chExt cx="2231640" cy="459720"/>
          </a:xfrm>
        </p:grpSpPr>
        <p:sp>
          <p:nvSpPr>
            <p:cNvPr id="223" name=""/>
            <p:cNvSpPr/>
            <p:nvPr/>
          </p:nvSpPr>
          <p:spPr>
            <a:xfrm>
              <a:off x="6002640" y="1341360"/>
              <a:ext cx="202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 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796000" y="1457280"/>
              <a:ext cx="38160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300720" y="1773360"/>
            <a:ext cx="2231640" cy="459720"/>
            <a:chOff x="6300720" y="1773360"/>
            <a:chExt cx="2231640" cy="459720"/>
          </a:xfrm>
        </p:grpSpPr>
        <p:sp>
          <p:nvSpPr>
            <p:cNvPr id="226" name=""/>
            <p:cNvSpPr/>
            <p:nvPr/>
          </p:nvSpPr>
          <p:spPr>
            <a:xfrm>
              <a:off x="6507360" y="1773360"/>
              <a:ext cx="202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00720" y="1889280"/>
              <a:ext cx="38160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651640" y="3500280"/>
            <a:ext cx="2231640" cy="459720"/>
            <a:chOff x="5651640" y="3500280"/>
            <a:chExt cx="2231640" cy="459720"/>
          </a:xfrm>
        </p:grpSpPr>
        <p:sp>
          <p:nvSpPr>
            <p:cNvPr id="229" name=""/>
            <p:cNvSpPr/>
            <p:nvPr/>
          </p:nvSpPr>
          <p:spPr>
            <a:xfrm>
              <a:off x="5858280" y="3500280"/>
              <a:ext cx="202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 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651640" y="3616200"/>
              <a:ext cx="38160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124000" y="1125360"/>
            <a:ext cx="287280" cy="4175280"/>
          </a:xfrm>
          <a:prstGeom prst="upArrow">
            <a:avLst>
              <a:gd name="adj1" fmla="val 50000"/>
              <a:gd name="adj2" fmla="val 363346"/>
            </a:avLst>
          </a:prstGeom>
          <a:gradFill rotWithShape="0">
            <a:gsLst>
              <a:gs pos="0">
                <a:srgbClr val="ff3300"/>
              </a:gs>
              <a:gs pos="100000">
                <a:srgbClr val="f9f2d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771640" y="5589720"/>
            <a:ext cx="5400720" cy="215640"/>
          </a:xfrm>
          <a:prstGeom prst="rightArrow">
            <a:avLst>
              <a:gd name="adj1" fmla="val 50000"/>
              <a:gd name="adj2" fmla="val 626127"/>
            </a:avLst>
          </a:prstGeom>
          <a:gradFill rotWithShape="0">
            <a:gsLst>
              <a:gs pos="0">
                <a:srgbClr val="00ff00"/>
              </a:gs>
              <a:gs pos="100000">
                <a:srgbClr val="ff33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3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19144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415296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eo del plan para verificar su cumplimiento y la introducción de cambios cuando sea requeri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de Informaciones de 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24528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5898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93108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2756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62012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9614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6276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40728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4856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09308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451640" y="12682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7888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096400" y="123516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4762440" y="1562040"/>
            <a:ext cx="41529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752480" y="2286000"/>
            <a:ext cx="5791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228600" y="1562040"/>
          <a:ext cx="8591400" cy="4670640"/>
        </p:xfrm>
        <a:graphic>
          <a:graphicData uri="http://schemas.openxmlformats.org/drawingml/2006/table">
            <a:tbl>
              <a:tblPr/>
              <a:tblGrid>
                <a:gridCol w="1295280"/>
                <a:gridCol w="2819520"/>
                <a:gridCol w="4476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tera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/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roducción, revisión de conceptos, reglas del juego y conformación de equip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/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tuación de merc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. Ambler y F. Kokkinaki, ¿Cómo se mide el marketing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. Sternthal y A. Lee: Evaluar las pruebas de anunci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/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álisis inter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. Green  y A. Krieger, Trocear y dividir el merc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. MacMillan y R. McGrath, Discovering new points of differe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/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DA y establecimiento de objetiv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. S. Armstrong, Previsiones: principios que funcion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. Ashton, F. Cook y P. Schmitz: La generación de valor empieza por ca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304920" y="1600200"/>
          <a:ext cx="8381880" cy="4533840"/>
        </p:xfrm>
        <a:graphic>
          <a:graphicData uri="http://schemas.openxmlformats.org/drawingml/2006/table">
            <a:tbl>
              <a:tblPr/>
              <a:tblGrid>
                <a:gridCol w="1371600"/>
                <a:gridCol w="1904760"/>
                <a:gridCol w="5105520"/>
              </a:tblGrid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tera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6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/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lección de estrategi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. Lane: The brand report c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. Shankar y L. Krishnamurthi: ¿Cuáles son las opciones para los que entran más tard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/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. Hock, y J. Raja: ¿Son las marcas propias una amenaza para las marcas nacionales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. Krishnamurthi: Precios: parte arte, parte cien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/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. Soberman: Sobrecarga de información y los nuevos distribuidores de da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. Schmittlein: El poder de una base de datos bien administr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/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am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502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762440" y="1562040"/>
            <a:ext cx="41529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6765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83628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lases: asistencia obligato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rabajarán en equipos desarrollando un plan de marketing para una empresa r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os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n integrante del equipo con acceso a información de la empresa seleccion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áximo 3, y cada uno de ellos con al menos 3 integr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4762440" y="1562040"/>
            <a:ext cx="41529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764388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 materi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do clase a clase será el informe final (impreso y anilla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algún equipo quiere presentar un informe escrito diferente del exhibido clase a clase, podrá hacerlo, pero no recibirá crédito extra por 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e libertad para elegir una estructura para el plan de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4762440" y="1562040"/>
            <a:ext cx="41529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764388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s las clases se presentará el avance de la semana anterior, y, de las recomendaciones realizadas al material presen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 expositores se posicionarán como consultores de la empresa que les solicitó el plan de marketing. El resto de la clase, como sus cl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4762440" y="1562040"/>
            <a:ext cx="41529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764388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s las clases un equipo de dos personas expondrá un caso relevante de la actualidad nacional o internacional para discusión en clases. A más tardar el día lunes de esa semana, el enunciado del caso deberá ser expuesto en el foro de U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lerancia cero al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4762440" y="1562040"/>
            <a:ext cx="41529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6765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57232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ció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63468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nota final será 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cálculo ponderado entre: Nota de concepto (30%), CTP’s (30%), y Examen (4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nota de examen contempla el trabajo final entregado y su present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 aprobar es requisito tener nota superior a 4.0 en todos los quesitos de evalu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troles de lectu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a partir de la segunda clase se realizarán controles de lectura. La nota final se calculará en base a las 5 mejores no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4762440" y="1562040"/>
            <a:ext cx="41529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640080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iterios evaluación nota de concept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749952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rticipación en cl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ción del caso de la realidad nacional o intern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umplimiento de regl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gres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ideraz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pacidad de buscar y aplicar ayu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mportamiento adecuado a un clima de negocios durante el desarrollo del cur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4762440" y="1562040"/>
            <a:ext cx="41529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6765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85800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ación de las clases de cátedr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415296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08:30 – 08:45 Control de lec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8:45 – 10:00 Discusión hecho de la actu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:00 – 10:15 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:15 – 10:45 Presentación Equipo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:45 – 11:15 Presentación Equipo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:15 – 11:45 Presentación Equipo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4762440" y="1562040"/>
            <a:ext cx="41529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676520" y="2133720"/>
            <a:ext cx="5790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752480" y="2209680"/>
            <a:ext cx="5791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mendacione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1680" y="304920"/>
            <a:ext cx="8572320" cy="56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785988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rabaj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 parale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lidad s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nifica: contenido, forma, y pla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onfíen en la intuición sol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 que produzcan debe ser vend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bajen desde el princip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la carta Gantt hagan previsiones de preparación del material para la present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a imagen vale por mil palab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4762440" y="1562040"/>
            <a:ext cx="41529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4479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tivo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57232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67788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32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l final de este curso habrán sido capaces de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3280" indent="-4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Desarrollar un plan de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4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prender a analizar acciones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4762440" y="1562040"/>
            <a:ext cx="41529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6765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6840" y="1523520"/>
            <a:ext cx="8420040" cy="453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486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152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ificació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71640" y="2421000"/>
            <a:ext cx="7321320" cy="1789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5360" indent="-225360"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Give me six hours to chop down a tree and I will spend the first four sharpening the axe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95640" y="5734080"/>
            <a:ext cx="5108400" cy="5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marL="290520" indent="-290520" algn="ctr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Abraham Lincol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6840" y="1523520"/>
            <a:ext cx="8420040" cy="453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tivos, estrategias y planes de acción que permiten la consecución de los objetivos dictados a nivel corporativo, año a año, paso a pa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-308520">
              <a:lnSpc>
                <a:spcPct val="11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rárquicamente el desarrollo de un plan de marketing se puede realizar en las siguientes 7 fa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uación de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álisis Interno (incl. cost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álisis F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ecimiento de los 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ción de Estrateg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394920" y="-360"/>
            <a:ext cx="85726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 - Fa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657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43000" y="4038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44956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48769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53341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57150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61722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53920" y="6523200"/>
            <a:ext cx="38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Fuente: Cutropía Fernández: El Plan de 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09480" y="1295280"/>
            <a:ext cx="8209080" cy="55627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8688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6172200" cy="529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tuación de mercado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udio de l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tores que afectan el análisis exte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del ento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uación 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uación económ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spcBef>
                <a:spcPts val="37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del segmento indus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ales competidores y sus a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stemas de comercialización de competid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ras observ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spcBef>
                <a:spcPts val="37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del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dencias del mercado en la z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9756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74208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08336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42788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77240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11368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31200" y="133812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11512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800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álisis interno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nóstico del punto inicial para las acciones del plan de 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álisis de la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0000"/>
              </a:lnSpc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cnología utili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0000"/>
              </a:lnSpc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raestructu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0000"/>
              </a:lnSpc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í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0000"/>
              </a:lnSpc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5328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6978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908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836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2812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0694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86920" y="14144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762440" y="1562040"/>
            <a:ext cx="41529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1320" y="380520"/>
            <a:ext cx="796284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61680"/>
            <a:ext cx="5257800" cy="491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stión de cl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tera de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sh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ales de v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un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build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ras observ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financi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tabilidad por producto, cliente, ca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de la organ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os de dec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35328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6978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03908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3836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72812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0694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386920" y="14144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762440" y="1562040"/>
            <a:ext cx="4152960" cy="2190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762440" y="3904920"/>
            <a:ext cx="415296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1320" y="380520"/>
            <a:ext cx="826740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415296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FODA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igido principalmente a las áreas de marketing, comercial, producción e investigación y desarro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talez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ortun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bil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enaz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689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5134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47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1992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5438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8850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202600" y="16430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762440" y="1562040"/>
            <a:ext cx="41529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17:27:29Z</dcterms:created>
  <dc:creator>KPMG</dc:creator>
  <dc:description/>
  <dc:language>en-US</dc:language>
  <cp:lastModifiedBy>Jorge Lara</cp:lastModifiedBy>
  <cp:lastPrinted>2000-05-08T17:12:16Z</cp:lastPrinted>
  <dcterms:modified xsi:type="dcterms:W3CDTF">2004-10-14T00:41:29Z</dcterms:modified>
  <cp:revision>440</cp:revision>
  <dc:subject/>
  <dc:title>UCAD Call Centre Transition Plan</dc:title>
</cp:coreProperties>
</file>