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BEE899-CFE1-4513-85FE-C3B5B0A47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767364-4CBA-4E33-A420-FA1F76C6D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4BB2-BD8E-45D3-B6A0-F666D50E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ubr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214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217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220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223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226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229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562040"/>
          <a:ext cx="8591400" cy="467064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. Ambler y F. Kokkinaki, ¿Cómo se mide el market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Sternthal y A. Lee: Evaluar las pruebas de anun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. Green  y A. Krieger, Trocear y dividir el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MacMillan y R. McGrath, Discovering new points of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S. Armstrong, Previsiones: principios que funci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Ashton, F. Cook y P. Schmitz: La generación de valor empieza por c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Lane: The brand report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Shankar y L. Krishnamurthi: ¿Cuáles son las opciones para los que entran más tard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 Hock, y J. Raja: ¿Son las marcas propias una amenaza para las marcas nacional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Krishnamurthi: Precios: parte arte, parte ci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oberman: Sobrecarga de información y los nuevos distribuidores de da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chmittlein: El poder de una base de datos bien administ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se presentará el avance de la semana anterior, y, de las recomendaciones realizadas al material pres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dos personas expondrá un caso relevante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30%), CTP’s (30%), y Examen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los quesito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ción del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mplimiento de reg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cidad de buscar y aplicar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ortamiento adecuado a un clima de negocios durante el desarrollo del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hecho de la actu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 Lara</cp:lastModifiedBy>
  <cp:lastPrinted>2000-05-08T17:12:16Z</cp:lastPrinted>
  <dcterms:modified xsi:type="dcterms:W3CDTF">2004-10-14T00:41:29Z</dcterms:modified>
  <cp:revision>440</cp:revision>
  <dc:subject/>
  <dc:title>UCAD Call Centre Transition Plan</dc:title>
</cp:coreProperties>
</file>