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D5F-763D-45AF-A73C-BAC9D19C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815-6487-4CDB-9AE4-E6320D44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387-F46C-4D5E-B523-62496E94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FA8-4D85-4903-9530-BD268934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8E89-C606-4DB2-85EB-27EF889A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354C-A641-4152-986C-81320947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79EA-6F48-43CC-8C9B-64FBC2B2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AC2B-D1BD-4D94-9926-C33F6587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EF19-3A93-4DE1-97C9-ED64BE47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6F0-A93E-4223-99D3-C0E64F77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4A5D-FE6C-497D-8A1A-594C7A51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05B-A3F1-462A-99D0-77137657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028E-AFC5-41B6-A83D-101C92A8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3320-AB34-4FC7-BB83-C62FE21F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23DF-14E5-4CFF-9348-5D9E9A15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E5E6-4E88-44DB-AD70-221E77CC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B773-EB2F-42E7-B59A-867655A4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EF9-88BB-46B2-8DC7-95EC31B5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3CA-8DB4-4746-9DCA-68F572A8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EAC-BC2C-46A5-B2AC-6E076B0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B4A-CEE2-485E-8CCF-2769D166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F8D-BB8F-4983-9F23-6451714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F7B-5180-4DA0-9BE2-BCCD882C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DCA-5E8F-4713-A095-61B2764D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5221-1F14-4B99-9C90-706390F88DC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1CF2-0BC3-4F8D-86B8-F46661CD461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9625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lase Auxili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Sábado 04 Abril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02_logomaster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95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/95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Jiménez</cp:lastModifiedBy>
  <dcterms:modified xsi:type="dcterms:W3CDTF">2004-04-03T12:20:06Z</dcterms:modified>
  <cp:revision>782</cp:revision>
  <dc:subject/>
  <dc:title>GESTION DE  TECNOLOGIA E INNOVACIÓN</dc:title>
</cp:coreProperties>
</file>