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788-DA47-4A72-AC80-67291243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592-0B6D-4F51-A908-E76B488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0EE-C5F1-4982-AB59-9C26D1E6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CF8-FD1D-4D37-A370-4DB540EF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15DF-64AB-4382-BF4E-55F99CF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FDA6-E63C-4F2D-81F2-28C3B65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BF7E-65A8-4331-A43D-DE995F9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2888-4527-4850-B4F8-16E4CC38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A630-9384-4677-AD00-5D77DD7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CFAF-62C2-4AD4-B74E-48A971E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181-AEDB-4FB0-8FE9-19FF4BC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C5C-CD3B-44FC-BCE9-7F374977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D2F6-D21C-4191-A465-D6AEEA5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A93-600F-4FDC-8732-0C162EC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FAB5-A8E4-4640-828A-23FBA1F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0F0E-79A4-4C10-A4D8-3E733D96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9A45-555E-41EB-855B-047158A8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6ED-5525-434E-9A56-72B763F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05F-1829-453D-9FDD-DCC2295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050-5FB7-4967-A13E-2814D1A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04E-D234-44AD-8874-5E2091AF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E4E-9C32-4CB9-982C-FE284EBD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7DE-6FF5-453C-A155-65595CE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865-42A7-43CB-A5FC-550AB79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134-6923-460F-A7A9-F79B64C3A7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789-10EE-4C59-9269-9EC4F3683D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9625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lase Auxili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ábado 04 Abril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2_logomaster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95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/95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Jiménez</cp:lastModifiedBy>
  <dcterms:modified xsi:type="dcterms:W3CDTF">2004-04-03T12:20:06Z</dcterms:modified>
  <cp:revision>782</cp:revision>
  <dc:subject/>
  <dc:title>GESTION DE  TECNOLOGIA E INNOVACIÓN</dc:title>
</cp:coreProperties>
</file>