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84A-C796-4674-9524-54AF18C8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FA7-6871-42C5-97BA-D2B7C5A4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E34-C15F-4E37-89EF-2865BD5D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848-DFC1-44E7-9C0B-65714313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99F9-835B-43E6-8C76-A4649854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9C32-12B2-4B79-AFA4-4A7A62E3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C411-F632-478F-8BEB-EB2A9304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F969-60AA-4FD6-BB20-4A631F0F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BA12-3D69-4943-849B-EA34CCA6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93DE-69BB-4837-B00C-D322326A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832C-C488-4575-8EB3-6783047D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351-E3E7-436C-829D-A6073AA6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FD1A-A388-45A1-809A-D4F62E68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38C8-EF3C-494A-85EC-9473F38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6D69-A482-4416-8CD4-A516AD0F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1BBD-D532-4323-A1F5-55DA8499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D5C1-1881-4C95-8793-4745F44D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75E-A33D-478D-8817-16847ED4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8E8-A6B6-4C73-B630-7E8C09AE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BED-B8FB-49BE-B1CC-414A74D3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22C-A4A6-4FDB-9325-C6C08417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82F-F362-4207-AFFB-4C850A16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1FB-4826-45D6-8C52-B9E8383F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BD8-69B3-4608-A278-81D2721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907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CCC1-11C4-4876-B348-E153B88CCE4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B02E-BBE5-43E3-9C56-40297BEB665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 N T R O D U C C I Ó N               A  L A   P R O G R A M A C I Ó N   E N   J A V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9625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IN77J – ORIENTACIÓN A OBJETOS PARA UN E-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lase Auxili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Sábado 04 Abril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02_logomaster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49228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1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es 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Esto significa que posee ciertas características que hoy día se consideran estándares en los lenguajes O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je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erencia simpl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 dinámic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capsulamien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5257800" cy="1734840"/>
            <a:chOff x="228600" y="1143000"/>
            <a:chExt cx="5257800" cy="1734840"/>
          </a:xfrm>
        </p:grpSpPr>
        <p:sp>
          <p:nvSpPr>
            <p:cNvPr id="119" name=""/>
            <p:cNvSpPr/>
            <p:nvPr/>
          </p:nvSpPr>
          <p:spPr>
            <a:xfrm>
              <a:off x="228600" y="1143000"/>
              <a:ext cx="5257800" cy="1734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1143000"/>
              <a:ext cx="525780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 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 LADO OSCURO DE LOS OBJETOS                                                                                          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La claridad, eficiencia y mantenibilidad del programa resultante dependerá principalmente de la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dad del diseño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Un mal diseño de clases puede llevar a programas OO de peor calidad y de más alto costo que el programa equivalente no O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5029200"/>
            <a:ext cx="5257800" cy="762120"/>
            <a:chOff x="228600" y="5029200"/>
            <a:chExt cx="5257800" cy="762120"/>
          </a:xfrm>
        </p:grpSpPr>
        <p:sp>
          <p:nvSpPr>
            <p:cNvPr id="122" name=""/>
            <p:cNvSpPr/>
            <p:nvPr/>
          </p:nvSpPr>
          <p:spPr>
            <a:xfrm>
              <a:off x="228600" y="5029200"/>
              <a:ext cx="52578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" y="5029200"/>
              <a:ext cx="525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a ventaja potencial más importante de un lenguaje OO está en las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bliotecas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que se pueden construir para é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3880" y="3733920"/>
            <a:ext cx="2514600" cy="644760"/>
            <a:chOff x="1523880" y="3733920"/>
            <a:chExt cx="2514600" cy="644760"/>
          </a:xfrm>
        </p:grpSpPr>
        <p:sp>
          <p:nvSpPr>
            <p:cNvPr id="125" name=""/>
            <p:cNvSpPr/>
            <p:nvPr/>
          </p:nvSpPr>
          <p:spPr>
            <a:xfrm>
              <a:off x="1523880" y="373392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733920"/>
              <a:ext cx="25146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Verdana"/>
                </a:rPr>
                <a:t>¿Por qué usar Jav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14600" y="29718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2670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38680" y="1371600"/>
            <a:ext cx="3225960" cy="4419720"/>
            <a:chOff x="5638680" y="1371600"/>
            <a:chExt cx="3225960" cy="4419720"/>
          </a:xfrm>
        </p:grpSpPr>
        <p:sp>
          <p:nvSpPr>
            <p:cNvPr id="130" name=""/>
            <p:cNvSpPr/>
            <p:nvPr/>
          </p:nvSpPr>
          <p:spPr>
            <a:xfrm>
              <a:off x="5638680" y="1371600"/>
              <a:ext cx="3225960" cy="4419720"/>
            </a:xfrm>
            <a:custGeom>
              <a:avLst/>
              <a:gdLst>
                <a:gd name="textAreaLeft" fmla="*/ 157320 w 3225960"/>
                <a:gd name="textAreaRight" fmla="*/ 3068640 w 3225960"/>
                <a:gd name="textAreaTop" fmla="*/ 157320 h 4419720"/>
                <a:gd name="textAreaBottom" fmla="*/ 4262400 h 4419720"/>
              </a:gdLst>
              <a:ahLst/>
              <a:rect l="textAreaLeft" t="textAreaTop" r="textAreaRight" b="textAreaBottom"/>
              <a:pathLst>
                <a:path w="21600" h="29592">
                  <a:moveTo>
                    <a:pt x="3600" y="0"/>
                  </a:moveTo>
                  <a:arcTo wR="3600" hR="3600" stAng="16200000" swAng="-5400000"/>
                  <a:lnTo>
                    <a:pt x="0" y="25992"/>
                  </a:lnTo>
                  <a:arcTo wR="3600" hR="3600" stAng="10800000" swAng="-5400000"/>
                  <a:lnTo>
                    <a:pt x="18000" y="29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1447920"/>
              <a:ext cx="304776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TIPOS DE PROGRAMADORES EN 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diseñador de clase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encargado de definir qué clases ofrece una biblioteca y cuál es la funcionalidad que se espera de estas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programador de clases de biblioteca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Sólo programa las clases especificadas por el diseñador de clases. Debe entender orientación a objetos, pero no requiere mayor experiencia en el diseño de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cliente de biblioteca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programador de aplicaciones. Él sólo usa las clases que otros han diseñado y programado. Como en el caso anterior, necesita entender orientación a objetos y conocer la biblioteca que va a usar, pero no necesita mayor experi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2 JAVA ES MULTIPLATA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programas en Java pueden ejecutarse en cualquiera de las siguientes plataformas, sin necesidad de hacer cambi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ndows/95 y /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wer/M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ix (Solaris, Silicon Graphics, ..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ompatibilidad es tota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fuente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lenguaje es exactamente 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ismo en todas las plataforma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bibliotec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todas las plataformas está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esentes las mismas bibliotecas estánda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l código compi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código intermedio qu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enera el compilador es el mismo para todas las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lataformas. Lo que cambia es el intérprete del códig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ermedi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3 EL LOOK-AND-FE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 único que varia de acuerdo a la plataforma es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Un programa en Windows/95 tendrá el aspecto característico de esta plataforma (en cuanto a la forma de los botones, barras de deslizamiento, menúes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mismo program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Unix tendrá el aspecto característico de Motif. Y en Power/Mac se verá como un programa para Macinto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 embargo el código que escriben los programadores no tiene que tener presente las características de ninguna de estas platafor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 la implementación de la interfaz gráfica estándar de Java la que se encarga de desplegar las ventanas con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de la plataforma loc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4 JAVA ES ROBUS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informalmente : No se cae frente a una variedad de escena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realiza chequeo de tipos durante la compilación y la ejec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objeto no es compatible, entonces se levanta una excepción que informa al programador la línea exacta en dónde está la fuente de err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posee un recolector de basuras que administra automáticamente la memo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5 JAVA ES DISTRIBUI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se ha construido con extensas capacidades de interconexión TCP/IP. Esto permite a los programadores acceder a la información a través de la red con tanta facilidad como a los archivos de su P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verdad es que Java en sí, no es distribuido, sino que proporciona las librerías y herramientas para que los programas puedan ser distribuidos, es decir, que se corran en varias máquinas, interactuan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 LA APLICACIÓN HELLO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licación: Programa convencional que se invoca desde el interprete de coman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eamos el clásico “Hello World”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il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c Hello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cut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666880"/>
            <a:ext cx="7695360" cy="2174040"/>
            <a:chOff x="228600" y="2666880"/>
            <a:chExt cx="7695360" cy="2174040"/>
          </a:xfrm>
        </p:grpSpPr>
        <p:sp>
          <p:nvSpPr>
            <p:cNvPr id="143" name=""/>
            <p:cNvSpPr/>
            <p:nvPr/>
          </p:nvSpPr>
          <p:spPr>
            <a:xfrm>
              <a:off x="228600" y="2666880"/>
              <a:ext cx="7475040" cy="217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2908800"/>
              <a:ext cx="7695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//La aplicación Hello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class Hell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static void main (String[] args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System.out.println("Hello World!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 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238880" y="1981080"/>
            <a:ext cx="1600200" cy="381240"/>
            <a:chOff x="7238880" y="1981080"/>
            <a:chExt cx="1600200" cy="381240"/>
          </a:xfrm>
        </p:grpSpPr>
        <p:sp>
          <p:nvSpPr>
            <p:cNvPr id="146" name=""/>
            <p:cNvSpPr/>
            <p:nvPr/>
          </p:nvSpPr>
          <p:spPr>
            <a:xfrm>
              <a:off x="7238880" y="19810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1981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m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4495680" y="2209680"/>
            <a:ext cx="2743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2514600"/>
            <a:ext cx="1600200" cy="609480"/>
            <a:chOff x="7238880" y="2514600"/>
            <a:chExt cx="1600200" cy="609480"/>
          </a:xfrm>
        </p:grpSpPr>
        <p:sp>
          <p:nvSpPr>
            <p:cNvPr id="150" name=""/>
            <p:cNvSpPr/>
            <p:nvPr/>
          </p:nvSpPr>
          <p:spPr>
            <a:xfrm>
              <a:off x="7238880" y="251460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2514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finición de la cl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428640" y="2819520"/>
            <a:ext cx="3809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15200" y="4267080"/>
            <a:ext cx="1600200" cy="609840"/>
            <a:chOff x="7315200" y="4267080"/>
            <a:chExt cx="1600200" cy="609840"/>
          </a:xfrm>
        </p:grpSpPr>
        <p:sp>
          <p:nvSpPr>
            <p:cNvPr id="154" name=""/>
            <p:cNvSpPr/>
            <p:nvPr/>
          </p:nvSpPr>
          <p:spPr>
            <a:xfrm>
              <a:off x="7315200" y="4267080"/>
              <a:ext cx="16002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5200" y="4267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étodo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80773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50532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4382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00800" y="5410080"/>
            <a:ext cx="2514600" cy="609840"/>
            <a:chOff x="6400800" y="5410080"/>
            <a:chExt cx="2514600" cy="609840"/>
          </a:xfrm>
        </p:grpSpPr>
        <p:sp>
          <p:nvSpPr>
            <p:cNvPr id="161" name=""/>
            <p:cNvSpPr/>
            <p:nvPr/>
          </p:nvSpPr>
          <p:spPr>
            <a:xfrm>
              <a:off x="6400800" y="5410080"/>
              <a:ext cx="25146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410080"/>
              <a:ext cx="251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spliega un string en la conso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 flipV="1">
            <a:off x="3657240" y="4191120"/>
            <a:ext cx="3962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1 CONSIDERACIONES IMPORTAN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nombre del archivo (Hello.java) siempre debe ser el nombre de la clase (Hell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as las aplicaciones deben definir el método m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invocar el intérprete de java con java Hello, se busca y se invoca un método main que textualmente haya sido definido c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cambie el nombre de este procedimiento ni omita ninguno de sus atributos. Tampoco cambie el tipo de los argumentos o el valor retornado.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 “CANÓNICO”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3962520"/>
            <a:ext cx="6705720" cy="457200"/>
            <a:chOff x="1295280" y="3962520"/>
            <a:chExt cx="6705720" cy="457200"/>
          </a:xfrm>
        </p:grpSpPr>
        <p:sp>
          <p:nvSpPr>
            <p:cNvPr id="167" name=""/>
            <p:cNvSpPr/>
            <p:nvPr/>
          </p:nvSpPr>
          <p:spPr>
            <a:xfrm>
              <a:off x="1295280" y="3962520"/>
              <a:ext cx="67057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396252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00cc"/>
                  </a:solidFill>
                  <a:latin typeface="Courier New"/>
                </a:rPr>
                <a:t>public static void main (String args[]) { ...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5. VARIABLES Y TIP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1 VARIABLES Y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43000"/>
            <a:ext cx="8458200" cy="774000"/>
            <a:chOff x="380880" y="1143000"/>
            <a:chExt cx="8458200" cy="774000"/>
          </a:xfrm>
        </p:grpSpPr>
        <p:sp>
          <p:nvSpPr>
            <p:cNvPr id="172" name=""/>
            <p:cNvSpPr/>
            <p:nvPr/>
          </p:nvSpPr>
          <p:spPr>
            <a:xfrm>
              <a:off x="380880" y="1143000"/>
              <a:ext cx="8458200" cy="774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14300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ARIABLE 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entificador que representa un espacio de memoria que contiene informaci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2438280"/>
            <a:ext cx="8458200" cy="774720"/>
            <a:chOff x="457200" y="2438280"/>
            <a:chExt cx="8458200" cy="774720"/>
          </a:xfrm>
        </p:grpSpPr>
        <p:sp>
          <p:nvSpPr>
            <p:cNvPr id="175" name=""/>
            <p:cNvSpPr/>
            <p:nvPr/>
          </p:nvSpPr>
          <p:spPr>
            <a:xfrm>
              <a:off x="457200" y="2438280"/>
              <a:ext cx="8458200" cy="774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43828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PO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racterística específica de la información almacenada, definida en la declaración de la variabl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23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3886200"/>
            <a:ext cx="5410080" cy="1828800"/>
            <a:chOff x="1905120" y="3886200"/>
            <a:chExt cx="5410080" cy="1828800"/>
          </a:xfrm>
        </p:grpSpPr>
        <p:grpSp>
          <p:nvGrpSpPr>
            <p:cNvPr id="179" name=""/>
            <p:cNvGrpSpPr/>
            <p:nvPr/>
          </p:nvGrpSpPr>
          <p:grpSpPr>
            <a:xfrm>
              <a:off x="1912680" y="3894840"/>
              <a:ext cx="5393880" cy="1810800"/>
              <a:chOff x="1912680" y="3894840"/>
              <a:chExt cx="5393880" cy="1810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912680" y="3894840"/>
                <a:ext cx="1272960" cy="362160"/>
                <a:chOff x="1912680" y="3894840"/>
                <a:chExt cx="1272960" cy="362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ecla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185640" y="3894840"/>
                <a:ext cx="1356120" cy="362160"/>
                <a:chOff x="3185640" y="3894840"/>
                <a:chExt cx="1356120" cy="362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dentificad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41760" y="3894840"/>
                <a:ext cx="2764800" cy="362160"/>
                <a:chOff x="4541760" y="3894840"/>
                <a:chExt cx="2764800" cy="3621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912680" y="4257000"/>
                <a:ext cx="1272960" cy="362160"/>
                <a:chOff x="1912680" y="4257000"/>
                <a:chExt cx="1272960" cy="362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i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185640" y="4257000"/>
                <a:ext cx="1356120" cy="362160"/>
                <a:chOff x="3185640" y="4257000"/>
                <a:chExt cx="1356120" cy="362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41760" y="4257000"/>
                <a:ext cx="2764800" cy="362160"/>
                <a:chOff x="4541760" y="4257000"/>
                <a:chExt cx="2764800" cy="362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nter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912680" y="4619160"/>
                <a:ext cx="1272960" cy="362160"/>
                <a:chOff x="1912680" y="4619160"/>
                <a:chExt cx="1272960" cy="362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 s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85640" y="4619160"/>
                <a:ext cx="1356120" cy="362160"/>
                <a:chOff x="3185640" y="4619160"/>
                <a:chExt cx="1356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41760" y="4619160"/>
                <a:ext cx="2764800" cy="362160"/>
                <a:chOff x="4541760" y="4619160"/>
                <a:chExt cx="2764800" cy="362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stri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912680" y="4981320"/>
                <a:ext cx="1272960" cy="362160"/>
                <a:chOff x="1912680" y="4981320"/>
                <a:chExt cx="1272960" cy="362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a[]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185640" y="4981320"/>
                <a:ext cx="1356120" cy="362160"/>
                <a:chOff x="3185640" y="4981320"/>
                <a:chExt cx="1356120" cy="36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41760" y="4981320"/>
                <a:ext cx="2764800" cy="362160"/>
                <a:chOff x="4541760" y="4981320"/>
                <a:chExt cx="2764800" cy="362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912680" y="5343480"/>
                <a:ext cx="1272960" cy="362160"/>
                <a:chOff x="1912680" y="5343480"/>
                <a:chExt cx="1272960" cy="362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[] b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85640" y="5343480"/>
                <a:ext cx="1356120" cy="362160"/>
                <a:chOff x="3185640" y="5343480"/>
                <a:chExt cx="1356120" cy="36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541760" y="5343480"/>
                <a:ext cx="2764800" cy="362160"/>
                <a:chOff x="4541760" y="5343480"/>
                <a:chExt cx="2764800" cy="362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905120" y="3886200"/>
              <a:ext cx="5410080" cy="1828800"/>
            </a:xfrm>
            <a:prstGeom prst="rect">
              <a:avLst/>
            </a:prstGeom>
            <a:noFill/>
            <a:ln w="22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 DE LA CL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rquitectura Cliente/Serv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plets e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racterísticas de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aplicación Hello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ariables y Tip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y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tru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ubclases y her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capsulamiento de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0240" y="990720"/>
            <a:ext cx="236376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2 TIPOS PRIMITIVOS Y         REFERENCIAS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 posee dos grandes categorías de tipos para las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1828800"/>
            <a:ext cx="3962160" cy="1851120"/>
            <a:chOff x="2590920" y="1828800"/>
            <a:chExt cx="3962160" cy="1851120"/>
          </a:xfrm>
        </p:grpSpPr>
        <p:grpSp>
          <p:nvGrpSpPr>
            <p:cNvPr id="230" name=""/>
            <p:cNvGrpSpPr/>
            <p:nvPr/>
          </p:nvGrpSpPr>
          <p:grpSpPr>
            <a:xfrm>
              <a:off x="2598480" y="1839960"/>
              <a:ext cx="3946320" cy="1828800"/>
              <a:chOff x="2598480" y="1839960"/>
              <a:chExt cx="3946320" cy="18288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598480" y="1839960"/>
                <a:ext cx="1840320" cy="457200"/>
                <a:chOff x="2598480" y="1839960"/>
                <a:chExt cx="1840320" cy="457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s Primi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438800" y="1839960"/>
                <a:ext cx="2106000" cy="457200"/>
                <a:chOff x="4438800" y="1839960"/>
                <a:chExt cx="2106000" cy="4572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s a Objet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98480" y="2297160"/>
                <a:ext cx="1840320" cy="457200"/>
                <a:chOff x="2598480" y="2297160"/>
                <a:chExt cx="1840320" cy="457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, short, byte, lo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438800" y="2297160"/>
                <a:ext cx="2106000" cy="457200"/>
                <a:chOff x="4438800" y="2297160"/>
                <a:chExt cx="2106000" cy="457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98480" y="2754360"/>
                <a:ext cx="1840320" cy="457200"/>
                <a:chOff x="2598480" y="2754360"/>
                <a:chExt cx="1840320" cy="4572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, 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438800" y="2754360"/>
                <a:ext cx="2106000" cy="457200"/>
                <a:chOff x="4438800" y="2754360"/>
                <a:chExt cx="2106000" cy="457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rregl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8480" y="3211560"/>
                <a:ext cx="1840320" cy="457200"/>
                <a:chOff x="2598480" y="3211560"/>
                <a:chExt cx="184032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, 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38800" y="3211560"/>
                <a:ext cx="2106000" cy="457200"/>
                <a:chOff x="4438800" y="3211560"/>
                <a:chExt cx="2106000" cy="4572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tros ob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590920" y="1828800"/>
              <a:ext cx="3962160" cy="185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" y="1828800"/>
            <a:ext cx="2133720" cy="1904760"/>
            <a:chOff x="228600" y="1828800"/>
            <a:chExt cx="2133720" cy="1904760"/>
          </a:xfrm>
        </p:grpSpPr>
        <p:sp>
          <p:nvSpPr>
            <p:cNvPr id="257" name=""/>
            <p:cNvSpPr/>
            <p:nvPr/>
          </p:nvSpPr>
          <p:spPr>
            <a:xfrm>
              <a:off x="22860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1828800"/>
              <a:ext cx="2133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tamente un valor que siempre pertenece al rango de ese tip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236196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781680" y="1828800"/>
            <a:ext cx="2133720" cy="1904760"/>
            <a:chOff x="6781680" y="1828800"/>
            <a:chExt cx="2133720" cy="1904760"/>
          </a:xfrm>
        </p:grpSpPr>
        <p:sp>
          <p:nvSpPr>
            <p:cNvPr id="261" name=""/>
            <p:cNvSpPr/>
            <p:nvPr/>
          </p:nvSpPr>
          <p:spPr>
            <a:xfrm>
              <a:off x="678168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1828800"/>
              <a:ext cx="2133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ciones a memoria, y no valores directamente. Se solicita con operador </a:t>
              </a:r>
              <a:r>
                <a:rPr b="1" lang="es-MX" sz="1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530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733920"/>
            <a:ext cx="83822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“tipo primitivo” a otra variable del mismo tipo, se copia el valor de la primera en el espacio que ocupa la segunda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tipo “referencia a objetos” a otra variable, se asigna la dirección y no el objeto referenciado por esa dirección. =&gt; Ambas variables quedan referenciando el mism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6248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 EFEC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6477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3 DIFERENCIAS DE ASIGNACIÓN              EN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asigobj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5257800" cy="338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3520" y="4648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146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51460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Arial"/>
              </a:rPr>
              <a:t>Esto tiene implicancias mayores, ya que si se modifica el objeto referenciado por “r”, entonces también se modifica el objeto referenciado por “s”, puesto que son el mismo obj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8195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3818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=&gt; Cuando se dice en JAVA que una variable es un string, lo que se quiere decir en realidad es que la variable es una referencia a un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4 TIPOS PRIM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828800" y="1219320"/>
            <a:ext cx="5464080" cy="3886200"/>
            <a:chOff x="1828800" y="1219320"/>
            <a:chExt cx="5464080" cy="3886200"/>
          </a:xfrm>
        </p:grpSpPr>
        <p:grpSp>
          <p:nvGrpSpPr>
            <p:cNvPr id="280" name=""/>
            <p:cNvGrpSpPr/>
            <p:nvPr/>
          </p:nvGrpSpPr>
          <p:grpSpPr>
            <a:xfrm>
              <a:off x="1837800" y="1229760"/>
              <a:ext cx="5445360" cy="3864600"/>
              <a:chOff x="1837800" y="1229760"/>
              <a:chExt cx="5445360" cy="3864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837800" y="1229760"/>
                <a:ext cx="1003680" cy="429120"/>
                <a:chOff x="1837800" y="1229760"/>
                <a:chExt cx="1003680" cy="429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41480" y="1229760"/>
                <a:ext cx="630000" cy="429120"/>
                <a:chOff x="2841480" y="1229760"/>
                <a:chExt cx="630000" cy="4291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i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471480" y="1229760"/>
                <a:ext cx="2004840" cy="429120"/>
                <a:chOff x="3471480" y="1229760"/>
                <a:chExt cx="2004840" cy="429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ang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476320" y="1229760"/>
                <a:ext cx="1806840" cy="429120"/>
                <a:chOff x="5476320" y="1229760"/>
                <a:chExt cx="1806840" cy="429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837800" y="1658880"/>
                <a:ext cx="1003680" cy="429120"/>
                <a:chOff x="1837800" y="1658880"/>
                <a:chExt cx="1003680" cy="4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841480" y="1658880"/>
                <a:ext cx="630000" cy="429120"/>
                <a:chOff x="2841480" y="1658880"/>
                <a:chExt cx="630000" cy="429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471480" y="1658880"/>
                <a:ext cx="2004840" cy="429120"/>
                <a:chOff x="3471480" y="1658880"/>
                <a:chExt cx="2004840" cy="429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31 .. 2**31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476320" y="1658880"/>
                <a:ext cx="1806840" cy="429120"/>
                <a:chOff x="5476320" y="1658880"/>
                <a:chExt cx="1806840" cy="429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7800" y="2088360"/>
                <a:ext cx="1003680" cy="429120"/>
                <a:chOff x="1837800" y="2088360"/>
                <a:chExt cx="1003680" cy="429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hor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841480" y="2088360"/>
                <a:ext cx="630000" cy="429120"/>
                <a:chOff x="2841480" y="2088360"/>
                <a:chExt cx="630000" cy="429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3471480" y="2088360"/>
                <a:ext cx="2004840" cy="429120"/>
                <a:chOff x="3471480" y="2088360"/>
                <a:chExt cx="2004840" cy="429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15 .. 2**15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476320" y="2088360"/>
                <a:ext cx="1806840" cy="429120"/>
                <a:chOff x="5476320" y="2088360"/>
                <a:chExt cx="1806840" cy="429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837800" y="2517840"/>
                <a:ext cx="1003680" cy="429120"/>
                <a:chOff x="1837800" y="2517840"/>
                <a:chExt cx="1003680" cy="429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yt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841480" y="2517840"/>
                <a:ext cx="630000" cy="429120"/>
                <a:chOff x="2841480" y="2517840"/>
                <a:chExt cx="630000" cy="429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471480" y="2517840"/>
                <a:ext cx="2004840" cy="429120"/>
                <a:chOff x="3471480" y="2517840"/>
                <a:chExt cx="2004840" cy="429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7 .. 2**7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476320" y="2517840"/>
                <a:ext cx="1806840" cy="429120"/>
                <a:chOff x="5476320" y="2517840"/>
                <a:chExt cx="1806840" cy="42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7800" y="2947320"/>
                <a:ext cx="1003680" cy="429120"/>
                <a:chOff x="1837800" y="2947320"/>
                <a:chExt cx="1003680" cy="429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o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841480" y="2947320"/>
                <a:ext cx="630000" cy="429120"/>
                <a:chOff x="2841480" y="2947320"/>
                <a:chExt cx="630000" cy="429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471480" y="2947320"/>
                <a:ext cx="2004840" cy="429120"/>
                <a:chOff x="3471480" y="2947320"/>
                <a:chExt cx="2004840" cy="429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63 .. 2**63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76320" y="2947320"/>
                <a:ext cx="1806840" cy="429120"/>
                <a:chOff x="5476320" y="2947320"/>
                <a:chExt cx="1806840" cy="429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837800" y="3376800"/>
                <a:ext cx="1003680" cy="429120"/>
                <a:chOff x="1837800" y="3376800"/>
                <a:chExt cx="1003680" cy="429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841480" y="3376800"/>
                <a:ext cx="630000" cy="429120"/>
                <a:chOff x="2841480" y="3376800"/>
                <a:chExt cx="630000" cy="429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471480" y="3376800"/>
                <a:ext cx="2004840" cy="429120"/>
                <a:chOff x="3471480" y="3376800"/>
                <a:chExt cx="2004840" cy="429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76320" y="3376800"/>
                <a:ext cx="1806840" cy="429120"/>
                <a:chOff x="5476320" y="3376800"/>
                <a:chExt cx="1806840" cy="429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lse, tru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7800" y="3806280"/>
                <a:ext cx="1003680" cy="429120"/>
                <a:chOff x="1837800" y="3806280"/>
                <a:chExt cx="1003680" cy="429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841480" y="3806280"/>
                <a:ext cx="630000" cy="429120"/>
                <a:chOff x="2841480" y="3806280"/>
                <a:chExt cx="630000" cy="42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471480" y="3806280"/>
                <a:ext cx="2004840" cy="429120"/>
                <a:chOff x="3471480" y="3806280"/>
                <a:chExt cx="2004840" cy="4291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476320" y="3806280"/>
                <a:ext cx="1806840" cy="429120"/>
                <a:chOff x="5476320" y="3806280"/>
                <a:chExt cx="1806840" cy="4291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'a', 'A', '0', '*'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837800" y="4235760"/>
                <a:ext cx="1003680" cy="429120"/>
                <a:chOff x="1837800" y="4235760"/>
                <a:chExt cx="1003680" cy="429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41480" y="4235760"/>
                <a:ext cx="630000" cy="429120"/>
                <a:chOff x="2841480" y="4235760"/>
                <a:chExt cx="630000" cy="429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471480" y="4235760"/>
                <a:ext cx="2004840" cy="429120"/>
                <a:chOff x="3471480" y="4235760"/>
                <a:chExt cx="2004840" cy="4291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476320" y="4235760"/>
                <a:ext cx="1806840" cy="429120"/>
                <a:chOff x="5476320" y="4235760"/>
                <a:chExt cx="1806840" cy="429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7800" y="4665240"/>
                <a:ext cx="1003680" cy="429120"/>
                <a:chOff x="1837800" y="4665240"/>
                <a:chExt cx="1003680" cy="429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41480" y="4665240"/>
                <a:ext cx="630000" cy="429120"/>
                <a:chOff x="2841480" y="4665240"/>
                <a:chExt cx="630000" cy="429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471480" y="4665240"/>
                <a:ext cx="2004840" cy="429120"/>
                <a:chOff x="3471480" y="4665240"/>
                <a:chExt cx="2004840" cy="429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476320" y="4665240"/>
                <a:ext cx="1806840" cy="429120"/>
                <a:chOff x="5476320" y="4665240"/>
                <a:chExt cx="1806840" cy="429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1828800" y="1219320"/>
              <a:ext cx="546408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uble &gt; float &gt; long &gt; int &gt; short &gt; by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5 OPERAD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523880" y="1523880"/>
            <a:ext cx="2514600" cy="2057400"/>
            <a:chOff x="1523880" y="1523880"/>
            <a:chExt cx="2514600" cy="2057400"/>
          </a:xfrm>
        </p:grpSpPr>
        <p:grpSp>
          <p:nvGrpSpPr>
            <p:cNvPr id="394" name=""/>
            <p:cNvGrpSpPr/>
            <p:nvPr/>
          </p:nvGrpSpPr>
          <p:grpSpPr>
            <a:xfrm>
              <a:off x="1531800" y="1532160"/>
              <a:ext cx="2497680" cy="2040480"/>
              <a:chOff x="1531800" y="1532160"/>
              <a:chExt cx="2497680" cy="20404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531800" y="1532160"/>
                <a:ext cx="981360" cy="339840"/>
                <a:chOff x="1531800" y="1532160"/>
                <a:chExt cx="981360" cy="339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513160" y="1532160"/>
                <a:ext cx="1516320" cy="339840"/>
                <a:chOff x="2513160" y="1532160"/>
                <a:chExt cx="1516320" cy="339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31800" y="1872000"/>
                <a:ext cx="981360" cy="339840"/>
                <a:chOff x="1531800" y="1872000"/>
                <a:chExt cx="981360" cy="339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+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513160" y="1872000"/>
                <a:ext cx="1516320" cy="339840"/>
                <a:chOff x="2513160" y="1872000"/>
                <a:chExt cx="1516320" cy="339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u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531800" y="2212200"/>
                <a:ext cx="981360" cy="339840"/>
                <a:chOff x="1531800" y="2212200"/>
                <a:chExt cx="981360" cy="3398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513160" y="2212200"/>
                <a:ext cx="1516320" cy="339840"/>
                <a:chOff x="2513160" y="2212200"/>
                <a:chExt cx="1516320" cy="3398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31800" y="2552400"/>
                <a:ext cx="981360" cy="339840"/>
                <a:chOff x="1531800" y="2552400"/>
                <a:chExt cx="981360" cy="3398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*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13160" y="2552400"/>
                <a:ext cx="1516320" cy="339840"/>
                <a:chOff x="2513160" y="2552400"/>
                <a:chExt cx="1516320" cy="339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ultipl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531800" y="2892600"/>
                <a:ext cx="981360" cy="339840"/>
                <a:chOff x="1531800" y="2892600"/>
                <a:chExt cx="981360" cy="339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/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13160" y="2892600"/>
                <a:ext cx="1516320" cy="339840"/>
                <a:chOff x="2513160" y="2892600"/>
                <a:chExt cx="1516320" cy="339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31800" y="3232800"/>
                <a:ext cx="981360" cy="339840"/>
                <a:chOff x="1531800" y="3232800"/>
                <a:chExt cx="981360" cy="339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%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513160" y="3232800"/>
                <a:ext cx="1516320" cy="339840"/>
                <a:chOff x="2513160" y="3232800"/>
                <a:chExt cx="1516320" cy="339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1523880" y="1523880"/>
              <a:ext cx="2514600" cy="205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05520" y="1523880"/>
            <a:ext cx="2209680" cy="2362320"/>
            <a:chOff x="5105520" y="1523880"/>
            <a:chExt cx="2209680" cy="2362320"/>
          </a:xfrm>
        </p:grpSpPr>
        <p:grpSp>
          <p:nvGrpSpPr>
            <p:cNvPr id="433" name=""/>
            <p:cNvGrpSpPr/>
            <p:nvPr/>
          </p:nvGrpSpPr>
          <p:grpSpPr>
            <a:xfrm>
              <a:off x="5113440" y="1531800"/>
              <a:ext cx="2193480" cy="2345400"/>
              <a:chOff x="5113440" y="1531800"/>
              <a:chExt cx="2193480" cy="23454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5113440" y="1531800"/>
                <a:ext cx="954720" cy="334800"/>
                <a:chOff x="5113440" y="1531800"/>
                <a:chExt cx="954720" cy="334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68160" y="1531800"/>
                <a:ext cx="1238760" cy="334800"/>
                <a:chOff x="6068160" y="1531800"/>
                <a:chExt cx="1238760" cy="3348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113440" y="1866600"/>
                <a:ext cx="954720" cy="334800"/>
                <a:chOff x="5113440" y="1866600"/>
                <a:chExt cx="954720" cy="3348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068160" y="1866600"/>
                <a:ext cx="1238760" cy="334800"/>
                <a:chOff x="6068160" y="1866600"/>
                <a:chExt cx="1238760" cy="3348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13440" y="2201760"/>
                <a:ext cx="954720" cy="334800"/>
                <a:chOff x="5113440" y="2201760"/>
                <a:chExt cx="954720" cy="3348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068160" y="2201760"/>
                <a:ext cx="1238760" cy="334800"/>
                <a:chOff x="6068160" y="2201760"/>
                <a:chExt cx="1238760" cy="3348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113440" y="2536920"/>
                <a:ext cx="954720" cy="334800"/>
                <a:chOff x="5113440" y="2536920"/>
                <a:chExt cx="954720" cy="3348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068160" y="2536920"/>
                <a:ext cx="1238760" cy="334800"/>
                <a:chOff x="6068160" y="2536920"/>
                <a:chExt cx="1238760" cy="3348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113440" y="2872080"/>
                <a:ext cx="954720" cy="334800"/>
                <a:chOff x="5113440" y="2872080"/>
                <a:chExt cx="954720" cy="334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068160" y="2872080"/>
                <a:ext cx="1238760" cy="334800"/>
                <a:chOff x="6068160" y="2872080"/>
                <a:chExt cx="1238760" cy="3348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113440" y="3207240"/>
                <a:ext cx="954720" cy="334800"/>
                <a:chOff x="5113440" y="3207240"/>
                <a:chExt cx="954720" cy="3348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=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068160" y="3207240"/>
                <a:ext cx="1238760" cy="334800"/>
                <a:chOff x="6068160" y="3207240"/>
                <a:chExt cx="1238760" cy="334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113440" y="3542400"/>
                <a:ext cx="954720" cy="334800"/>
                <a:chOff x="5113440" y="3542400"/>
                <a:chExt cx="954720" cy="334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068160" y="3542400"/>
                <a:ext cx="1238760" cy="334800"/>
                <a:chOff x="6068160" y="3542400"/>
                <a:chExt cx="1238760" cy="3348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isti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5105520" y="1523880"/>
              <a:ext cx="220968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832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4495680"/>
            <a:ext cx="2514600" cy="1524240"/>
            <a:chOff x="304920" y="4495680"/>
            <a:chExt cx="2514600" cy="1524240"/>
          </a:xfrm>
        </p:grpSpPr>
        <p:grpSp>
          <p:nvGrpSpPr>
            <p:cNvPr id="479" name=""/>
            <p:cNvGrpSpPr/>
            <p:nvPr/>
          </p:nvGrpSpPr>
          <p:grpSpPr>
            <a:xfrm>
              <a:off x="312840" y="4504680"/>
              <a:ext cx="2498400" cy="1505520"/>
              <a:chOff x="312840" y="4504680"/>
              <a:chExt cx="2498400" cy="15055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12840" y="4504680"/>
                <a:ext cx="1266840" cy="376200"/>
                <a:chOff x="312840" y="4504680"/>
                <a:chExt cx="1266840" cy="376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579680" y="4504680"/>
                <a:ext cx="1231560" cy="376200"/>
                <a:chOff x="1579680" y="4504680"/>
                <a:chExt cx="1231560" cy="376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ignificad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2840" y="4880880"/>
                <a:ext cx="1266840" cy="376200"/>
                <a:chOff x="312840" y="4880880"/>
                <a:chExt cx="1266840" cy="3762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&amp;&amp;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579680" y="4880880"/>
                <a:ext cx="1231560" cy="376200"/>
                <a:chOff x="1579680" y="4880880"/>
                <a:chExt cx="1231560" cy="376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y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12840" y="5257440"/>
                <a:ext cx="1266840" cy="376200"/>
                <a:chOff x="312840" y="5257440"/>
                <a:chExt cx="1266840" cy="376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||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579680" y="5257440"/>
                <a:ext cx="1231560" cy="376200"/>
                <a:chOff x="1579680" y="5257440"/>
                <a:chExt cx="1231560" cy="376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12840" y="5634000"/>
                <a:ext cx="1266840" cy="376200"/>
                <a:chOff x="312840" y="5634000"/>
                <a:chExt cx="1266840" cy="376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579680" y="5634000"/>
                <a:ext cx="1231560" cy="376200"/>
                <a:chOff x="1579680" y="5634000"/>
                <a:chExt cx="1231560" cy="3762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eg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04920" y="4495680"/>
              <a:ext cx="2514600" cy="152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00400" y="4648320"/>
            <a:ext cx="5638680" cy="1371600"/>
            <a:chOff x="3200400" y="4648320"/>
            <a:chExt cx="5638680" cy="1371600"/>
          </a:xfrm>
        </p:grpSpPr>
        <p:sp>
          <p:nvSpPr>
            <p:cNvPr id="506" name=""/>
            <p:cNvSpPr/>
            <p:nvPr/>
          </p:nvSpPr>
          <p:spPr>
            <a:xfrm>
              <a:off x="3200400" y="4648320"/>
              <a:ext cx="5638680" cy="1371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00400" y="4648320"/>
              <a:ext cx="563868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t a=1, b=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v= ! a&lt;=b &amp;&amp; a==5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= ((! a&lt;=b) &amp;&amp; a==5)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2= a&lt;=b &amp;&amp; a; // error a no es</a:t>
              </a: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</a:t>
              </a: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905120" y="1066680"/>
            <a:ext cx="1600200" cy="381240"/>
            <a:chOff x="1905120" y="1066680"/>
            <a:chExt cx="1600200" cy="381240"/>
          </a:xfrm>
        </p:grpSpPr>
        <p:sp>
          <p:nvSpPr>
            <p:cNvPr id="509" name=""/>
            <p:cNvSpPr/>
            <p:nvPr/>
          </p:nvSpPr>
          <p:spPr>
            <a:xfrm>
              <a:off x="1905120" y="10666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5120" y="1066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724280" y="1066680"/>
            <a:ext cx="2895840" cy="381240"/>
            <a:chOff x="4724280" y="1066680"/>
            <a:chExt cx="2895840" cy="381240"/>
          </a:xfrm>
        </p:grpSpPr>
        <p:sp>
          <p:nvSpPr>
            <p:cNvPr id="512" name=""/>
            <p:cNvSpPr/>
            <p:nvPr/>
          </p:nvSpPr>
          <p:spPr>
            <a:xfrm>
              <a:off x="4724280" y="10666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106668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 relaci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09480" y="3809880"/>
            <a:ext cx="1905120" cy="590760"/>
            <a:chOff x="609480" y="3809880"/>
            <a:chExt cx="1905120" cy="590760"/>
          </a:xfrm>
        </p:grpSpPr>
        <p:sp>
          <p:nvSpPr>
            <p:cNvPr id="515" name=""/>
            <p:cNvSpPr/>
            <p:nvPr/>
          </p:nvSpPr>
          <p:spPr>
            <a:xfrm>
              <a:off x="609480" y="3809880"/>
              <a:ext cx="1905120" cy="590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480" y="380988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ntre valores boole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819520" y="5257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6 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claración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s= "Hola, "; // Declaración con asign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r= "esto es un string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t; // Declaración sin asign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spliegue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t); // Error t no tiene val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sig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"Chao"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cate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 + r // "Hola, esto es un string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resultado de esta expresión es de tipo string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s + "que tal"; // "Hola, que tal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maño de un string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length() //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(s+r).length() // s.length()+r.length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resultado de esta exprresión es de tipo i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(Investigar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un carác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subsecuenci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mparación de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nversión a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peraciones prohibid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Modificación de un cará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[0]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charAt(0)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al siguiente carac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= s+1; // err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6. INSTRU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066680"/>
            <a:ext cx="2514600" cy="1474200"/>
            <a:chOff x="304920" y="1066680"/>
            <a:chExt cx="2514600" cy="1474200"/>
          </a:xfrm>
        </p:grpSpPr>
        <p:sp>
          <p:nvSpPr>
            <p:cNvPr id="524" name=""/>
            <p:cNvSpPr/>
            <p:nvPr/>
          </p:nvSpPr>
          <p:spPr>
            <a:xfrm>
              <a:off x="304920" y="1066680"/>
              <a:ext cx="2514600" cy="1219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066680"/>
              <a:ext cx="2514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6600cc"/>
                  </a:solidFill>
                  <a:latin typeface="Courier New"/>
                </a:rPr>
                <a:t>tipo variable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int a, b=1, c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boolean v,w=tru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76720" y="1066680"/>
            <a:ext cx="2514600" cy="1201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1066680"/>
            <a:ext cx="25146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sign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ar = expres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b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1066680"/>
            <a:ext cx="2514600" cy="1206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066680"/>
            <a:ext cx="2514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Grupo de instru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{ inst1 inst2 ... instn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438280"/>
            <a:ext cx="3886200" cy="2346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2438280"/>
            <a:ext cx="38862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jecución condi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f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438280"/>
            <a:ext cx="3962160" cy="2340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438280"/>
            <a:ext cx="3962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s 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 (a&lt;=5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5065560"/>
            <a:ext cx="8458200" cy="1136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5065560"/>
            <a:ext cx="8458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 abrevi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For ( instrucción; expresión booleana; instrucció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7. CLASES Y OBJE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1 DEFINI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 : Una persona, lugar, evento o cosa sobre la cual queremos capturar inform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LASE : Un “Template” que se utiliza para definir y crear objetos (o instancias) específicos. Informalmente, diremos que una clase es una “fábrica” de obj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E INSTA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70572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2 CLASES Y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Verdana"/>
              </a:rPr>
              <a:t>Esta presentación está basada en su mayor parte, en los apuntes de JAVA del profesor del DCC Luis Mate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3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Todos los objetos se crean con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el tipo del objeto cre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la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clase del objeto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. El objeto es una instancia de la clase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a variable a1 es de tipo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MX" sz="1800" spc="-1" strike="noStrike">
                <a:solidFill>
                  <a:srgbClr val="000000"/>
                </a:solidFill>
                <a:latin typeface="Verdana"/>
              </a:rPr>
              <a:t>variables de instancia o camp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y =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+ “ “ + a.y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); //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1 2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(Procedimiento cuya invocación siempre va asociada a un objet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 // Variables de instancia o atribu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Méto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Set (int vx, int v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v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v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X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mprimir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ystem.out.println ( x+ ” “ +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definición de un método tiene la siguiente sintax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tipo_retorno  nombre_método (tipo_parámetro  nombre,...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método no retorna nada, se coloca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oid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. En las instrucciones las variables que se accesen que no sean parámetros o variables locales del procedimiento deben ser variables de instancia del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variable de tipo objeto es una referencia a un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8. 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EFINICIÓN: El constructor de una clase es un método estándar para inicializar los objetos de esa clase. Se invoca automáticamente cuando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crea un objeto de esa cl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constructores se declaran en el momento de definir la cla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 //El constru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onstructor puede tener parámetros. En este caso, se deben colocar los argumentos respectivos al crear el obje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(int ix, intiy) {  // El constru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x = i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y = i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a = new A(1,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.Imprimir(); // 1 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new A (); // Error, hay que colocar los argume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e pueden colocar vario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structores. Durante la creación de un objeto, se invoca aquel que calza con los argumentos dad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x = 0; y = 0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int ix, int iy) { x=ix, y=iy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A n_objeto) { x=n_objeto.x ; y=n_objeto.y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1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2 = new A(1,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2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3 = new A(a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3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 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OTIVACIÓN : Los métodos y atributos (variables)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posee un obje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finen la clase a la cual pertenece. Por ejemplo, todos los objetos de la clase A poseen los métodos Set, Inc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menta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mprimi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as variables x e 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existir una clase B de objetos que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odos los métodos y todas las variables de A, pero además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otros métodos y/o variables que no poseen los objetos de A. En ese caso se dice que B es una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ubclas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o que B hereda de 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objetos de la clase B también pertenecen a la clase A.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incipio es que todo el código que se haya escrito para objetos de la clase A también funcionará con objetos de la clase 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772400" cy="495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Una subclase se define medi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extends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Variable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Método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Observar que B también posee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Z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z +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bservación: Todos los objetos pertenecen a la clase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Object.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76720" y="3962520"/>
            <a:ext cx="2057040" cy="2057400"/>
            <a:chOff x="3276720" y="3962520"/>
            <a:chExt cx="2057040" cy="2057400"/>
          </a:xfrm>
        </p:grpSpPr>
        <p:sp>
          <p:nvSpPr>
            <p:cNvPr id="563" name=""/>
            <p:cNvSpPr/>
            <p:nvPr/>
          </p:nvSpPr>
          <p:spPr>
            <a:xfrm>
              <a:off x="3910320" y="3962520"/>
              <a:ext cx="79092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43200" y="4795200"/>
              <a:ext cx="790560" cy="392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Pers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479520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562788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8265600">
              <a:off x="3571560" y="4563720"/>
              <a:ext cx="542880" cy="64440"/>
            </a:xfrm>
            <a:prstGeom prst="rightArrow">
              <a:avLst>
                <a:gd name="adj1" fmla="val 50000"/>
                <a:gd name="adj2" fmla="val 210615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13334400">
              <a:off x="4474800" y="4549680"/>
              <a:ext cx="542880" cy="65160"/>
            </a:xfrm>
            <a:prstGeom prst="rightArrow">
              <a:avLst>
                <a:gd name="adj1" fmla="val 50000"/>
                <a:gd name="adj2" fmla="val 20828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428640" y="5364360"/>
              <a:ext cx="504000" cy="69480"/>
            </a:xfrm>
            <a:prstGeom prst="rightArrow">
              <a:avLst>
                <a:gd name="adj1" fmla="val 50000"/>
                <a:gd name="adj2" fmla="val 18134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956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. ARQUITECTURA CLIENTE/SERVI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1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1562040"/>
          <a:ext cx="752400" cy="7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62040"/>
                    <a:ext cx="7524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14600" y="2833560"/>
            <a:ext cx="9874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33560"/>
            <a:ext cx="99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31840" y="128592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259884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7720" y="1285920"/>
            <a:ext cx="2054160" cy="131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usuario hace una llamada por algún requerimiento como calcular el total en el carro de compras, o validar dígito verificador u otros cam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38440" y="1503360"/>
            <a:ext cx="1614600" cy="8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comunicación hacia el servidor se da por medio del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1908000" cy="17496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requerimiento se  procesa en el servidor  a través de alguna aplicación auxiliar , devolviendo HTML al usuario. (Genera contenidos en forma dinámica y temporal para el usuar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4120" y="1631880"/>
          <a:ext cx="895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631880"/>
                    <a:ext cx="895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4582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funcionamiento del Web está basado en el paradigma cliente/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servidor almacena páginas Web en formato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los clientes las consultan. Los clientes corresponden a programas de navegación en el Web como por ejemplo Netscape, Internet Explor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página Web se transmite del servidor al cliente por medio de la red internet, en el momento en que el cliente la consult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1 EL CONSTRUCTOR DE UNA SUBCLAS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¡¡Los constructores no se heredan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A( int ix, int iy) {...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B b = new B (1,2); // Error, ningún constructor cal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l constructor de la clase base se puede invocar con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y i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t iy, int iz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 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i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2 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clase abstracta es una clase que se introduce sólo para que se deriven nuevas clases de ella, no para que se creen objetos con su nomb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método abstracto es un método que se introduce para que sea redefinido en una clase deriv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700" spc="-1" strike="noStrike">
                <a:solidFill>
                  <a:srgbClr val="6600cc"/>
                </a:solidFill>
                <a:latin typeface="Courier New"/>
              </a:rPr>
              <a:t>abstract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class DibujaObj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x, y; // La posición cent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ix, int iy)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= ix; y=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// constru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Move(int dx, int d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+= dx; y+= d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abstract void Paint(Graphics g); // Paint es abstrac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idea es que sólo se pueden crear objetos de clases derivadas de la clase anteri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class Line </a:t>
            </a:r>
            <a:r>
              <a:rPr b="0" lang="es-MX" sz="1700" spc="-1" strike="noStrike" u="sng">
                <a:solidFill>
                  <a:srgbClr val="6600cc"/>
                </a:solidFill>
                <a:uFillTx/>
                <a:latin typeface="Courier New"/>
              </a:rPr>
              <a:t>extends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DibujaObj { // x e y se hered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ix,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aix, int aiy, int afx, int afy) {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super((aix+afx)/2, (aiy+afy)/2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x= aix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y= a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Paint(Graphics g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g.DrawLine(xi,yi,x+(x-xi),y+(y-yi)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// Move se hereda de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0. 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FINICIÓN PREVIA : Un “paquete” es una colección de clases que se encuentran en el mismo directo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: Desde cualquier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 se pued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ccesar los campos de un objeto perteneciente a otra clase. Esto es una violación al principio de abstracción que dice que un tipo de datos abstracto sólo puede ser manipulado a través de las operaciones que se definen para és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jav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l definir una cla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e puede controlar la visibilidad que tendrán sus campos y métodos al exterior de la clase.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(Encapsular...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ontrol se efectúa de la siguiente form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sólo es visible dentro de la clase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la clase en donde se define y en cualquiera de sus subclas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inguna de las anterior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a de las clases pertenecientes al paquete en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2. APPLETS E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1 APPLETS EN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página Web puede contener varios medios audio/visuales: tex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imágen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ónid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de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s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 un programa escrito en Java que anima una porción de la página Web. Al igual que el resto de los medio audio/visuales, el applet está almacenado en el servidor y se transmite al cliente por medio d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ntaja de los applets con respecto a otros medios audio/visuales es que el usuario puede interactuar con un applet, gracias a que se trata de un progra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n applet se ejecuta completamente en el client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to significa que una vez que fue transmitido, la velocidad de la interacción no depende de la velocidad y latencia de la red. Si es necesario, el applet también se puede comunicar con el servid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2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iste una amplia gama de plataformas con procesadores y sistemas operativos incompatibles entre sí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resuelve el problema de la incompatibilidad de los procesadores haciendo que los applets se almacenen en los servidores en un código intermedio independiente de la plataforma (el byte-c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este byte-code el que se transmite hacia los clien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os clientes ejecutan este código por medio de un intérpre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que sí es dependiente de la platafor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multipla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15200" cy="328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5867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3. CARACTERÍSTICAS DE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Jiménez</cp:lastModifiedBy>
  <dcterms:modified xsi:type="dcterms:W3CDTF">2004-04-03T12:20:06Z</dcterms:modified>
  <cp:revision>782</cp:revision>
  <dc:subject/>
  <dc:title>GESTION DE  TECNOLOGIA E INNOVACIÓN</dc:title>
</cp:coreProperties>
</file>