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F12-113E-46A9-BAB1-F0BF4F8D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39E-F09A-44DB-9127-DDFED87C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4ED-EADA-4EED-ABEF-87AFAD2F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68C-7489-4D62-9011-4380B06F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F200-DA7D-4D82-A04A-11B51FD3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677D-1226-453E-9911-DBA51C65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FA14-0AFF-45A6-989F-C0BCBE98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3BBF-956F-4157-9B02-E7B50BB6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BB94-2D1E-472C-8304-B622CF4A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C747-80F6-46CE-BBE8-C21CFD9A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B50C-618F-481F-9279-471C9841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0DE-5CE9-4478-8651-1F58F75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3B95-3AC7-42AE-BC92-2A7A35B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73D-8B7F-4B9E-8278-07A2AA94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7A14-7D6F-411B-B099-D7D1180C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E511-7BF1-4990-9514-2ABBC611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3CEC-3A34-403D-A192-F7F1EF8E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91F-280A-4C4C-8C04-D9028C56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804-D5BD-4FF2-967E-4CFA6D5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2C8-4A0F-4B7E-AB29-78F7D556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E2D-2C88-4F1E-84CD-A4A7D747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469-FB1B-4B3F-B9E6-5FEAB9F2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FD1-C8D1-496E-98F7-895A945C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47E-B88A-45AA-AB01-76F8674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240D-452B-4043-A6E9-DC5C12CFA20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4685-AE46-4C5E-A376-82F7F639666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9625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lase Auxili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Sábado 04 Abril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02_logomaster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95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/95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Jiménez</cp:lastModifiedBy>
  <dcterms:modified xsi:type="dcterms:W3CDTF">2004-04-03T12:20:06Z</dcterms:modified>
  <cp:revision>782</cp:revision>
  <dc:subject/>
  <dc:title>GESTION DE  TECNOLOGIA E INNOVACIÓN</dc:title>
</cp:coreProperties>
</file>