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FF6-9132-4A58-B8A6-3F4575A1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785-8079-4CAC-AD2A-8A15087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CE4-1389-4994-ACD0-2980A042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98D-F8B0-4D9C-AE21-08A5525E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5D1-8642-49D6-BF80-48D0CDB2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932-0605-4BD0-AE74-A4D46000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9BE-ED30-4864-8588-4ADAA4F7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B71-6D61-4E63-98E9-576EE140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4A3-149D-4785-8413-4651DD0A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45B-E1C0-4A6D-99D7-1E45E75F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A7E-20BF-4E3F-9A54-7711990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587-4957-4126-A242-2B60DE97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C669-5CA7-430D-8D61-13762FC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55ED-CA39-489B-86DF-4A33C6CE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3446-A9CE-4E52-B8B3-6CD5E02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084-D6CC-413B-8E01-AD3A6CB9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430-9104-48A3-8F93-851BE33E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C91-0D46-4214-8634-468A204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3E0-AF29-45FE-A10A-737C03EF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1D8-9CA1-4D8D-BE61-273BC09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D0C-74E9-48B7-8AFC-12E54AD2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BC3-B1E3-481B-983B-5D3B347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736-A2BC-4A18-A999-89C551A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833-CAE8-4B2D-9051-9BB6B7A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4F8-3520-4F1C-BFC4-7C70C07441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6E1A-848B-48DF-9129-48F708E6BA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arrollo de Aplicaciones Web en Plataforma Ja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né Díaz Monteneg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ctubre de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s Ejercic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páginas jsp (Java Server Page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atenador de palabras usando Servlet y páginas JSP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Tres capas, implementación de conectividad a base de datos usando JSP – Servlet y DB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un documento HTML,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inicio.html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ormulario con dos campos de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Destino del formulario: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respuesta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struir la página </a:t>
            </a:r>
            <a:r>
              <a:rPr b="0" i="1" lang="es-ES" sz="3200" spc="-1" strike="noStrike">
                <a:solidFill>
                  <a:srgbClr val="40458c"/>
                </a:solidFill>
                <a:latin typeface="Tahoma"/>
              </a:rPr>
              <a:t>respuesta.jsp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cibir formul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catenar ambas palab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viarlas a pantall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ndo Ejercicio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mplearemos el mismo documento,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nicio.html.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destino del formulario debe ser 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ConcatenaServl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el Servlet ConcatenaServlet.jav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imos el formul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catenamos las palabr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samos un bean para enviar el resul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struimos la página respuesta2.js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cibe el bean con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pliega la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7:18:45Z</dcterms:created>
  <dc:creator>rdm.gral</dc:creator>
  <dc:description/>
  <dc:language>en-US</dc:language>
  <cp:lastModifiedBy>rdm.gral</cp:lastModifiedBy>
  <dcterms:modified xsi:type="dcterms:W3CDTF">2004-10-26T17:45:36Z</dcterms:modified>
  <cp:revision>1</cp:revision>
  <dc:subject/>
  <dc:title>Desarrollo de Aplicaciones Web en Plataforma Java</dc:title>
</cp:coreProperties>
</file>