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4E2-559F-4917-9B7B-E875B134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51B-41CA-46A9-980B-449EE6DC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BCE-883F-40E8-A212-25EA9586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CAC-8C2F-4978-8CFF-5FADA17C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39B6-8BA0-4952-8472-148EE8AA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47CA-8FCB-4334-9819-37CABBA9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BF65-4A60-4EEE-9EE3-26E5FB79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8956-C3D1-4CB7-8029-735CE15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5D4B-35B5-42CE-B1D5-9155FED9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A24B-3784-4612-B9DC-910D4291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62F-E099-4C93-B388-BC50AD62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307-4D54-4595-9F30-ACA2A7AF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AE5B-CD1C-4E3B-B59D-79C0FDC7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B5F8-076C-4BBA-8A55-7087BC7E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EBF3-D69C-4E96-B91E-9EBE0FE8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10E5-B805-4EF2-B088-4BD1EC2D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C0DF-B337-4734-B223-94A46116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D3F-4AA6-4AAB-BC6A-0C628AB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6DE-509E-4A9E-8A34-286CF7B5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9E4-16FC-46A2-B9E7-6756C5C8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8A9-25D0-4BFB-8247-DCE14BB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EED-88AE-4176-BF69-1D1B8B4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85A-7563-4BC7-8183-9BE8928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ED3-F446-4CFD-B825-8CC6647A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C05E-C79A-485D-A174-DFBFCFC2016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B7FA-863C-4B1D-9410-1E07BD819E6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26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Hamiltoneano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C.P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ndo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usando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914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47920" y="1828800"/>
          <a:ext cx="62481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2481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5053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2960" y="2666880"/>
          <a:ext cx="389736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666880"/>
                    <a:ext cx="38973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1450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99040" y="2666880"/>
          <a:ext cx="184320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9040" y="2666880"/>
                    <a:ext cx="1843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294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3657600"/>
          <a:ext cx="83844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657600"/>
                    <a:ext cx="838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4974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8960" y="3733920"/>
          <a:ext cx="471168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8960" y="3733920"/>
                    <a:ext cx="47116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280040" y="4191120"/>
          <a:ext cx="3327120" cy="22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0040" y="4191120"/>
                    <a:ext cx="332712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mp Sum 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ing the transversality condition (iv) and (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x Payment per unit of outp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2514600"/>
          <a:ext cx="800100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8001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267160" y="3429000"/>
          <a:ext cx="3560760" cy="32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7160" y="3429000"/>
                    <a:ext cx="35607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741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D VALOREM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2057400"/>
          <a:ext cx="49532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49532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áficamen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199040" y="491976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919760"/>
            <a:ext cx="83844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919760"/>
            <a:ext cx="685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Times New Roman"/>
              </a:rPr>
              <a:t>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42960" y="1600200"/>
            <a:ext cx="0" cy="32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2960" y="4815000"/>
            <a:ext cx="28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1400" y="180828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430360"/>
            <a:ext cx="5522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156120"/>
            <a:ext cx="55224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2960" y="2014560"/>
            <a:ext cx="154944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2960" y="2430360"/>
            <a:ext cx="221292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2960" y="263700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2400" y="263700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2960" y="33638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8880" y="3364200"/>
            <a:ext cx="36720" cy="145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4320" y="2844720"/>
            <a:ext cx="55224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28920" y="2014560"/>
            <a:ext cx="66348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876920"/>
            <a:ext cx="75708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Times New Roman"/>
              </a:rPr>
              <a:t>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74000" y="491976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971960" y="1600200"/>
            <a:ext cx="0" cy="32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1960" y="4815000"/>
            <a:ext cx="28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0400" y="180828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2430360"/>
            <a:ext cx="5522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76560" y="3156120"/>
            <a:ext cx="99540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=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71960" y="2948040"/>
            <a:ext cx="221292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21400" y="3363840"/>
            <a:ext cx="0" cy="145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71960" y="33638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57880" y="3364200"/>
            <a:ext cx="36720" cy="145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21400" y="2844720"/>
            <a:ext cx="5526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94440" y="2325600"/>
            <a:ext cx="66348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971960" y="2533680"/>
            <a:ext cx="154944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a lump sum ta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334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a specific  or add valorem ta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FIT TA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295280"/>
          <a:ext cx="58676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58676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28600" y="46483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(.(T))=After-tax scrap value of the mine  ;  F(K) Production function, F’&gt;0, F”&l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corporate tax rate;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depreciation rate;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Depletion Allowance;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capital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Capital; I=Investment, K=value of underpreciated capital; stock for tax 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0)=Cost of acquisition of a unit of initial reserv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olu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143000"/>
          <a:ext cx="56386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56386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CASE II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1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extraction dependent of initial reser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 reserves endoge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urce homogen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lleable Investment (no irreversi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m is price taker in output and factor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(.)=C(q(t),S(t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-Lump Sum Tax:  A greater extraction path and T&l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no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i.-Unit Tax: No Neutral Tax, A greater extrac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ii.-Ad valorem tax: No Neutral Tax, A greater extrac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v.-Profit Tax: Neutr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.-Corporate Tax: No constant valu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hich leaves the extraction path undist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ibutación Miner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214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os sociales para seleccionar un régimen tribut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tr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gnación entre sectores económ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arrollo de proyectos de inver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ogía, sendas de extra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tación que maximiza el bienestar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dad horizontal, vertical e intergen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dad y Es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las no arbitrarias, mínimos costos de transacción, cumpl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ilidad en el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incipios tributarios sustentados por las empres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214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dependen de las utilidades gener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ápida recuperación de la inver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ocer la volatilidad de los ingr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licarse sobre los flujos de ca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es, predecibles y transpar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ar distorsi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n la explo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esincentiven la inversión de proyectos margi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incipios tributarios sustentados por el gobier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812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de impuestos qu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eguen  estabilidad macroeconó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an capturar una participación mayor de ingres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n eficietemente administrados y con bajo costo de recaud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cen el valor presente de los ingresos durante los primeros añ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n ingresos de proyectos de bajo costo y altas utilidades (renta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s que sean neutrales e incentiven la eficiencia económ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atamientos especiales al sector mine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ción de altas rentas implica mayores im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os riesgos de inversión implica incentivos tributario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ra entre inversión y producción, alta inversión irrever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entivos que reducen riesgos, depreciación acelerada o acelerada recuperación de gastos de exploración y desar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ipos de impues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estos direc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que impactan los costos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cíficos o royal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yalties ad valor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ve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export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que impactan los cost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propiedades, pa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o renta de ti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gos administrativos, estampil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455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person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l ingreso (a la ren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 renta del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ención de impue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ímenes espe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reciación de capital acele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reciación del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ción de inter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siones por deducción de pérdidas pasadas o futu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éditos por reinver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íso de impues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n marco de análisi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Based in Gaudet and Lasserre (1990)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1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extraction independent of initial res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 reserves fixed and 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ource homogene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leable Investment (no irreversi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rm is price taker in output and factor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143000"/>
          <a:ext cx="685800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685800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486400" y="1676520"/>
            <a:ext cx="335268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P(t) =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q(t) =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S(t)=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(.)= Cost Function, C’&gt;0, C”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04T21:40:46Z</dcterms:modified>
  <cp:revision>78</cp:revision>
  <dc:subject/>
  <dc:title>IN 77G "Tópicos Avanzados en Economía Ambiental y de Recursos Naturales"</dc:title>
</cp:coreProperties>
</file>