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2146-01D0-4915-BBFA-80D5E44A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7E8C-EE7E-4C40-82D7-C79E605D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6AE6-16C0-4575-90FD-A761A451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4087-E6F3-4A46-A786-C461F8609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33D7-54AD-44C8-8CEF-A85C2B09E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6AC0-3E05-4686-B3AD-75A3A1A6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7E39-D1B3-4D8A-BDA0-D4D5DD34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AD03-BA24-4004-BA81-F7410C0F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E3C8-A157-4880-9F59-890E6378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779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4D5D-DC2C-458C-85B2-80B4D4DD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69F0-1FD1-431D-837D-C19BE8C7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4ED6-A770-4EC9-B6D1-24FF3FF6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99A1-BD55-45E6-B92E-70E7339C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D3CA-2E1A-45BC-B557-A23740C3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E02F-35F5-4834-8068-E2819B0F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3F52-96B3-404D-95C1-3CB586DA3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8340-9A71-44BE-9259-43F45762B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F32E-718E-4205-9C9A-BDCD6D11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1478-ADCD-43EC-A3B7-25C32E79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80F1-4F72-4E62-8A01-58FB94E5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779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2E69-BDAF-4526-A3F0-18322CFA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1B73-B8A1-4C8D-829E-6D394AEC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947E-253D-4F2B-8DD8-D22B1666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08D7-5C3C-41EF-8F26-99F1EA0C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57200"/>
            <a:ext cx="1152360" cy="1052280"/>
            <a:chOff x="0" y="457200"/>
            <a:chExt cx="1152360" cy="1052280"/>
          </a:xfrm>
        </p:grpSpPr>
        <p:sp>
          <p:nvSpPr>
            <p:cNvPr id="1" name=""/>
            <p:cNvSpPr/>
            <p:nvPr/>
          </p:nvSpPr>
          <p:spPr>
            <a:xfrm>
              <a:off x="290520" y="5652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73200" y="5652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4360" y="9874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080" y="9874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91440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5040" y="45720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304920" y="1066680"/>
            <a:ext cx="822636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1143000" y="6324480"/>
            <a:ext cx="678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9D44-ACDF-48B2-BF23-24CFA870ABB7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E4BA-04C6-4934-9877-4A6C2A6F73C9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 77G "Tópicos Avanzados en Economía Ambiental y de Recursos Naturales"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rte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f. Andrés Ullo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2640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Hamiltoneano 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 C.P.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erenciando 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usando 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29145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447920" y="1828800"/>
          <a:ext cx="6248160" cy="43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828800"/>
                    <a:ext cx="624816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350532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42960" y="2666880"/>
          <a:ext cx="3897360" cy="71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60" y="2666880"/>
                    <a:ext cx="389736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41450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099040" y="2666880"/>
          <a:ext cx="1843200" cy="7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99040" y="2666880"/>
                    <a:ext cx="184320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2940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38080" y="3657600"/>
          <a:ext cx="838440" cy="60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3657600"/>
                    <a:ext cx="8384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349740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758960" y="3733920"/>
          <a:ext cx="4711680" cy="365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58960" y="3733920"/>
                    <a:ext cx="471168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280040" y="4191120"/>
          <a:ext cx="3327120" cy="2206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80040" y="4191120"/>
                    <a:ext cx="3327120" cy="22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5008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ump Sum Ta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ing the transversality condition (iv) and (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ix Payment per unit of outpu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838080" y="2514600"/>
          <a:ext cx="800100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4600"/>
                    <a:ext cx="800100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5267160" y="3429000"/>
          <a:ext cx="3560760" cy="321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67160" y="3429000"/>
                    <a:ext cx="356076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7412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DD VALOREM 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09480" y="2057400"/>
          <a:ext cx="4953240" cy="329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4953240" cy="32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ráficament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4199040" y="4919760"/>
            <a:ext cx="33156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4919760"/>
            <a:ext cx="83844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4919760"/>
            <a:ext cx="68580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ES" sz="1200" spc="-1" strike="noStrike" baseline="-25000">
                <a:solidFill>
                  <a:srgbClr val="000000"/>
                </a:solidFill>
                <a:latin typeface="Times New Roman"/>
              </a:rPr>
              <a:t>no t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542960" y="1600200"/>
            <a:ext cx="0" cy="32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42960" y="4815000"/>
            <a:ext cx="287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11400" y="1808280"/>
            <a:ext cx="33156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2430360"/>
            <a:ext cx="5522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q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3156120"/>
            <a:ext cx="552240" cy="41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q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42960" y="2014560"/>
            <a:ext cx="1549440" cy="62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42960" y="2430360"/>
            <a:ext cx="2212920" cy="93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42960" y="2637000"/>
            <a:ext cx="15494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92400" y="2637000"/>
            <a:ext cx="0" cy="217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42960" y="3363840"/>
            <a:ext cx="2212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28880" y="3364200"/>
            <a:ext cx="36720" cy="1450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4320" y="2844720"/>
            <a:ext cx="552240" cy="3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q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28920" y="2014560"/>
            <a:ext cx="663480" cy="31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q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72200" y="4876920"/>
            <a:ext cx="75708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ES" sz="1200" spc="-1" strike="noStrike" baseline="-25000">
                <a:solidFill>
                  <a:srgbClr val="000000"/>
                </a:solidFill>
                <a:latin typeface="Times New Roman"/>
              </a:rPr>
              <a:t>no t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74000" y="4919760"/>
            <a:ext cx="33156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971960" y="1600200"/>
            <a:ext cx="0" cy="32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71960" y="4815000"/>
            <a:ext cx="287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0400" y="1808280"/>
            <a:ext cx="33156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2430360"/>
            <a:ext cx="5522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q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76560" y="3156120"/>
            <a:ext cx="995400" cy="41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q(T)=q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71960" y="2948040"/>
            <a:ext cx="2212920" cy="41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21400" y="3363840"/>
            <a:ext cx="0" cy="1451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71960" y="3363840"/>
            <a:ext cx="2212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57880" y="3364200"/>
            <a:ext cx="36720" cy="1450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21400" y="2844720"/>
            <a:ext cx="552600" cy="3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q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94440" y="2325600"/>
            <a:ext cx="663480" cy="3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q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4971960" y="2533680"/>
            <a:ext cx="1549440" cy="8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54100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 of a lump sum tax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53341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 of a specific  or add valorem tax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ROFIT TAX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38080" y="1295280"/>
          <a:ext cx="58676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58676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228600" y="4648320"/>
            <a:ext cx="914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(.(T))=After-tax scrap value of the mine  ;  F(K) Production function, F’&gt;0, F”&lt;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=corporate tax rate;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=depreciation rate;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=Depletion Allowance;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=capital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=Capital; I=Investment, K=value of underpreciated capital; stock for tax purp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(0)=Cost of acquisition of a unit of initial reserv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olu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219320" y="1143000"/>
          <a:ext cx="5638680" cy="52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43000"/>
                    <a:ext cx="5638680" cy="52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CASE II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4218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of extraction dependent of initial reser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itial reserves endogen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source homogene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lleable Investment (no irreversib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m is price taker in output and factor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(.)=C(q(t),S(t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978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-Lump Sum Tax:  A greater extraction path and T&lt;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no 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i.-Unit Tax: No Neutral Tax, A greater extraction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ii.-Ad valorem tax: No Neutral Tax, A greater extraction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v.-Profit Tax: Neutr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.-Corporate Tax: No constant value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which leaves the extraction path undistor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ributación Minerí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4214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iterios sociales para seleccionar un régimen tributa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utr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ignación entre sectores económi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arrollo de proyectos de invers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nología, sendas de extra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ici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otación que maximiza el bienestar soc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uidad horizontal, vertical e intergener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ridad y Estabi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las no arbitrarias, mínimos costos de transacción, cumpli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abilidad en el 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incipios tributarios sustentados por las empres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42148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estos dependen de las utilidades gener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ápida recuperación de la invers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nocer la volatilidad de los ingres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licarse sobre los flujos de caj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es, predecibles y transpar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ar distorsio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entiven la explor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esincentiven la inversión de proyectos margin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incipios tributarios sustentados por el gobiern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8120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stemas de impuestos qu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reguen  estabilidad macroeconóm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an capturar una participación mayor de ingres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n eficietemente administrados y con bajo costo de recaud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icen el valor presente de los ingresos durante los primeros años de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n ingresos de proyectos de bajo costo y altas utilidades (renta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stemas que sean neutrales e incentiven la eficiencia económ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ratamientos especiales al sector miner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2148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ción de altas rentas implica mayores impues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os riesgos de inversión implica incentivos tributario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mora entre inversión y producción, alta inversión irreversi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entivos que reducen riesgos, depreciación acelerada o acelerada recuperación de gastos de exploración y desarrol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ipos de impues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9780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uestos direct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estos que impactan los costos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pecíficos o royal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yalties ad valor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uestos a las ven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uestos a las exportaci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estos que impactan los costos fij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uestos a las propiedades, pat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o o renta de tier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gos administrativos, estampill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34552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estos persona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uestos al ingreso (a la ren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uestos a la renta del recur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ención de impues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ímenes especia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reciación de capital aceler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reciación del recur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ucción de intere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siones por deducción de pérdidas pasadas o futu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éditos por reinver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íso de impues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Un marco de análisis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Times New Roman"/>
              </a:rPr>
              <a:t>Based in Gaudet and Lasserre (1990))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11692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of extraction independent of initial reser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itial reserves fixed and 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source homogene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lleable Investment (no irreversib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rm is price taker in output and factor mar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62120" y="1143000"/>
          <a:ext cx="6858000" cy="51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6858000" cy="51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5486400" y="1676520"/>
            <a:ext cx="335268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P(t) =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q(t) = Ex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S(t)=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C(.)= Cost Function, C’&gt;0, C”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4T16:02:01Z</dcterms:created>
  <dc:creator>Universidad De Chile</dc:creator>
  <dc:description/>
  <dc:language>en-US</dc:language>
  <cp:lastModifiedBy>ANdres Ulloa</cp:lastModifiedBy>
  <dcterms:modified xsi:type="dcterms:W3CDTF">2004-10-04T21:40:46Z</dcterms:modified>
  <cp:revision>78</cp:revision>
  <dc:subject/>
  <dc:title>IN 77G "Tópicos Avanzados en Economía Ambiental y de Recursos Naturales"</dc:title>
</cp:coreProperties>
</file>