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954-E4EF-46EF-B6B6-55A6C0D0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EE5-E04C-42B2-949D-F75EE038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869-C039-4DD7-831E-4C1AE262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B9D-8ABC-4D08-8A78-A764D1D1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48A8-DA15-40D0-A618-3C654F33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A5E6-FC99-4118-A7B6-81883135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2310-5301-4BAE-AC94-EB987AB5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A231-5AFC-49E6-AC6E-33A6C5C4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7D3E-80BA-46B7-BE74-CDA356CF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992F-92B6-48D4-BD7B-93B7E8F9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3990-F369-4EBA-AA2D-DBA01C73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6CC-322C-4B87-A035-9F6C9E85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09AD-4CD1-404A-9E41-89640783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273C-48F0-4860-B7A5-6EF7B266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26E9-E089-41A0-91A1-542D9887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E3E2-16B2-497B-8BB5-E3B52DC9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D9A5-D273-4635-8162-D4642869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16F-BF25-458E-A09F-49E5D8FA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AFC-96E5-4571-B45C-D5832B50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120-D2A1-4792-B5F3-10770DB7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C5F-353F-4F60-8C3F-58526304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869-50D1-43DA-8431-DBA2A625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F7A-B4B4-468C-922B-E4A54284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320-BED8-44FB-91AC-748FDC12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500E-7556-4552-8E0D-9EE5038DB25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2812-0023-4004-9600-749EE3D99A5F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264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Hamiltoneano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C.P.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erenciando 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usando 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29145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447920" y="1828800"/>
          <a:ext cx="624816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62481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5053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42960" y="2666880"/>
          <a:ext cx="3897360" cy="7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2666880"/>
                    <a:ext cx="38973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1450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099040" y="2666880"/>
          <a:ext cx="184320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9040" y="2666880"/>
                    <a:ext cx="1843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294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38080" y="3657600"/>
          <a:ext cx="83844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3657600"/>
                    <a:ext cx="8384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49740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58960" y="3733920"/>
          <a:ext cx="4711680" cy="36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8960" y="3733920"/>
                    <a:ext cx="47116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280040" y="4191120"/>
          <a:ext cx="3327120" cy="22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0040" y="4191120"/>
                    <a:ext cx="332712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500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ump Sum Ta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ing the transversality condition (iv) and (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x Payment per unit of outp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38080" y="2514600"/>
          <a:ext cx="800100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8001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267160" y="3429000"/>
          <a:ext cx="3560760" cy="321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7160" y="3429000"/>
                    <a:ext cx="356076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741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D VALOREM 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09480" y="2057400"/>
          <a:ext cx="495324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495324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áficamen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4199040" y="4919760"/>
            <a:ext cx="3315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4919760"/>
            <a:ext cx="83844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4919760"/>
            <a:ext cx="6858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Times New Roman"/>
              </a:rPr>
              <a:t>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542960" y="1600200"/>
            <a:ext cx="0" cy="32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2960" y="4815000"/>
            <a:ext cx="28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1400" y="1808280"/>
            <a:ext cx="3315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2430360"/>
            <a:ext cx="5522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156120"/>
            <a:ext cx="552240" cy="41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42960" y="2014560"/>
            <a:ext cx="1549440" cy="6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2960" y="2430360"/>
            <a:ext cx="221292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2960" y="2637000"/>
            <a:ext cx="1549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92400" y="2637000"/>
            <a:ext cx="0" cy="217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2960" y="3363840"/>
            <a:ext cx="2212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8880" y="3364200"/>
            <a:ext cx="36720" cy="1450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4320" y="2844720"/>
            <a:ext cx="55224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28920" y="2014560"/>
            <a:ext cx="663480" cy="31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4876920"/>
            <a:ext cx="75708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Times New Roman"/>
              </a:rPr>
              <a:t>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74000" y="4919760"/>
            <a:ext cx="3315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971960" y="1600200"/>
            <a:ext cx="0" cy="32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71960" y="4815000"/>
            <a:ext cx="28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0400" y="1808280"/>
            <a:ext cx="3315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2430360"/>
            <a:ext cx="5522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76560" y="3156120"/>
            <a:ext cx="995400" cy="41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=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71960" y="2948040"/>
            <a:ext cx="221292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21400" y="3363840"/>
            <a:ext cx="0" cy="145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71960" y="3363840"/>
            <a:ext cx="2212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57880" y="3364200"/>
            <a:ext cx="36720" cy="1450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21400" y="2844720"/>
            <a:ext cx="55260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94440" y="2325600"/>
            <a:ext cx="66348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971960" y="2533680"/>
            <a:ext cx="154944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54100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 of a lump sum tax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5334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 of a specific  or add valorem tax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FIT TA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295280"/>
          <a:ext cx="58676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58676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28600" y="464832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(.(T))=After-tax scrap value of the mine  ;  F(K) Production function, F’&gt;0, F”&l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=corporate tax rate;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=depreciation rate;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=Depletion Allowance;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=capital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=Capital; I=Investment, K=value of underpreciated capital; stock for tax pur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0)=Cost of acquisition of a unit of initial reserv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olu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1143000"/>
          <a:ext cx="563868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563868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CASE II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21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extraction dependent of initial reser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itial reserves endogen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ource homogene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lleable Investment (no irreversi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m is price taker in output and factor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(.)=C(q(t),S(t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978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-Lump Sum Tax:  A greater extraction path and T&lt;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no 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i.-Unit Tax: No Neutral Tax, A greater extrac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ii.-Ad valorem tax: No Neutral Tax, A greater extrac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v.-Profit Tax: Neutr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.-Corporate Tax: No constant valu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which leaves the extraction path undist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ributación Miner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4214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erios sociales para seleccionar un régimen tribut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utr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gnación entre sectores económ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arrollo de proyectos de invers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nología, sendas de extra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tación que maximiza el bienestar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dad horizontal, vertical e intergener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ridad y Es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las no arbitrarias, mínimos costos de transacción, cumpl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ilidad en el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incipios tributarios sustentados por las empres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214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estos dependen de las utilidades gener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ápida recuperación de la inver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nocer la volatilidad de los ingre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licarse sobre los flujos de ca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es, predecibles y transpar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ar distorsio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entiven la explo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esincentiven la inversión de proyectos margi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incipios tributarios sustentados por el gobier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812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as de impuestos qu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reguen  estabilidad macroeconóm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an capturar una participación mayor de ingres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n eficietemente administrados y con bajo costo de recaud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cen el valor presente de los ingresos durante los primeros años de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n ingresos de proyectos de bajo costo y altas utilidades (renta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as que sean neutrales e incentiven la eficiencia económ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ratamientos especiales al sector miner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14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ción de altas rentas implica mayores im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os riesgos de inversión implica incentivos tributario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ra entre inversión y producción, alta inversión irrever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entivos que reducen riesgos, depreciación acelerada o acelerada recuperación de gastos de exploración y desarrol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ipos de impues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978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uestos direc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estos que impactan los costos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ecíficos o royal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yalties ad valor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 las ven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 las exporta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estos que impactan los cost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 las propiedades, pat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o renta de tier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gos administrativos, estampil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455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estos person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l ingreso (a la ren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 la renta del recur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ención de impues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ímenes especi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reciación de capital aceler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reciación del recur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ucción de inter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siones por deducción de pérdidas pasadas o futu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éditos por reinver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íso de impues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n marco de análisis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imes New Roman"/>
              </a:rPr>
              <a:t>Based in Gaudet and Lasserre (1990)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1169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extraction independent of initial res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itial reserves fixed and 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source homogene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leable Investment (no irreversi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rm is price taker in output and factor 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2120" y="1143000"/>
          <a:ext cx="6858000" cy="51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685800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486400" y="1676520"/>
            <a:ext cx="335268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P(t) =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q(t) =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S(t)=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(.)= Cost Function, C’&gt;0, C”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ANdres Ulloa</cp:lastModifiedBy>
  <dcterms:modified xsi:type="dcterms:W3CDTF">2004-10-04T21:40:46Z</dcterms:modified>
  <cp:revision>78</cp:revision>
  <dc:subject/>
  <dc:title>IN 77G "Tópicos Avanzados en Economía Ambiental y de Recursos Naturales"</dc:title>
</cp:coreProperties>
</file>