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BD4-CDA2-4C2D-83C7-1D4538F4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F9B-C3C2-48AC-B142-783A8638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724-9E09-4F6C-9DB5-50F809EA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F03-7EC4-4C71-891C-DDAC0694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4059-C749-4A40-8A28-83796F76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B4EF-9F38-4FE2-8DE4-487FCE54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C494-04CB-4E89-85C8-6948AFF1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82E6-DA67-46B8-9F12-9A58D319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66C4-8211-4973-86A0-EF9C4435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086E-C626-4E5A-9594-0A6F9A3A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7B92-BDBD-4F4A-A838-81564CB9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693-B390-4853-933D-DB4D4A61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10D4-4BC3-4FF2-8B40-4CB3D053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21AE-52E9-4AB3-8675-DAD367D7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2F7D-2496-47A4-B96E-1883FAE9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065F-7FEA-43D4-966E-C7AEB26E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FADE-6958-4BB1-BC9E-8283A174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FA7-D8EE-4A64-A489-A03601B2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A87-4D5A-41A6-B3BB-AD4C9918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989-86E1-4E5C-9B04-EB77065C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EE0-5AB5-4172-8B6C-4BABB581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7C5-DE8F-430C-B65A-9C8F01E7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3CD-3137-4B6D-BA26-FA28EFAA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78F-5E7F-442A-8B4A-D7D61C0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0A4F-86EE-428C-88E5-1E26F12BA6F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02FE-40F5-4E4D-BC04-F48F6EEE7C8D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28600" y="993600"/>
          <a:ext cx="7954920" cy="502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79549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990720" y="15228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Tahoma"/>
              </a:rPr>
              <a:t>Tendencia de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Un modelo de Crecimiento Endógeno con RRNN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biene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produc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2895480"/>
          <a:ext cx="6324840" cy="4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63248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066680" y="4800600"/>
          <a:ext cx="59436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00600"/>
                    <a:ext cx="59436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14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curso na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 stock del recurso crece  a través de la re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timización del agente represent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8120" y="2438280"/>
          <a:ext cx="23619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438280"/>
                    <a:ext cx="23619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362320" y="4419720"/>
          <a:ext cx="361944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419720"/>
                    <a:ext cx="361944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 maximización de la ecuación anterior  está sujeta a las siguientes restriccio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2514600"/>
          <a:ext cx="891540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891540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       </a:t>
            </a: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olución del modelo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533520" y="1523880"/>
          <a:ext cx="10744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1523880"/>
                    <a:ext cx="10744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2057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solución de H(t) viene dada por las siguientes condiciones de primer o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14400" y="2666880"/>
          <a:ext cx="6934320" cy="371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666880"/>
                    <a:ext cx="69343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500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oniendo que las condiciones ii y iii se satisfacen con igualdad podemos analizar que papel juega cada uno de los factores productivos en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iendo para cada una de las ecuaciones en  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i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tenemos las siguientes ecuaciones de crecimiento del consum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38080" y="1447920"/>
          <a:ext cx="480060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480060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nde                      y corresponde al supuesto usual de aversión al riesgo constante. En tan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as ecuaciones i y ii son las típicas ecuaciones de Solow-Swan y que dicen que para que exista un crecimiento del consumo debe ser cierto que la rentabilidad del capital físico y humano deben ser mayor a la tasa de descuento más la tasa de depreciación del capita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362320" y="1905120"/>
          <a:ext cx="175248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05120"/>
                    <a:ext cx="17524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838080" y="2895480"/>
          <a:ext cx="1371600" cy="8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95480"/>
                    <a:ext cx="13716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Figura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743560" y="-1524240"/>
            <a:ext cx="7035480" cy="8047440"/>
            <a:chOff x="2743560" y="-1524240"/>
            <a:chExt cx="7035480" cy="8047440"/>
          </a:xfrm>
        </p:grpSpPr>
        <p:sp>
          <p:nvSpPr>
            <p:cNvPr id="183" name=""/>
            <p:cNvSpPr/>
            <p:nvPr/>
          </p:nvSpPr>
          <p:spPr>
            <a:xfrm flipV="1">
              <a:off x="4572000" y="579240"/>
              <a:ext cx="0" cy="24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3048480"/>
              <a:ext cx="33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4658400" y="-1524240"/>
              <a:ext cx="5120640" cy="42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20" y="11"/>
                  </a:moveTo>
                  <a:arcTo wR="10800" hR="10800" stAng="-5552852" swAng="5329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20" y="11"/>
                  </a:moveTo>
                  <a:arcTo wR="10800" hR="10800" stAng="-5552852" swAng="532987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743560" y="-1067400"/>
              <a:ext cx="3656880" cy="365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9" y="0"/>
                  </a:moveTo>
                  <a:arcTo wR="10800" hR="10800" stAng="-5400180" swAng="540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9" y="0"/>
                  </a:moveTo>
                  <a:arcTo wR="10800" hR="10800" stAng="-5400180" swAng="540018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2042280"/>
              <a:ext cx="32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6240" y="1676520"/>
              <a:ext cx="2743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53080" y="579240"/>
              <a:ext cx="550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83680" y="670680"/>
              <a:ext cx="5486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6240" y="487800"/>
              <a:ext cx="2743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1320" y="313992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k/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4960" y="2042280"/>
              <a:ext cx="0" cy="3291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69280" y="2316600"/>
              <a:ext cx="0" cy="3017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937760" y="3139920"/>
              <a:ext cx="1005840" cy="365760"/>
              <a:chOff x="4937760" y="3139920"/>
              <a:chExt cx="1005840" cy="365760"/>
            </a:xfrm>
          </p:grpSpPr>
          <p:sp>
            <p:nvSpPr>
              <p:cNvPr id="196" name=""/>
              <p:cNvSpPr/>
              <p:nvPr/>
            </p:nvSpPr>
            <p:spPr>
              <a:xfrm>
                <a:off x="4937760" y="3139920"/>
                <a:ext cx="54864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12080" y="31399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86400" y="31399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303520" y="18594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69280" y="18594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204228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40480" y="-1437480"/>
              <a:ext cx="1645560" cy="384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69" y="21"/>
                  </a:moveTo>
                  <a:arcTo wR="10800" hR="10800" stAng="-5187046" swAng="51870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69" y="21"/>
                  </a:moveTo>
                  <a:arcTo wR="10800" hR="10800" stAng="-5187046" swAng="518704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77840" y="48780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+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29200" y="1676520"/>
              <a:ext cx="365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06240" y="23166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7760" y="23166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3600" y="23166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10280" y="1859400"/>
              <a:ext cx="1800" cy="347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572000" y="3414240"/>
              <a:ext cx="0" cy="19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5334480"/>
              <a:ext cx="347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937760" y="5425920"/>
              <a:ext cx="1005840" cy="365760"/>
              <a:chOff x="4937760" y="5425920"/>
              <a:chExt cx="1005840" cy="365760"/>
            </a:xfrm>
          </p:grpSpPr>
          <p:sp>
            <p:nvSpPr>
              <p:cNvPr id="212" name=""/>
              <p:cNvSpPr/>
              <p:nvPr/>
            </p:nvSpPr>
            <p:spPr>
              <a:xfrm>
                <a:off x="4937760" y="5425920"/>
                <a:ext cx="54864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12080" y="54259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86400" y="54259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7681320" y="542592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k/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14800" y="3414240"/>
              <a:ext cx="4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4785840"/>
              <a:ext cx="4766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54880" y="4237200"/>
              <a:ext cx="2103120" cy="1280160"/>
            </a:xfrm>
            <a:custGeom>
              <a:avLst/>
              <a:gdLst/>
              <a:ahLst/>
              <a:rect l="l" t="t" r="r" b="b"/>
              <a:pathLst>
                <a:path w="2688" h="3288">
                  <a:moveTo>
                    <a:pt x="0" y="0"/>
                  </a:moveTo>
                  <a:cubicBezTo>
                    <a:pt x="192" y="744"/>
                    <a:pt x="384" y="1488"/>
                    <a:pt x="576" y="2016"/>
                  </a:cubicBezTo>
                  <a:cubicBezTo>
                    <a:pt x="768" y="2544"/>
                    <a:pt x="840" y="3288"/>
                    <a:pt x="1152" y="3168"/>
                  </a:cubicBezTo>
                  <a:cubicBezTo>
                    <a:pt x="1464" y="3048"/>
                    <a:pt x="2208" y="1656"/>
                    <a:pt x="2448" y="1296"/>
                  </a:cubicBezTo>
                  <a:cubicBezTo>
                    <a:pt x="2688" y="936"/>
                    <a:pt x="2568" y="1056"/>
                    <a:pt x="2592" y="10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5060160"/>
              <a:ext cx="640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20640" y="4877280"/>
              <a:ext cx="365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80560" y="6066000"/>
              <a:ext cx="3475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ura 1. Senda de crecimiento sin efecto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2133720"/>
            <a:ext cx="3581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igura 2. Senda de crecimiento con capital fís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pital humano y capital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972160" y="-1950480"/>
            <a:ext cx="7029720" cy="8332200"/>
            <a:chOff x="2972160" y="-1950480"/>
            <a:chExt cx="7029720" cy="8332200"/>
          </a:xfrm>
        </p:grpSpPr>
        <p:sp>
          <p:nvSpPr>
            <p:cNvPr id="224" name=""/>
            <p:cNvSpPr/>
            <p:nvPr/>
          </p:nvSpPr>
          <p:spPr>
            <a:xfrm>
              <a:off x="4602600" y="5788080"/>
              <a:ext cx="34747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ura 2. Senda de crecimiento con capital físico y capital humano y capital nat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2972160" y="-1950480"/>
              <a:ext cx="7029720" cy="7422120"/>
              <a:chOff x="2972160" y="-1950480"/>
              <a:chExt cx="7029720" cy="742212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4831200" y="351000"/>
                <a:ext cx="0" cy="246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00600" y="2789280"/>
                <a:ext cx="338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4939560" y="-1950480"/>
                <a:ext cx="5061960" cy="432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20" y="11"/>
                    </a:moveTo>
                    <a:arcTo wR="10800" hR="10800" stAng="-5552852" swAng="5329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20" y="11"/>
                    </a:moveTo>
                    <a:arcTo wR="10800" hR="10800" stAng="-5552852" swAng="532987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2972160" y="-1326240"/>
                <a:ext cx="3656880" cy="365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9" y="0"/>
                    </a:moveTo>
                    <a:arcTo wR="10800" hR="10800" stAng="-5400180" swAng="54001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arcTo wR="10800" hR="10800" stAng="-5400180" swAng="540018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600" y="1783440"/>
                <a:ext cx="2773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74000" y="1631160"/>
                <a:ext cx="274320" cy="39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81680" y="320400"/>
                <a:ext cx="5504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57240" y="0"/>
                <a:ext cx="5486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34840" y="228960"/>
                <a:ext cx="27432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09920" y="2880720"/>
                <a:ext cx="8229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k/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17160" y="1828800"/>
                <a:ext cx="0" cy="3291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97880" y="2057760"/>
                <a:ext cx="0" cy="30175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71280" y="281988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x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96960" y="281988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x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14080" y="89964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97880" y="160056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562720" y="1631160"/>
                <a:ext cx="365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288400" y="1242720"/>
                <a:ext cx="3657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66360" y="205776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172560" y="2057760"/>
                <a:ext cx="3960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42840" y="1463040"/>
                <a:ext cx="0" cy="3657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800600" y="3155040"/>
                <a:ext cx="0" cy="19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31200" y="5102280"/>
                <a:ext cx="347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09920" y="5166720"/>
                <a:ext cx="8229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k/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43400" y="3155040"/>
                <a:ext cx="42408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82560" y="4008600"/>
                <a:ext cx="4766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85280" y="3931920"/>
                <a:ext cx="2103120" cy="1280160"/>
              </a:xfrm>
              <a:custGeom>
                <a:avLst/>
                <a:gdLst/>
                <a:ahLst/>
                <a:rect l="l" t="t" r="r" b="b"/>
                <a:pathLst>
                  <a:path w="2688" h="3288">
                    <a:moveTo>
                      <a:pt x="0" y="0"/>
                    </a:moveTo>
                    <a:cubicBezTo>
                      <a:pt x="192" y="744"/>
                      <a:pt x="384" y="1488"/>
                      <a:pt x="576" y="2016"/>
                    </a:cubicBezTo>
                    <a:cubicBezTo>
                      <a:pt x="768" y="2544"/>
                      <a:pt x="840" y="3288"/>
                      <a:pt x="1152" y="3168"/>
                    </a:cubicBezTo>
                    <a:cubicBezTo>
                      <a:pt x="1464" y="3048"/>
                      <a:pt x="2208" y="1656"/>
                      <a:pt x="2448" y="1296"/>
                    </a:cubicBezTo>
                    <a:cubicBezTo>
                      <a:pt x="2688" y="936"/>
                      <a:pt x="2568" y="1056"/>
                      <a:pt x="2592" y="10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02400" y="4663440"/>
                <a:ext cx="640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51400" y="448056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893840" y="365400"/>
                <a:ext cx="2171520" cy="148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05520" y="1082520"/>
                <a:ext cx="0" cy="402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14080" y="400860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29040" y="4191480"/>
                <a:ext cx="274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88600" y="556920"/>
                <a:ext cx="0" cy="18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25720" y="4937760"/>
                <a:ext cx="36576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91120" y="4648680"/>
                <a:ext cx="5720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71280" y="51973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s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96960" y="51973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s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88760" y="182880"/>
                <a:ext cx="123372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74280" y="42145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88400" y="45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7" name=""/>
          <p:cNvGraphicFramePr/>
          <p:nvPr/>
        </p:nvGraphicFramePr>
        <p:xfrm>
          <a:off x="7086600" y="228600"/>
          <a:ext cx="104148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28600"/>
                    <a:ext cx="104148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scasez de recurs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97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oferta es fini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emanda es un flujo por unidad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un t &lt;infinito en el que se debería agotar el re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scasez: medidas fís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ervas. Son las cantidades de mineral encontrados en la superficie que son conocidos y rentables de explotar con la tecnología y precios existentes.  Estos resultados muestran que muchos de nuestros minerales se estarían agotando dentro de un siglo o aún men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reservas no son estáticas, van creciendo a medida que aumenta la exploración y depósitos conocidos pero antieconómicos se vuelven rentables. (una vez que la industria tiene reservas de 20 o 30 años no tiene incentivos para invertir en el presen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demás hay que agregar la producción secundaria que proviene del recicl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cKelvey diagr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229600" cy="538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uadro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334120"/>
            <a:ext cx="70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% de crecimiento en la producción primaria indica un stock fijo de reser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edidas físicas:La base del recur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45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base del recurso incluye la cantidad total de minerales que existe en la superficie de la tierra (no incluye los ocean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casez es solo física, económicamente puede ser rentable comenzar a explotar yacimientos descartados o sustituir insumos por otros más abundantes y bar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28880" y="2052720"/>
            <a:ext cx="7086600" cy="29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edidas económic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3200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margi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cios de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72000" y="152352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029200"/>
            <a:ext cx="419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816200"/>
            <a:ext cx="4038480" cy="2768400"/>
          </a:xfrm>
          <a:custGeom>
            <a:avLst/>
            <a:gdLst/>
            <a:ahLst/>
            <a:rect l="l" t="t" r="r" b="b"/>
            <a:pathLst>
              <a:path w="2544" h="1744">
                <a:moveTo>
                  <a:pt x="0" y="1736"/>
                </a:moveTo>
                <a:cubicBezTo>
                  <a:pt x="92" y="1740"/>
                  <a:pt x="184" y="1744"/>
                  <a:pt x="240" y="1736"/>
                </a:cubicBezTo>
                <a:cubicBezTo>
                  <a:pt x="296" y="1728"/>
                  <a:pt x="280" y="1704"/>
                  <a:pt x="336" y="1688"/>
                </a:cubicBezTo>
                <a:cubicBezTo>
                  <a:pt x="392" y="1672"/>
                  <a:pt x="504" y="1656"/>
                  <a:pt x="576" y="1640"/>
                </a:cubicBezTo>
                <a:cubicBezTo>
                  <a:pt x="648" y="1624"/>
                  <a:pt x="720" y="1616"/>
                  <a:pt x="768" y="1592"/>
                </a:cubicBezTo>
                <a:cubicBezTo>
                  <a:pt x="816" y="1568"/>
                  <a:pt x="824" y="1520"/>
                  <a:pt x="864" y="1496"/>
                </a:cubicBezTo>
                <a:cubicBezTo>
                  <a:pt x="904" y="1472"/>
                  <a:pt x="952" y="1472"/>
                  <a:pt x="1008" y="1448"/>
                </a:cubicBezTo>
                <a:cubicBezTo>
                  <a:pt x="1064" y="1424"/>
                  <a:pt x="1168" y="1384"/>
                  <a:pt x="1200" y="1352"/>
                </a:cubicBezTo>
                <a:cubicBezTo>
                  <a:pt x="1232" y="1320"/>
                  <a:pt x="1160" y="1296"/>
                  <a:pt x="1200" y="1256"/>
                </a:cubicBezTo>
                <a:cubicBezTo>
                  <a:pt x="1240" y="1216"/>
                  <a:pt x="1392" y="1160"/>
                  <a:pt x="1440" y="1112"/>
                </a:cubicBezTo>
                <a:cubicBezTo>
                  <a:pt x="1488" y="1064"/>
                  <a:pt x="1448" y="1000"/>
                  <a:pt x="1488" y="968"/>
                </a:cubicBezTo>
                <a:cubicBezTo>
                  <a:pt x="1528" y="936"/>
                  <a:pt x="1632" y="960"/>
                  <a:pt x="1680" y="920"/>
                </a:cubicBezTo>
                <a:cubicBezTo>
                  <a:pt x="1728" y="880"/>
                  <a:pt x="1720" y="768"/>
                  <a:pt x="1776" y="728"/>
                </a:cubicBezTo>
                <a:cubicBezTo>
                  <a:pt x="1832" y="688"/>
                  <a:pt x="1960" y="736"/>
                  <a:pt x="2016" y="680"/>
                </a:cubicBezTo>
                <a:cubicBezTo>
                  <a:pt x="2072" y="624"/>
                  <a:pt x="2072" y="448"/>
                  <a:pt x="2112" y="392"/>
                </a:cubicBezTo>
                <a:cubicBezTo>
                  <a:pt x="2152" y="336"/>
                  <a:pt x="2208" y="400"/>
                  <a:pt x="2256" y="344"/>
                </a:cubicBezTo>
                <a:cubicBezTo>
                  <a:pt x="2304" y="288"/>
                  <a:pt x="2352" y="112"/>
                  <a:pt x="2400" y="56"/>
                </a:cubicBezTo>
                <a:cubicBezTo>
                  <a:pt x="2448" y="0"/>
                  <a:pt x="2520" y="16"/>
                  <a:pt x="2544" y="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9810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981080"/>
            <a:ext cx="37339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1752480"/>
            <a:ext cx="6858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C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362320"/>
            <a:ext cx="34290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895480"/>
            <a:ext cx="3124080" cy="60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505320"/>
            <a:ext cx="236232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962520"/>
            <a:ext cx="190512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67080"/>
            <a:ext cx="1295280" cy="152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419720"/>
            <a:ext cx="838080" cy="75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495680"/>
            <a:ext cx="457200" cy="152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981080"/>
            <a:ext cx="297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1828800"/>
            <a:ext cx="365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Costo de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66688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Tahoma"/>
              </a:rPr>
              <a:t>Renta Ricard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5920" y="23623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81560" y="5029200"/>
            <a:ext cx="3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4952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omportamiento del precio del cob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322280"/>
          <a:ext cx="89550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22280"/>
                    <a:ext cx="89550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ión del precio real del cobre contra una variable tendencia y tendencia cuadratica, sin corrección por autocorrelación usando 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ultados que replican a Slade (1982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ión por autocorrelación AR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419360" cy="2603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373392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04920" y="984240"/>
            <a:ext cx="7589520" cy="5041800"/>
            <a:chOff x="304920" y="984240"/>
            <a:chExt cx="7589520" cy="504180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304920" y="984240"/>
              <a:ext cx="3608280" cy="23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29120" y="3501720"/>
              <a:ext cx="3359520" cy="25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4161960" y="984240"/>
              <a:ext cx="3732480" cy="230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4114800" y="3505320"/>
            <a:ext cx="464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ión del precio real del cobre contra una tendencia lineal y cuadrática. A la izquierda arriba se incorporan una tendencia cubica y a la cuarta. Arriba a la derecha, el modelo se estima para el período 1850-1929. A la izquierda, el modelo se estima para el período 1930-199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4-10-18T22:13:26Z</dcterms:modified>
  <cp:revision>103</cp:revision>
  <dc:subject/>
  <dc:title>IN 77G "Tópicos Avanzados en Economía Ambiental y de Recursos Naturales"</dc:title>
</cp:coreProperties>
</file>