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B4F-E059-43E0-B862-F3EB8CA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44B-15AF-4C3D-BEEE-D81B969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086-B936-445F-A954-A8CBECF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862-8141-4E37-913B-DB6CE749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8AA-BAFC-4B28-AE3F-610B5B88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B6F-3A25-4E09-BA5A-E63249A4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311D-A629-481C-B119-271AA6D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E61-B47E-4BC9-B0F3-732FFA89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939A-FA9F-4CAE-AD28-3135C8B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173-C83C-45D1-A2E9-3798003E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ED94-1485-4AF6-9AF3-D8DEA8C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D55-50E1-406E-9D04-4A701F8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E3D2-AA97-4426-8E11-AABF8E2F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D59-ECF9-4A1A-A58E-69CF5FF5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9D0-A9E3-4086-98D2-501C848D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C62-715D-4FCF-BD19-FEED6A5F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589A-C300-4A4B-B8D4-D70F7FE7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BED-01C7-431D-923D-DDA8D662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242-DAB7-4EF8-BB31-A2036B7E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159-7591-4B87-8B4B-220A5D4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873-EB9A-4696-8198-C1FF756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E85-4B1E-4E46-9E8A-3DD9A89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F3B-CF8B-4A94-8AF6-B2060DC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D99-A368-4024-821C-2C4A618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A52F-5E96-4AAB-9BD9-176F7ABDE38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A26-E80D-46CA-862A-2E6A1ECA1DE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93600"/>
          <a:ext cx="795492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79549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90720" y="1522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Tahoma"/>
              </a:rPr>
              <a:t>Tendencia de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Crecimiento Endógeno con RRNN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biene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produc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895480"/>
          <a:ext cx="632484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6324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4800600"/>
          <a:ext cx="59436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00600"/>
                    <a:ext cx="59436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curso na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 stock del recurso crece  a través de la re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timización del agente represent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8120" y="2438280"/>
          <a:ext cx="23619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2361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4419720"/>
          <a:ext cx="361944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3619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ximización de la ecuación anterior  está sujeta a las siguientes restricc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14600"/>
          <a:ext cx="891540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8915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lución del model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533520" y="1523880"/>
          <a:ext cx="1074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523880"/>
                    <a:ext cx="10744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lución de H(t) viene dada por las siguientes condiciones de primer o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666880"/>
          <a:ext cx="6934320" cy="371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69343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oniendo que las condiciones ii y iii se satisfacen con igualdad podemos analizar que papel juega cada uno de los factores productivos en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iendo para cada una de las ecuaciones en  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tenemos las siguientes ecuaciones de crecimiento del consu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447920"/>
          <a:ext cx="48006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48006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nde                      y corresponde al supuesto usual de aversión al riesgo constante. En ta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s ecuaciones i y ii son las típicas ecuaciones de Solow-Swan y que dicen que para que exista un crecimiento del consumo debe ser cierto que la rentabilidad del capital físico y humano deben ser mayor a la tasa de descuento más la tasa de depreciación del capit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362320" y="1905120"/>
          <a:ext cx="17524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2895480"/>
          <a:ext cx="137160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95480"/>
                    <a:ext cx="13716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Figura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560" y="-1524240"/>
            <a:ext cx="7035480" cy="8047440"/>
            <a:chOff x="2743560" y="-1524240"/>
            <a:chExt cx="7035480" cy="8047440"/>
          </a:xfrm>
        </p:grpSpPr>
        <p:sp>
          <p:nvSpPr>
            <p:cNvPr id="183" name=""/>
            <p:cNvSpPr/>
            <p:nvPr/>
          </p:nvSpPr>
          <p:spPr>
            <a:xfrm flipV="1">
              <a:off x="4572000" y="579240"/>
              <a:ext cx="0" cy="24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48480"/>
              <a:ext cx="33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658400" y="-1524240"/>
              <a:ext cx="5120640" cy="42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0" y="11"/>
                  </a:moveTo>
                  <a:arcTo wR="10800" hR="10800" stAng="-5552852" swAng="5329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0" y="11"/>
                  </a:moveTo>
                  <a:arcTo wR="10800" hR="10800" stAng="-5552852" swAng="53298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43560" y="-1067400"/>
              <a:ext cx="365688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8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80" swAng="5400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042280"/>
              <a:ext cx="32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240" y="167652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3080" y="579240"/>
              <a:ext cx="550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83680" y="670680"/>
              <a:ext cx="548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6240" y="48780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1320" y="3139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4960" y="2042280"/>
              <a:ext cx="0" cy="3291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9280" y="2316600"/>
              <a:ext cx="0" cy="3017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937760" y="3139920"/>
              <a:ext cx="1005840" cy="365760"/>
              <a:chOff x="4937760" y="3139920"/>
              <a:chExt cx="1005840" cy="365760"/>
            </a:xfrm>
          </p:grpSpPr>
          <p:sp>
            <p:nvSpPr>
              <p:cNvPr id="196" name=""/>
              <p:cNvSpPr/>
              <p:nvPr/>
            </p:nvSpPr>
            <p:spPr>
              <a:xfrm>
                <a:off x="4937760" y="3139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12080" y="3139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139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0352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928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204228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40480" y="-1437480"/>
              <a:ext cx="1645560" cy="38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69" y="21"/>
                  </a:moveTo>
                  <a:arcTo wR="10800" hR="10800" stAng="-5187046" swAng="5187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69" y="21"/>
                  </a:moveTo>
                  <a:arcTo wR="10800" hR="10800" stAng="-5187046" swAng="518704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77840" y="48780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+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167652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624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776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2316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1859400"/>
              <a:ext cx="1800" cy="347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3414240"/>
              <a:ext cx="0" cy="19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533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937760" y="5425920"/>
              <a:ext cx="1005840" cy="365760"/>
              <a:chOff x="4937760" y="5425920"/>
              <a:chExt cx="1005840" cy="36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4937760" y="5425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2080" y="5425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25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681320" y="5425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3414240"/>
              <a:ext cx="4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785840"/>
              <a:ext cx="4766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4880" y="4237200"/>
              <a:ext cx="2103120" cy="1280160"/>
            </a:xfrm>
            <a:custGeom>
              <a:avLst/>
              <a:gdLst/>
              <a:ahLst/>
              <a:rect l="l" t="t" r="r" b="b"/>
              <a:pathLst>
                <a:path w="2688" h="3288">
                  <a:moveTo>
                    <a:pt x="0" y="0"/>
                  </a:moveTo>
                  <a:cubicBezTo>
                    <a:pt x="192" y="744"/>
                    <a:pt x="384" y="1488"/>
                    <a:pt x="576" y="2016"/>
                  </a:cubicBezTo>
                  <a:cubicBezTo>
                    <a:pt x="768" y="2544"/>
                    <a:pt x="840" y="3288"/>
                    <a:pt x="1152" y="3168"/>
                  </a:cubicBezTo>
                  <a:cubicBezTo>
                    <a:pt x="1464" y="3048"/>
                    <a:pt x="2208" y="1656"/>
                    <a:pt x="2448" y="1296"/>
                  </a:cubicBezTo>
                  <a:cubicBezTo>
                    <a:pt x="2688" y="936"/>
                    <a:pt x="2568" y="1056"/>
                    <a:pt x="2592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5060160"/>
              <a:ext cx="6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0640" y="487728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0560" y="6066000"/>
              <a:ext cx="347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1. Senda de crecimiento sin efecto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133720"/>
            <a:ext cx="3581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gura 2. Senda de crecimiento con capital fís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ital humano y capital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72160" y="-1950480"/>
            <a:ext cx="7029720" cy="8332200"/>
            <a:chOff x="2972160" y="-1950480"/>
            <a:chExt cx="7029720" cy="8332200"/>
          </a:xfrm>
        </p:grpSpPr>
        <p:sp>
          <p:nvSpPr>
            <p:cNvPr id="224" name=""/>
            <p:cNvSpPr/>
            <p:nvPr/>
          </p:nvSpPr>
          <p:spPr>
            <a:xfrm>
              <a:off x="4602600" y="5788080"/>
              <a:ext cx="3474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2. Senda de crecimiento con capital físico y capital humano y capital na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972160" y="-1950480"/>
              <a:ext cx="7029720" cy="7422120"/>
              <a:chOff x="2972160" y="-1950480"/>
              <a:chExt cx="7029720" cy="742212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4831200" y="351000"/>
                <a:ext cx="0" cy="246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00600" y="2789280"/>
                <a:ext cx="338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939560" y="-1950480"/>
                <a:ext cx="5061960" cy="432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852" swAng="5329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852" swAng="53298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72160" y="-1326240"/>
                <a:ext cx="3656880" cy="36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80" swAng="5400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80" swAng="540018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1783440"/>
                <a:ext cx="2773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74000" y="1631160"/>
                <a:ext cx="274320" cy="3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1680" y="320400"/>
                <a:ext cx="550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57240" y="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34840" y="228960"/>
                <a:ext cx="2743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9920" y="2880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7160" y="1828800"/>
                <a:ext cx="0" cy="3291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97880" y="2057760"/>
                <a:ext cx="0" cy="3017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1280" y="281988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96960" y="281988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4080" y="89964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97880" y="16005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1631160"/>
                <a:ext cx="36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88400" y="1242720"/>
                <a:ext cx="3657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6360" y="20577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72560" y="2057760"/>
                <a:ext cx="396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42840" y="1463040"/>
                <a:ext cx="0" cy="3657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00600" y="3155040"/>
                <a:ext cx="0" cy="19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1200" y="5102280"/>
                <a:ext cx="347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5166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3155040"/>
                <a:ext cx="4240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560" y="4008600"/>
                <a:ext cx="4766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85280" y="3931920"/>
                <a:ext cx="2103120" cy="1280160"/>
              </a:xfrm>
              <a:custGeom>
                <a:avLst/>
                <a:gdLst/>
                <a:ahLst/>
                <a:rect l="l" t="t" r="r" b="b"/>
                <a:pathLst>
                  <a:path w="2688" h="3288">
                    <a:moveTo>
                      <a:pt x="0" y="0"/>
                    </a:moveTo>
                    <a:cubicBezTo>
                      <a:pt x="192" y="744"/>
                      <a:pt x="384" y="1488"/>
                      <a:pt x="576" y="2016"/>
                    </a:cubicBezTo>
                    <a:cubicBezTo>
                      <a:pt x="768" y="2544"/>
                      <a:pt x="840" y="3288"/>
                      <a:pt x="1152" y="3168"/>
                    </a:cubicBezTo>
                    <a:cubicBezTo>
                      <a:pt x="1464" y="3048"/>
                      <a:pt x="2208" y="1656"/>
                      <a:pt x="2448" y="1296"/>
                    </a:cubicBezTo>
                    <a:cubicBezTo>
                      <a:pt x="2688" y="936"/>
                      <a:pt x="2568" y="1056"/>
                      <a:pt x="2592" y="10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2400" y="4663440"/>
                <a:ext cx="640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1400" y="448056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93840" y="365400"/>
                <a:ext cx="217152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1082520"/>
                <a:ext cx="0" cy="402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14080" y="40086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9040" y="4191480"/>
                <a:ext cx="274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8600" y="556920"/>
                <a:ext cx="0" cy="18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25720" y="4937760"/>
                <a:ext cx="3657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4648680"/>
                <a:ext cx="5720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1280" y="51973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6960" y="51973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182880"/>
                <a:ext cx="123372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4280" y="42145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88400" y="45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7" name=""/>
          <p:cNvGraphicFramePr/>
          <p:nvPr/>
        </p:nvGraphicFramePr>
        <p:xfrm>
          <a:off x="7086600" y="228600"/>
          <a:ext cx="104148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"/>
                    <a:ext cx="10414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scasez de recurs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oferta es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manda es un flujo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un t &lt;infinito en el que se debería agotar el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scasez: medidas fí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ervas. Son las cantidades de mineral encontrados en la superficie que son conocidos y rentables de explotar con la tecnología y precios existentes.  Estos resultados muestran que muchos de nuestros minerales se estarían agotando dentro de un siglo o aún men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reservas no son estáticas, van creciendo a medida que aumenta la exploración y depósitos conocidos pero antieconómicos se vuelven rentables. (una vez que la industria tiene reservas de 20 o 30 años no tiene incentivos para invertir en el pres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hay que agregar la producción secundaria que proviene del recicl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cKelvey dia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uadr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% de crecimiento en la producción primaria indica un stock fijo de reser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físicas:La base del recur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45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base del recurso incluye la cantidad total de minerales que existe en la superficie de la tierra (no incluye los ocean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casez es solo física, económicamente puede ser rentable comenzar a explotar yacimientos descartados o sustituir insumos por otros más abundantes y bar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28880" y="2052720"/>
            <a:ext cx="70866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económic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200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marg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2352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029200"/>
            <a:ext cx="419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16200"/>
            <a:ext cx="4038480" cy="2768400"/>
          </a:xfrm>
          <a:custGeom>
            <a:avLst/>
            <a:gdLst/>
            <a:ahLst/>
            <a:rect l="l" t="t" r="r" b="b"/>
            <a:pathLst>
              <a:path w="2544" h="1744">
                <a:moveTo>
                  <a:pt x="0" y="1736"/>
                </a:moveTo>
                <a:cubicBezTo>
                  <a:pt x="92" y="1740"/>
                  <a:pt x="184" y="1744"/>
                  <a:pt x="240" y="1736"/>
                </a:cubicBezTo>
                <a:cubicBezTo>
                  <a:pt x="296" y="1728"/>
                  <a:pt x="280" y="1704"/>
                  <a:pt x="336" y="1688"/>
                </a:cubicBezTo>
                <a:cubicBezTo>
                  <a:pt x="392" y="1672"/>
                  <a:pt x="504" y="1656"/>
                  <a:pt x="576" y="1640"/>
                </a:cubicBezTo>
                <a:cubicBezTo>
                  <a:pt x="648" y="1624"/>
                  <a:pt x="720" y="1616"/>
                  <a:pt x="768" y="1592"/>
                </a:cubicBezTo>
                <a:cubicBezTo>
                  <a:pt x="816" y="1568"/>
                  <a:pt x="824" y="1520"/>
                  <a:pt x="864" y="1496"/>
                </a:cubicBezTo>
                <a:cubicBezTo>
                  <a:pt x="904" y="1472"/>
                  <a:pt x="952" y="1472"/>
                  <a:pt x="1008" y="1448"/>
                </a:cubicBezTo>
                <a:cubicBezTo>
                  <a:pt x="1064" y="1424"/>
                  <a:pt x="1168" y="1384"/>
                  <a:pt x="1200" y="1352"/>
                </a:cubicBezTo>
                <a:cubicBezTo>
                  <a:pt x="1232" y="1320"/>
                  <a:pt x="1160" y="1296"/>
                  <a:pt x="1200" y="1256"/>
                </a:cubicBezTo>
                <a:cubicBezTo>
                  <a:pt x="1240" y="1216"/>
                  <a:pt x="1392" y="1160"/>
                  <a:pt x="1440" y="1112"/>
                </a:cubicBezTo>
                <a:cubicBezTo>
                  <a:pt x="1488" y="1064"/>
                  <a:pt x="1448" y="1000"/>
                  <a:pt x="1488" y="968"/>
                </a:cubicBezTo>
                <a:cubicBezTo>
                  <a:pt x="1528" y="936"/>
                  <a:pt x="1632" y="960"/>
                  <a:pt x="1680" y="920"/>
                </a:cubicBezTo>
                <a:cubicBezTo>
                  <a:pt x="1728" y="880"/>
                  <a:pt x="1720" y="768"/>
                  <a:pt x="1776" y="728"/>
                </a:cubicBezTo>
                <a:cubicBezTo>
                  <a:pt x="1832" y="688"/>
                  <a:pt x="1960" y="736"/>
                  <a:pt x="2016" y="680"/>
                </a:cubicBezTo>
                <a:cubicBezTo>
                  <a:pt x="2072" y="624"/>
                  <a:pt x="2072" y="448"/>
                  <a:pt x="2112" y="392"/>
                </a:cubicBezTo>
                <a:cubicBezTo>
                  <a:pt x="2152" y="336"/>
                  <a:pt x="2208" y="400"/>
                  <a:pt x="2256" y="344"/>
                </a:cubicBezTo>
                <a:cubicBezTo>
                  <a:pt x="2304" y="288"/>
                  <a:pt x="2352" y="112"/>
                  <a:pt x="2400" y="56"/>
                </a:cubicBezTo>
                <a:cubicBezTo>
                  <a:pt x="2448" y="0"/>
                  <a:pt x="2520" y="16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81080"/>
            <a:ext cx="37339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685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362320"/>
            <a:ext cx="34290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3124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3623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962520"/>
            <a:ext cx="19051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67080"/>
            <a:ext cx="129528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419720"/>
            <a:ext cx="838080" cy="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495680"/>
            <a:ext cx="45720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828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Costo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6668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Tahoma"/>
              </a:rPr>
              <a:t>Renta Ricar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50292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mportamiento del precio del cob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322280"/>
          <a:ext cx="89550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89550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ión del precio real del cobre contra una variable tendencia y tendencia cuadratica, sin corrección por autocorrelación usando 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que replican a Slade (1982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ión por autocorrelación AR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419360" cy="260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73392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04920" y="984240"/>
            <a:ext cx="7589520" cy="5041800"/>
            <a:chOff x="304920" y="984240"/>
            <a:chExt cx="7589520" cy="5041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984240"/>
              <a:ext cx="360828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29120" y="3501720"/>
              <a:ext cx="33595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61960" y="984240"/>
              <a:ext cx="3732480" cy="23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114800" y="350532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ión del precio real del cobre contra una tendencia lineal y cuadrática. A la izquierda arriba se incorporan una tendencia cubica y a la cuarta. Arriba a la derecha, el modelo se estima para el período 1850-1929. A la izquierda, el modelo se estima para el período 1930-19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18T22:13:26Z</dcterms:modified>
  <cp:revision>103</cp:revision>
  <dc:subject/>
  <dc:title>IN 77G "Tópicos Avanzados en Economía Ambiental y de Recursos Naturales"</dc:title>
</cp:coreProperties>
</file>