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84BC-602C-4FED-B3BC-C68E72D59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8CF7-33E9-4730-8F21-CFBC250B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51FB-F823-4AFE-AF63-B0D12D232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4D80-6422-4376-A93A-168E3619A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4226-35A1-4F6A-A67F-4174272F0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486D-99F2-4D9A-AC1C-1A598847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D493-6810-4205-8DAD-2A50333A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DBC0-3314-4810-BD53-D32D242A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579A-DE2C-4A84-9F11-5F5FEEE9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42640" y="0"/>
            <a:ext cx="779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B719-DA9E-49BF-B990-DDFEDBEB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6F3E-03BE-452D-9BB8-EE903DDB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1DBF-7D1C-4480-BDE0-D4CDB4D7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F13E-1721-45A4-A985-EAC27DB9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9859-0230-470B-B43E-BCD378F3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8509-B82F-4CF0-80CD-75366BC5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6D24-61EB-4223-A622-B8FE312F5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FA3D-EC8C-4214-B6EA-69F8B8B10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1557-3E37-4D9B-A91D-312E7C7B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B50B-BF87-4A55-9C6D-6182263A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20AD-FB03-4859-8AB3-DE631273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42640" y="0"/>
            <a:ext cx="779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B24C-4E70-4A39-9E56-8787A1A7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EDDD-6A7D-4CF2-9E5E-2DF96D5D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E6EF-FA87-4598-A64C-83872085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5E2F-67C5-48A7-A06C-B3432200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57200"/>
            <a:ext cx="1152360" cy="1052280"/>
            <a:chOff x="0" y="457200"/>
            <a:chExt cx="1152360" cy="1052280"/>
          </a:xfrm>
        </p:grpSpPr>
        <p:sp>
          <p:nvSpPr>
            <p:cNvPr id="1" name=""/>
            <p:cNvSpPr/>
            <p:nvPr/>
          </p:nvSpPr>
          <p:spPr>
            <a:xfrm>
              <a:off x="290520" y="5652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73200" y="56520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4360" y="9874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080" y="9874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91440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35040" y="45720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304920" y="1066680"/>
            <a:ext cx="822636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1143000" y="6324480"/>
            <a:ext cx="678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7615-E033-48D9-A93F-B2F515C9AAED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3368-BDD1-454F-B75F-0193462E81C5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 77G "Tópicos Avanzados en Economía Ambiental y de Recursos Naturales"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arte 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f. Andrés Ullo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228600" y="993600"/>
          <a:ext cx="7954920" cy="502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3600"/>
                    <a:ext cx="7954920" cy="50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990720" y="152280"/>
            <a:ext cx="7924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baseline="-25000">
                <a:solidFill>
                  <a:srgbClr val="000000"/>
                </a:solidFill>
                <a:latin typeface="Tahoma"/>
              </a:rPr>
              <a:t>Tendencia de Largo P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Un modelo de Crecimiento Endógeno con RRNN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función de bienes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función de producció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80880" y="2895480"/>
          <a:ext cx="6324840" cy="4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895480"/>
                    <a:ext cx="6324840" cy="4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066680" y="4800600"/>
          <a:ext cx="5943600" cy="14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800600"/>
                    <a:ext cx="594360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2148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recurso na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 stock del recurso crece  a través de la relación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timización del agente representat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048120" y="2438280"/>
          <a:ext cx="236196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438280"/>
                    <a:ext cx="23619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362320" y="4419720"/>
          <a:ext cx="3619440" cy="75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4419720"/>
                    <a:ext cx="361944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5008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 maximización de la ecuación anterior  está sujeta a las siguientes restriccion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28600" y="2514600"/>
          <a:ext cx="8915400" cy="33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14600"/>
                    <a:ext cx="8915400" cy="33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         </a:t>
            </a:r>
            <a:r>
              <a:rPr b="1" lang="es-E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olución del modelo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-533520" y="1523880"/>
          <a:ext cx="1074420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33520" y="1523880"/>
                    <a:ext cx="10744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0" y="2057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solución de H(t) viene dada por las siguientes condiciones de primer or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914400" y="2666880"/>
          <a:ext cx="6934320" cy="371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666880"/>
                    <a:ext cx="6934320" cy="37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5008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oniendo que las condiciones ii y iii se satisfacen con igualdad podemos analizar que papel juega cada uno de los factores productivos en el crecimien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solviendo para cada una de las ecuaciones en   </a:t>
            </a:r>
            <a:r>
              <a:rPr b="0" i="1" lang="es-ES_trad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- </a:t>
            </a:r>
            <a:r>
              <a:rPr b="0" i="1" lang="es-ES_trad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i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tenemos las siguientes ecuaciones de crecimiento del consum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838080" y="1447920"/>
          <a:ext cx="4800600" cy="308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47920"/>
                    <a:ext cx="4800600" cy="30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onde                      y corresponde al supuesto usual de aversión al riesgo constante. En tant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as ecuaciones i y ii son las típicas ecuaciones de Solow-Swan y que dicen que para que exista un crecimiento del consumo debe ser cierto que la rentabilidad del capital físico y humano deben ser mayor a la tasa de descuento más la tasa de depreciación del capital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362320" y="1905120"/>
          <a:ext cx="1752480" cy="53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905120"/>
                    <a:ext cx="175248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838080" y="2895480"/>
          <a:ext cx="1371600" cy="82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895480"/>
                    <a:ext cx="137160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Figura 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743560" y="-1524240"/>
            <a:ext cx="7035480" cy="8047440"/>
            <a:chOff x="2743560" y="-1524240"/>
            <a:chExt cx="7035480" cy="8047440"/>
          </a:xfrm>
        </p:grpSpPr>
        <p:sp>
          <p:nvSpPr>
            <p:cNvPr id="183" name=""/>
            <p:cNvSpPr/>
            <p:nvPr/>
          </p:nvSpPr>
          <p:spPr>
            <a:xfrm flipV="1">
              <a:off x="4572000" y="579240"/>
              <a:ext cx="0" cy="246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0" y="3048480"/>
              <a:ext cx="338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4658400" y="-1524240"/>
              <a:ext cx="5120640" cy="420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20" y="11"/>
                  </a:moveTo>
                  <a:arcTo wR="10800" hR="10800" stAng="-5552852" swAng="5329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20" y="11"/>
                  </a:moveTo>
                  <a:arcTo wR="10800" hR="10800" stAng="-5552852" swAng="532987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2743560" y="-1067400"/>
              <a:ext cx="3656880" cy="365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9" y="0"/>
                  </a:moveTo>
                  <a:arcTo wR="10800" hR="10800" stAng="-5400180" swAng="54001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9" y="0"/>
                  </a:moveTo>
                  <a:arcTo wR="10800" hR="10800" stAng="-5400180" swAng="540018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72000" y="2042280"/>
              <a:ext cx="329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06240" y="1676520"/>
              <a:ext cx="27432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53080" y="579240"/>
              <a:ext cx="550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s-E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583680" y="670680"/>
              <a:ext cx="54864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s-E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06240" y="487800"/>
              <a:ext cx="27432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81320" y="3139920"/>
              <a:ext cx="82296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k/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4960" y="2042280"/>
              <a:ext cx="0" cy="3291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669280" y="2316600"/>
              <a:ext cx="0" cy="30175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4937760" y="3139920"/>
              <a:ext cx="1005840" cy="365760"/>
              <a:chOff x="4937760" y="3139920"/>
              <a:chExt cx="1005840" cy="365760"/>
            </a:xfrm>
          </p:grpSpPr>
          <p:sp>
            <p:nvSpPr>
              <p:cNvPr id="196" name=""/>
              <p:cNvSpPr/>
              <p:nvPr/>
            </p:nvSpPr>
            <p:spPr>
              <a:xfrm>
                <a:off x="4937760" y="3139920"/>
                <a:ext cx="54864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Times New Roman"/>
                  </a:rPr>
                  <a:t>(k/h)</a:t>
                </a:r>
                <a:r>
                  <a:rPr b="1" lang="es-ES" sz="8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212080" y="3139920"/>
                <a:ext cx="5486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Times New Roman"/>
                  </a:rPr>
                  <a:t>(k/h)</a:t>
                </a:r>
                <a:r>
                  <a:rPr b="1" lang="es-ES" sz="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486400" y="3139920"/>
                <a:ext cx="45720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800" spc="-1" strike="noStrike">
                    <a:solidFill>
                      <a:srgbClr val="000000"/>
                    </a:solidFill>
                    <a:latin typeface="Times New Roman"/>
                  </a:rPr>
                  <a:t>(k/h)</a:t>
                </a:r>
                <a:r>
                  <a:rPr b="1" i="1" lang="es-ES" sz="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5303520" y="1859400"/>
              <a:ext cx="365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69280" y="1859400"/>
              <a:ext cx="365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86400" y="2042280"/>
              <a:ext cx="365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3840480" y="-1437480"/>
              <a:ext cx="1645560" cy="384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469" y="21"/>
                  </a:moveTo>
                  <a:arcTo wR="10800" hR="10800" stAng="-5187046" swAng="51870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1469" y="21"/>
                  </a:moveTo>
                  <a:arcTo wR="10800" hR="10800" stAng="-5187046" swAng="5187046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577840" y="487800"/>
              <a:ext cx="82296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h+</a:t>
              </a: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s-E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029200" y="1676520"/>
              <a:ext cx="3657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06240" y="2316600"/>
              <a:ext cx="365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937760" y="2316600"/>
              <a:ext cx="365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3600" y="2316600"/>
              <a:ext cx="396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10280" y="1859400"/>
              <a:ext cx="1800" cy="3474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4572000" y="3414240"/>
              <a:ext cx="0" cy="192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572000" y="5334480"/>
              <a:ext cx="347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4937760" y="5425920"/>
              <a:ext cx="1005840" cy="365760"/>
              <a:chOff x="4937760" y="5425920"/>
              <a:chExt cx="1005840" cy="365760"/>
            </a:xfrm>
          </p:grpSpPr>
          <p:sp>
            <p:nvSpPr>
              <p:cNvPr id="212" name=""/>
              <p:cNvSpPr/>
              <p:nvPr/>
            </p:nvSpPr>
            <p:spPr>
              <a:xfrm>
                <a:off x="4937760" y="5425920"/>
                <a:ext cx="54864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Times New Roman"/>
                  </a:rPr>
                  <a:t>(k/h)</a:t>
                </a:r>
                <a:r>
                  <a:rPr b="1" lang="es-ES" sz="8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212080" y="5425920"/>
                <a:ext cx="5486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Times New Roman"/>
                  </a:rPr>
                  <a:t>(k/h)</a:t>
                </a:r>
                <a:r>
                  <a:rPr b="1" lang="es-ES" sz="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486400" y="5425920"/>
                <a:ext cx="45720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800" spc="-1" strike="noStrike">
                    <a:solidFill>
                      <a:srgbClr val="000000"/>
                    </a:solidFill>
                    <a:latin typeface="Times New Roman"/>
                  </a:rPr>
                  <a:t>(k/h)</a:t>
                </a:r>
                <a:r>
                  <a:rPr b="1" i="1" lang="es-ES" sz="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7681320" y="5425920"/>
              <a:ext cx="82296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k/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14800" y="3414240"/>
              <a:ext cx="42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14800" y="4785840"/>
              <a:ext cx="476640" cy="3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54880" y="4237200"/>
              <a:ext cx="2103120" cy="1280160"/>
            </a:xfrm>
            <a:custGeom>
              <a:avLst/>
              <a:gdLst/>
              <a:ahLst/>
              <a:rect l="l" t="t" r="r" b="b"/>
              <a:pathLst>
                <a:path w="2688" h="3288">
                  <a:moveTo>
                    <a:pt x="0" y="0"/>
                  </a:moveTo>
                  <a:cubicBezTo>
                    <a:pt x="192" y="744"/>
                    <a:pt x="384" y="1488"/>
                    <a:pt x="576" y="2016"/>
                  </a:cubicBezTo>
                  <a:cubicBezTo>
                    <a:pt x="768" y="2544"/>
                    <a:pt x="840" y="3288"/>
                    <a:pt x="1152" y="3168"/>
                  </a:cubicBezTo>
                  <a:cubicBezTo>
                    <a:pt x="1464" y="3048"/>
                    <a:pt x="2208" y="1656"/>
                    <a:pt x="2448" y="1296"/>
                  </a:cubicBezTo>
                  <a:cubicBezTo>
                    <a:pt x="2688" y="936"/>
                    <a:pt x="2568" y="1056"/>
                    <a:pt x="2592" y="100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72000" y="5060160"/>
              <a:ext cx="640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20640" y="4877280"/>
              <a:ext cx="3657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80560" y="6066000"/>
              <a:ext cx="3475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Figura 1. Senda de crecimiento sin efecto tecnológ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33520" y="2133720"/>
            <a:ext cx="3581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igura 2. Senda de crecimiento con capital físic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apital humano y capital na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972160" y="-1950480"/>
            <a:ext cx="7029720" cy="8332200"/>
            <a:chOff x="2972160" y="-1950480"/>
            <a:chExt cx="7029720" cy="8332200"/>
          </a:xfrm>
        </p:grpSpPr>
        <p:sp>
          <p:nvSpPr>
            <p:cNvPr id="224" name=""/>
            <p:cNvSpPr/>
            <p:nvPr/>
          </p:nvSpPr>
          <p:spPr>
            <a:xfrm>
              <a:off x="4602600" y="5788080"/>
              <a:ext cx="347472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Figura 2. Senda de crecimiento con capital físico y capital humano y capital natur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2972160" y="-1950480"/>
              <a:ext cx="7029720" cy="7422120"/>
              <a:chOff x="2972160" y="-1950480"/>
              <a:chExt cx="7029720" cy="7422120"/>
            </a:xfrm>
          </p:grpSpPr>
          <p:sp>
            <p:nvSpPr>
              <p:cNvPr id="226" name=""/>
              <p:cNvSpPr/>
              <p:nvPr/>
            </p:nvSpPr>
            <p:spPr>
              <a:xfrm flipV="1">
                <a:off x="4831200" y="351000"/>
                <a:ext cx="0" cy="246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800600" y="2789280"/>
                <a:ext cx="338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 flipV="1">
                <a:off x="4939560" y="-1950480"/>
                <a:ext cx="5061960" cy="432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20" y="11"/>
                    </a:moveTo>
                    <a:arcTo wR="10800" hR="10800" stAng="-5552852" swAng="532987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20" y="11"/>
                    </a:moveTo>
                    <a:arcTo wR="10800" hR="10800" stAng="-5552852" swAng="532987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2972160" y="-1326240"/>
                <a:ext cx="3656880" cy="3657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9" y="0"/>
                    </a:moveTo>
                    <a:arcTo wR="10800" hR="10800" stAng="-5400180" swAng="54001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9" y="0"/>
                    </a:moveTo>
                    <a:arcTo wR="10800" hR="10800" stAng="-5400180" swAng="540018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800600" y="1783440"/>
                <a:ext cx="277380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374000" y="1631160"/>
                <a:ext cx="274320" cy="39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981680" y="320400"/>
                <a:ext cx="5504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s-E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r>
                  <a:rPr b="0" lang="es-E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357240" y="0"/>
                <a:ext cx="54864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s-E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r>
                  <a:rPr b="0" lang="es-E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434840" y="228960"/>
                <a:ext cx="27432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909920" y="2880720"/>
                <a:ext cx="82296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k/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717160" y="1828800"/>
                <a:ext cx="0" cy="32918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97880" y="2057760"/>
                <a:ext cx="0" cy="30175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471280" y="2819880"/>
                <a:ext cx="5486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Times New Roman"/>
                  </a:rPr>
                  <a:t>(k/x)</a:t>
                </a:r>
                <a:r>
                  <a:rPr b="1" lang="es-ES" sz="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96960" y="2819880"/>
                <a:ext cx="45720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800" spc="-1" strike="noStrike">
                    <a:solidFill>
                      <a:srgbClr val="000000"/>
                    </a:solidFill>
                    <a:latin typeface="Times New Roman"/>
                  </a:rPr>
                  <a:t>(k/x)</a:t>
                </a:r>
                <a:r>
                  <a:rPr b="1" i="1" lang="es-ES" sz="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014080" y="899640"/>
                <a:ext cx="3657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897880" y="1600560"/>
                <a:ext cx="3657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562720" y="1631160"/>
                <a:ext cx="365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288400" y="1242720"/>
                <a:ext cx="365760" cy="54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66360" y="2057760"/>
                <a:ext cx="3657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172560" y="2057760"/>
                <a:ext cx="39600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442840" y="1463040"/>
                <a:ext cx="0" cy="36576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4800600" y="3155040"/>
                <a:ext cx="0" cy="192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831200" y="5102280"/>
                <a:ext cx="347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909920" y="5166720"/>
                <a:ext cx="82296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k/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343400" y="3155040"/>
                <a:ext cx="424080" cy="3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282560" y="4008600"/>
                <a:ext cx="476640" cy="31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985280" y="3931920"/>
                <a:ext cx="2103120" cy="1280160"/>
              </a:xfrm>
              <a:custGeom>
                <a:avLst/>
                <a:gdLst/>
                <a:ahLst/>
                <a:rect l="l" t="t" r="r" b="b"/>
                <a:pathLst>
                  <a:path w="2688" h="3288">
                    <a:moveTo>
                      <a:pt x="0" y="0"/>
                    </a:moveTo>
                    <a:cubicBezTo>
                      <a:pt x="192" y="744"/>
                      <a:pt x="384" y="1488"/>
                      <a:pt x="576" y="2016"/>
                    </a:cubicBezTo>
                    <a:cubicBezTo>
                      <a:pt x="768" y="2544"/>
                      <a:pt x="840" y="3288"/>
                      <a:pt x="1152" y="3168"/>
                    </a:cubicBezTo>
                    <a:cubicBezTo>
                      <a:pt x="1464" y="3048"/>
                      <a:pt x="2208" y="1656"/>
                      <a:pt x="2448" y="1296"/>
                    </a:cubicBezTo>
                    <a:cubicBezTo>
                      <a:pt x="2688" y="936"/>
                      <a:pt x="2568" y="1056"/>
                      <a:pt x="2592" y="1008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02400" y="4663440"/>
                <a:ext cx="64008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351400" y="4480560"/>
                <a:ext cx="36576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4893840" y="365400"/>
                <a:ext cx="2171520" cy="148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105520" y="1082520"/>
                <a:ext cx="0" cy="4023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014080" y="4008600"/>
                <a:ext cx="36576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29040" y="4191480"/>
                <a:ext cx="274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888600" y="556920"/>
                <a:ext cx="0" cy="18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625720" y="4937760"/>
                <a:ext cx="36576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191120" y="4648680"/>
                <a:ext cx="572040" cy="3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471280" y="5197320"/>
                <a:ext cx="5486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Times New Roman"/>
                  </a:rPr>
                  <a:t>(k/s)</a:t>
                </a:r>
                <a:r>
                  <a:rPr b="1" lang="es-ES" sz="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96960" y="5197320"/>
                <a:ext cx="45720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800" spc="-1" strike="noStrike">
                    <a:solidFill>
                      <a:srgbClr val="000000"/>
                    </a:solidFill>
                    <a:latin typeface="Times New Roman"/>
                  </a:rPr>
                  <a:t>(k/s)</a:t>
                </a:r>
                <a:r>
                  <a:rPr b="1" i="1" lang="es-ES" sz="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088760" y="182880"/>
                <a:ext cx="123372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174280" y="421452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288400" y="4557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67" name=""/>
          <p:cNvGraphicFramePr/>
          <p:nvPr/>
        </p:nvGraphicFramePr>
        <p:xfrm>
          <a:off x="7086600" y="228600"/>
          <a:ext cx="1041480" cy="2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228600"/>
                    <a:ext cx="1041480" cy="2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scasez de recurs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978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oferta es fini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demanda es un flujo por unidad de 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iste un t &lt;infinito en el que se debería agotar el recur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das de escasez: medidas físic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ervas. Son las cantidades de mineral encontrados en la superficie que son conocidos y rentables de explotar con la tecnología y precios existentes.  Estos resultados muestran que muchos de nuestros minerales se estarían agotando dentro de un siglo o aún meno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s reservas no son estáticas, van creciendo a medida que aumenta la exploración y depósitos conocidos pero antieconómicos se vuelven rentables. (una vez que la industria tiene reservas de 20 o 30 años no tiene incentivos para invertir en el present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demás hay que agregar la producción secundaria que proviene del reciclaj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cKelvey diagr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229600" cy="538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uadro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5334120"/>
            <a:ext cx="7086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% de crecimiento en la producción primaria indica un stock fijo de reser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edidas físicas:La base del recurs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345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base del recurso incluye la cantidad total de minerales que existe en la superficie de la tierra (no incluye los oceano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escasez es solo física, económicamente puede ser rentable comenzar a explotar yacimientos descartados o sustituir insumos por otros más abundantes y bara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28880" y="2052720"/>
            <a:ext cx="7086600" cy="290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edidas económica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3200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stos margin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ecios de merc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sto de u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572000" y="1523520"/>
            <a:ext cx="0" cy="3505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5029200"/>
            <a:ext cx="4191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816200"/>
            <a:ext cx="4038480" cy="2768400"/>
          </a:xfrm>
          <a:custGeom>
            <a:avLst/>
            <a:gdLst/>
            <a:ahLst/>
            <a:rect l="l" t="t" r="r" b="b"/>
            <a:pathLst>
              <a:path w="2544" h="1744">
                <a:moveTo>
                  <a:pt x="0" y="1736"/>
                </a:moveTo>
                <a:cubicBezTo>
                  <a:pt x="92" y="1740"/>
                  <a:pt x="184" y="1744"/>
                  <a:pt x="240" y="1736"/>
                </a:cubicBezTo>
                <a:cubicBezTo>
                  <a:pt x="296" y="1728"/>
                  <a:pt x="280" y="1704"/>
                  <a:pt x="336" y="1688"/>
                </a:cubicBezTo>
                <a:cubicBezTo>
                  <a:pt x="392" y="1672"/>
                  <a:pt x="504" y="1656"/>
                  <a:pt x="576" y="1640"/>
                </a:cubicBezTo>
                <a:cubicBezTo>
                  <a:pt x="648" y="1624"/>
                  <a:pt x="720" y="1616"/>
                  <a:pt x="768" y="1592"/>
                </a:cubicBezTo>
                <a:cubicBezTo>
                  <a:pt x="816" y="1568"/>
                  <a:pt x="824" y="1520"/>
                  <a:pt x="864" y="1496"/>
                </a:cubicBezTo>
                <a:cubicBezTo>
                  <a:pt x="904" y="1472"/>
                  <a:pt x="952" y="1472"/>
                  <a:pt x="1008" y="1448"/>
                </a:cubicBezTo>
                <a:cubicBezTo>
                  <a:pt x="1064" y="1424"/>
                  <a:pt x="1168" y="1384"/>
                  <a:pt x="1200" y="1352"/>
                </a:cubicBezTo>
                <a:cubicBezTo>
                  <a:pt x="1232" y="1320"/>
                  <a:pt x="1160" y="1296"/>
                  <a:pt x="1200" y="1256"/>
                </a:cubicBezTo>
                <a:cubicBezTo>
                  <a:pt x="1240" y="1216"/>
                  <a:pt x="1392" y="1160"/>
                  <a:pt x="1440" y="1112"/>
                </a:cubicBezTo>
                <a:cubicBezTo>
                  <a:pt x="1488" y="1064"/>
                  <a:pt x="1448" y="1000"/>
                  <a:pt x="1488" y="968"/>
                </a:cubicBezTo>
                <a:cubicBezTo>
                  <a:pt x="1528" y="936"/>
                  <a:pt x="1632" y="960"/>
                  <a:pt x="1680" y="920"/>
                </a:cubicBezTo>
                <a:cubicBezTo>
                  <a:pt x="1728" y="880"/>
                  <a:pt x="1720" y="768"/>
                  <a:pt x="1776" y="728"/>
                </a:cubicBezTo>
                <a:cubicBezTo>
                  <a:pt x="1832" y="688"/>
                  <a:pt x="1960" y="736"/>
                  <a:pt x="2016" y="680"/>
                </a:cubicBezTo>
                <a:cubicBezTo>
                  <a:pt x="2072" y="624"/>
                  <a:pt x="2072" y="448"/>
                  <a:pt x="2112" y="392"/>
                </a:cubicBezTo>
                <a:cubicBezTo>
                  <a:pt x="2152" y="336"/>
                  <a:pt x="2208" y="400"/>
                  <a:pt x="2256" y="344"/>
                </a:cubicBezTo>
                <a:cubicBezTo>
                  <a:pt x="2304" y="288"/>
                  <a:pt x="2352" y="112"/>
                  <a:pt x="2400" y="56"/>
                </a:cubicBezTo>
                <a:cubicBezTo>
                  <a:pt x="2448" y="0"/>
                  <a:pt x="2520" y="16"/>
                  <a:pt x="2544" y="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1981080"/>
            <a:ext cx="434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1981080"/>
            <a:ext cx="37339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1752480"/>
            <a:ext cx="6858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0000"/>
                </a:solidFill>
                <a:latin typeface="Tahoma"/>
              </a:rPr>
              <a:t>C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2362320"/>
            <a:ext cx="3429000" cy="533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2895480"/>
            <a:ext cx="3124080" cy="609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3505320"/>
            <a:ext cx="2362320" cy="45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3962520"/>
            <a:ext cx="1905120" cy="304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4267080"/>
            <a:ext cx="1295280" cy="152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4419720"/>
            <a:ext cx="838080" cy="75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4495680"/>
            <a:ext cx="457200" cy="152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1981080"/>
            <a:ext cx="297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1828800"/>
            <a:ext cx="3657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</a:rPr>
              <a:t>Costo de u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2666880"/>
            <a:ext cx="274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baseline="-25000">
                <a:solidFill>
                  <a:srgbClr val="000000"/>
                </a:solidFill>
                <a:latin typeface="Tahoma"/>
              </a:rPr>
              <a:t>Renta Ricardi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05920" y="23623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81560" y="5029200"/>
            <a:ext cx="38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772400" y="49528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omportamiento del precio del cobr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0" y="1322280"/>
          <a:ext cx="8955000" cy="45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22280"/>
                    <a:ext cx="8955000" cy="45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ión del precio real del cobre contra una variable tendencia y tendencia cuadratica, sin corrección por autocorrelación usando 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sultados que replican a Slade (1982)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ión por autocorrelación AR(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191120" y="1523880"/>
            <a:ext cx="4419360" cy="26035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724280" y="4267080"/>
            <a:ext cx="3733920" cy="22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304920" y="984240"/>
            <a:ext cx="7589520" cy="5041800"/>
            <a:chOff x="304920" y="984240"/>
            <a:chExt cx="7589520" cy="504180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304920" y="984240"/>
              <a:ext cx="3608280" cy="237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429120" y="3501720"/>
              <a:ext cx="3359520" cy="252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3"/>
            <a:stretch/>
          </p:blipFill>
          <p:spPr>
            <a:xfrm>
              <a:off x="4161960" y="984240"/>
              <a:ext cx="3732480" cy="230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"/>
          <p:cNvSpPr/>
          <p:nvPr/>
        </p:nvSpPr>
        <p:spPr>
          <a:xfrm>
            <a:off x="4114800" y="3505320"/>
            <a:ext cx="4648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gresión del precio real del cobre contra una tendencia lineal y cuadrática. A la izquierda arriba se incorporan una tendencia cubica y a la cuarta. Arriba a la derecha, el modelo se estima para el período 1850-1929. A la izquierda, el modelo se estima para el período 1930-1998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4T16:02:01Z</dcterms:created>
  <dc:creator>Universidad De Chile</dc:creator>
  <dc:description/>
  <dc:language>en-US</dc:language>
  <cp:lastModifiedBy>ANdres Ulloa</cp:lastModifiedBy>
  <dcterms:modified xsi:type="dcterms:W3CDTF">2004-10-18T22:13:26Z</dcterms:modified>
  <cp:revision>103</cp:revision>
  <dc:subject/>
  <dc:title>IN 77G "Tópicos Avanzados en Economía Ambiental y de Recursos Naturales"</dc:title>
</cp:coreProperties>
</file>