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E423-15C0-48FC-ACBD-E117590F6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0AA7-BA1A-4BF3-B2D4-72CF1CB8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0192-1EFB-4784-A5A3-D83FF69A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E35E-A500-46D0-A190-690FD7523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6C64-70F9-4A63-AA47-21F58281C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9445-1C42-4968-8D18-EA5F2247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460A-73CB-44D0-8952-6F3CCB67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5A91-BFBF-4BD1-80D0-C6A7DA44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886D-2FCA-48F2-8F0E-E384A8E6B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42640" y="0"/>
            <a:ext cx="779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40E6-413C-4D2C-BFD0-86791813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F23D-035A-4B05-9116-8BFF1B0E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9212-58B0-4CA8-8E97-2BF0C0F3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DEFDB-49BB-411F-BBCA-30DCBDD6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964E-E845-4BE8-B3D8-75C434B4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B6D54-CCEB-48C9-B086-4F14951F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5C0C-C9F9-46D1-B092-24F04FD57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F7C5-4193-48CF-AD7D-91DF9F0B8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864F-63C9-4920-A504-8196602F6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951F-DC6B-459F-B788-0512E2BAA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FE23-1085-46EB-9718-6808CA802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42640" y="0"/>
            <a:ext cx="779292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8EDD-B7A7-4CE4-8358-B62EDC48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CAB1-B986-4FB0-BA79-80B247C2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633E-E9D7-4E40-9C8C-30A87DA05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7F65-3D22-4A86-ABEE-B2A9D5CE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457200"/>
            <a:ext cx="1152360" cy="1052280"/>
            <a:chOff x="0" y="457200"/>
            <a:chExt cx="1152360" cy="1052280"/>
          </a:xfrm>
        </p:grpSpPr>
        <p:sp>
          <p:nvSpPr>
            <p:cNvPr id="1" name=""/>
            <p:cNvSpPr/>
            <p:nvPr/>
          </p:nvSpPr>
          <p:spPr>
            <a:xfrm>
              <a:off x="290520" y="565200"/>
              <a:ext cx="438120" cy="47448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73200" y="565200"/>
              <a:ext cx="32832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14360" y="987480"/>
              <a:ext cx="422280" cy="4744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080" y="987480"/>
              <a:ext cx="368280" cy="4744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914400"/>
              <a:ext cx="56016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35040" y="457200"/>
              <a:ext cx="31680" cy="10522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"/>
          <p:cNvSpPr/>
          <p:nvPr/>
        </p:nvSpPr>
        <p:spPr>
          <a:xfrm>
            <a:off x="304920" y="1066680"/>
            <a:ext cx="822636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1143000" y="6324480"/>
            <a:ext cx="6781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7C000-5374-42E6-893D-DC7AD0E44EEE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CE592-C3A6-4985-9DA7-D8E3AA3C9C87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IN 77G "Tópicos Avanzados en Economía Ambiental y de Recursos Naturales"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arte 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f. Andrés Ullo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228600" y="993600"/>
          <a:ext cx="7954920" cy="502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93600"/>
                    <a:ext cx="7954920" cy="50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990720" y="152280"/>
            <a:ext cx="79246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baseline="-25000">
                <a:solidFill>
                  <a:srgbClr val="000000"/>
                </a:solidFill>
                <a:latin typeface="Tahoma"/>
              </a:rPr>
              <a:t>Tendencia de Largo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Un modelo de Crecimiento Endógeno con RRNN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función de bienest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función de producció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80880" y="2895480"/>
          <a:ext cx="6324840" cy="4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895480"/>
                    <a:ext cx="6324840" cy="4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066680" y="4800600"/>
          <a:ext cx="5943600" cy="14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800600"/>
                    <a:ext cx="5943600" cy="14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42148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recurso natu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 stock del recurso crece  a través de la relación 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timización del agente representat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048120" y="2438280"/>
          <a:ext cx="2361960" cy="83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438280"/>
                    <a:ext cx="236196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2362320" y="4419720"/>
          <a:ext cx="3619440" cy="75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4419720"/>
                    <a:ext cx="361944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50080" cy="48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 maximización de la ecuación anterior  está sujeta a las siguientes restriccion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28600" y="2514600"/>
          <a:ext cx="8915400" cy="339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14600"/>
                    <a:ext cx="8915400" cy="33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         </a:t>
            </a:r>
            <a:r>
              <a:rPr b="1" lang="es-ES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Solución del modelo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-533520" y="1523880"/>
          <a:ext cx="10744200" cy="3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33520" y="1523880"/>
                    <a:ext cx="10744200" cy="3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0" y="20574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a solución de H(t) viene dada por las siguientes condiciones de primer ord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14400" y="2666880"/>
          <a:ext cx="6934320" cy="371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666880"/>
                    <a:ext cx="6934320" cy="37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65008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oniendo que las condiciones ii y iii se satisfacen con igualdad podemos analizar que papel juega cada uno de los factores productivos en el crecimien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solviendo para cada una de las ecuaciones en   </a:t>
            </a:r>
            <a:r>
              <a:rPr b="0" i="1" lang="es-ES_trad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- </a:t>
            </a:r>
            <a:r>
              <a:rPr b="0" i="1" lang="es-ES_trad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i 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tenemos las siguientes ecuaciones de crecimiento del consum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838080" y="1447920"/>
          <a:ext cx="4800600" cy="308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47920"/>
                    <a:ext cx="4800600" cy="30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520" y="2017800"/>
            <a:ext cx="857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onde                      y corresponde al supuesto usual de aversión al riesgo constante. En tant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as ecuaciones i y ii son las típicas ecuaciones de Solow-Swan y que dicen que para que exista un crecimiento del consumo debe ser cierto que la rentabilidad del capital físico y humano deben ser mayor a la tasa de descuento más la tasa de depreciación del capital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362320" y="1905120"/>
          <a:ext cx="1752480" cy="53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905120"/>
                    <a:ext cx="175248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838080" y="2895480"/>
          <a:ext cx="1371600" cy="82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895480"/>
                    <a:ext cx="1371600" cy="82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Figura 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743560" y="-1524240"/>
            <a:ext cx="7035480" cy="8047440"/>
            <a:chOff x="2743560" y="-1524240"/>
            <a:chExt cx="7035480" cy="8047440"/>
          </a:xfrm>
        </p:grpSpPr>
        <p:sp>
          <p:nvSpPr>
            <p:cNvPr id="183" name=""/>
            <p:cNvSpPr/>
            <p:nvPr/>
          </p:nvSpPr>
          <p:spPr>
            <a:xfrm flipV="1">
              <a:off x="4572000" y="579240"/>
              <a:ext cx="0" cy="246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0" y="3048480"/>
              <a:ext cx="338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 flipV="1">
              <a:off x="4658400" y="-1524240"/>
              <a:ext cx="5120640" cy="4205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20" y="11"/>
                  </a:moveTo>
                  <a:arcTo wR="10800" hR="10800" stAng="-5552852" swAng="532987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20" y="11"/>
                  </a:moveTo>
                  <a:arcTo wR="10800" hR="10800" stAng="-5552852" swAng="532987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2743560" y="-1067400"/>
              <a:ext cx="3656880" cy="365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9" y="0"/>
                  </a:moveTo>
                  <a:arcTo wR="10800" hR="10800" stAng="-5400180" swAng="54001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9" y="0"/>
                  </a:moveTo>
                  <a:arcTo wR="10800" hR="10800" stAng="-5400180" swAng="540018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72000" y="2042280"/>
              <a:ext cx="329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206240" y="1676520"/>
              <a:ext cx="27432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53080" y="579240"/>
              <a:ext cx="5504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583680" y="670680"/>
              <a:ext cx="54864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06240" y="487800"/>
              <a:ext cx="27432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$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81320" y="3139920"/>
              <a:ext cx="82296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k/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394960" y="2042280"/>
              <a:ext cx="0" cy="32918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669280" y="2316600"/>
              <a:ext cx="0" cy="30175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4937760" y="3139920"/>
              <a:ext cx="1005840" cy="365760"/>
              <a:chOff x="4937760" y="3139920"/>
              <a:chExt cx="1005840" cy="365760"/>
            </a:xfrm>
          </p:grpSpPr>
          <p:sp>
            <p:nvSpPr>
              <p:cNvPr id="196" name=""/>
              <p:cNvSpPr/>
              <p:nvPr/>
            </p:nvSpPr>
            <p:spPr>
              <a:xfrm>
                <a:off x="4937760" y="3139920"/>
                <a:ext cx="54864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Times New Roman"/>
                  </a:rPr>
                  <a:t>(k/h)</a:t>
                </a:r>
                <a:r>
                  <a:rPr b="1" lang="es-ES" sz="8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212080" y="3139920"/>
                <a:ext cx="5486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Times New Roman"/>
                  </a:rPr>
                  <a:t>(k/h)</a:t>
                </a:r>
                <a:r>
                  <a:rPr b="1" lang="es-ES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486400" y="3139920"/>
                <a:ext cx="45720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800" spc="-1" strike="noStrike">
                    <a:solidFill>
                      <a:srgbClr val="000000"/>
                    </a:solidFill>
                    <a:latin typeface="Times New Roman"/>
                  </a:rPr>
                  <a:t>(k/h)</a:t>
                </a:r>
                <a:r>
                  <a:rPr b="1" i="1" lang="es-ES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5303520" y="1859400"/>
              <a:ext cx="365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69280" y="1859400"/>
              <a:ext cx="365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86400" y="2042280"/>
              <a:ext cx="365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3840480" y="-1437480"/>
              <a:ext cx="1645560" cy="384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469" y="21"/>
                  </a:moveTo>
                  <a:arcTo wR="10800" hR="10800" stAng="-5187046" swAng="51870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1469" y="21"/>
                  </a:moveTo>
                  <a:arcTo wR="10800" hR="10800" stAng="-5187046" swAng="5187046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577840" y="487800"/>
              <a:ext cx="82296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h+</a:t>
              </a: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s-ES" sz="1200" spc="-1" strike="noStrike" baseline="-25000">
                  <a:solidFill>
                    <a:srgbClr val="000000"/>
                  </a:solidFill>
                  <a:latin typeface="Times New Roman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029200" y="1676520"/>
              <a:ext cx="3657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206240" y="2316600"/>
              <a:ext cx="365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</a:t>
              </a: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’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937760" y="2316600"/>
              <a:ext cx="365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943600" y="2316600"/>
              <a:ext cx="396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10280" y="1859400"/>
              <a:ext cx="1800" cy="3474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4572000" y="3414240"/>
              <a:ext cx="0" cy="192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572000" y="5334480"/>
              <a:ext cx="347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4937760" y="5425920"/>
              <a:ext cx="1005840" cy="365760"/>
              <a:chOff x="4937760" y="5425920"/>
              <a:chExt cx="1005840" cy="365760"/>
            </a:xfrm>
          </p:grpSpPr>
          <p:sp>
            <p:nvSpPr>
              <p:cNvPr id="212" name=""/>
              <p:cNvSpPr/>
              <p:nvPr/>
            </p:nvSpPr>
            <p:spPr>
              <a:xfrm>
                <a:off x="4937760" y="5425920"/>
                <a:ext cx="54864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Times New Roman"/>
                  </a:rPr>
                  <a:t>(k/h)</a:t>
                </a:r>
                <a:r>
                  <a:rPr b="1" lang="es-ES" sz="800" spc="-1" strike="noStrike" baseline="30000">
                    <a:solidFill>
                      <a:srgbClr val="000000"/>
                    </a:solidFill>
                    <a:latin typeface="Times New Roman"/>
                  </a:rPr>
                  <a:t>*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212080" y="5425920"/>
                <a:ext cx="5486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Times New Roman"/>
                  </a:rPr>
                  <a:t>(k/h)</a:t>
                </a:r>
                <a:r>
                  <a:rPr b="1" lang="es-ES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486400" y="5425920"/>
                <a:ext cx="45720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800" spc="-1" strike="noStrike">
                    <a:solidFill>
                      <a:srgbClr val="000000"/>
                    </a:solidFill>
                    <a:latin typeface="Times New Roman"/>
                  </a:rPr>
                  <a:t>(k/h)</a:t>
                </a:r>
                <a:r>
                  <a:rPr b="1" i="1" lang="es-ES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5" name=""/>
            <p:cNvSpPr/>
            <p:nvPr/>
          </p:nvSpPr>
          <p:spPr>
            <a:xfrm>
              <a:off x="7681320" y="5425920"/>
              <a:ext cx="822960" cy="27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k/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14800" y="3414240"/>
              <a:ext cx="42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14800" y="4785840"/>
              <a:ext cx="476640" cy="3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54880" y="4237200"/>
              <a:ext cx="2103120" cy="1280160"/>
            </a:xfrm>
            <a:custGeom>
              <a:avLst/>
              <a:gdLst/>
              <a:ahLst/>
              <a:rect l="l" t="t" r="r" b="b"/>
              <a:pathLst>
                <a:path w="2688" h="3288">
                  <a:moveTo>
                    <a:pt x="0" y="0"/>
                  </a:moveTo>
                  <a:cubicBezTo>
                    <a:pt x="192" y="744"/>
                    <a:pt x="384" y="1488"/>
                    <a:pt x="576" y="2016"/>
                  </a:cubicBezTo>
                  <a:cubicBezTo>
                    <a:pt x="768" y="2544"/>
                    <a:pt x="840" y="3288"/>
                    <a:pt x="1152" y="3168"/>
                  </a:cubicBezTo>
                  <a:cubicBezTo>
                    <a:pt x="1464" y="3048"/>
                    <a:pt x="2208" y="1656"/>
                    <a:pt x="2448" y="1296"/>
                  </a:cubicBezTo>
                  <a:cubicBezTo>
                    <a:pt x="2688" y="936"/>
                    <a:pt x="2568" y="1056"/>
                    <a:pt x="2592" y="1008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572000" y="5060160"/>
              <a:ext cx="6400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20640" y="4877280"/>
              <a:ext cx="3657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80560" y="6066000"/>
              <a:ext cx="3475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Figura 1. Senda de crecimiento sin efecto tecnológic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33520" y="2133720"/>
            <a:ext cx="35812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Figura 2. Senda de crecimiento con capital físic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capital humano y capital natu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972160" y="-1950480"/>
            <a:ext cx="7029720" cy="8332200"/>
            <a:chOff x="2972160" y="-1950480"/>
            <a:chExt cx="7029720" cy="8332200"/>
          </a:xfrm>
        </p:grpSpPr>
        <p:sp>
          <p:nvSpPr>
            <p:cNvPr id="224" name=""/>
            <p:cNvSpPr/>
            <p:nvPr/>
          </p:nvSpPr>
          <p:spPr>
            <a:xfrm>
              <a:off x="4602600" y="5788080"/>
              <a:ext cx="347472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Figura 2. Senda de crecimiento con capital físico y capital humano y capital natur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2972160" y="-1950480"/>
              <a:ext cx="7029720" cy="7422120"/>
              <a:chOff x="2972160" y="-1950480"/>
              <a:chExt cx="7029720" cy="7422120"/>
            </a:xfrm>
          </p:grpSpPr>
          <p:sp>
            <p:nvSpPr>
              <p:cNvPr id="226" name=""/>
              <p:cNvSpPr/>
              <p:nvPr/>
            </p:nvSpPr>
            <p:spPr>
              <a:xfrm flipV="1">
                <a:off x="4831200" y="351000"/>
                <a:ext cx="0" cy="246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4800600" y="2789280"/>
                <a:ext cx="338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 flipV="1">
                <a:off x="4939560" y="-1950480"/>
                <a:ext cx="5061960" cy="432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20" y="11"/>
                    </a:moveTo>
                    <a:arcTo wR="10800" hR="10800" stAng="-5552852" swAng="532987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20" y="11"/>
                    </a:moveTo>
                    <a:arcTo wR="10800" hR="10800" stAng="-5552852" swAng="5329873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2972160" y="-1326240"/>
                <a:ext cx="3656880" cy="3657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9" y="0"/>
                    </a:moveTo>
                    <a:arcTo wR="10800" hR="10800" stAng="-5400180" swAng="540018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9" y="0"/>
                    </a:moveTo>
                    <a:arcTo wR="10800" hR="10800" stAng="-5400180" swAng="540018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800600" y="1783440"/>
                <a:ext cx="277380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374000" y="1631160"/>
                <a:ext cx="274320" cy="396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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981680" y="320400"/>
                <a:ext cx="5504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s-E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r>
                  <a:rPr b="0" lang="es-E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357240" y="0"/>
                <a:ext cx="54864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r>
                  <a:rPr b="0" lang="es-E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h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r>
                  <a:rPr b="0" lang="es-E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</a:t>
                </a:r>
                <a:r>
                  <a:rPr b="0" lang="es-E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4434840" y="228960"/>
                <a:ext cx="27432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$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909920" y="2880720"/>
                <a:ext cx="82296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k/x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717160" y="1828800"/>
                <a:ext cx="0" cy="32918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97880" y="2057760"/>
                <a:ext cx="0" cy="301752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471280" y="2819880"/>
                <a:ext cx="5486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Times New Roman"/>
                  </a:rPr>
                  <a:t>(k/x)</a:t>
                </a:r>
                <a:r>
                  <a:rPr b="1" lang="es-ES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196960" y="2819880"/>
                <a:ext cx="45720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800" spc="-1" strike="noStrike">
                    <a:solidFill>
                      <a:srgbClr val="000000"/>
                    </a:solidFill>
                    <a:latin typeface="Times New Roman"/>
                  </a:rPr>
                  <a:t>(k/x)</a:t>
                </a:r>
                <a:r>
                  <a:rPr b="1" i="1" lang="es-ES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014080" y="899640"/>
                <a:ext cx="3657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897880" y="1600560"/>
                <a:ext cx="3657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562720" y="1631160"/>
                <a:ext cx="3657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288400" y="1242720"/>
                <a:ext cx="365760" cy="54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166360" y="2057760"/>
                <a:ext cx="3657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172560" y="2057760"/>
                <a:ext cx="39600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442840" y="1463040"/>
                <a:ext cx="0" cy="365760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4800600" y="3155040"/>
                <a:ext cx="0" cy="192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831200" y="5102280"/>
                <a:ext cx="347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909920" y="5166720"/>
                <a:ext cx="822960" cy="2743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k/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343400" y="3155040"/>
                <a:ext cx="424080" cy="30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282560" y="4008600"/>
                <a:ext cx="476640" cy="31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985280" y="3931920"/>
                <a:ext cx="2103120" cy="1280160"/>
              </a:xfrm>
              <a:custGeom>
                <a:avLst/>
                <a:gdLst/>
                <a:ahLst/>
                <a:rect l="l" t="t" r="r" b="b"/>
                <a:pathLst>
                  <a:path w="2688" h="3288">
                    <a:moveTo>
                      <a:pt x="0" y="0"/>
                    </a:moveTo>
                    <a:cubicBezTo>
                      <a:pt x="192" y="744"/>
                      <a:pt x="384" y="1488"/>
                      <a:pt x="576" y="2016"/>
                    </a:cubicBezTo>
                    <a:cubicBezTo>
                      <a:pt x="768" y="2544"/>
                      <a:pt x="840" y="3288"/>
                      <a:pt x="1152" y="3168"/>
                    </a:cubicBezTo>
                    <a:cubicBezTo>
                      <a:pt x="1464" y="3048"/>
                      <a:pt x="2208" y="1656"/>
                      <a:pt x="2448" y="1296"/>
                    </a:cubicBezTo>
                    <a:cubicBezTo>
                      <a:pt x="2688" y="936"/>
                      <a:pt x="2568" y="1056"/>
                      <a:pt x="2592" y="1008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802400" y="4663440"/>
                <a:ext cx="64008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351400" y="4480560"/>
                <a:ext cx="36576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4893840" y="365400"/>
                <a:ext cx="2171520" cy="148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105520" y="1082520"/>
                <a:ext cx="0" cy="40233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014080" y="4008600"/>
                <a:ext cx="365760" cy="3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29040" y="4191480"/>
                <a:ext cx="274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888600" y="556920"/>
                <a:ext cx="0" cy="182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sm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625720" y="4937760"/>
                <a:ext cx="365760" cy="35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191120" y="4648680"/>
                <a:ext cx="572040" cy="33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471280" y="5197320"/>
                <a:ext cx="5486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800" spc="-1" strike="noStrike">
                    <a:solidFill>
                      <a:srgbClr val="000000"/>
                    </a:solidFill>
                    <a:latin typeface="Times New Roman"/>
                  </a:rPr>
                  <a:t>(k/s)</a:t>
                </a:r>
                <a:r>
                  <a:rPr b="1" lang="es-ES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196960" y="5197320"/>
                <a:ext cx="45720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" sz="800" spc="-1" strike="noStrike">
                    <a:solidFill>
                      <a:srgbClr val="000000"/>
                    </a:solidFill>
                    <a:latin typeface="Times New Roman"/>
                  </a:rPr>
                  <a:t>(k/s)</a:t>
                </a:r>
                <a:r>
                  <a:rPr b="1" i="1" lang="es-ES" sz="8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088760" y="182880"/>
                <a:ext cx="1233720" cy="35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174280" y="4214520"/>
                <a:ext cx="0" cy="11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288400" y="455724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267" name=""/>
          <p:cNvGraphicFramePr/>
          <p:nvPr/>
        </p:nvGraphicFramePr>
        <p:xfrm>
          <a:off x="7086600" y="228600"/>
          <a:ext cx="1041480" cy="25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228600"/>
                    <a:ext cx="1041480" cy="2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Escasez de recurso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978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oferta es fini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demanda es un flujo por unidad de tiemp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iste un t &lt;infinito en el que se debería agotar el recurso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Medidas de escasez: medidas físic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eservas. Son las cantidades de mineral encontrados en la superficie que son conocidos y rentables de explotar con la tecnología y precios existentes.  Estos resultados muestran que muchos de nuestros minerales se estarían agotando dentro de un siglo o aún meno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s reservas no son estáticas, van creciendo a medida que aumenta la exploración y depósitos conocidos pero antieconómicos se vuelven rentables. (una vez que la industria tiene reservas de 20 o 30 años no tiene incentivos para invertir en el present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demás hay que agregar la producción secundaria que proviene del reciclaj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cKelvey diagra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229600" cy="538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uadro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" y="5334120"/>
            <a:ext cx="7086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% de crecimiento en la producción primaria indica un stock fijo de reser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edidas físicas:La base del recurs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8345520" cy="49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base del recurso incluye la cantidad total de minerales que existe en la superficie de la tierra (no incluye los oceano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escasez es solo física, económicamente puede ser rentable comenzar a explotar yacimientos descartados o sustituir insumos por otros más abundantes y barato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28880" y="2052720"/>
            <a:ext cx="7086600" cy="290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Medidas económica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3200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stos margina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ecios de merca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sto de us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4572000" y="1523520"/>
            <a:ext cx="0" cy="3505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5029200"/>
            <a:ext cx="41911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1816200"/>
            <a:ext cx="4038480" cy="2768400"/>
          </a:xfrm>
          <a:custGeom>
            <a:avLst/>
            <a:gdLst/>
            <a:ahLst/>
            <a:rect l="l" t="t" r="r" b="b"/>
            <a:pathLst>
              <a:path w="2544" h="1744">
                <a:moveTo>
                  <a:pt x="0" y="1736"/>
                </a:moveTo>
                <a:cubicBezTo>
                  <a:pt x="92" y="1740"/>
                  <a:pt x="184" y="1744"/>
                  <a:pt x="240" y="1736"/>
                </a:cubicBezTo>
                <a:cubicBezTo>
                  <a:pt x="296" y="1728"/>
                  <a:pt x="280" y="1704"/>
                  <a:pt x="336" y="1688"/>
                </a:cubicBezTo>
                <a:cubicBezTo>
                  <a:pt x="392" y="1672"/>
                  <a:pt x="504" y="1656"/>
                  <a:pt x="576" y="1640"/>
                </a:cubicBezTo>
                <a:cubicBezTo>
                  <a:pt x="648" y="1624"/>
                  <a:pt x="720" y="1616"/>
                  <a:pt x="768" y="1592"/>
                </a:cubicBezTo>
                <a:cubicBezTo>
                  <a:pt x="816" y="1568"/>
                  <a:pt x="824" y="1520"/>
                  <a:pt x="864" y="1496"/>
                </a:cubicBezTo>
                <a:cubicBezTo>
                  <a:pt x="904" y="1472"/>
                  <a:pt x="952" y="1472"/>
                  <a:pt x="1008" y="1448"/>
                </a:cubicBezTo>
                <a:cubicBezTo>
                  <a:pt x="1064" y="1424"/>
                  <a:pt x="1168" y="1384"/>
                  <a:pt x="1200" y="1352"/>
                </a:cubicBezTo>
                <a:cubicBezTo>
                  <a:pt x="1232" y="1320"/>
                  <a:pt x="1160" y="1296"/>
                  <a:pt x="1200" y="1256"/>
                </a:cubicBezTo>
                <a:cubicBezTo>
                  <a:pt x="1240" y="1216"/>
                  <a:pt x="1392" y="1160"/>
                  <a:pt x="1440" y="1112"/>
                </a:cubicBezTo>
                <a:cubicBezTo>
                  <a:pt x="1488" y="1064"/>
                  <a:pt x="1448" y="1000"/>
                  <a:pt x="1488" y="968"/>
                </a:cubicBezTo>
                <a:cubicBezTo>
                  <a:pt x="1528" y="936"/>
                  <a:pt x="1632" y="960"/>
                  <a:pt x="1680" y="920"/>
                </a:cubicBezTo>
                <a:cubicBezTo>
                  <a:pt x="1728" y="880"/>
                  <a:pt x="1720" y="768"/>
                  <a:pt x="1776" y="728"/>
                </a:cubicBezTo>
                <a:cubicBezTo>
                  <a:pt x="1832" y="688"/>
                  <a:pt x="1960" y="736"/>
                  <a:pt x="2016" y="680"/>
                </a:cubicBezTo>
                <a:cubicBezTo>
                  <a:pt x="2072" y="624"/>
                  <a:pt x="2072" y="448"/>
                  <a:pt x="2112" y="392"/>
                </a:cubicBezTo>
                <a:cubicBezTo>
                  <a:pt x="2152" y="336"/>
                  <a:pt x="2208" y="400"/>
                  <a:pt x="2256" y="344"/>
                </a:cubicBezTo>
                <a:cubicBezTo>
                  <a:pt x="2304" y="288"/>
                  <a:pt x="2352" y="112"/>
                  <a:pt x="2400" y="56"/>
                </a:cubicBezTo>
                <a:cubicBezTo>
                  <a:pt x="2448" y="0"/>
                  <a:pt x="2520" y="16"/>
                  <a:pt x="2544" y="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0" y="1981080"/>
            <a:ext cx="434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1981080"/>
            <a:ext cx="3733920" cy="38124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1752480"/>
            <a:ext cx="685800" cy="11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baseline="-25000">
                <a:solidFill>
                  <a:srgbClr val="000000"/>
                </a:solidFill>
                <a:latin typeface="Tahoma"/>
              </a:rPr>
              <a:t>C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2362320"/>
            <a:ext cx="3429000" cy="5331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2895480"/>
            <a:ext cx="3124080" cy="609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0" y="3505320"/>
            <a:ext cx="2362320" cy="4572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3962520"/>
            <a:ext cx="1905120" cy="304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0" y="4267080"/>
            <a:ext cx="1295280" cy="152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0" y="4419720"/>
            <a:ext cx="838080" cy="75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4495680"/>
            <a:ext cx="457200" cy="1526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48320" y="1981080"/>
            <a:ext cx="2971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1828800"/>
            <a:ext cx="3657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baseline="-25000">
                <a:solidFill>
                  <a:srgbClr val="ffffff"/>
                </a:solidFill>
                <a:latin typeface="Tahoma"/>
              </a:rPr>
              <a:t>Costo de u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2666880"/>
            <a:ext cx="2743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baseline="-25000">
                <a:solidFill>
                  <a:srgbClr val="000000"/>
                </a:solidFill>
                <a:latin typeface="Tahoma"/>
              </a:rPr>
              <a:t>Renta Ricardi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05920" y="23623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381560" y="5029200"/>
            <a:ext cx="380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772400" y="49528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Tahoma"/>
              </a:rPr>
              <a:t>Comportamiento del precio del cobr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0" y="1322280"/>
          <a:ext cx="8955000" cy="45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22280"/>
                    <a:ext cx="8955000" cy="45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77929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4724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ión del precio real del cobre contra una variable tendencia y tendencia cuadratica, sin corrección por autocorrelación usando 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sultados que replican a Slade (1982)</a:t>
            </a:r>
            <a:r>
              <a:rPr b="0" lang="es-E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ión por autocorrelación AR(1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4191120" y="1523880"/>
            <a:ext cx="4419360" cy="26035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724280" y="4267080"/>
            <a:ext cx="3733920" cy="220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"/>
          <p:cNvGrpSpPr/>
          <p:nvPr/>
        </p:nvGrpSpPr>
        <p:grpSpPr>
          <a:xfrm>
            <a:off x="304920" y="984240"/>
            <a:ext cx="7589520" cy="5041800"/>
            <a:chOff x="304920" y="984240"/>
            <a:chExt cx="7589520" cy="504180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304920" y="984240"/>
              <a:ext cx="3608280" cy="237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429120" y="3501720"/>
              <a:ext cx="3359520" cy="252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3"/>
            <a:stretch/>
          </p:blipFill>
          <p:spPr>
            <a:xfrm>
              <a:off x="4161960" y="984240"/>
              <a:ext cx="3732480" cy="230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"/>
          <p:cNvSpPr/>
          <p:nvPr/>
        </p:nvSpPr>
        <p:spPr>
          <a:xfrm>
            <a:off x="4114800" y="3505320"/>
            <a:ext cx="46483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gresión del precio real del cobre contra una tendencia lineal y cuadrática. A la izquierda arriba se incorporan una tendencia cubica y a la cuarta. Arriba a la derecha, el modelo se estima para el período 1850-1929. A la izquierda, el modelo se estima para el período 1930-1998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 77G: Tópicos Avanzados en Economía Ambiental y de Recursos Naturales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4T16:02:01Z</dcterms:created>
  <dc:creator>Universidad De Chile</dc:creator>
  <dc:description/>
  <dc:language>en-US</dc:language>
  <cp:lastModifiedBy>ANdres Ulloa</cp:lastModifiedBy>
  <dcterms:modified xsi:type="dcterms:W3CDTF">2004-10-18T22:13:26Z</dcterms:modified>
  <cp:revision>103</cp:revision>
  <dc:subject/>
  <dc:title>IN 77G "Tópicos Avanzados en Economía Ambiental y de Recursos Naturales"</dc:title>
</cp:coreProperties>
</file>