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25C-BCD9-4B0E-9F5A-197DED5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AFC-CB6A-49B3-A56A-9477B85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D0F-FB4B-43AC-AECA-D8FAE81D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3A8-F915-40AC-BE8D-C3FEC46F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F24-F602-4B2D-B5AB-BBC5618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FE1B-0E56-44EB-82F6-A1DA89EB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C30D-F09B-4383-AE73-DAECBAE7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E078-B617-411E-B07E-66850B7B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1D70-6919-43F0-ADF3-FB1A0DD3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9AEE-73C0-4D07-9EEF-05565C94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E22-F217-4C8F-AAC5-3BEE3613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440-A821-4B1D-B14A-CB55AEA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3D8-46A2-433F-8338-0BC45C1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5BD-2587-414F-B6A2-17169E8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0BD6-060E-4B33-8E8F-98E2FC2E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B148-ED65-46C1-A0DB-BB2F3966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929-9EB6-45E7-9116-484CD8B3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8EE-8DCD-4112-9171-DAAEA5D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B50-6EF2-4AE1-80DE-AD98CEB4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D64-D7E6-4088-A4D6-D4B1C7ED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F5C-BE62-416F-86DD-D975AD09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096-7F1D-4D23-992A-9099F90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B22-3EB7-4097-B924-5B39A3B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5D0-3CBB-41CD-AE49-2155FF7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5C6-23A9-4DD5-A222-D77BE402223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E249-28CA-4CF1-9CCF-3F65D6E376E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5640" y="1371600"/>
          <a:ext cx="81709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71600"/>
                    <a:ext cx="81709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35053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enta del recurso crecerá a una tasa menor porque el costo de extraer crece ya que las reservas se redu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con la fecha T de extracción comparada con el caso anterio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Mercado con costos decrecien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9920" y="1238040"/>
            <a:ext cx="880272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per de Eswaran y Tracy Lew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structura de costos es muy importante en la determi-nación de un equilibrio competitivo en una industria de recursos no renov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hay equilibrio si h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artida o costos de cier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 (costo medio en forma de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962520"/>
          <a:ext cx="54100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54100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649520"/>
          <a:ext cx="83246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649520"/>
                    <a:ext cx="83246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58960" y="3511440"/>
            <a:ext cx="14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8960" y="6006960"/>
            <a:ext cx="28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76760" y="600696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24080"/>
            <a:ext cx="93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505320"/>
            <a:ext cx="1752840" cy="1717560"/>
          </a:xfrm>
          <a:custGeom>
            <a:avLst/>
            <a:gdLst/>
            <a:ahLst/>
            <a:rect l="l" t="t" r="r" b="b"/>
            <a:pathLst>
              <a:path w="2160" h="728">
                <a:moveTo>
                  <a:pt x="0" y="0"/>
                </a:moveTo>
                <a:cubicBezTo>
                  <a:pt x="60" y="116"/>
                  <a:pt x="120" y="232"/>
                  <a:pt x="240" y="336"/>
                </a:cubicBezTo>
                <a:cubicBezTo>
                  <a:pt x="360" y="440"/>
                  <a:pt x="552" y="560"/>
                  <a:pt x="720" y="624"/>
                </a:cubicBezTo>
                <a:cubicBezTo>
                  <a:pt x="888" y="688"/>
                  <a:pt x="1080" y="712"/>
                  <a:pt x="1248" y="720"/>
                </a:cubicBezTo>
                <a:cubicBezTo>
                  <a:pt x="1416" y="728"/>
                  <a:pt x="1576" y="704"/>
                  <a:pt x="1728" y="672"/>
                </a:cubicBezTo>
                <a:cubicBezTo>
                  <a:pt x="1880" y="640"/>
                  <a:pt x="2020" y="584"/>
                  <a:pt x="2160" y="5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2670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181480"/>
            <a:ext cx="288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3880" y="617544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3520"/>
            <a:ext cx="144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320" y="3263760"/>
            <a:ext cx="28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3263760"/>
            <a:ext cx="2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3880"/>
            <a:ext cx="9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0574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4280" y="8254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362320"/>
            <a:ext cx="3240" cy="88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0" y="1152"/>
                </a:moveTo>
                <a:cubicBezTo>
                  <a:pt x="76" y="1024"/>
                  <a:pt x="152" y="896"/>
                  <a:pt x="240" y="816"/>
                </a:cubicBezTo>
                <a:cubicBezTo>
                  <a:pt x="328" y="736"/>
                  <a:pt x="456" y="704"/>
                  <a:pt x="528" y="672"/>
                </a:cubicBezTo>
                <a:cubicBezTo>
                  <a:pt x="600" y="640"/>
                  <a:pt x="632" y="648"/>
                  <a:pt x="672" y="624"/>
                </a:cubicBezTo>
                <a:cubicBezTo>
                  <a:pt x="712" y="600"/>
                  <a:pt x="736" y="568"/>
                  <a:pt x="768" y="528"/>
                </a:cubicBezTo>
                <a:cubicBezTo>
                  <a:pt x="800" y="488"/>
                  <a:pt x="840" y="432"/>
                  <a:pt x="864" y="384"/>
                </a:cubicBezTo>
                <a:cubicBezTo>
                  <a:pt x="888" y="336"/>
                  <a:pt x="896" y="288"/>
                  <a:pt x="912" y="240"/>
                </a:cubicBezTo>
                <a:cubicBezTo>
                  <a:pt x="928" y="192"/>
                  <a:pt x="944" y="136"/>
                  <a:pt x="960" y="96"/>
                </a:cubicBezTo>
                <a:cubicBezTo>
                  <a:pt x="976" y="56"/>
                  <a:pt x="1000" y="16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5800" y="190512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3349800"/>
          <a:ext cx="227160" cy="30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49800"/>
                    <a:ext cx="227160" cy="30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828800" y="6095880"/>
          <a:ext cx="2271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95880"/>
                    <a:ext cx="227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114800" y="160020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(t) es continuo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as las firmas extraen a la misma tasa (demostración pap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lución maximiza las utilidades de la fi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q(t) &gt;0 , T debe ser finito , porque las firmas tienen reservas finitas R(0)&lt;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de la CP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86200" y="4821120"/>
          <a:ext cx="5257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821120"/>
                    <a:ext cx="5257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i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ecio aumenta continuamente hasta T donde la firma produce en         y la producción de la industria es       y el precio es p(Nq). Después de T, la producción de la industria es cero y el precio de mercado es p(0)&gt;p(Nq). Ello implica una violación del supuesto de continuidad de P(t) y el precio del recurso salta a P(0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371600"/>
          <a:ext cx="41148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41148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343400" y="243828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305240" y="2895480"/>
          <a:ext cx="5335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895480"/>
                    <a:ext cx="533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410080" y="16002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49568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N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971800"/>
            <a:ext cx="121932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0" y="624"/>
                </a:moveTo>
                <a:cubicBezTo>
                  <a:pt x="320" y="364"/>
                  <a:pt x="640" y="104"/>
                  <a:pt x="76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2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39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o después de T, q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producción de la industria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 salta al precio má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oportunidades de arbitr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librio f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Eswarán,Lewis and Heaps, JP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ste modelo un equilibrio competitivo requiere que la extracción decline suavemente sobre el tiempo a cero y el precio aumente continuamente al precio lím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firmas no desean operar en la porción no convexa de la función de cos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derar depósitos heterogéneos e incertidumbre puede reestablecer la existencia de equilib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xplotación de 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costos solo dependen de la cantidad producida : C(t)=C(q(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ecio (p(t)) es exógeno, Las reservas son R(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dueño de la mina  resuelv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971800"/>
          <a:ext cx="641988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1988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C(.) es convexa,  las c.p.o. Son tab. Suficientes, entonces C´(.)&gt;0 , C’’(.)&gt;0. Reemplazando ii en i. Se tiene q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 curva de costo medio tiene forma de U sabemos que el empresario no producirá donde q*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  para  0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&lt;T. Y la mina cerrará (p(t)&gt;C(q*)/q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743200"/>
          <a:ext cx="876312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7631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o además podemos aplicar la condición terminal para problemas de horizonte de tiempo libre (transversalidad). Esta impl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ociendo el valor de T podríamos resolver el problema integrando en la segunda condición de ord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362320"/>
          <a:ext cx="899172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9172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638680"/>
          <a:ext cx="5105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638680"/>
                    <a:ext cx="510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a industria competitiva: TARE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rea: Considere una industria minera que tiene N minas y N dueños con costos de extracción dado por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) para cada mina i con reservas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l precio se determina por la producción agrega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s c.p.o para cada agente i. Suponga que cada uno tiene un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que puede no ser idén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 condición de transversalidad y evalue a t=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 como obtendría las soluciones para los N ag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ahora  N agentes idénticos y resuel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9880" y="2768760"/>
          <a:ext cx="20574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68760"/>
                    <a:ext cx="20574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1752480"/>
            <a:ext cx="7315200" cy="4041360"/>
            <a:chOff x="228600" y="1752480"/>
            <a:chExt cx="7315200" cy="4041360"/>
          </a:xfrm>
        </p:grpSpPr>
        <p:sp>
          <p:nvSpPr>
            <p:cNvPr id="121" name=""/>
            <p:cNvSpPr/>
            <p:nvPr/>
          </p:nvSpPr>
          <p:spPr>
            <a:xfrm>
              <a:off x="1066680" y="17524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0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" y="17524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895480"/>
              <a:ext cx="3429000" cy="1155960"/>
            </a:xfrm>
            <a:custGeom>
              <a:avLst/>
              <a:gdLst/>
              <a:ahLst/>
              <a:rect l="l" t="t" r="r" b="b"/>
              <a:pathLst>
                <a:path w="2160" h="728">
                  <a:moveTo>
                    <a:pt x="0" y="0"/>
                  </a:moveTo>
                  <a:cubicBezTo>
                    <a:pt x="60" y="116"/>
                    <a:pt x="120" y="232"/>
                    <a:pt x="240" y="336"/>
                  </a:cubicBezTo>
                  <a:cubicBezTo>
                    <a:pt x="360" y="440"/>
                    <a:pt x="552" y="560"/>
                    <a:pt x="720" y="624"/>
                  </a:cubicBezTo>
                  <a:cubicBezTo>
                    <a:pt x="888" y="688"/>
                    <a:pt x="1080" y="712"/>
                    <a:pt x="1248" y="720"/>
                  </a:cubicBezTo>
                  <a:cubicBezTo>
                    <a:pt x="1416" y="728"/>
                    <a:pt x="1576" y="704"/>
                    <a:pt x="1728" y="672"/>
                  </a:cubicBezTo>
                  <a:cubicBezTo>
                    <a:pt x="1880" y="640"/>
                    <a:pt x="2020" y="584"/>
                    <a:pt x="216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286000"/>
              <a:ext cx="2298600" cy="2222640"/>
            </a:xfrm>
            <a:custGeom>
              <a:avLst/>
              <a:gdLst/>
              <a:ahLst/>
              <a:rect l="l" t="t" r="r" b="b"/>
              <a:pathLst>
                <a:path w="1448" h="1400">
                  <a:moveTo>
                    <a:pt x="0" y="576"/>
                  </a:moveTo>
                  <a:cubicBezTo>
                    <a:pt x="24" y="732"/>
                    <a:pt x="48" y="888"/>
                    <a:pt x="96" y="1008"/>
                  </a:cubicBezTo>
                  <a:cubicBezTo>
                    <a:pt x="144" y="1128"/>
                    <a:pt x="208" y="1232"/>
                    <a:pt x="288" y="1296"/>
                  </a:cubicBezTo>
                  <a:cubicBezTo>
                    <a:pt x="368" y="1360"/>
                    <a:pt x="472" y="1384"/>
                    <a:pt x="576" y="1392"/>
                  </a:cubicBezTo>
                  <a:cubicBezTo>
                    <a:pt x="680" y="1400"/>
                    <a:pt x="832" y="1368"/>
                    <a:pt x="912" y="1344"/>
                  </a:cubicBezTo>
                  <a:cubicBezTo>
                    <a:pt x="992" y="1320"/>
                    <a:pt x="1008" y="1296"/>
                    <a:pt x="1056" y="1248"/>
                  </a:cubicBezTo>
                  <a:cubicBezTo>
                    <a:pt x="1104" y="1200"/>
                    <a:pt x="1160" y="1120"/>
                    <a:pt x="1200" y="1056"/>
                  </a:cubicBezTo>
                  <a:cubicBezTo>
                    <a:pt x="1240" y="992"/>
                    <a:pt x="1264" y="944"/>
                    <a:pt x="1296" y="864"/>
                  </a:cubicBezTo>
                  <a:cubicBezTo>
                    <a:pt x="1328" y="784"/>
                    <a:pt x="1368" y="672"/>
                    <a:pt x="1392" y="576"/>
                  </a:cubicBezTo>
                  <a:cubicBezTo>
                    <a:pt x="1416" y="480"/>
                    <a:pt x="1432" y="360"/>
                    <a:pt x="1440" y="288"/>
                  </a:cubicBezTo>
                  <a:cubicBezTo>
                    <a:pt x="1448" y="216"/>
                    <a:pt x="1440" y="192"/>
                    <a:pt x="1440" y="144"/>
                  </a:cubicBezTo>
                  <a:cubicBezTo>
                    <a:pt x="1440" y="96"/>
                    <a:pt x="1440" y="24"/>
                    <a:pt x="1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32767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=C(q)/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1828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43000" y="6015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firma represen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:Equilibrio no competi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40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I(q(t))=p(q(t))q(t) es la función de ingreso del monopolista se tiene que la condición de Hotelling s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71520" y="2743200"/>
          <a:ext cx="698184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2743200"/>
                    <a:ext cx="698184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61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monopolista le conviene reducir la oferta para así aumentar el preci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es óptimo agotar las reservas, el monopolista extenderá el período de ext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re el área bajo las dos cur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ambos enfrentan una curva de demanda con elasticidad constante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2096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5562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505320"/>
            <a:ext cx="327672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362320"/>
            <a:ext cx="167652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057400"/>
            <a:ext cx="2438640" cy="990720"/>
          </a:xfrm>
          <a:prstGeom prst="wedgeRoundRectCallout">
            <a:avLst>
              <a:gd name="adj1" fmla="val -47069"/>
              <a:gd name="adj2" fmla="val 73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505320"/>
            <a:ext cx="1905120" cy="761760"/>
          </a:xfrm>
          <a:prstGeom prst="wedgeRoundRectCallout">
            <a:avLst>
              <a:gd name="adj1" fmla="val -46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: Costos dependen de las reserv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928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se asume que C(.)=C(q(t),R(t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2133720"/>
          <a:ext cx="7010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010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2:24:06Z</dcterms:modified>
  <cp:revision>66</cp:revision>
  <dc:subject/>
  <dc:title>IN 77G "Tópicos Avanzados en Economía Ambiental y de Recursos Naturales"</dc:title>
</cp:coreProperties>
</file>