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55F03-68AC-49CE-A4AA-3EB1F6C75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4ED98-2A6C-4882-93CF-1CE3BF8F1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E82F9-12EE-496C-81D4-F15B04E44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9E33E-B8AA-4DC2-8E9F-D638772D4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C05EB-2779-4E17-A3F9-A92974C38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976C6-C022-4BBF-85C5-9B5ED8970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E0C7B-CC0A-40A3-8B6A-1EAE22A88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DDEAD-1100-4CF5-8488-28FA2BD3B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5FBA5-8B08-405F-9B97-EBCAE259D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142640" y="0"/>
            <a:ext cx="779292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B11B3-8C71-488D-B293-DD937107B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A1A5D-FA32-44F2-A616-18DF2C639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A1FDA-816E-448C-961C-B65F40A09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4836C-6F67-4D94-A356-AA8EC627C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C3F63-CD88-42D2-9754-CEE47F031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6FC49-9CC4-4D7B-8F77-F98645462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54119-1C30-4E7F-B158-F3B4DC2F2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1BD59-C343-40C4-A860-6B1D56C6D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ADE7D-C3B8-498C-A0FC-69F78CD96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E3CB3-63ED-4F90-82DF-F4445BFAF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748F5-FF91-45F2-8D20-03A3C8FB0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142640" y="0"/>
            <a:ext cx="779292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492BE-1FE4-40F7-A9D4-3FAE7B16B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67654-03AA-41A4-90B6-44BA66490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390BD-8F15-4DFC-A414-D0E5FF6D7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DD8C2-D224-4740-9889-2BCB22055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457200"/>
            <a:ext cx="1152360" cy="1052280"/>
            <a:chOff x="0" y="457200"/>
            <a:chExt cx="1152360" cy="1052280"/>
          </a:xfrm>
        </p:grpSpPr>
        <p:sp>
          <p:nvSpPr>
            <p:cNvPr id="1" name=""/>
            <p:cNvSpPr/>
            <p:nvPr/>
          </p:nvSpPr>
          <p:spPr>
            <a:xfrm>
              <a:off x="290520" y="565200"/>
              <a:ext cx="438120" cy="4744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73200" y="565200"/>
              <a:ext cx="328320" cy="4744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f0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414360" y="987480"/>
              <a:ext cx="422280" cy="4744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84080" y="987480"/>
              <a:ext cx="368280" cy="4744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33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914400"/>
              <a:ext cx="56016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635040" y="457200"/>
              <a:ext cx="31680" cy="105228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"/>
          <p:cNvSpPr/>
          <p:nvPr/>
        </p:nvSpPr>
        <p:spPr>
          <a:xfrm>
            <a:off x="304920" y="1066680"/>
            <a:ext cx="8226360" cy="76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1143000" y="6324480"/>
            <a:ext cx="6781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CD63E-D5A9-4B36-80E6-22709E6719AD}" type="slidenum">
              <a:rPr b="0" lang="es-E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50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1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4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E724A-2855-4A72-886F-3078D2486AF2}" type="slidenum">
              <a:rPr b="0" lang="es-E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3.wmf"/><Relationship Id="rId9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IN 77G "Tópicos Avanzados en Economía Ambiental y de Recursos Naturales"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Parte 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Prof. Andrés Ullo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IN 77G: Tópicos Avanzados en Economía Ambiental y de Recursos Natural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Caso III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485640" y="1371600"/>
          <a:ext cx="8170920" cy="190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5640" y="1371600"/>
                    <a:ext cx="8170920" cy="19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"/>
          <p:cNvSpPr/>
          <p:nvPr/>
        </p:nvSpPr>
        <p:spPr>
          <a:xfrm>
            <a:off x="380880" y="3505320"/>
            <a:ext cx="73152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La renta del recurso crecerá a una tasa menor porque el costo de extraer crece ya que las reservas se reduce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¿Qué pasa con la fecha T de extracción comparada con el caso anterior?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 77G: Tópicos Avanzados en Economía Ambiental y de Recursos Natural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Caso IV: Mercado con costos decrecient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69920" y="1238040"/>
            <a:ext cx="8802720" cy="45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aper de Eswaran y Tracy Lew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La estructura de costos es muy importante en la determi-nación de un equilibrio competitivo en una industria de recursos no renovabl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No hay equilibrio si ha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stos de partida o costos de cier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conomías de escala (costo medio en forma de U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1447920" y="3962520"/>
          <a:ext cx="5410080" cy="202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3962520"/>
                    <a:ext cx="5410080" cy="202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 77G: Tópicos Avanzados en Economía Ambiental y de Recursos Natural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Caso IV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409680" y="1649520"/>
          <a:ext cx="8324640" cy="370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9680" y="1649520"/>
                    <a:ext cx="8324640" cy="370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 77G: Tópicos Avanzados en Economía Ambiental y de Recursos Natural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Caso IV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858960" y="3511440"/>
            <a:ext cx="1440" cy="2495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858960" y="6006960"/>
            <a:ext cx="28429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776760" y="6006960"/>
            <a:ext cx="26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33520" y="3124080"/>
            <a:ext cx="939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C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Cm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838080" y="3505320"/>
            <a:ext cx="1752840" cy="1717560"/>
          </a:xfrm>
          <a:custGeom>
            <a:avLst/>
            <a:gdLst/>
            <a:ahLst/>
            <a:rect l="l" t="t" r="r" b="b"/>
            <a:pathLst>
              <a:path w="2160" h="728">
                <a:moveTo>
                  <a:pt x="0" y="0"/>
                </a:moveTo>
                <a:cubicBezTo>
                  <a:pt x="60" y="116"/>
                  <a:pt x="120" y="232"/>
                  <a:pt x="240" y="336"/>
                </a:cubicBezTo>
                <a:cubicBezTo>
                  <a:pt x="360" y="440"/>
                  <a:pt x="552" y="560"/>
                  <a:pt x="720" y="624"/>
                </a:cubicBezTo>
                <a:cubicBezTo>
                  <a:pt x="888" y="688"/>
                  <a:pt x="1080" y="712"/>
                  <a:pt x="1248" y="720"/>
                </a:cubicBezTo>
                <a:cubicBezTo>
                  <a:pt x="1416" y="728"/>
                  <a:pt x="1576" y="704"/>
                  <a:pt x="1728" y="672"/>
                </a:cubicBezTo>
                <a:cubicBezTo>
                  <a:pt x="1880" y="640"/>
                  <a:pt x="2020" y="584"/>
                  <a:pt x="2160" y="528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362320" y="4267080"/>
            <a:ext cx="132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C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905120" y="5181480"/>
            <a:ext cx="2880" cy="795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793880" y="6175440"/>
            <a:ext cx="62064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85800" y="533520"/>
            <a:ext cx="1440" cy="277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06320" y="3263760"/>
            <a:ext cx="28432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624120" y="3263760"/>
            <a:ext cx="262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28600" y="1523880"/>
            <a:ext cx="939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C(q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676520" y="2057400"/>
            <a:ext cx="132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754280" y="825480"/>
            <a:ext cx="56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Cm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828800" y="2362320"/>
            <a:ext cx="3240" cy="88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85800" y="1447920"/>
            <a:ext cx="1600200" cy="1828800"/>
          </a:xfrm>
          <a:custGeom>
            <a:avLst/>
            <a:gdLst/>
            <a:ahLst/>
            <a:rect l="l" t="t" r="r" b="b"/>
            <a:pathLst>
              <a:path w="1008" h="1152">
                <a:moveTo>
                  <a:pt x="0" y="1152"/>
                </a:moveTo>
                <a:cubicBezTo>
                  <a:pt x="76" y="1024"/>
                  <a:pt x="152" y="896"/>
                  <a:pt x="240" y="816"/>
                </a:cubicBezTo>
                <a:cubicBezTo>
                  <a:pt x="328" y="736"/>
                  <a:pt x="456" y="704"/>
                  <a:pt x="528" y="672"/>
                </a:cubicBezTo>
                <a:cubicBezTo>
                  <a:pt x="600" y="640"/>
                  <a:pt x="632" y="648"/>
                  <a:pt x="672" y="624"/>
                </a:cubicBezTo>
                <a:cubicBezTo>
                  <a:pt x="712" y="600"/>
                  <a:pt x="736" y="568"/>
                  <a:pt x="768" y="528"/>
                </a:cubicBezTo>
                <a:cubicBezTo>
                  <a:pt x="800" y="488"/>
                  <a:pt x="840" y="432"/>
                  <a:pt x="864" y="384"/>
                </a:cubicBezTo>
                <a:cubicBezTo>
                  <a:pt x="888" y="336"/>
                  <a:pt x="896" y="288"/>
                  <a:pt x="912" y="240"/>
                </a:cubicBezTo>
                <a:cubicBezTo>
                  <a:pt x="928" y="192"/>
                  <a:pt x="944" y="136"/>
                  <a:pt x="960" y="96"/>
                </a:cubicBezTo>
                <a:cubicBezTo>
                  <a:pt x="976" y="56"/>
                  <a:pt x="1000" y="16"/>
                  <a:pt x="1008" y="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685800" y="1905120"/>
            <a:ext cx="175248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752480" y="3349800"/>
          <a:ext cx="227160" cy="30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3349800"/>
                    <a:ext cx="227160" cy="30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" name=""/>
          <p:cNvGraphicFramePr/>
          <p:nvPr/>
        </p:nvGraphicFramePr>
        <p:xfrm>
          <a:off x="1828800" y="6095880"/>
          <a:ext cx="227160" cy="309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28800" y="6095880"/>
                    <a:ext cx="227160" cy="3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"/>
          <p:cNvSpPr/>
          <p:nvPr/>
        </p:nvSpPr>
        <p:spPr>
          <a:xfrm>
            <a:off x="4114800" y="1600200"/>
            <a:ext cx="5029200" cy="45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(t) es continuo ¿Por qué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todas las firmas extraen a la misma tasa (demostración paper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La solución maximiza las utilidades de la firm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i q(t) &gt;0 , T debe ser finito , porque las firmas tienen reservas finitas R(0)&lt;</a:t>
            </a:r>
            <a:r>
              <a:rPr b="0" lang="es-ES_tradnl" sz="2000" spc="-1" strike="noStrike">
                <a:solidFill>
                  <a:srgbClr val="000000"/>
                </a:solidFill>
                <a:latin typeface="Euclid Symbol"/>
                <a:ea typeface="Euclid Symbol"/>
              </a:rPr>
              <a:t>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Además de la CPO se tien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3886200" y="4821120"/>
          <a:ext cx="5257800" cy="2036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886200" y="4821120"/>
                    <a:ext cx="5257800" cy="203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6" name=""/>
          <p:cNvGraphicFramePr/>
          <p:nvPr/>
        </p:nvGraphicFramePr>
        <p:xfrm>
          <a:off x="0" y="0"/>
          <a:ext cx="914400" cy="179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0"/>
                    <a:ext cx="914400" cy="17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 77G: Tópicos Avanzados en Economía Ambiental y de Recursos Natural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Caso IV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-360" y="1905120"/>
            <a:ext cx="48769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Resumiendo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l precio aumenta continuamente hasta T donde la firma produce en         y la producción de la industria es       y el precio es p(Nq). Después de T, la producción de la industria es cero y el precio de mercado es p(0)&gt;p(Nq). Ello implica una violación del supuesto de continuidad de P(t) y el precio del recurso salta a P(0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685800" y="1371600"/>
          <a:ext cx="4114800" cy="498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371600"/>
                    <a:ext cx="4114800" cy="49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2" name=""/>
          <p:cNvGraphicFramePr/>
          <p:nvPr/>
        </p:nvGraphicFramePr>
        <p:xfrm>
          <a:off x="4343400" y="2438280"/>
          <a:ext cx="457200" cy="533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43400" y="2438280"/>
                    <a:ext cx="45720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4" name=""/>
          <p:cNvGraphicFramePr/>
          <p:nvPr/>
        </p:nvGraphicFramePr>
        <p:xfrm>
          <a:off x="4305240" y="2895480"/>
          <a:ext cx="533520" cy="420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305240" y="2895480"/>
                    <a:ext cx="533520" cy="42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6" name=""/>
          <p:cNvSpPr/>
          <p:nvPr/>
        </p:nvSpPr>
        <p:spPr>
          <a:xfrm>
            <a:off x="5410080" y="1600200"/>
            <a:ext cx="0" cy="2895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10080" y="4495680"/>
            <a:ext cx="33530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26668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p(Nq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410080" y="2971800"/>
            <a:ext cx="1219320" cy="990720"/>
          </a:xfrm>
          <a:custGeom>
            <a:avLst/>
            <a:gdLst/>
            <a:ahLst/>
            <a:rect l="l" t="t" r="r" b="b"/>
            <a:pathLst>
              <a:path w="768" h="624">
                <a:moveTo>
                  <a:pt x="0" y="624"/>
                </a:moveTo>
                <a:cubicBezTo>
                  <a:pt x="320" y="364"/>
                  <a:pt x="640" y="104"/>
                  <a:pt x="768" y="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682520" y="182880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p(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629400" y="2057400"/>
            <a:ext cx="1752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629400" y="4648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839080" y="449568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 77G: Tópicos Avanzados en Economía Ambiental y de Recursos Natural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Justo después de T, q cae a c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La producción de la industria cae a c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 salta al precio máxim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Hay oportunidades de arbitraj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l equilibrio fall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 77G: Tópicos Avanzados en Economía Ambiental y de Recursos Natural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Caso IV: Eswarán,Lewis and Heaps, JP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49780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n este modelo un equilibrio competitivo requiere que la extracción decline suavemente sobre el tiempo a cero y el precio aumente continuamente al precio límit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Las firmas no desean operar en la porción no convexa de la función de costo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onsiderar depósitos heterogéneos e incertidumbre puede reestablecer la existencia de equilibri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 77G: Tópicos Avanzados en Economía Ambiental y de Recursos Natural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Explotación de recursos no renovabl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447560"/>
            <a:ext cx="811692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aso I: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Los costos solo dependen de la cantidad producida : C(t)=C(q(t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l precio (p(t)) es exógeno, Las reservas son R(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l dueño de la mina  resuelve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304920" y="2971800"/>
          <a:ext cx="6419880" cy="3540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971800"/>
                    <a:ext cx="6419880" cy="354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 77G: Tópicos Avanzados en Economía Ambiental y de Recursos Natural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Caso I: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3160" y="1523880"/>
            <a:ext cx="84214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i C(.) es convexa,  las c.p.o. Son tab. Suficientes, entonces C´(.)&gt;0 , C’’(.)&gt;0. Reemplazando ii en i. Se tiene qu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i la curva de costo medio tiene forma de U sabemos que el empresario no producirá donde q*</a:t>
            </a:r>
            <a:r>
              <a:rPr b="0" lang="es-ES_tradnl" sz="2400" spc="-1" strike="noStrike">
                <a:solidFill>
                  <a:srgbClr val="000000"/>
                </a:solidFill>
                <a:latin typeface="Euclid Symbol"/>
                <a:ea typeface="Euclid Symbol"/>
              </a:rPr>
              <a:t>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q(t)  para  0 </a:t>
            </a:r>
            <a:r>
              <a:rPr b="0" lang="es-ES_tradnl" sz="2400" spc="-1" strike="noStrike">
                <a:solidFill>
                  <a:srgbClr val="000000"/>
                </a:solidFill>
                <a:latin typeface="Euclid Symbol"/>
                <a:ea typeface="Euclid Symbol"/>
              </a:rPr>
              <a:t>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t&lt;T. Y la mina cerrará (p(t)&gt;C(q*)/q*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380880" y="2743200"/>
          <a:ext cx="8763120" cy="194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743200"/>
                    <a:ext cx="8763120" cy="194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 77G: Tópicos Avanzados en Economía Ambiental y de Recursos Natural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842148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ero además podemos aplicar la condición terminal para problemas de horizonte de tiempo libre (transversalidad). Esta implic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onociendo el valor de T podríamos resolver el problema integrando en la segunda condición de orde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52280" y="2362320"/>
          <a:ext cx="8991720" cy="270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2362320"/>
                    <a:ext cx="8991720" cy="270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4" name=""/>
          <p:cNvGraphicFramePr/>
          <p:nvPr/>
        </p:nvGraphicFramePr>
        <p:xfrm>
          <a:off x="762120" y="5638680"/>
          <a:ext cx="5105160" cy="600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5638680"/>
                    <a:ext cx="5105160" cy="60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 77G: Tópicos Avanzados en Economía Ambiental y de Recursos Natural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La industria competitiva: TAREA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497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Tarea: Considere una industria minera que tiene N minas y N dueños con costos de extracción dado por 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(q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(t)) para cada mina i con reservas R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. El precio se determina por la producción agregad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ncuentre las c.p.o para cada agente i. Suponga que cada uno tiene un T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que puede no ser idéntic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ncuentre la condición de transversalidad y evalue a t=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Muestre como obtendría las soluciones para los N agent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uponga ahora  N agentes idénticos y resuelv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3809880" y="2768760"/>
          <a:ext cx="2057400" cy="127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9880" y="2768760"/>
                    <a:ext cx="2057400" cy="127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 77G: Tópicos Avanzados en Economía Ambiental y de Recursos Natural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"/>
          <p:cNvGrpSpPr/>
          <p:nvPr/>
        </p:nvGrpSpPr>
        <p:grpSpPr>
          <a:xfrm>
            <a:off x="228600" y="1752480"/>
            <a:ext cx="7315200" cy="4041360"/>
            <a:chOff x="228600" y="1752480"/>
            <a:chExt cx="7315200" cy="4041360"/>
          </a:xfrm>
        </p:grpSpPr>
        <p:sp>
          <p:nvSpPr>
            <p:cNvPr id="121" name=""/>
            <p:cNvSpPr/>
            <p:nvPr/>
          </p:nvSpPr>
          <p:spPr>
            <a:xfrm>
              <a:off x="1066680" y="1752480"/>
              <a:ext cx="0" cy="335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066680" y="5105520"/>
              <a:ext cx="5791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010280" y="51055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28600" y="1752480"/>
              <a:ext cx="91440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ahoma"/>
                </a:rPr>
                <a:t>Cm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ahoma"/>
                </a:rPr>
                <a:t>Cm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143000" y="2895480"/>
              <a:ext cx="3429000" cy="1155960"/>
            </a:xfrm>
            <a:custGeom>
              <a:avLst/>
              <a:gdLst/>
              <a:ahLst/>
              <a:rect l="l" t="t" r="r" b="b"/>
              <a:pathLst>
                <a:path w="2160" h="728">
                  <a:moveTo>
                    <a:pt x="0" y="0"/>
                  </a:moveTo>
                  <a:cubicBezTo>
                    <a:pt x="60" y="116"/>
                    <a:pt x="120" y="232"/>
                    <a:pt x="240" y="336"/>
                  </a:cubicBezTo>
                  <a:cubicBezTo>
                    <a:pt x="360" y="440"/>
                    <a:pt x="552" y="560"/>
                    <a:pt x="720" y="624"/>
                  </a:cubicBezTo>
                  <a:cubicBezTo>
                    <a:pt x="888" y="688"/>
                    <a:pt x="1080" y="712"/>
                    <a:pt x="1248" y="720"/>
                  </a:cubicBezTo>
                  <a:cubicBezTo>
                    <a:pt x="1416" y="728"/>
                    <a:pt x="1576" y="704"/>
                    <a:pt x="1728" y="672"/>
                  </a:cubicBezTo>
                  <a:cubicBezTo>
                    <a:pt x="1880" y="640"/>
                    <a:pt x="2020" y="584"/>
                    <a:pt x="2160" y="52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219320" y="2286000"/>
              <a:ext cx="2298600" cy="2222640"/>
            </a:xfrm>
            <a:custGeom>
              <a:avLst/>
              <a:gdLst/>
              <a:ahLst/>
              <a:rect l="l" t="t" r="r" b="b"/>
              <a:pathLst>
                <a:path w="1448" h="1400">
                  <a:moveTo>
                    <a:pt x="0" y="576"/>
                  </a:moveTo>
                  <a:cubicBezTo>
                    <a:pt x="24" y="732"/>
                    <a:pt x="48" y="888"/>
                    <a:pt x="96" y="1008"/>
                  </a:cubicBezTo>
                  <a:cubicBezTo>
                    <a:pt x="144" y="1128"/>
                    <a:pt x="208" y="1232"/>
                    <a:pt x="288" y="1296"/>
                  </a:cubicBezTo>
                  <a:cubicBezTo>
                    <a:pt x="368" y="1360"/>
                    <a:pt x="472" y="1384"/>
                    <a:pt x="576" y="1392"/>
                  </a:cubicBezTo>
                  <a:cubicBezTo>
                    <a:pt x="680" y="1400"/>
                    <a:pt x="832" y="1368"/>
                    <a:pt x="912" y="1344"/>
                  </a:cubicBezTo>
                  <a:cubicBezTo>
                    <a:pt x="992" y="1320"/>
                    <a:pt x="1008" y="1296"/>
                    <a:pt x="1056" y="1248"/>
                  </a:cubicBezTo>
                  <a:cubicBezTo>
                    <a:pt x="1104" y="1200"/>
                    <a:pt x="1160" y="1120"/>
                    <a:pt x="1200" y="1056"/>
                  </a:cubicBezTo>
                  <a:cubicBezTo>
                    <a:pt x="1240" y="992"/>
                    <a:pt x="1264" y="944"/>
                    <a:pt x="1296" y="864"/>
                  </a:cubicBezTo>
                  <a:cubicBezTo>
                    <a:pt x="1328" y="784"/>
                    <a:pt x="1368" y="672"/>
                    <a:pt x="1392" y="576"/>
                  </a:cubicBezTo>
                  <a:cubicBezTo>
                    <a:pt x="1416" y="480"/>
                    <a:pt x="1432" y="360"/>
                    <a:pt x="1440" y="288"/>
                  </a:cubicBezTo>
                  <a:cubicBezTo>
                    <a:pt x="1448" y="216"/>
                    <a:pt x="1440" y="192"/>
                    <a:pt x="1440" y="144"/>
                  </a:cubicBezTo>
                  <a:cubicBezTo>
                    <a:pt x="1440" y="96"/>
                    <a:pt x="1440" y="24"/>
                    <a:pt x="144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495680" y="3276720"/>
              <a:ext cx="198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ahoma"/>
                </a:rPr>
                <a:t>Cme=C(q)/q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200400" y="1828800"/>
              <a:ext cx="114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ahoma"/>
                </a:rPr>
                <a:t>Cm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124080" y="4038480"/>
              <a:ext cx="0" cy="106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971800" y="53341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ahoma"/>
                </a:rPr>
                <a:t>q*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1143000" y="60156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Una firma representati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 77G: Tópicos Avanzados en Economía Ambiental y de Recursos Natural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Caso ii:Equilibrio no competitivo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14040" y="1523880"/>
            <a:ext cx="8040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i I(q(t))=p(q(t))q(t) es la función de ingreso del monopolista se tiene que la condición de Hotelling serí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¿Cómo se compara el equilibrio competitivo con el equilibrio monopólico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1271520" y="2743200"/>
          <a:ext cx="6981840" cy="194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71520" y="2743200"/>
                    <a:ext cx="6981840" cy="194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 77G: Tópicos Avanzados en Economía Ambiental y de Recursos Natural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ahoma"/>
              </a:rPr>
              <a:t>¿Cómo se compara el equilibrio competitivo con el equilibrio monopólico?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6119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Al monopolista le conviene reducir la oferta para así aumentar el precio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omo es óptimo agotar las reservas, el monopolista extenderá el período de extracció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ompare el área bajo las dos curv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¿Qué pasa si ambos enfrentan una curva de demanda con elasticidad constante?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5257800" y="2209680"/>
            <a:ext cx="0" cy="3353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257800" y="55627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724280" y="22860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q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8153280" y="5638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257800" y="3505320"/>
            <a:ext cx="3276720" cy="1981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257800" y="2362320"/>
            <a:ext cx="1676520" cy="32004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638680" y="2057400"/>
            <a:ext cx="2438640" cy="990720"/>
          </a:xfrm>
          <a:prstGeom prst="wedgeRoundRectCallout">
            <a:avLst>
              <a:gd name="adj1" fmla="val -47069"/>
              <a:gd name="adj2" fmla="val 73078"/>
              <a:gd name="adj3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ompete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781680" y="3505320"/>
            <a:ext cx="1905120" cy="761760"/>
          </a:xfrm>
          <a:prstGeom prst="wedgeRoundRectCallout">
            <a:avLst>
              <a:gd name="adj1" fmla="val -46750"/>
              <a:gd name="adj2" fmla="val 7000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Monopol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 77G: Tópicos Avanzados en Economía Ambiental y de Recursos Natural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Caso iii: Costos dependen de las reserva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19288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Ahora se asume que C(.)=C(q(t),R(t)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457200" y="2133720"/>
          <a:ext cx="7010280" cy="386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133720"/>
                    <a:ext cx="7010280" cy="386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 77G: Tópicos Avanzados en Economía Ambiental y de Recursos Natural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04T16:02:01Z</dcterms:created>
  <dc:creator>Universidad De Chile</dc:creator>
  <dc:description/>
  <dc:language>en-US</dc:language>
  <cp:lastModifiedBy>Andres Ulloa</cp:lastModifiedBy>
  <dcterms:modified xsi:type="dcterms:W3CDTF">2003-08-25T02:24:06Z</dcterms:modified>
  <cp:revision>66</cp:revision>
  <dc:subject/>
  <dc:title>IN 77G "Tópicos Avanzados en Economía Ambiental y de Recursos Naturales"</dc:title>
</cp:coreProperties>
</file>