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AB1-D6B1-4E3C-8513-3A0EC527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BC62-6553-483D-86E9-7B7DE918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AA11-9953-4AAA-92E5-62537887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2A6-D650-49E7-866A-4695FB7F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493B-58DC-4404-8ACF-ED6209AC7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49BF-88E7-4494-9657-3EEBAE1B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B0E5-844E-481F-A76B-63E57C6E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6661-444D-4510-9FB7-7CEF791A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95D9-6BF3-44B8-A9FB-B0DD4E63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796B-83F2-4F2A-AF70-F0920744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5BDF-6D0E-4885-848B-BD34028D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CA2-8CDC-4D47-A8F3-9D7F7988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32D7-906E-47A4-A78B-B7437139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8096-E098-423E-94DF-830567C8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FB91-E4E2-4E4B-9806-23C4C593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7DE1-414D-4D1F-8ADF-6A9BF65E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7838-D3A9-4DD6-8D9E-2C42EED6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663-8DB8-464B-8295-1E1D3FB4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46C-5620-4867-A275-A480990C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91E-375B-47DF-BEF1-8F0883CD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D3A-488E-4BC2-A86E-675A6BEB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658-A6F2-4D6F-B5E8-0C8BCB5A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41E-106F-458E-97F8-A6254320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B86-38F5-4B3B-B2C1-D9747A6A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4966-60B9-4A91-A9E5-573E884DEEA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FFFC-FD9A-40E6-93B8-0A868BAF0BDF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I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85640" y="1371600"/>
          <a:ext cx="817092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371600"/>
                    <a:ext cx="81709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0880" y="3505320"/>
            <a:ext cx="7315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renta del recurso crecerá a una tasa menor porque el costo de extraer crece ya que las reservas se reduc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pasa con la fecha T de extracción comparada con el caso anterior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: Mercado con costos decrecien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9920" y="1238040"/>
            <a:ext cx="8802720" cy="45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per de Eswaran y Tracy Lew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estructura de costos es muy importante en la determi-nación de un equilibrio competitivo en una industria de recursos no renov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hay equilibrio si h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partida o costos de cier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conomías de escala (costo medio en forma de 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3962520"/>
          <a:ext cx="54100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62520"/>
                    <a:ext cx="54100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09680" y="1649520"/>
          <a:ext cx="8324640" cy="37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649520"/>
                    <a:ext cx="8324640" cy="37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58960" y="3511440"/>
            <a:ext cx="1440" cy="24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8960" y="6006960"/>
            <a:ext cx="28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76760" y="6006960"/>
            <a:ext cx="26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3124080"/>
            <a:ext cx="939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3505320"/>
            <a:ext cx="1752840" cy="1717560"/>
          </a:xfrm>
          <a:custGeom>
            <a:avLst/>
            <a:gdLst/>
            <a:ahLst/>
            <a:rect l="l" t="t" r="r" b="b"/>
            <a:pathLst>
              <a:path w="2160" h="728">
                <a:moveTo>
                  <a:pt x="0" y="0"/>
                </a:moveTo>
                <a:cubicBezTo>
                  <a:pt x="60" y="116"/>
                  <a:pt x="120" y="232"/>
                  <a:pt x="240" y="336"/>
                </a:cubicBezTo>
                <a:cubicBezTo>
                  <a:pt x="360" y="440"/>
                  <a:pt x="552" y="560"/>
                  <a:pt x="720" y="624"/>
                </a:cubicBezTo>
                <a:cubicBezTo>
                  <a:pt x="888" y="688"/>
                  <a:pt x="1080" y="712"/>
                  <a:pt x="1248" y="720"/>
                </a:cubicBezTo>
                <a:cubicBezTo>
                  <a:pt x="1416" y="728"/>
                  <a:pt x="1576" y="704"/>
                  <a:pt x="1728" y="672"/>
                </a:cubicBezTo>
                <a:cubicBezTo>
                  <a:pt x="1880" y="640"/>
                  <a:pt x="2020" y="584"/>
                  <a:pt x="2160" y="52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26708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5181480"/>
            <a:ext cx="2880" cy="79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3880" y="6175440"/>
            <a:ext cx="620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533520"/>
            <a:ext cx="1440" cy="277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6320" y="3263760"/>
            <a:ext cx="284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3263760"/>
            <a:ext cx="2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523880"/>
            <a:ext cx="93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(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0574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54280" y="8254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C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2362320"/>
            <a:ext cx="3240" cy="88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447920"/>
            <a:ext cx="1600200" cy="1828800"/>
          </a:xfrm>
          <a:custGeom>
            <a:avLst/>
            <a:gdLst/>
            <a:ahLst/>
            <a:rect l="l" t="t" r="r" b="b"/>
            <a:pathLst>
              <a:path w="1008" h="1152">
                <a:moveTo>
                  <a:pt x="0" y="1152"/>
                </a:moveTo>
                <a:cubicBezTo>
                  <a:pt x="76" y="1024"/>
                  <a:pt x="152" y="896"/>
                  <a:pt x="240" y="816"/>
                </a:cubicBezTo>
                <a:cubicBezTo>
                  <a:pt x="328" y="736"/>
                  <a:pt x="456" y="704"/>
                  <a:pt x="528" y="672"/>
                </a:cubicBezTo>
                <a:cubicBezTo>
                  <a:pt x="600" y="640"/>
                  <a:pt x="632" y="648"/>
                  <a:pt x="672" y="624"/>
                </a:cubicBezTo>
                <a:cubicBezTo>
                  <a:pt x="712" y="600"/>
                  <a:pt x="736" y="568"/>
                  <a:pt x="768" y="528"/>
                </a:cubicBezTo>
                <a:cubicBezTo>
                  <a:pt x="800" y="488"/>
                  <a:pt x="840" y="432"/>
                  <a:pt x="864" y="384"/>
                </a:cubicBezTo>
                <a:cubicBezTo>
                  <a:pt x="888" y="336"/>
                  <a:pt x="896" y="288"/>
                  <a:pt x="912" y="240"/>
                </a:cubicBezTo>
                <a:cubicBezTo>
                  <a:pt x="928" y="192"/>
                  <a:pt x="944" y="136"/>
                  <a:pt x="960" y="96"/>
                </a:cubicBezTo>
                <a:cubicBezTo>
                  <a:pt x="976" y="56"/>
                  <a:pt x="1000" y="16"/>
                  <a:pt x="1008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85800" y="190512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752480" y="3349800"/>
          <a:ext cx="227160" cy="30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349800"/>
                    <a:ext cx="227160" cy="30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828800" y="6095880"/>
          <a:ext cx="22716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6095880"/>
                    <a:ext cx="2271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4114800" y="1600200"/>
            <a:ext cx="502920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(t) es continuo ¿Por qué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as las firmas extraen a la misma tasa (demostración pap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solución maximiza las utilidades de la fi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q(t) &gt;0 , T debe ser finito , porque las firmas tienen reservas finitas R(0)&lt;</a:t>
            </a:r>
            <a:r>
              <a:rPr b="0" lang="es-ES_tradnl" sz="20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demás de la CPO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886200" y="4821120"/>
          <a:ext cx="5257800" cy="20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821120"/>
                    <a:ext cx="525780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0" y="0"/>
          <a:ext cx="914400" cy="17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91440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4876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umien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precio aumenta continuamente hasta T donde la firma produce en         y la producción de la industria es       y el precio es p(Nq). Después de T, la producción de la industria es cero y el precio de mercado es p(0)&gt;p(Nq). Ello implica una violación del supuesto de continuidad de P(t) y el precio del recurso salta a P(0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1371600"/>
          <a:ext cx="4114800" cy="4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41148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343400" y="2438280"/>
          <a:ext cx="45720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43828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305240" y="2895480"/>
          <a:ext cx="53352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05240" y="2895480"/>
                    <a:ext cx="53352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410080" y="160020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4495680"/>
            <a:ext cx="335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2666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(N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971800"/>
            <a:ext cx="1219320" cy="99072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0" y="624"/>
                </a:moveTo>
                <a:cubicBezTo>
                  <a:pt x="320" y="364"/>
                  <a:pt x="640" y="104"/>
                  <a:pt x="768" y="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2520" y="1828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629400" y="20574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39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o después de T, q cae a c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producción de la industria cae a c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 salta al precio máx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oportunidades de arbitra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quilibrio fa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V: Eswarán,Lewis and Heaps, JP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97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ste modelo un equilibrio competitivo requiere que la extracción decline suavemente sobre el tiempo a cero y el precio aumente continuamente al precio lími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firmas no desean operar en la porción no convexa de la función de cost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iderar depósitos heterogéneos e incertidumbre puede reestablecer la existencia de equilib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xplotación de recursos no renovabl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11692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I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costos solo dependen de la cantidad producida : C(t)=C(q(t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ecio (p(t)) es exógeno, Las reservas son R(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dueño de la mina  resuelv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2971800"/>
          <a:ext cx="641988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641988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21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C(.) es convexa,  las c.p.o. Son tab. Suficientes, entonces C´(.)&gt;0 , C’’(.)&gt;0. Reemplazando ii en i. Se tiene qu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la curva de costo medio tiene forma de U sabemos que el empresario no producirá donde q*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(t)  para  0 </a:t>
            </a:r>
            <a:r>
              <a:rPr b="0" lang="es-ES_tradnl" sz="2400" spc="-1" strike="noStrike">
                <a:solidFill>
                  <a:srgbClr val="000000"/>
                </a:solidFill>
                <a:latin typeface="Euclid Symbol"/>
                <a:ea typeface="Euclid 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&lt;T. Y la mina cerrará (p(t)&gt;C(q*)/q*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2743200"/>
          <a:ext cx="8763120" cy="19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743200"/>
                    <a:ext cx="876312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4214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ro además podemos aplicar la condición terminal para problemas de horizonte de tiempo libre (transversalidad). Esta implic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ociendo el valor de T podríamos resolver el problema integrando en la segunda condición de orde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280" y="2362320"/>
          <a:ext cx="8991720" cy="27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991720" cy="27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120" y="5638680"/>
          <a:ext cx="510516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638680"/>
                    <a:ext cx="51051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a industria competitiva: TARE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97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area: Considere una industria minera que tiene N minas y N dueños con costos de extracción dado por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q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t)) para cada mina i con reservas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 El precio se determina por la producción agrega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cuentre las c.p.o para cada agente i. Suponga que cada uno tiene un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que puede no ser idén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cuentre la condición de transversalidad y evalue a t=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e como obtendría las soluciones para los N ag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ahora  N agentes idénticos y resuel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9880" y="2768760"/>
          <a:ext cx="205740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768760"/>
                    <a:ext cx="20574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1752480"/>
            <a:ext cx="7315200" cy="4041360"/>
            <a:chOff x="228600" y="1752480"/>
            <a:chExt cx="7315200" cy="4041360"/>
          </a:xfrm>
        </p:grpSpPr>
        <p:sp>
          <p:nvSpPr>
            <p:cNvPr id="121" name=""/>
            <p:cNvSpPr/>
            <p:nvPr/>
          </p:nvSpPr>
          <p:spPr>
            <a:xfrm>
              <a:off x="1066680" y="17524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66680" y="5105520"/>
              <a:ext cx="57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1028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" y="1752480"/>
              <a:ext cx="9144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3000" y="2895480"/>
              <a:ext cx="3429000" cy="1155960"/>
            </a:xfrm>
            <a:custGeom>
              <a:avLst/>
              <a:gdLst/>
              <a:ahLst/>
              <a:rect l="l" t="t" r="r" b="b"/>
              <a:pathLst>
                <a:path w="2160" h="728">
                  <a:moveTo>
                    <a:pt x="0" y="0"/>
                  </a:moveTo>
                  <a:cubicBezTo>
                    <a:pt x="60" y="116"/>
                    <a:pt x="120" y="232"/>
                    <a:pt x="240" y="336"/>
                  </a:cubicBezTo>
                  <a:cubicBezTo>
                    <a:pt x="360" y="440"/>
                    <a:pt x="552" y="560"/>
                    <a:pt x="720" y="624"/>
                  </a:cubicBezTo>
                  <a:cubicBezTo>
                    <a:pt x="888" y="688"/>
                    <a:pt x="1080" y="712"/>
                    <a:pt x="1248" y="720"/>
                  </a:cubicBezTo>
                  <a:cubicBezTo>
                    <a:pt x="1416" y="728"/>
                    <a:pt x="1576" y="704"/>
                    <a:pt x="1728" y="672"/>
                  </a:cubicBezTo>
                  <a:cubicBezTo>
                    <a:pt x="1880" y="640"/>
                    <a:pt x="2020" y="584"/>
                    <a:pt x="2160" y="5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9320" y="2286000"/>
              <a:ext cx="2298600" cy="2222640"/>
            </a:xfrm>
            <a:custGeom>
              <a:avLst/>
              <a:gdLst/>
              <a:ahLst/>
              <a:rect l="l" t="t" r="r" b="b"/>
              <a:pathLst>
                <a:path w="1448" h="1400">
                  <a:moveTo>
                    <a:pt x="0" y="576"/>
                  </a:moveTo>
                  <a:cubicBezTo>
                    <a:pt x="24" y="732"/>
                    <a:pt x="48" y="888"/>
                    <a:pt x="96" y="1008"/>
                  </a:cubicBezTo>
                  <a:cubicBezTo>
                    <a:pt x="144" y="1128"/>
                    <a:pt x="208" y="1232"/>
                    <a:pt x="288" y="1296"/>
                  </a:cubicBezTo>
                  <a:cubicBezTo>
                    <a:pt x="368" y="1360"/>
                    <a:pt x="472" y="1384"/>
                    <a:pt x="576" y="1392"/>
                  </a:cubicBezTo>
                  <a:cubicBezTo>
                    <a:pt x="680" y="1400"/>
                    <a:pt x="832" y="1368"/>
                    <a:pt x="912" y="1344"/>
                  </a:cubicBezTo>
                  <a:cubicBezTo>
                    <a:pt x="992" y="1320"/>
                    <a:pt x="1008" y="1296"/>
                    <a:pt x="1056" y="1248"/>
                  </a:cubicBezTo>
                  <a:cubicBezTo>
                    <a:pt x="1104" y="1200"/>
                    <a:pt x="1160" y="1120"/>
                    <a:pt x="1200" y="1056"/>
                  </a:cubicBezTo>
                  <a:cubicBezTo>
                    <a:pt x="1240" y="992"/>
                    <a:pt x="1264" y="944"/>
                    <a:pt x="1296" y="864"/>
                  </a:cubicBezTo>
                  <a:cubicBezTo>
                    <a:pt x="1328" y="784"/>
                    <a:pt x="1368" y="672"/>
                    <a:pt x="1392" y="576"/>
                  </a:cubicBezTo>
                  <a:cubicBezTo>
                    <a:pt x="1416" y="480"/>
                    <a:pt x="1432" y="360"/>
                    <a:pt x="1440" y="288"/>
                  </a:cubicBezTo>
                  <a:cubicBezTo>
                    <a:pt x="1448" y="216"/>
                    <a:pt x="1440" y="192"/>
                    <a:pt x="1440" y="144"/>
                  </a:cubicBezTo>
                  <a:cubicBezTo>
                    <a:pt x="1440" y="96"/>
                    <a:pt x="1440" y="24"/>
                    <a:pt x="1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5680" y="327672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e=C(q)/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0400" y="1828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C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038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q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143000" y="6015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firma represent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i:Equilibrio no competitiv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40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I(q(t))=p(q(t))q(t) es la función de ingreso del monopolista se tiene que la condición de Hotelling serí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ómo se compara el equilibrio competitivo con el equilibrio monopólic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71520" y="2743200"/>
          <a:ext cx="6981840" cy="194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2743200"/>
                    <a:ext cx="6981840" cy="19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¿Cómo se compara el equilibrio competitivo con el equilibrio monopólico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6119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 monopolista le conviene reducir la oferta para así aumentar el preci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o es óptimo agotar las reservas, el monopolista extenderá el período de extra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re el área bajo las dos cur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 pasa si ambos enfrentan una curva de demanda con elasticidad constante?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22096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5562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286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53280" y="5638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505320"/>
            <a:ext cx="3276720" cy="1981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2362320"/>
            <a:ext cx="1676520" cy="3200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38680" y="2057400"/>
            <a:ext cx="2438640" cy="990720"/>
          </a:xfrm>
          <a:prstGeom prst="wedgeRoundRectCallout">
            <a:avLst>
              <a:gd name="adj1" fmla="val -47069"/>
              <a:gd name="adj2" fmla="val 7307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3505320"/>
            <a:ext cx="1905120" cy="761760"/>
          </a:xfrm>
          <a:prstGeom prst="wedgeRoundRectCallout">
            <a:avLst>
              <a:gd name="adj1" fmla="val -46750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nop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so iii: Costos dependen de las reserv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9288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se asume que C(.)=C(q(t),R(t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2133720"/>
          <a:ext cx="7010280" cy="38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133720"/>
                    <a:ext cx="7010280" cy="38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3-08-25T02:24:06Z</dcterms:modified>
  <cp:revision>66</cp:revision>
  <dc:subject/>
  <dc:title>IN 77G "Tópicos Avanzados en Economía Ambiental y de Recursos Naturales"</dc:title>
</cp:coreProperties>
</file>