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AD77-F6B5-41B4-B00A-AB222D93F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E4B2-975C-44A5-B989-FB758615E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D849-6A90-4552-9900-247C2A675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0EE9-1933-4543-A634-162F1DF04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7F72A-EC4A-47DE-8BD7-77269128A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DF3EC-9A05-4225-B54D-CDDC7C42C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4D724-CFF2-479B-809F-EBE8D3821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5114A-134A-4DB1-B8B9-9026E0425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516CB-0A60-4C83-BCB6-217885886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42640" y="0"/>
            <a:ext cx="77929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7E87E-35A7-4CEF-BB52-78FE95E3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806A3-8B33-44BB-9704-4D482588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27C2-3CE6-429B-A6E2-AC6111D7F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1BF96-C9F9-491A-804E-5629785A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9F554-88A8-4653-90BD-B234D25A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3215F-4DF6-46E1-8681-719E8DDB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E34B6-0748-4D27-9903-E52AF1096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CED70-A5E6-424F-97B3-1113B6283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9985-BFEE-4B4E-A488-7848BF26B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EDE2-DB4B-45E5-A6F6-A6A69E015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E908-F875-4B65-BF83-5EF03A234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42640" y="0"/>
            <a:ext cx="77929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F83E-439E-46A7-B243-C29C41DD5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9078-4B4C-4FCF-BFDE-779A97A9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EA67-8D6D-40BA-84D0-8038010C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55AD-00E4-49C2-8150-ECFEF355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457200"/>
            <a:ext cx="1152360" cy="1052280"/>
            <a:chOff x="0" y="457200"/>
            <a:chExt cx="1152360" cy="1052280"/>
          </a:xfrm>
        </p:grpSpPr>
        <p:sp>
          <p:nvSpPr>
            <p:cNvPr id="1" name=""/>
            <p:cNvSpPr/>
            <p:nvPr/>
          </p:nvSpPr>
          <p:spPr>
            <a:xfrm>
              <a:off x="290520" y="5652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73200" y="56520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14360" y="9874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080" y="9874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914400"/>
              <a:ext cx="56016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35040" y="45720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304920" y="1066680"/>
            <a:ext cx="822636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1143000" y="6324480"/>
            <a:ext cx="6781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F716B-77AF-402C-8C55-CE63A329B4EB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A1E4B-3994-4436-9F75-B6F95A779A68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N 77G "Tópicos Avanzados en Economía Ambiental y de Recursos Naturales"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arte 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of. Andrés Ullo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36680" y="1447920"/>
            <a:ext cx="82692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a política es una secuencia de reglas de decisión factibles (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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(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) que especifican la acción corriente dada la historia parc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58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s-ES_tradnl" sz="20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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espacio de política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na política induce una historia, 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58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s-ES_tradnl" sz="20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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58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ecuación de transición serí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58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=f(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,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=f(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s-ES_tradnl" sz="20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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) ;  dado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=(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,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,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58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s-ES_tradnl" sz="20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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 , la ecuación de transición sería 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58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=f(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s-ES_tradnl" sz="20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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),...........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58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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{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, 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,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,,..., 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58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343400" y="3070080"/>
          <a:ext cx="3581280" cy="7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3070080"/>
                    <a:ext cx="358128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692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sociado con cada historia existe una función de utilidad descontada a través del tiempo que depende de 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Euclid Symbol"/>
                <a:ea typeface="Euclid Symbol"/>
              </a:rPr>
              <a:t>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=</a:t>
            </a:r>
            <a:r>
              <a:rPr b="0" lang="es-ES_tradnl" sz="20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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(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,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a política óptima es una </a:t>
            </a:r>
            <a:r>
              <a:rPr b="0" lang="es-ES_tradnl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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tal qu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 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Euclid Symbol"/>
                <a:ea typeface="Euclid Symbol"/>
              </a:rPr>
              <a:t>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*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s)&gt; V 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Euclid Symbol"/>
                <a:ea typeface="Euclid Symbol"/>
              </a:rPr>
              <a:t>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ra todas las políticas </a:t>
            </a:r>
            <a:r>
              <a:rPr b="0" lang="es-ES_tradnl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Una política es Markoviana si la regla de decisión del período t depende solo del estado 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l conocimiento del estado corriente incluye toda la información previa (historia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Una política markoviana es estacionaria si la regla de decisión es independiente del tiempo, esto es: </a:t>
            </a:r>
            <a:r>
              <a:rPr b="0" lang="es-ES_tradnl" sz="18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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s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lang="es-ES_tradnl" sz="18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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s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) para todo 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Los problemas de horizonte finito son típicamente no estacionarios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Solución a este problema por recursión dinámica: Ecuación de Bellma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421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solver desde atrá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1) Período T   (0 período permanec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alor en el estado final: 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s)  da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2)Período T-1, (1 período permanec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s)=Max U(s,a)+</a:t>
            </a:r>
            <a:r>
              <a:rPr b="0" lang="es-ES_tradnl" sz="20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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f(s,a))     y      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=f(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,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gla óptima: </a:t>
            </a:r>
            <a:r>
              <a:rPr b="0" lang="es-ES_tradnl" sz="18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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T-1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s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alor óptimo: 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s)=U(s, </a:t>
            </a:r>
            <a:r>
              <a:rPr b="0" lang="es-ES_tradnl" sz="18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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T-1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s) )+ </a:t>
            </a:r>
            <a:r>
              <a:rPr b="0" lang="es-ES_tradnl" sz="18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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f(s, </a:t>
            </a:r>
            <a:r>
              <a:rPr b="0" lang="es-ES_tradnl" sz="18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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T-1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s) )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3)Período T-2, (2 períodos permanece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s)=Max U(s,a)+</a:t>
            </a:r>
            <a:r>
              <a:rPr b="0" lang="es-ES_tradnl" sz="20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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f(s,a)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gla óptima: </a:t>
            </a:r>
            <a:r>
              <a:rPr b="0" lang="es-ES_tradnl" sz="18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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T-2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s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alor óptimo: 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s)=U(s, </a:t>
            </a:r>
            <a:r>
              <a:rPr b="0" lang="es-ES_tradnl" sz="18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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T-2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s) )+ </a:t>
            </a:r>
            <a:r>
              <a:rPr b="0" lang="es-ES_tradnl" sz="18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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f(s, </a:t>
            </a:r>
            <a:r>
              <a:rPr b="0" lang="es-ES_tradnl" sz="18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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T-2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s) )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s)=Max U(s,a)+</a:t>
            </a:r>
            <a:r>
              <a:rPr b="0" lang="es-ES_tradnl" sz="20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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-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f(s,a)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Solución a un problema de horizonte infinit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819288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sumiendo que existe solución interior la ecuación de Bellman sería, (eliminando el subíndice t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(s)=Max U(s,a)+</a:t>
            </a:r>
            <a:r>
              <a:rPr b="0" lang="es-ES_tradnl" sz="20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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(f(s,a)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 V es diferenciable, las CPO sería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1)  U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s,a)+</a:t>
            </a:r>
            <a:r>
              <a:rPr b="0" lang="es-ES_tradnl" sz="20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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f(s,a))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s,a)=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r teorema de la envolvent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s) =  U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s,a)+</a:t>
            </a:r>
            <a:r>
              <a:rPr b="0" lang="es-ES_tradnl" sz="20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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f(s,a))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s,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=f(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,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1) Y (2) implican 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s) =  U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s,a)-U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s,a)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s,a)/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s,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emplazando en (1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s,a)= </a:t>
            </a:r>
            <a:r>
              <a:rPr b="0" lang="es-ES_tradnl" sz="20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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[U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s,a)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s,a)/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s,a)-U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,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]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s,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Un modelo de recurso no renovable estocástic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97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Problemas de tiempo continuo con descuent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978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hora R(x(t),a(t), t) toma la forma de R(x(t),a(t))e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ahoma"/>
              </a:rPr>
              <a:t>-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Euclid Symbol"/>
                <a:ea typeface="Euclid Symbol"/>
              </a:rPr>
              <a:t>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(x(T), T) es F(x(T)) e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ahoma"/>
              </a:rPr>
              <a:t>-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Euclid Symbol"/>
                <a:ea typeface="Euclid Symbol"/>
              </a:rPr>
              <a:t>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problema de optimización 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98520" y="3048120"/>
          <a:ext cx="7900920" cy="210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8520" y="3048120"/>
                    <a:ext cx="7900920" cy="21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Problemas de tiempo continuo con descuent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09480" y="1871640"/>
          <a:ext cx="6885000" cy="311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871640"/>
                    <a:ext cx="6885000" cy="31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1219320" y="11430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amiltonea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5105520"/>
            <a:ext cx="7848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última condición no siempre apl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s CPO no son autónomas ya que dependen del tiempo a través del factor de descu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Problemas de tiempo continuo con descuent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5741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n embargo podemos transformar este problema en un problema autónomo introduciendo el valor corriente del Hamiltoneano com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762120" y="2695680"/>
          <a:ext cx="3809880" cy="146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695680"/>
                    <a:ext cx="3809880" cy="14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380880" y="4114800"/>
            <a:ext cx="83822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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(t) representa el precio sombra descontado o la cantidad dispuesta a pagar hoy día por una unidad adicional de x en el tiempo t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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(t) representa el precio sombra corriente o la cantidad dispuesta a pagar en t por una unidad adicional de x en el tiempo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Problemas de tiempo continuo con descuent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04920" y="1828800"/>
          <a:ext cx="8839080" cy="448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828800"/>
                    <a:ext cx="8839080" cy="44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685800" y="137160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PO en términos del valor corriente del Hamiltone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09480" y="1371600"/>
          <a:ext cx="4800600" cy="46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71600"/>
                    <a:ext cx="4800600" cy="46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Problemas de horizonte infinito con descuent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969840" y="1600200"/>
          <a:ext cx="5139000" cy="15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9840" y="1600200"/>
                    <a:ext cx="5139000" cy="15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762120" y="3429000"/>
            <a:ext cx="72388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ado estacion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ector de estado, de control y precio somb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s-ES_tradnl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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) que resuelve las c.p.o. de manera tal que x, a, </a:t>
            </a:r>
            <a:r>
              <a:rPr b="0" lang="es-ES_tradnl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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son constantes sobre el tiempo, es deci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14400" y="5486400"/>
          <a:ext cx="2514600" cy="60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5486400"/>
                    <a:ext cx="251460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Programación dinámic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26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=conjunto de posibles estados s</a:t>
            </a:r>
            <a:r>
              <a:rPr b="0" lang="es-ES_tradnl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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6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= espacio de accion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6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(s) Espacio de acciones factibles de s con a </a:t>
            </a:r>
            <a:r>
              <a:rPr b="0" lang="es-ES_tradnl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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(s)</a:t>
            </a:r>
            <a:r>
              <a:rPr b="0" lang="es-ES_tradnl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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6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(s,a)=ecuación de estad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6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=f(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a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6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(s,a)= función de utilidad; </a:t>
            </a:r>
            <a:r>
              <a:rPr b="0" lang="es-ES_tradnl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=1/(1+r)= factor de descuen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6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 Pesquerí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141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=stock pesqu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141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= captu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141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=F(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a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141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(s,a)=p(a)a-c(s,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6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6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26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 Pesquería: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=stock pesqu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= extracción  ; 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=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a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(s,a)=p(a)a-c(s,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función objetivo ser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3429000"/>
          <a:ext cx="6858000" cy="324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429000"/>
                    <a:ext cx="6858000" cy="32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4T16:02:01Z</dcterms:created>
  <dc:creator>Universidad De Chile</dc:creator>
  <dc:description/>
  <dc:language>en-US</dc:language>
  <cp:lastModifiedBy>Andres Ulloa</cp:lastModifiedBy>
  <dcterms:modified xsi:type="dcterms:W3CDTF">2003-08-25T05:40:43Z</dcterms:modified>
  <cp:revision>38</cp:revision>
  <dc:subject/>
  <dc:title>IN 77G "Tópicos Avanzados en Economía Ambiental y de Recursos Naturales"</dc:title>
</cp:coreProperties>
</file>