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02B-5A7E-4BE4-ADBA-1514E20D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6E2-184D-4AEF-8E97-BF69377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2C5-2B94-4817-9F96-2123404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B8D-1D69-47D6-9214-CC803286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191B-09F7-49C8-95FF-5494F0E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DCD2-E834-4619-87C5-65009DF9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A38-4E4B-406C-9268-C75017A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E8D7-9F6B-4938-807F-20C2E96C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A8CA-3037-437F-AAEA-1873E3E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F9D-8367-4C72-8519-44C0BECB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A51-042D-488C-AC2B-FB70207C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1A8-FAD7-4FBC-9567-092BF471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6FAB-4410-4E65-A506-511D32BE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B9D2-0A28-458E-A457-FECE769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A9A-C47E-4CD8-BF9E-85761F4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C280-EED4-452C-A214-C14791C1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15FB-7F62-4D01-A983-C7514E5F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9A4-7E5A-4304-B319-51269C9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971-9AB7-4C2C-9B8B-628AC5B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43D-6F15-4277-B6F3-AD34CA7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E64-52E2-492B-8AAE-93E0E54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D43-7D64-4013-8B7E-18013DC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4F5-54EC-48A2-9BE3-5623578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4D8-072F-49D6-A2ED-59973FE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9D9-2A36-4D56-8273-03BB3AF38C9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C88-943B-4CED-BAD4-CEEB34B26B9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826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es una secuencia de reglas de decisión factibles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que especifican la acción corriente dada la historia par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spacio de polític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política induce una historia, 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cuación de transición serí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 ;  dado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, la ecuación de transición sería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),...........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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{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,...,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343400" y="3070080"/>
          <a:ext cx="35812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70080"/>
                    <a:ext cx="35812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69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ociado con cada historia existe una función de utilidad descontada a través del tiempo que depende de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=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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política óptima es un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tal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&gt; V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todas las políticas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es Markoviana si la regla de decisión del período t depende solo del estado 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conocimiento del estado corriente incluye toda la información previa (historia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a política markoviana es estacionaria si la regla de decisión es independiente del tiempo, esto es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para todo 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problemas de horizonte finito son típicamente no estacionari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olución a este problema por recursión dinámica: Ecuación de Bellm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21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olver desde atrá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) Período T   (0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en el estado final: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 d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)Período T-1, (1 período permane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     y     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)Período T-2, (2 períodos permanec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 óptima: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alor óptimo: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=U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+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f(s, </a:t>
            </a:r>
            <a:r>
              <a:rPr b="0" lang="es-ES_tradnl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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T-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s) )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olución a un problema de horizonte infini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928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umiendo que existe solución interior la ecuación de Bellman sería, (eliminando el subíndice 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s)=Max U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(f(s,a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V es diferenciable, las CPO sería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teorema de la envolv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+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f(s,a)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1) Y (2) implican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) =  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emplazando en 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= 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[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/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-U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]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s,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recurso no renovable estocástic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978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R(x(t),a(t), t) toma la forma de R(x(t),a(t))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x(T), T) es F(x(T)) 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optimización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8520" y="3048120"/>
          <a:ext cx="790092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3048120"/>
                    <a:ext cx="790092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871640"/>
          <a:ext cx="68850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71640"/>
                    <a:ext cx="68850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miltone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10552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última condición no siempre ap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CPO no son autónomas ya que dependen del tiempo a través del factor de des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74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embargo podemos transformar este problema en un problema autónomo introduciendo el valor corriente del Hamiltoneano com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695680"/>
          <a:ext cx="380988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95680"/>
                    <a:ext cx="380988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80880" y="4114800"/>
            <a:ext cx="838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descontado o la cantidad dispuesta a pagar hoy día por una unidad adicional de x en el tiempo 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 representa el precio sombra corriente o la cantidad dispuesta a pagar en t por una unidad adicional de x en el tiempo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tiempo continu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828800"/>
          <a:ext cx="883908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83908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" y="1371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PO en términos del valor corriente del Hamiltone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371600"/>
          <a:ext cx="480060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48006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blemas de horizonte infinito con descu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69840" y="1600200"/>
          <a:ext cx="513900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600200"/>
                    <a:ext cx="51390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62120" y="3429000"/>
            <a:ext cx="7238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ctor de estado, de control y precio somb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 que resuelve las c.p.o. de manera tal que x, a,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son constantes sobre el tiempo, es dec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5486400"/>
          <a:ext cx="25146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86400"/>
                    <a:ext cx="25146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gramación dinám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conjunto de posibles estados s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spacio de acc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 Espacio de acciones factibles de s con a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(s)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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(s,a)=ecuación de esta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 función de utilidad;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1/(1+r)= factor de descu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cap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F(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Pesquería: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=stock pesqu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= extracción  ;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=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(s,a)=p(a)a-c(s,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objetivo s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3429000"/>
          <a:ext cx="68580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68580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5:40:43Z</dcterms:modified>
  <cp:revision>38</cp:revision>
  <dc:subject/>
  <dc:title>IN 77G "Tópicos Avanzados en Economía Ambiental y de Recursos Naturales"</dc:title>
</cp:coreProperties>
</file>