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268-B5E4-48FA-A939-E9D7A5C4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B12-6E00-44E0-843F-461CEA6C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AC1-8309-4D88-AC3A-1E54D5CB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844-2E51-4771-8680-DEB19E84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7826-9C35-4634-82D3-805CB6B4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CFDE-3D79-4F63-813E-4ECB984A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1506-E31C-4534-B69E-78E6955C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975F-62C7-4707-846A-577F3D7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14C7-B262-42DA-B2E9-D14062F6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1CA8-708E-4B5E-8FC0-444096A4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6691-E449-419A-B108-CCB9E7C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283-8CB6-454D-A762-1F656798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A005-79F6-45EC-B429-3D53928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1CA6-A666-4C3F-A421-50DB037F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ED69-E0EA-49EA-93BE-E4BDFE9A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68A9-CE79-40B5-9B38-2B256E6B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3068-7767-4B80-97B6-7485D313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B2A-8750-42A0-99E7-D32E18B6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96A-268A-4AB9-BB54-C0FD5093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DEB-EEE0-4BAC-8759-96213EB7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AC7-EBC5-4530-A96F-822E0AC0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1CB-F806-46FB-A9CB-642A6C7C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EB4-EBF9-4050-AC94-EB851AF3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067-48A1-46BF-BC2F-BDDC9E2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0F72-1EEE-4F5B-BC09-F78037C8788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11E3-2E34-4D8F-9B77-1862DDF2E1A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8269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política es una secuencia de reglas de decisión factibles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 que especifican la acción corriente dada la historia par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spacio de polític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política induce una historia, 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de transición serí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 ;  dado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, la ecuación de transición sería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,...........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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{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,...,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43400" y="3070080"/>
          <a:ext cx="35812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70080"/>
                    <a:ext cx="35812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69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ociado con cada historia existe una función de utilidad descontada a través del tiempo que depende de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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política óptima es una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al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&gt; V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todas las políticas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política es Markoviana si la regla de decisión del período t depende solo del estado 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conocimiento del estado corriente incluye toda la información previa (historia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política markoviana es estacionaria si la regla de decisión es independiente del tiempo, esto es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para todo 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problemas de horizonte finito son típicamente no estacionario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olución a este problema por recursión dinámica: Ecuación de Bellma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21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olver desde atrá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) Período T   (0 período permane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en el estado final: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 d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)Período T-1, (1 período permane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     y     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 óptima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óptimo: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=U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+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)Período T-2, (2 períodos permanec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 óptima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óptimo: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=U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+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Solución a un problema de horizonte infini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1928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umiendo que existe solución interior la ecuación de Bellman sería, (eliminando el subíndice 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V es diferenciable, las CPO sería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1)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teorema de la envolv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=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1) Y (2) implican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=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-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/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emplazando en (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=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[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/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-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]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n modelo de recurso no renovable estocástic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9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R(x(t),a(t), t) toma la forma de R(x(t),a(t))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(T), T) es F(x(T)) 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optimización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8520" y="3048120"/>
          <a:ext cx="7900920" cy="21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3048120"/>
                    <a:ext cx="790092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871640"/>
          <a:ext cx="68850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71640"/>
                    <a:ext cx="68850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miltone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10552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última condición no siempre ap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CPO no son autónomas ya que dependen del tiempo a través del factor de des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74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embargo podemos transformar este problema en un problema autónomo introduciendo el valor corriente del Hamiltoneano com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2695680"/>
          <a:ext cx="380988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95680"/>
                    <a:ext cx="38098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80880" y="4114800"/>
            <a:ext cx="83822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 representa el precio sombra descontado o la cantidad dispuesta a pagar hoy día por una unidad adicional de x en el tiempo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 representa el precio sombra corriente o la cantidad dispuesta a pagar en t por una unidad adicional de x en el ti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828800"/>
          <a:ext cx="883908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83908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5800" y="13716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PO en términos del valor corriente del Hamiltone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371600"/>
          <a:ext cx="4800600" cy="46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48006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horizonte infinit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69840" y="1600200"/>
          <a:ext cx="513900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600200"/>
                    <a:ext cx="51390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62120" y="342900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ctor de estado, de control y precio somb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que resuelve las c.p.o. de manera tal que x, a,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on constantes sobre el tiempo, es dec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5486400"/>
          <a:ext cx="25146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86400"/>
                    <a:ext cx="25146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gram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=conjunto de posibles estados s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espacio de acc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(s) Espacio de acciones factibles de s con a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(s)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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s,a)=ecuación de esta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 función de utilidad;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1/(1+r)= factor de descu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Pesquer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=stock pesqu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cap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p(a)a-c(s,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Pesquería: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=stock pesqu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extracción  ;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p(a)a-c(s,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objetivo se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3429000"/>
          <a:ext cx="685800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685800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3-08-25T05:40:43Z</dcterms:modified>
  <cp:revision>38</cp:revision>
  <dc:subject/>
  <dc:title>IN 77G "Tópicos Avanzados en Economía Ambiental y de Recursos Naturales"</dc:title>
</cp:coreProperties>
</file>