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5F9-A98B-4A7A-86BD-F5145B7A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352-ED09-40BC-87FF-98EDC3FC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59B-963C-4E21-94E3-F65B2100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DC1-D69D-4655-A58B-D4B2EF4B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09ED-7C5F-4E77-88ED-7C4D6656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0CE9-435B-4843-80BE-B1A1D07C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526C-401F-4398-A075-6486FDC9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4F3E-2E7C-4406-98F2-235E6DD7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27D7-C048-4EB1-9AE4-D1B24B65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F909-AA04-41FE-93A8-3E54607D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5F94-7664-4B46-8137-08E0EC16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E6E-3F0B-44E0-8232-91607E7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DDA4-0942-431F-869B-192C10A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9B5D-0327-495E-90B0-B5D9547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288C-B65F-44E1-B3E4-39144671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1208-DDEF-455E-BBDB-3B699FA5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B023-97EE-4F8E-97F9-ADF0C6D8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C8A-2578-4447-8827-863F768D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A33-4B4B-4F36-8C7F-12C71A73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406-E1B0-4CB7-ADE4-BA4735E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D0F-D85D-41C2-83AA-EB153C66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EDA-A771-470A-83DD-BB275EE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BC6-820C-40F8-BCA1-DDFB9AC7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8BC-6332-45D0-873B-2B4BB75C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707A-A02A-4135-856F-1DB457DF549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E9B5-E74A-47EB-BFCC-CF2A148537F9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741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uación (1) incluye un término de marginalidad más un término que refleja el cambio de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obre la variable de estado. Así si un aumento 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duce 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dremos un costo adicional llamado costo de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fleja el efecto de un cambio en 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obre el resto del horizonte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uación (2) refleja el cambio óptimo en el multiplicador a través del tiemp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 (3) es la variable de est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ec (4) y (5) reflejan las condiciones terminales e iniciales o condiciones de bor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e sistema de ecuaciones de (3T+1)puede ser resuelto simultáneamente en (3T+1)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692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lasificar los problemas dinámicos en aquellos en que el tiempo terminal (T) o el estado terminal 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es dado (o está fijo) o es libre.  (En el ejemplo anterior el tiempo terminal estaba fijo, pero el estado terminal era libr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os problemas con horizonte libre el tomador de decisión debe determinar el horizonte óptimo. Por ejemplo en un problema de horizonte infinito T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la solución obtenida convergería en un período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 un estado estacionario. Sin embargo, la solución para un problema de horizonte fijo también puede converger a un estado estacion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 en un problema existe un óptimo de estado estacionario podríamos estar interesados en saber que sucede si x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.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dos formas de aproximarse desde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na es la aproximación asintótica en la que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cuando t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 Esta es llamada la senda de aproximación más rápida (MRAP ) donde la variable de control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asume valores máximos o mínimos de manera de alcanzar 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Hamiltoneano en términos discre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7412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amos la siguiente variable H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,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= R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) +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 expresión es conocida como Hamiltoneano y las condiciones de primer orden anteriores pueden ser reescritas en términos del Hamiltoneano com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22440" y="3657600"/>
          <a:ext cx="7899120" cy="26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3657600"/>
                    <a:ext cx="7899120" cy="26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021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jemplo: Extracción de un recurso no renov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978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onga una firma competi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stock del recurso 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extracción es r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ecio es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costos de extracción son C(r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un factor de descuento dado p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1/(1+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jemplo: Extracción de un recurso no renov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143000"/>
          <a:ext cx="8305920" cy="49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83059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Regla de Hotell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978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extracción es eficiente cuando el precio menos los costos marginales se incrementan a la tasa de inter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tiempo continuo si defini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43000" y="3962520"/>
          <a:ext cx="609588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0958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50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Condición de arbitr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dos activos (numerario y un recurso no renov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tasa de retorno sobre el numerario es 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ecio del recurso no renovable es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agente posee una unidad del recurso no renovable y se enfrenta a dos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de el recurso y lo invierte en el numerario: (1+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)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iene el recurso y lo vende en t+1 obteniendo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004040" y="30492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Regla de Ho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ondición de arbitraj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2640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&gt;(1+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s los agentes quieren mantener el recurso (no equilibri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1+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&gt;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s los agentes quieren vender el recurso (no equilibri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(1+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no hay posibilidades de arbitraje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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tasa de retorno de invertir en el recurso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la tasa de retorno de invertir  en el activo numer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0" indent="0">
              <a:spcBef>
                <a:spcPts val="7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*Las tasas de retorno de los activos son iguales en equilibrio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09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 en tiempo continu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741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x(t)=variable de estado en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(t)=variable de control o de acción en 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(x(t),a(t), t)=función de result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x/dt=f(x(t),a(t),t) ecuación de 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=horizonte de tiempo (T&lt;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horizonte finito; T= </a:t>
            </a:r>
            <a:r>
              <a:rPr b="0" lang="es-ES_tradnl" sz="2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 horizonte infinit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= condición ini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X(T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= k  es la condición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(x(T), T) = Función de resultado del último perío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CONOMIA DE RECURSOS NATURA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ONOMIA DE RECURSOS NATUR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09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 en tiempo continu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9520" y="5257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última condición no siempre apl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6680" y="1066680"/>
          <a:ext cx="723924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23924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pretación del Hamiltone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(x,a,t)=R(x,a,t)+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,a,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alizando un cambio instantáneo en el Hamiltonea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2384280"/>
          <a:ext cx="7086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84280"/>
                    <a:ext cx="7086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52280" y="3048120"/>
            <a:ext cx="86868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dt= contribución directa a la función objetivo de t a t+dt si el estado es x(t) y la acción tomada es a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precio sombra o valor marginal de la variable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x=cambio en el estado de t a t+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x= valor marginal de un cambio incremental en la variable de estado (de t a t+dt). Contribución indirecta a la función 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dt+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x= suma de las contribuciones directas e indirec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pretación del Hamiltonean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50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ximizar H(.) es equivalente a elegir el control que maximiza las contribuciones directa e indirecta a la función obje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8120" y="2743200"/>
          <a:ext cx="8435880" cy="34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743200"/>
                    <a:ext cx="84358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roducción: 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os fundamentales de asignación intertemporal de recurso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ción dinámica estocást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cursos No renova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eoría  bási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nálisis Empíric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os  múltiples con demandas heterogénea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ítica de Minerale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l tema de la escasez de recur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ldición de los Recursos Naturales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utación Minera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cursos renovables: pesquerí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as básic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 Común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ejo óptimo de una pesquer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de teoría de juego y asignación de recurs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3680" y="1447560"/>
            <a:ext cx="85741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gramación no lineal en tiempo discr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variable de es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variable de control o de a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)=función de resultados en tiemp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g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ecuación de est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+ 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   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+ 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=horizonte de tiempo (T&lt;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horizonte finito; T=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horizonte infinit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condición ini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 k  es la condición 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T) = Función de resultado del último perío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8269200" cy="18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1155600"/>
          <a:ext cx="7925040" cy="537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55600"/>
                    <a:ext cx="7925040" cy="53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hora si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(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=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+ f(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   o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= f(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grangean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733920"/>
          <a:ext cx="868680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86868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Optimiz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2560" y="1905120"/>
          <a:ext cx="909144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905120"/>
                    <a:ext cx="909144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5105520"/>
            <a:ext cx="739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: (2) incluye un término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Universidad De Chile</cp:lastModifiedBy>
  <dcterms:modified xsi:type="dcterms:W3CDTF">2003-08-04T21:38:10Z</dcterms:modified>
  <cp:revision>24</cp:revision>
  <dc:subject/>
  <dc:title>IN 77G "Tópicos Avanzados en Economía Ambiental y de Recursos Naturales"</dc:title>
</cp:coreProperties>
</file>