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097-37B7-4DC0-BA66-F44A56C4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08E-602E-4B33-9DF0-11278DF2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4B7-546E-4D0C-8D17-A2868FD1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2F5-C2D3-4A60-8982-570F7089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988F-4CF9-4F4D-BAD7-69258F65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DAAD-456B-4E51-8186-BF01939E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A199-8D5D-4DE8-A3A8-D31B9114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1ED2-CAAF-40CC-BF1D-383DFDF8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5973-EDDC-4C49-B622-56050A13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ACCA-60B1-45FC-BB74-DD20E7CF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290A-4075-4F4B-AC7A-1125DDAB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89F-1A77-427A-B715-E45F7D9D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69B8-E99A-493C-8EDE-5A89BB0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8A1C-5162-428B-A274-84AA0380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A9EC-8A49-4177-9C4B-1ECB31DE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0F93-5A8C-4453-8824-0371A3B8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6FA9-095D-4AE9-857D-E19255B1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C4F-877D-483D-9516-F92AFC8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037-A6F8-45C2-BABA-5E230D8B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B7C-F34B-49C2-AA15-2D8E6D71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B18-289C-4EAD-8C73-D9F47F04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04D-4910-4D0F-A85B-EECB1F21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AB3-D130-4395-A244-DA35433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82E-E085-4B57-A554-F7A200D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DFFA-C348-4FD8-A4E0-72AE5FDF8EC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10DE-0E20-4FB6-8D99-4FE8AA2D4CE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741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uación (1) incluye un término de marginalidad más un término que refleja el cambio de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obre la variable de estado. Así si un aumento 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duce 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dremos un costo adicional llamado costo de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fleja el efecto de un cambio en 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obre el resto del horizonte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uación (2) refleja el cambio óptimo en el multiplicador a través del tiemp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 (3) es la variable de est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ec (4) y (5) reflejan las condiciones terminales e iniciales o condiciones de bor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e sistema de ecuaciones de (3T+1)puede ser resuelto simultáneamente en (3T+1)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692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lasificar los problemas dinámicos en aquellos en que el tiempo terminal (T) o el estado terminal 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es dado (o está fijo) o es libre.  (En el ejemplo anterior el tiempo terminal estaba fijo, pero el estado terminal era libr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os problemas con horizonte libre el tomador de decisión debe determinar el horizonte óptimo. Por ejemplo en un problema de horizonte infinito T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la solución obtenida convergería en un período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 un estado estacionario. Sin embargo, la solución para un problema de horizonte fijo también puede converger a un estado estacion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 en un problema existe un óptimo de estado estacionario podríamos estar interesados en saber que sucede si x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.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dos formas de aproximarse desde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na es la aproximación asintótica en la que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uando t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 Esta es llamada la senda de aproximación más rápida (MRAP ) donde la variable de control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sume valores máximos o mínimos de manera de alcanzar 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Hamiltoneano en términos discre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7412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amos la siguiente variable H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,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= R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) +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 expresión es conocida como Hamiltoneano y las condiciones de primer orden anteriores pueden ser reescritas en términos del Hamiltoneano com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22440" y="3657600"/>
          <a:ext cx="7899120" cy="26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3657600"/>
                    <a:ext cx="7899120" cy="26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02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jemplo: Extracción de un recurso no renov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onga una firma compet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stock del recurso 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extracción es r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ecio es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costos de extracción son C(r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un factor de descuento dado p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1/(1+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jemplo: Extracción de un recurso no renov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143000"/>
          <a:ext cx="830592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83059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Regla de Hotel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extracción es eficiente cuando el precio menos los costos marginales se incrementan a la tasa de inter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tiempo continuo si defini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43000" y="3962520"/>
          <a:ext cx="609588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0958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Condición de arbitr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dos activos (numerario y un recurso no renov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tasa de retorno sobre el numerario es 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ecio del recurso no renovable es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agente posee una unidad del recurso no renovable y se enfrenta a dos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de el recurso y lo invierte en el numerario: (1+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)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iene el recurso y lo vende en t+1 obteniendo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004040" y="30492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Regla de Ho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ondición de arbitr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26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&gt;(1+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s los agentes quieren mantener el recurso (no equilibri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1+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&gt;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s los agentes quieren vender el recurso (no equilibri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(1+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no hay posibilidades de arbitraje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tasa de retorno de invertir en el recurso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la tasa de retorno de invertir  en el activo numer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*Las tasas de retorno de los activos son iguales en equilibrio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09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 en tiempo continu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741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x(t)=variable de estado en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(t)=variable de control o de acción en 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(x(t),a(t), t)=función de resul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x/dt=f(x(t),a(t),t) ecuación de 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=horizonte de tiempo (T&lt;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horizonte finito; T= 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horizonte infinit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= condición ini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X(T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 k  es la condición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(x(T), T) = Función de resultado del último perío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CONOMIA DE RECURSOS NATURA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ONOMIA DE RECURSOS NAT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09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 en tiempo continu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9520" y="5257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última condición no siempre apl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1066680"/>
          <a:ext cx="723924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23924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pretación del Hamiltone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(x,a,t)=R(x,a,t)+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,a,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alizando un cambio instantáneo en el Hamiltonea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2384280"/>
          <a:ext cx="7086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84280"/>
                    <a:ext cx="7086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52280" y="3048120"/>
            <a:ext cx="86868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dt= contribución directa a la función objetivo de t a t+dt si el estado es x(t) y la acción tomada es a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precio sombra o valor marginal de la variable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x=cambio en el estado de t a t+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x= valor marginal de un cambio incremental en la variable de estado (de t a t+dt). Contribución indirecta a la función 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dt+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x= suma de las contribuciones directas e indire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pretación del Hamiltone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ximizar H(.) es equivalente a elegir el control que maximiza las contribuciones directa e indirecta a la función obje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8120" y="2743200"/>
          <a:ext cx="8435880" cy="34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743200"/>
                    <a:ext cx="84358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roducción: 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s fundamentales de asignación intertemporal de recurso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ción dinámica estocást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cursos No renova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eoría  bási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nálisis Empíric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os  múltiples con demandas heterogénea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ítica de Minerale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l tema de la escasez de recur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ldición de los Recursos Naturale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utación Minera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cursos renovables: pesquerí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as básic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 Comú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ejo óptimo de una pesquer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de teoría de juego y asignación de recurs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3680" y="1447560"/>
            <a:ext cx="85741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gramación no lineal en tiempo discr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variable de es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variable de control o de a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)=función de resultados en tiemp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g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ecuación de es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+ 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   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+ 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=horizonte de tiempo (T&lt;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horizonte finito; T=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horizonte infinit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condición ini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 k  es la condición 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) = Función de resultado del último perío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8269200" cy="18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1155600"/>
          <a:ext cx="7925040" cy="537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55600"/>
                    <a:ext cx="7925040" cy="53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hora si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(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=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+ f(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   o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= f(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grangean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733920"/>
          <a:ext cx="868680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86868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2560" y="1905120"/>
          <a:ext cx="9091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905120"/>
                    <a:ext cx="9091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5105520"/>
            <a:ext cx="739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: (2) incluye un término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Universidad De Chile</cp:lastModifiedBy>
  <dcterms:modified xsi:type="dcterms:W3CDTF">2003-08-04T21:38:10Z</dcterms:modified>
  <cp:revision>24</cp:revision>
  <dc:subject/>
  <dc:title>IN 77G "Tópicos Avanzados en Economía Ambiental y de Recursos Naturales"</dc:title>
</cp:coreProperties>
</file>