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LATIGO.WAV" ContentType="audio/x-wav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4CD3-3139-4FD2-B1A3-DC0A3E39B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1AE2-B34D-41E0-B5F5-4ACF06BF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B64C-322F-4E09-BF44-7E3A97C8C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90D2-60AF-47A1-B0D2-C7F40410B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EC42-0F66-41AB-A408-BF283BE1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CAF5-063E-4213-8069-12DF5D03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AB11-2DE5-475B-87A4-36313945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B83D-5AC1-431E-B9DC-95A4C5D7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302D-51F7-427D-B3B2-C7428B09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9D2B-C4EB-4492-BE9A-6D64E12F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8110-2191-4474-853A-D03A29A9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CBDA-6B70-41FB-833A-6C291609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7D7E-AADE-4294-9363-DEAFEE5B3C5B}" type="slidenum"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1.wmf"/><Relationship Id="rId5" Type="http://schemas.openxmlformats.org/officeDocument/2006/relationships/image" Target="../media/image3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9810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Gestión de Personas y de Tecnologías: una perspectiva cognitivo-cultural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481280" y="4537080"/>
            <a:ext cx="278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Carlos Díaz Cane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7893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Consideraciones en el Plano del Aprendizaje</a:t>
            </a: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La distinción entre lo importante y lo secundario tiende a ser confuso para los futuros usu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La presentación de la información requerida para la funcionalidad de las herramientas tiende a ser abstracta y ajena al contexto de u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Los niveles de comprensión lectora de los usuarios es a menudo insuficiente para los grados de abstracción requeridos por el manejo instrumen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0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3000"/>
                            </p:stCondLst>
                            <p:childTnLst>
                              <p:par>
                                <p:cTn id="71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500"/>
                            </p:stCondLst>
                            <p:childTnLst>
                              <p:par>
                                <p:cTn id="71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Implicancias en el Plano de las Person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Se redefinen sus roles y competencias, con el consiguiente incremento del estrés frente a las nuevas exigencias que supon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Deben articular con la misma disponibilidad de tiempo las exigencias asociadas a la producción y aquellas asociadas al aprendiza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Pueden producirse procesos de reubicación y/o desvinculación labo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0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500"/>
                            </p:stCondLst>
                            <p:childTnLst>
                              <p:par>
                                <p:cTn id="73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3000"/>
                            </p:stCondLst>
                            <p:childTnLst>
                              <p:par>
                                <p:cTn id="73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500"/>
                            </p:stCondLst>
                            <p:childTnLst>
                              <p:par>
                                <p:cTn id="74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Indicadores Frecuentes de Desajust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Organizaciones generadas por “agregación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Heterocronismo fun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Desarrollo de estrategias “compensatorias“ y “sustitutas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Difusión de la “exégesis“ y la “casuística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Escisión operativa (coexistencia de rutinización e informalida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Quejas relativas a los nuevos instrumentos y reificación de los antigu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Errores “erráticos“ y frecue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0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500"/>
                            </p:stCondLst>
                            <p:childTnLst>
                              <p:par>
                                <p:cTn id="75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3000"/>
                            </p:stCondLst>
                            <p:childTnLst>
                              <p:par>
                                <p:cTn id="7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5500"/>
                            </p:stCondLst>
                            <p:childTnLst>
                              <p:par>
                                <p:cTn id="7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80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5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3000"/>
                            </p:stCondLst>
                            <p:childTnLst>
                              <p:par>
                                <p:cTn id="78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5500"/>
                            </p:stCondLst>
                            <p:childTnLst>
                              <p:par>
                                <p:cTn id="78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8000"/>
                            </p:stCondLst>
                            <p:childTnLst>
                              <p:par>
                                <p:cTn id="79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Algunos Aspectos de la Situación de Implantación a Considera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Propósitos de la actividad afectad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Carácterísticas personales, culturales y context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Características instrumentales cla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Modalidades de Implan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Naturaleza de la lógica funcional que las personas van a establecer con las herramien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Naturaleza del locus de control inscrito en las normas y la supervi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0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4000"/>
                            </p:stCondLst>
                            <p:childTnLst>
                              <p:par>
                                <p:cTn id="80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7500"/>
                            </p:stCondLst>
                            <p:childTnLst>
                              <p:par>
                                <p:cTn id="813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45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80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9900"/>
                </a:solidFill>
                <a:latin typeface="Times New Roman"/>
              </a:rPr>
              <a:t>Propósitos de la actividad, carácterísticas personales, culturales y contextual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El levantamiento de las premisas organizacionales busca la recuperación del sentido organizador que los propósitos dan a la activ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3048120"/>
            <a:ext cx="862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82600"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El análisis de las características  sociodemográficas de los eventuales usuarios informa sobre las perspectivas vitales disponibles en la base social sobre la que se soporta la activ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4800600"/>
            <a:ext cx="82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l análisis de la situación y procesos de trabajo dan cuenta de la actividad efectiva en contexto que las personas realizan. En especial de las coordinaciones y regulaciones que actualiz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0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500"/>
                            </p:stCondLst>
                            <p:childTnLst>
                              <p:par>
                                <p:cTn id="8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2000"/>
                            </p:stCondLst>
                            <p:childTnLst>
                              <p:par>
                                <p:cTn id="846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7500"/>
                            </p:stCondLst>
                            <p:childTnLst>
                              <p:par>
                                <p:cTn id="851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Características instrumentales clav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Complejidad :</a:t>
            </a: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Afordan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Diversidad fun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Necesidad de soporte y manten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Tramas operacionales involucr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Grado de heterogeneidad operacional que introdu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0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4000"/>
                            </p:stCondLst>
                            <p:childTnLst>
                              <p:par>
                                <p:cTn id="869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7500"/>
                            </p:stCondLst>
                            <p:childTnLst>
                              <p:par>
                                <p:cTn id="874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11000"/>
                            </p:stCondLst>
                            <p:childTnLst>
                              <p:par>
                                <p:cTn id="879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14500"/>
                            </p:stCondLst>
                            <p:childTnLst>
                              <p:par>
                                <p:cTn id="884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18000"/>
                            </p:stCondLst>
                            <p:childTnLst>
                              <p:par>
                                <p:cTn id="889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21500"/>
                            </p:stCondLst>
                            <p:childTnLst>
                              <p:par>
                                <p:cTn id="894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Extensión de la implant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Ritmo de implant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Modalidades de control disponi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9900"/>
                </a:solidFill>
                <a:latin typeface="Times New Roman"/>
              </a:rPr>
              <a:t>Consideraciones de Proces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500"/>
                            </p:stCondLst>
                            <p:childTnLst>
                              <p:par>
                                <p:cTn id="907" nodeType="afterEffect" fill="hold" presetClass="entr" presetID="1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4000"/>
                            </p:stCondLst>
                            <p:childTnLst>
                              <p:par>
                                <p:cTn id="914" nodeType="afterEffect" fill="hold" presetClass="entr" presetID="1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7500"/>
                            </p:stCondLst>
                            <p:childTnLst>
                              <p:par>
                                <p:cTn id="921" nodeType="afterEffect" fill="hold" presetClass="entr" presetID="1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11000"/>
                            </p:stCondLst>
                            <p:childTnLst>
                              <p:par>
                                <p:cTn id="928" nodeType="afterEffect" fill="hold" presetClass="entr" presetID="1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Lógicas de Relación Sujeto-Artefact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240" y="205704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66672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ÓGICA FUNCIONAL: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entrada en la mantención del estado funcional del artefac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047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6672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ÓGICA DE PROCESO: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entrada en la mantención de los procesos de transformación realizados por el artefacto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047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6672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ÓGICA DE UTILIZACIÓN: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entrada en el carácter instrumental del artefacto en tanto que medio efectivo de la ac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6000"/>
                            </p:stCondLst>
                            <p:childTnLst>
                              <p:par>
                                <p:cTn id="948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11500"/>
                            </p:stCondLst>
                            <p:childTnLst>
                              <p:par>
                                <p:cTn id="953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Reglas y Contro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Revisión d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La estructura normativa de la actividad y de las interacciones con otros subsiste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Roles y atribu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Soportes de comunicación y de ayuda a la toma de decis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Modalidades de supervi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Instancias y procesos de generación norma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0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500"/>
                            </p:stCondLst>
                            <p:childTnLst>
                              <p:par>
                                <p:cTn id="96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4000"/>
                            </p:stCondLst>
                            <p:childTnLst>
                              <p:par>
                                <p:cTn id="97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7500"/>
                            </p:stCondLst>
                            <p:childTnLst>
                              <p:par>
                                <p:cTn id="97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98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4500"/>
                            </p:stCondLst>
                            <p:childTnLst>
                              <p:par>
                                <p:cTn id="98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8000"/>
                            </p:stCondLst>
                            <p:childTnLst>
                              <p:par>
                                <p:cTn id="99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457200"/>
            <a:ext cx="7772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Dinámica Organizacio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43400" y="1981080"/>
            <a:ext cx="457200" cy="33530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2685600" y="2372040"/>
            <a:ext cx="3096720" cy="22060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89360" y="2388240"/>
            <a:ext cx="2944800" cy="20649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4881240" y="2313360"/>
            <a:ext cx="905400" cy="29494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99800" y="2426040"/>
            <a:ext cx="1956960" cy="2942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743200" y="4495680"/>
            <a:ext cx="3048120" cy="152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9400" y="13716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nto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19560" y="1828800"/>
            <a:ext cx="15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cur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ateri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840" y="205740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mpe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3200" y="31240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struc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7400" y="441972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oce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50120" y="548640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ul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6600" y="44956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li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72920" y="3048120"/>
            <a:ext cx="223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aracterís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e las Perso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946400" y="3579840"/>
            <a:ext cx="1010160" cy="1720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2590920" y="3580920"/>
            <a:ext cx="2209680" cy="17528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2362320"/>
            <a:ext cx="28958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723400" y="1953000"/>
            <a:ext cx="1569240" cy="2718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67080" y="1905120"/>
            <a:ext cx="1676520" cy="2514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1905120"/>
            <a:ext cx="1752840" cy="16761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590920" y="1905120"/>
            <a:ext cx="1676160" cy="16761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590560" y="3581280"/>
            <a:ext cx="34290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742840" y="2362320"/>
            <a:ext cx="152280" cy="2133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91320" y="2362320"/>
            <a:ext cx="75960" cy="2057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743200" y="3581280"/>
            <a:ext cx="3276720" cy="1067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95480" y="2362320"/>
            <a:ext cx="3124440" cy="12189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895480" y="1905120"/>
            <a:ext cx="13716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590920" y="2438280"/>
            <a:ext cx="304560" cy="1143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90920" y="3581280"/>
            <a:ext cx="152280" cy="10670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43200" y="4572000"/>
            <a:ext cx="2057400" cy="8380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876920" y="4419360"/>
            <a:ext cx="1066680" cy="990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867280" y="3581280"/>
            <a:ext cx="152640" cy="990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91320" y="243828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43400" y="1905120"/>
            <a:ext cx="13716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6880" y="3581280"/>
            <a:ext cx="3124440" cy="838440"/>
          </a:xfrm>
          <a:prstGeom prst="line">
            <a:avLst/>
          </a:prstGeom>
          <a:ln w="38160">
            <a:solidFill>
              <a:srgbClr val="ff111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742840" y="2362320"/>
            <a:ext cx="2971800" cy="12189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580920" y="2057400"/>
            <a:ext cx="685800" cy="3200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3505320" y="2438280"/>
            <a:ext cx="2133360" cy="28958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15680" y="548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ecnolog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2362320"/>
            <a:ext cx="533160" cy="297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504960" y="3505320"/>
            <a:ext cx="2514600" cy="19047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3200" y="3657600"/>
            <a:ext cx="838080" cy="1828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19520" y="4648320"/>
            <a:ext cx="838080" cy="7617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81280" y="541008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3581280" y="4419360"/>
            <a:ext cx="2286000" cy="990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9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2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4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65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9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1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4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65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9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1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40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65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70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7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8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8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9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9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0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10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15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2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25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3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3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4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45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5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60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65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7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75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8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8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9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95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¿Cómo intervenir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 Enfoqu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daptar las person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esarrollar la apropiación instrumen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0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04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9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7500"/>
                            </p:stCondLst>
                            <p:childTnLst>
                              <p:par>
                                <p:cTn id="1014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1. Adaptar a las Person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Enfoque clásico centrado 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El aprendizaje normativo y procedural, basado en la </a:t>
            </a:r>
            <a:r>
              <a:rPr b="0" i="1" lang="es-ES_tradnl" sz="2800" spc="-1" strike="noStrike">
                <a:solidFill>
                  <a:srgbClr val="0000ff"/>
                </a:solidFill>
                <a:latin typeface="Times New Roman"/>
              </a:rPr>
              <a:t>acomodación cogni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La selección con base a características ¨análogas¨ a las existentes en el escenario de orígen de la tecnolog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Desarrollo de estructuras normativas acordes a la lógica funcional de los sistemas implan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fill="hold">
                      <p:stCondLst>
                        <p:cond delay="0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500"/>
                            </p:stCondLst>
                            <p:childTnLst>
                              <p:par>
                                <p:cTn id="102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2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7500"/>
                            </p:stCondLst>
                            <p:childTnLst>
                              <p:par>
                                <p:cTn id="103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42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2. Apropi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Resguardo de la primacía del propósito de la actividad por sobre los requerimientos operativos del instrumen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Aprendizaje soportado en la </a:t>
            </a:r>
            <a:r>
              <a:rPr b="0" i="1" lang="es-ES_tradnl" sz="2800" spc="-1" strike="noStrike">
                <a:solidFill>
                  <a:srgbClr val="0000ff"/>
                </a:solidFill>
                <a:latin typeface="Times New Roman"/>
              </a:rPr>
              <a:t>asimilación cogni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Sustento en la cultura organizacional y en el carácter social de la organ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Integración del contexto en tanto que variable determinante para la funcionalidad opera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0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7500"/>
                            </p:stCondLst>
                            <p:childTnLst>
                              <p:par>
                                <p:cTn id="106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7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Apropiación Instrumental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Organización del aprendizaje instrumental a partir de: la situación efectiva de trabajo, identificación de conocimientos y prácticas transferibles desde la anterior situación de traba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Desarrollo de estructuras de supervisión, retroalimentación, regulación y control “en proceso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Actualización de competencias de contexto útiles para la funcionalidad instrumental y la actividad gen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Desarrollo de instancias de socialización orientadas a generar reglas  prácticas y modos operatorios comparti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fill="hold">
                      <p:stCondLst>
                        <p:cond delay="0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500"/>
                            </p:stCondLst>
                            <p:childTnLst>
                              <p:par>
                                <p:cTn id="1083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8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9500"/>
                            </p:stCondLst>
                            <p:childTnLst>
                              <p:par>
                                <p:cTn id="1093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8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Reglas y Supervisión en la Apropiació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upervisión centrada 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a tare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a facilitación de espacios de evaluación y construcción colec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l desarrollo de la curva de aprendiza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4419720"/>
            <a:ext cx="7559640" cy="19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Control en proceso de niveles d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280" indent="-289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Prescripción Fuerte y Prescripción Déb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280" indent="-289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Discresionalidad y Autonom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fill="hold">
                      <p:stCondLst>
                        <p:cond delay="0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2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3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3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21500"/>
                            </p:stCondLst>
                            <p:childTnLst>
                              <p:par>
                                <p:cTn id="114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362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Times New Roman"/>
              </a:rPr>
              <a:t>Dimensiones del Análisis y Arreglo Instrumental: Ergonomí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Times New Roman"/>
              </a:rPr>
              <a:t>El análisis y arreglo de los instrumentos puede ser abordado desde distintas dimension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809720" indent="-4381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Times New Roman"/>
              </a:rPr>
              <a:t>Sus características estructur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809720" indent="-4381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Times New Roman"/>
              </a:rPr>
              <a:t>Sus significados inscri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809720" indent="-4381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Times New Roman"/>
              </a:rPr>
              <a:t>Su contexto de us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809720" indent="-4381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Times New Roman"/>
              </a:rPr>
              <a:t>Las modalidades efectivas de us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809720" indent="-4381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Times New Roman"/>
              </a:rPr>
              <a:t>Los propósitos y representaciones de sus usuari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0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1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6500"/>
                            </p:stCondLst>
                            <p:childTnLst>
                              <p:par>
                                <p:cTn id="117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8000"/>
                            </p:stCondLst>
                            <p:childTnLst>
                              <p:par>
                                <p:cTn id="117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1822cd"/>
                </a:solidFill>
                <a:latin typeface="Times New Roman"/>
              </a:rPr>
              <a:t>Relación Sujeto-Artefacto-Objet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1600200"/>
            <a:ext cx="1752480" cy="533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45000" y="1523880"/>
            <a:ext cx="174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22cd"/>
                </a:solidFill>
                <a:latin typeface="Times New Roman"/>
              </a:rPr>
              <a:t>Modos de us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22cd"/>
                </a:solidFill>
                <a:latin typeface="Times New Roman"/>
              </a:rPr>
              <a:t>del Instrum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4800" y="106668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b3d23"/>
                </a:solidFill>
                <a:latin typeface="Times New Roman"/>
              </a:rPr>
              <a:t>Contexto de u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1371600"/>
            <a:ext cx="2209680" cy="990720"/>
          </a:xfrm>
          <a:prstGeom prst="donut">
            <a:avLst>
              <a:gd name="adj" fmla="val 2500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215400" y="1447920"/>
            <a:ext cx="214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822cd"/>
                </a:solidFill>
                <a:latin typeface="Times New Roman"/>
              </a:rPr>
              <a:t>Objeto Fi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822cd"/>
                </a:solidFill>
                <a:latin typeface="Times New Roman"/>
              </a:rPr>
              <a:t>de la Activ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990720"/>
            <a:ext cx="7162560" cy="3581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19720" y="1828800"/>
            <a:ext cx="1752480" cy="0"/>
          </a:xfrm>
          <a:prstGeom prst="line">
            <a:avLst/>
          </a:prstGeom>
          <a:ln w="76320">
            <a:solidFill>
              <a:srgbClr val="f91a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0" y="2514600"/>
            <a:ext cx="2209680" cy="6858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91a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7440" y="2514600"/>
            <a:ext cx="214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822cd"/>
                </a:solidFill>
                <a:latin typeface="Times New Roman"/>
              </a:rPr>
              <a:t>Instrumentaliz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822cd"/>
                </a:solidFill>
                <a:latin typeface="Times New Roman"/>
              </a:rPr>
              <a:t>del Objeto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4267080"/>
            <a:ext cx="1447920" cy="609840"/>
          </a:xfrm>
          <a:prstGeom prst="roundRect">
            <a:avLst>
              <a:gd name="adj" fmla="val 0"/>
            </a:avLst>
          </a:prstGeom>
          <a:noFill/>
          <a:ln w="38160">
            <a:solidFill>
              <a:srgbClr val="f91a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4267080"/>
            <a:ext cx="16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822cd"/>
                </a:solidFill>
                <a:latin typeface="Times New Roman"/>
              </a:rPr>
              <a:t>Propósi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8120" y="41911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22cd"/>
                </a:solidFill>
                <a:latin typeface="Times New Roman"/>
              </a:rPr>
              <a:t>Cualidades 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22cd"/>
                </a:solidFill>
                <a:latin typeface="Times New Roman"/>
              </a:rPr>
              <a:t>Objeto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3962520"/>
            <a:ext cx="1981440" cy="1066680"/>
          </a:xfrm>
          <a:custGeom>
            <a:avLst/>
            <a:gdLst>
              <a:gd name="textAreaLeft" fmla="*/ 452160 w 1981440"/>
              <a:gd name="textAreaRight" fmla="*/ 1529280 w 1981440"/>
              <a:gd name="textAreaTop" fmla="*/ 243360 h 1066680"/>
              <a:gd name="textAreaBottom" fmla="*/ 8233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38160">
            <a:solidFill>
              <a:srgbClr val="f91a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4495680"/>
            <a:ext cx="609480" cy="0"/>
          </a:xfrm>
          <a:prstGeom prst="line">
            <a:avLst/>
          </a:prstGeom>
          <a:ln w="76320">
            <a:solidFill>
              <a:srgbClr val="f91a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7400" y="19051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b3d23"/>
                </a:solidFill>
                <a:latin typeface="Times New Roman"/>
              </a:rPr>
              <a:t>Artefa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1523880"/>
            <a:ext cx="5638680" cy="3124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5257800"/>
            <a:ext cx="1676520" cy="609480"/>
          </a:xfrm>
          <a:prstGeom prst="rect">
            <a:avLst/>
          </a:pr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20600" y="53341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7534"/>
                </a:solidFill>
                <a:latin typeface="Times New Roman"/>
              </a:rPr>
              <a:t>Neces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1981080" y="4876560"/>
            <a:ext cx="914400" cy="685800"/>
          </a:xfrm>
          <a:prstGeom prst="line">
            <a:avLst/>
          </a:prstGeom>
          <a:ln w="76320">
            <a:solidFill>
              <a:srgbClr val="1875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81680" y="4724280"/>
            <a:ext cx="1600200" cy="13716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88040" y="54100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7534"/>
                </a:solidFill>
                <a:latin typeface="Times New Roman"/>
              </a:rPr>
              <a:t>Suj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571640" y="5562720"/>
            <a:ext cx="2514600" cy="0"/>
          </a:xfrm>
          <a:prstGeom prst="line">
            <a:avLst/>
          </a:prstGeom>
          <a:ln w="76320">
            <a:solidFill>
              <a:srgbClr val="1875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05320" y="1066680"/>
            <a:ext cx="4343400" cy="5257800"/>
          </a:xfrm>
          <a:custGeom>
            <a:avLst/>
            <a:gdLst>
              <a:gd name="textAreaLeft" fmla="*/ 212040 w 4343400"/>
              <a:gd name="textAreaRight" fmla="*/ 4131360 w 4343400"/>
              <a:gd name="textAreaTop" fmla="*/ 212040 h 5257800"/>
              <a:gd name="textAreaBottom" fmla="*/ 5045760 h 5257800"/>
            </a:gdLst>
            <a:ahLst/>
            <a:rect l="textAreaLeft" t="textAreaTop" r="textAreaRight" b="textAreaBottom"/>
            <a:pathLst>
              <a:path w="21600" h="26147">
                <a:moveTo>
                  <a:pt x="3600" y="0"/>
                </a:moveTo>
                <a:arcTo wR="3600" hR="3600" stAng="16200000" swAng="-5400000"/>
                <a:lnTo>
                  <a:pt x="0" y="22547"/>
                </a:lnTo>
                <a:arcTo wR="3600" hR="3600" stAng="10800000" swAng="-5400000"/>
                <a:lnTo>
                  <a:pt x="18000" y="26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76520" y="3123720"/>
            <a:ext cx="761760" cy="1143000"/>
          </a:xfrm>
          <a:prstGeom prst="line">
            <a:avLst/>
          </a:prstGeom>
          <a:ln w="76320">
            <a:solidFill>
              <a:srgbClr val="f91a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819520" y="2057400"/>
            <a:ext cx="304560" cy="457200"/>
          </a:xfrm>
          <a:prstGeom prst="line">
            <a:avLst/>
          </a:prstGeom>
          <a:ln w="76320">
            <a:solidFill>
              <a:srgbClr val="f91a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3123720" y="3200400"/>
            <a:ext cx="762120" cy="914400"/>
          </a:xfrm>
          <a:prstGeom prst="line">
            <a:avLst/>
          </a:prstGeom>
          <a:ln w="76320">
            <a:solidFill>
              <a:srgbClr val="f91a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63800" y="373392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b3d23"/>
                </a:solidFill>
                <a:latin typeface="Times New Roman"/>
              </a:rPr>
              <a:t>Re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b3d23"/>
                </a:solidFill>
                <a:latin typeface="Times New Roman"/>
              </a:rPr>
              <a:t>Sens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43800" y="2362320"/>
            <a:ext cx="0" cy="23619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8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50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5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000"/>
                            </p:stCondLst>
                            <p:childTnLst>
                              <p:par>
                                <p:cTn id="2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500"/>
                            </p:stCondLst>
                            <p:childTnLst>
                              <p:par>
                                <p:cTn id="2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000"/>
                            </p:stCondLst>
                            <p:childTnLst>
                              <p:par>
                                <p:cTn id="23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500"/>
                            </p:stCondLst>
                            <p:childTnLst>
                              <p:par>
                                <p:cTn id="24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500"/>
                            </p:stCondLst>
                            <p:childTnLst>
                              <p:par>
                                <p:cTn id="2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¿Porqué Incorporar la Gestión de Personas a los Procesos de Implantación Tecnológica?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Las tecnologías se insertan en espacios sociales, culturales, funcionales, materiales y tecnológicos pre-exist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3505320"/>
            <a:ext cx="82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82600"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as herramientas de trabajo “median” y “mediatizan“ la relación de la persona con su objeto de traba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44956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a tecnologías canalizan significados inscritos: explícitos e implíci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5040" y="5334120"/>
            <a:ext cx="855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La ¨conversación¨ entre estas distintas estructuras de significados, así como la propia mediatización instrumental, redundan en importantes consecuencias prác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2286000"/>
            <a:ext cx="839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82600">
              <a:spcBef>
                <a:spcPts val="6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Las personas llamadas a utilizar las tecnologías poseen socializaciones previas y caracterìsticas que inciden en sus socializaciones pres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505320" y="1752480"/>
            <a:ext cx="2438280" cy="18288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1219320"/>
            <a:ext cx="1219320" cy="685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80080" y="5310360"/>
            <a:ext cx="171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Característica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de la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Person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5120" y="4191120"/>
            <a:ext cx="1143000" cy="685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05840" y="3352680"/>
            <a:ext cx="15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Herramient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Técnic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4191120"/>
            <a:ext cx="1143000" cy="685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43960" y="342900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Organiz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18280" y="14079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16920" y="4952880"/>
            <a:ext cx="2791440" cy="1554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Competenc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Características Socio-cultu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Características Biopsicosoci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Persona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Expectativ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391520" y="2971800"/>
            <a:ext cx="1447560" cy="1554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Estructu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Carg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Remuner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Supervisió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Coordin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3124080"/>
            <a:ext cx="1676520" cy="1067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de Inform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de Comunic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de Oper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0795200">
            <a:off x="3504960" y="3580920"/>
            <a:ext cx="2438280" cy="182736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92560" y="134784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ctiv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40600" y="914400"/>
            <a:ext cx="2393640" cy="1554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Diagnóstico de Situa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Resolución de Problem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Organización Conductu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Regulación de Proce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Intervención sobre Obje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59680" y="228600"/>
            <a:ext cx="6165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Esquema de la Mediación Instrumen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914400"/>
            <a:ext cx="8610480" cy="5638680"/>
          </a:xfrm>
          <a:prstGeom prst="ellipse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30600" y="1981080"/>
            <a:ext cx="144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nto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24280" y="1828800"/>
            <a:ext cx="0" cy="358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4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7000"/>
                            </p:stCondLst>
                            <p:childTnLst>
                              <p:par>
                                <p:cTn id="38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7500"/>
                            </p:stCondLst>
                            <p:childTnLst>
                              <p:par>
                                <p:cTn id="389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23" presetSubtype="52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50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Times New Roman"/>
              </a:rPr>
              <a:t>Sistema Complejo de la Actividad de Engeström </a:t>
            </a:r>
            <a:br>
              <a:rPr sz="2400"/>
            </a:br>
            <a:r>
              <a:rPr b="1" lang="es-ES_tradnl" sz="2400" spc="-1" strike="noStrike">
                <a:solidFill>
                  <a:srgbClr val="ff9900"/>
                </a:solidFill>
                <a:latin typeface="Times New Roman"/>
              </a:rPr>
              <a:t>(Modificado por CD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1066680"/>
            <a:ext cx="8534160" cy="5486400"/>
          </a:xfrm>
          <a:prstGeom prst="ellipse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bf21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NTEX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91800" y="335268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erso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25920" y="3124080"/>
            <a:ext cx="18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bjeto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a Activ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35360" y="1219320"/>
            <a:ext cx="146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rtefa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edi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0920" y="5410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Regl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07120" y="533412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mun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019280" y="5181480"/>
            <a:ext cx="171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ivisió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el Traba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209680" y="1752120"/>
            <a:ext cx="1447920" cy="175284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14600" y="3581280"/>
            <a:ext cx="3657600" cy="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05520" y="1828800"/>
            <a:ext cx="1295280" cy="167652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914400" y="3733560"/>
            <a:ext cx="1143000" cy="160020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29400" y="3809880"/>
            <a:ext cx="1066680" cy="137160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5638680"/>
            <a:ext cx="1981080" cy="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81480" y="5638680"/>
            <a:ext cx="1981440" cy="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3733920"/>
            <a:ext cx="1295280" cy="160020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5257800" y="3733920"/>
            <a:ext cx="1066680" cy="167616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43400" y="1981080"/>
            <a:ext cx="0" cy="342900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523880" y="3733560"/>
            <a:ext cx="4572000" cy="160020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3733920"/>
            <a:ext cx="4572000" cy="167616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1371600" y="1981080"/>
            <a:ext cx="2590920" cy="3276720"/>
          </a:xfrm>
          <a:prstGeom prst="line">
            <a:avLst/>
          </a:prstGeom>
          <a:ln w="38160">
            <a:solidFill>
              <a:srgbClr val="bf211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1981080"/>
            <a:ext cx="2514600" cy="3124440"/>
          </a:xfrm>
          <a:prstGeom prst="line">
            <a:avLst/>
          </a:prstGeom>
          <a:ln w="38160">
            <a:solidFill>
              <a:srgbClr val="bf211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5867280"/>
            <a:ext cx="0" cy="304920"/>
          </a:xfrm>
          <a:prstGeom prst="line">
            <a:avLst/>
          </a:prstGeom>
          <a:ln w="38160">
            <a:solidFill>
              <a:srgbClr val="bf211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6172200"/>
            <a:ext cx="6629400" cy="0"/>
          </a:xfrm>
          <a:prstGeom prst="line">
            <a:avLst/>
          </a:prstGeom>
          <a:ln w="38160">
            <a:solidFill>
              <a:srgbClr val="bf21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848720" y="5866920"/>
            <a:ext cx="0" cy="304920"/>
          </a:xfrm>
          <a:prstGeom prst="line">
            <a:avLst/>
          </a:prstGeom>
          <a:ln w="38160">
            <a:solidFill>
              <a:srgbClr val="bf21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46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000"/>
                            </p:stCondLst>
                            <p:childTnLst>
                              <p:par>
                                <p:cTn id="4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914400" y="2590920"/>
            <a:ext cx="762120" cy="19047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Times New Roman"/>
              </a:rPr>
              <a:t>Diversos componentes de la mediación (según P. Rabardel 2001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19920" y="2133720"/>
            <a:ext cx="259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ff"/>
                </a:solidFill>
                <a:latin typeface="Times New Roman"/>
              </a:rPr>
              <a:t>Mediación Epistém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600200"/>
            <a:ext cx="274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6000"/>
          </a:bodyPr>
          <a:p>
            <a:pPr marL="260640" indent="-26064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ff"/>
                </a:solidFill>
                <a:latin typeface="Times New Roman"/>
              </a:rPr>
              <a:t>Mediación Reflex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81080" y="5410080"/>
            <a:ext cx="2895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ff"/>
                </a:solidFill>
                <a:latin typeface="Times New Roman"/>
              </a:rPr>
              <a:t>Mediación Inter-pers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5880" y="571500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2000"/>
          </a:bodyPr>
          <a:p>
            <a:pPr marL="246960" indent="-24696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ff"/>
                </a:solidFill>
                <a:latin typeface="Times New Roman"/>
              </a:rPr>
              <a:t>Mediación Pragmá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114800" y="1905120"/>
            <a:ext cx="1967040" cy="17618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629400" y="4191120"/>
            <a:ext cx="1523880" cy="13716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457200" y="4952880"/>
            <a:ext cx="579600" cy="1447920"/>
          </a:xfrm>
          <a:prstGeom prst="rect">
            <a:avLst/>
          </a:prstGeom>
          <a:ln w="0">
            <a:noFill/>
          </a:ln>
        </p:spPr>
      </p:pic>
      <p:cxnSp>
        <p:nvCxnSpPr>
          <p:cNvPr id="176" name=""/>
          <p:cNvCxnSpPr>
            <a:endCxn id="174" idx="0"/>
          </p:cNvCxnSpPr>
          <p:nvPr/>
        </p:nvCxnSpPr>
        <p:spPr>
          <a:xfrm>
            <a:off x="1980720" y="3200400"/>
            <a:ext cx="5411160" cy="991440"/>
          </a:xfrm>
          <a:prstGeom prst="bentConnector2">
            <a:avLst/>
          </a:prstGeom>
          <a:ln w="255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5486400" y="5029200"/>
            <a:ext cx="1143000" cy="876240"/>
          </a:xfrm>
          <a:prstGeom prst="rect">
            <a:avLst/>
          </a:prstGeom>
          <a:ln w="0">
            <a:noFill/>
          </a:ln>
        </p:spPr>
      </p:pic>
      <p:cxnSp>
        <p:nvCxnSpPr>
          <p:cNvPr id="178" name=""/>
          <p:cNvCxnSpPr/>
          <p:nvPr/>
        </p:nvCxnSpPr>
        <p:spPr>
          <a:xfrm>
            <a:off x="2514240" y="3428640"/>
            <a:ext cx="4725000" cy="2057760"/>
          </a:xfrm>
          <a:prstGeom prst="bentConnector3">
            <a:avLst>
              <a:gd name="adj1" fmla="val 50000"/>
            </a:avLst>
          </a:prstGeom>
          <a:ln w="255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9" name=""/>
          <p:cNvCxnSpPr/>
          <p:nvPr/>
        </p:nvCxnSpPr>
        <p:spPr>
          <a:xfrm flipH="1" rot="16200000">
            <a:off x="343440" y="3541320"/>
            <a:ext cx="1905480" cy="2520"/>
          </a:xfrm>
          <a:prstGeom prst="curvedConnector5">
            <a:avLst>
              <a:gd name="adj1" fmla="val -11999"/>
              <a:gd name="adj2" fmla="val 111133333"/>
              <a:gd name="adj3" fmla="val -11999"/>
            </a:avLst>
          </a:prstGeom>
          <a:ln w="93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>
            <a:off x="1828800" y="5029200"/>
            <a:ext cx="579600" cy="1447920"/>
          </a:xfrm>
          <a:prstGeom prst="rect">
            <a:avLst/>
          </a:prstGeom>
          <a:ln w="0">
            <a:noFill/>
          </a:ln>
        </p:spPr>
      </p:pic>
      <p:cxnSp>
        <p:nvCxnSpPr>
          <p:cNvPr id="181" name=""/>
          <p:cNvCxnSpPr/>
          <p:nvPr/>
        </p:nvCxnSpPr>
        <p:spPr>
          <a:xfrm flipH="1">
            <a:off x="1600200" y="3543120"/>
            <a:ext cx="76680" cy="1943640"/>
          </a:xfrm>
          <a:prstGeom prst="curvedConnector5">
            <a:avLst>
              <a:gd name="adj1" fmla="val -3773584"/>
              <a:gd name="adj2" fmla="val 37254"/>
              <a:gd name="adj3" fmla="val -3773584"/>
            </a:avLst>
          </a:prstGeom>
          <a:ln w="93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000"/>
                            </p:stCondLst>
                            <p:childTnLst>
                              <p:par>
                                <p:cTn id="585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4500"/>
                            </p:stCondLst>
                            <p:childTnLst>
                              <p:par>
                                <p:cTn id="590" nodeType="after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9000"/>
                            </p:stCondLst>
                            <p:childTnLst>
                              <p:par>
                                <p:cTn id="5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2000"/>
                            </p:stCondLst>
                            <p:childTnLst>
                              <p:par>
                                <p:cTn id="63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35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Times New Roman"/>
              </a:rPr>
              <a:t>Consecuencias en el Plano Organizacional de las Implantaciones Tecnológic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Tiende a desarrollarse una escisión entre la estructura normativa formal y la practicada por las person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Las relaciones de poder existentes entran en crisis al alterarse los ámbitos de control factico que poseen las distintas personas de la organ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La estructura de valores sobre la que se sustentan las prácticas organizacionales se ve tensionada por las estructuras de valores que imponen las nuevas tecnologías: e.g., valor del tiempo, de la autonomía, de la coordinación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300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5500"/>
                            </p:stCondLst>
                            <p:childTnLst>
                              <p:par>
                                <p:cTn id="66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Consecuencias en el Plano Funcional de las Implantaciones Tecnológic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Los nuevos sistemas tardan en operar con una efectividad comparable a los antiguos, restándoles confiabilidad frente a los usu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En paralelo, los antiguos sistemas se degradan paulatinamente o cesan de operar abruptamente, dejando con escaso soporte de operación a los usu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entr" presetID="1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6000"/>
                            </p:stCondLst>
                            <p:childTnLst>
                              <p:par>
                                <p:cTn id="684" nodeType="afterEffect" fill="hold" presetClass="entr" presetID="1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8:50:26Z</dcterms:created>
  <dc:creator>Escuela de Psicología</dc:creator>
  <dc:description/>
  <dc:language>en-US</dc:language>
  <cp:lastModifiedBy>julie lagos</cp:lastModifiedBy>
  <dcterms:modified xsi:type="dcterms:W3CDTF">2004-11-08T12:21:33Z</dcterms:modified>
  <cp:revision>83</cp:revision>
  <dc:subject/>
  <dc:title>Análisis Ergonómico de Instrumentos</dc:title>
</cp:coreProperties>
</file>