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7EF-C6F9-4BE1-B7A2-8A4BD0A9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FCD-F2A7-42FB-8F19-7041FCD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505-B6AC-44EF-B1FB-DA803B19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8B5-7D8B-4F32-BD4F-8675220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BCB-066C-4C43-A822-A0524C3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A4C-1557-44C4-ADDC-5769AD65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4B1-17C2-491D-AFBA-AE48C2C7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0DF-021A-457A-8655-7CB43C5B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9CB-7BFC-42BE-9E68-0F84345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134-3385-4B0B-B1C6-F1F36609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EA4-2FFB-42A5-B630-77329D3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2EA-527C-460B-8F43-EE903970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4C3-8231-4470-BA23-149F0F445FCA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Gestión de Personas y de Tecnologías: una perspectiva cognitivo-cultur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81280" y="4537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arlos Díaz Cane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93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ideraciones en el Plano del Aprendizaje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distinción entre lo importante y lo secundario tiende a ser confuso para los futur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presentación de la información requerida para la funcionalidad de las herramientas tiende a ser abstracta y ajena al contexto de u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s niveles de comprensión lectora de los usuarios es a menudo insuficiente para los grados de abstracción requeridos por el manejo instru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mplicancias en el Plano de las Person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Se redefinen sus roles y competencias, con el consiguiente incremento del estrés frente a las nuevas exigencias que sup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Deben articular con la misma disponibilidad de tiempo las exigencias asociadas a la producción y aquellas asociadas al aprendiz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Pueden producirse procesos de reubicación y/o desvinculación lab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dicadores Frecuentes de Desajus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Organizaciones generadas por “agregación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Heterocronismo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ategias “compensatorias“ y “sustituta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fusión de la “exégesis“ y la “casuístic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scisión operativa (coexistencia de rutinización e inform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Quejas relativas a los nuevos instrumentos y reificación de los antig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rrores “erráticos“ y frec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lgunos Aspectos de la Situación de Implantación a Consider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Propósitos de la actividad afect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ácterísticas personales, culturales y contex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acterísticas instrumentales c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odalidades de Impla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 la lógica funcional que las personas van a establecer con las herrami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l locus de control inscrito en las normas y la super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Propósitos de la actividad, carácterísticas personales, culturales y contextu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levantamiento de las premisas organizacionales busca la recuperación del sentido organizador que los propósitos dan 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048120"/>
            <a:ext cx="86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análisis de las características  sociodemográficas de los eventuales usuarios informa sobre las perspectivas vitales disponibles en la base social sobre la que se soport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006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análisis de la situación y procesos de trabajo dan cuenta de la actividad efectiva en contexto que las personas realizan. En especial de las coordinaciones y regulaciones que actualiz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racterísticas instrumentales clav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mplejidad :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ford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versidad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Necesidad de soporte y mant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ramas operacionales involucr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Grado de heterogeneidad operacional que int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500"/>
                            </p:stCondLst>
                            <p:childTnLst>
                              <p:par>
                                <p:cTn id="87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xtensión de la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itmo d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Modalidades de control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Consideraciones de Proces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ógicas de Relación Sujeto-Artefac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FUNCIONAL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l estado funcional del artef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PROCESO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 los procesos de transformación realizados por el artefact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UTILIZACIÓN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el carácter instrumental del artefacto en tanto que medio efectivo de la a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glas y Cont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evisión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normativa de la actividad y de las interacciones con otr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oles y a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oportes de comunicación y de ayuda a la toma de deci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Modalidades de super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stancias y procesos de generación norm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000"/>
                            </p:stCondLst>
                            <p:childTnLst>
                              <p:par>
                                <p:cTn id="9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75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námica Organiz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1981080"/>
            <a:ext cx="457200" cy="3353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685600" y="2372040"/>
            <a:ext cx="3096720" cy="2206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2388240"/>
            <a:ext cx="2944800" cy="2064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81240" y="2313360"/>
            <a:ext cx="905400" cy="294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9800" y="2426040"/>
            <a:ext cx="1956960" cy="294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43200" y="44956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9400" y="1371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560" y="182880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840" y="2057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0" y="3124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7400" y="4419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0120" y="54864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66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920" y="3048120"/>
            <a:ext cx="22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946400" y="3579840"/>
            <a:ext cx="1010160" cy="1720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920" y="3580920"/>
            <a:ext cx="2209680" cy="175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36232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23400" y="1953000"/>
            <a:ext cx="1569240" cy="271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905120"/>
            <a:ext cx="167652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905120"/>
            <a:ext cx="175284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920" y="1905120"/>
            <a:ext cx="167616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358128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42840" y="2362320"/>
            <a:ext cx="152280" cy="21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362320"/>
            <a:ext cx="7596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43200" y="3581280"/>
            <a:ext cx="327672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362320"/>
            <a:ext cx="3124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9548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2438280"/>
            <a:ext cx="30456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581280"/>
            <a:ext cx="1522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5720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76920" y="4419360"/>
            <a:ext cx="106668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3581280"/>
            <a:ext cx="152640" cy="99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43828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581280"/>
            <a:ext cx="3124440" cy="838440"/>
          </a:xfrm>
          <a:prstGeom prst="line">
            <a:avLst/>
          </a:prstGeom>
          <a:ln w="38160">
            <a:solidFill>
              <a:srgbClr val="ff111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2362320"/>
            <a:ext cx="297180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057400"/>
            <a:ext cx="68580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5320" y="2438280"/>
            <a:ext cx="2133360" cy="289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5680" y="548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362320"/>
            <a:ext cx="53316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3505320"/>
            <a:ext cx="251460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6576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4648320"/>
            <a:ext cx="83808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4100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81280" y="44193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6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7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9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¿Cómo interveni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 Enfoq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aptar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sarrollar la aprop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1. Adaptar a las Person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foque clásico centrado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l aprendizaje normativo y procedural, bas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comod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selección con base a características ¨análogas¨ a las existentes en el escenario de orígen de la tecn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ucturas normativas acordes a la lógica funcional de los sistemas implan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 Apropi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esguardo de la primacía del propósito de la actividad por sobre los requerimientos operativos del instr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prendizaje soport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simil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ustento en la cultura organizacional y en el carácter social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tegración del contexto en tanto que variable determinante para la funcionalidad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propiación Instrument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Organización del aprendizaje instrumental a partir de: la situación efectiva de trabajo, identificación de conocimientos y prácticas transferibles desde la anterior situación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estructuras de supervisión, retroalimentación, regulación y control “en proceso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ctualización de competencias de contexto útiles para la funcionalidad instrumental y la actividad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instancias de socialización orientadas a generar reglas  prácticas y modos operatorios compar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glas y Supervisión en la Apropi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pervisión centrada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t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facilitación de espacios de evaluación y construcción col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 desarrollo de la curva de aprendiz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419720"/>
            <a:ext cx="755964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ntrol en proceso de nivele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rescripción Fuerte y Prescripción Déb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scresionalidad y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6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imes New Roman"/>
              </a:rPr>
              <a:t>Dimensiones del Análisis y Arreglo Instrumental: Ergonomí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El análisis y arreglo de los instrumentos puede ser abordado desde distintas dimens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características estructu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significados inscr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 contexto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as modalidades efectivas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os propósitos y representaciones de su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Times New Roman"/>
              </a:rPr>
              <a:t>Relación Sujeto-Artefacto-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600200"/>
            <a:ext cx="17524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5000" y="152388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Modos de u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del Instru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800" y="1066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Contexto de u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371600"/>
            <a:ext cx="2209680" cy="9907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15400" y="144792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Objeto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de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990720"/>
            <a:ext cx="7162560" cy="3581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1828800"/>
            <a:ext cx="1752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514600"/>
            <a:ext cx="22096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25146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Instrument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del 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267080"/>
            <a:ext cx="1447920" cy="6098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26708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191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Cualidade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962520"/>
            <a:ext cx="1981440" cy="106668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495680"/>
            <a:ext cx="609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740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5638680" cy="312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257800"/>
            <a:ext cx="1676520" cy="60948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0600" y="5334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Neces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81080" y="4876560"/>
            <a:ext cx="914400" cy="68580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724280"/>
            <a:ext cx="16002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8040" y="5410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5562720"/>
            <a:ext cx="2514600" cy="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06668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3123720"/>
            <a:ext cx="761760" cy="11430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2057400"/>
            <a:ext cx="304560" cy="4572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123720" y="3200400"/>
            <a:ext cx="762120" cy="9144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3800" y="373392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2362320"/>
            <a:ext cx="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¿Porqué Incorporar la Gestión de Personas a los Procesos de Implantación Tecnológica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tecnologías se insertan en espacios sociales, culturales, funcionales, materiales y tecnológicos pre-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s herramientas de trabajo “median” y “mediatizan“ la relación de la persona con su obje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495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tecnologías canalizan significados inscritos: explícitos e implíc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040" y="5334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 ¨conversación¨ entre estas distintas estructuras de significados, así como la propia mediatización instrumental, redundan en importantes consecuenci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personas llamadas a utilizar las tecnologías poseen socializaciones previas y caracterìsticas que inciden en sus socializaciones pres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05320" y="1752480"/>
            <a:ext cx="2438280" cy="1828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219320"/>
            <a:ext cx="12193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0080" y="531036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racteríst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e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erso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840" y="33526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960" y="342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8280" y="1407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6920" y="4952880"/>
            <a:ext cx="27914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mpe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Socio-cul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Biopsico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Persona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xpect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2971800"/>
            <a:ext cx="144756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g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mu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Supervis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124080"/>
            <a:ext cx="1676520" cy="10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Comun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Op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95200">
            <a:off x="3504960" y="3580920"/>
            <a:ext cx="2438280" cy="1827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2560" y="13478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600" y="914400"/>
            <a:ext cx="23936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iagnóstico de Situ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solución de 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rganización Condu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gulación de 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Intervención sobre Obje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9680" y="228600"/>
            <a:ext cx="6165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squema de la Med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14400"/>
            <a:ext cx="8610480" cy="563868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0600" y="19810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to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Sistema Complejo de la Actividad de Engeström </a:t>
            </a:r>
            <a:br>
              <a:rPr sz="2400"/>
            </a:b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(Modificado por C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534160" cy="5486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1800" y="3352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5920" y="31240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bje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5360" y="12193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di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920" y="541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g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7120" y="5334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9280" y="5181480"/>
            <a:ext cx="17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v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09680" y="1752120"/>
            <a:ext cx="1447920" cy="17528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828800"/>
            <a:ext cx="1295280" cy="1676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14400" y="3733560"/>
            <a:ext cx="1143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3809880"/>
            <a:ext cx="1066680" cy="13716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638680"/>
            <a:ext cx="198108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5638680"/>
            <a:ext cx="198144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733920"/>
            <a:ext cx="129528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57800" y="3733920"/>
            <a:ext cx="106668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1981080"/>
            <a:ext cx="0" cy="3429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523880" y="3733560"/>
            <a:ext cx="4572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457200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1981080"/>
            <a:ext cx="2590920" cy="32767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981080"/>
            <a:ext cx="2514600" cy="312444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6172200"/>
            <a:ext cx="6629400" cy="0"/>
          </a:xfrm>
          <a:prstGeom prst="line">
            <a:avLst/>
          </a:prstGeom>
          <a:ln w="381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848720" y="586692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2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Diversos componentes de la mediación (según P. Rabardel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13372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Episté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Reflex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410080"/>
            <a:ext cx="2895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Inter-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7150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Prag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1967040" cy="1761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76" name=""/>
          <p:cNvCxnSpPr>
            <a:endCxn id="174" idx="0"/>
          </p:cNvCxnSpPr>
          <p:nvPr/>
        </p:nvCxnSpPr>
        <p:spPr>
          <a:xfrm>
            <a:off x="1980720" y="3200400"/>
            <a:ext cx="5411160" cy="991440"/>
          </a:xfrm>
          <a:prstGeom prst="bentConnector2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1143000" cy="87624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/>
          <p:nvPr/>
        </p:nvCxnSpPr>
        <p:spPr>
          <a:xfrm>
            <a:off x="2514240" y="3428640"/>
            <a:ext cx="4725000" cy="2057760"/>
          </a:xfrm>
          <a:prstGeom prst="bentConnector3">
            <a:avLst>
              <a:gd name="adj1" fmla="val 50000"/>
            </a:avLst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H="1" rot="16200000">
            <a:off x="343440" y="3541320"/>
            <a:ext cx="1905480" cy="2520"/>
          </a:xfrm>
          <a:prstGeom prst="curvedConnector5">
            <a:avLst>
              <a:gd name="adj1" fmla="val -11999"/>
              <a:gd name="adj2" fmla="val 111133333"/>
              <a:gd name="adj3" fmla="val -11999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81" name=""/>
          <p:cNvCxnSpPr/>
          <p:nvPr/>
        </p:nvCxnSpPr>
        <p:spPr>
          <a:xfrm flipH="1">
            <a:off x="1600200" y="3543120"/>
            <a:ext cx="76680" cy="1943640"/>
          </a:xfrm>
          <a:prstGeom prst="curvedConnector5">
            <a:avLst>
              <a:gd name="adj1" fmla="val -3773584"/>
              <a:gd name="adj2" fmla="val 37254"/>
              <a:gd name="adj3" fmla="val -3773584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nsecuencias en el Plano Organiza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iende a desarrollarse una escisión entre la estructura normativa formal y la practicada por las perso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s relaciones de poder existentes entran en crisis al alterarse los ámbitos de control factico que poseen las distintas personas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de valores sobre la que se sustentan las prácticas organizacionales se ve tensionada por las estructuras de valores que imponen las nuevas tecnologías: e.g., valor del tiempo, de la autonomía, de la coordinación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ecuencias en el Plano Fun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Los nuevos sistemas tardan en operar con una efectividad comparable a los antiguos, restándoles confiabilidad frente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 paralelo, los antiguos sistemas se degradan paulatinamente o cesan de operar abruptamente, dejando con escaso soporte de operación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8:50:26Z</dcterms:created>
  <dc:creator>Escuela de Psicología</dc:creator>
  <dc:description/>
  <dc:language>en-US</dc:language>
  <cp:lastModifiedBy>julie lagos</cp:lastModifiedBy>
  <dcterms:modified xsi:type="dcterms:W3CDTF">2004-11-08T12:21:33Z</dcterms:modified>
  <cp:revision>83</cp:revision>
  <dc:subject/>
  <dc:title>Análisis Ergonómico de Instrumentos</dc:title>
</cp:coreProperties>
</file>