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TIGO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9A3-58C0-4828-BE46-E195F6C5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DD5-3E8E-4A5D-8807-C008F7D1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39D-5F0A-4EEB-ACE1-423D0512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445F-5914-480A-B360-0B546C33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B0B-A93F-4229-A70A-BB99368D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5D9-91EB-4CBF-98B4-2D19BE25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51D-33C7-4AC2-8562-CE2D820B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082-9CC8-4BB2-BDC4-2A0B1573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6EA-295E-4363-A119-67F6019E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D5A-59B5-40E3-A9D9-D46F2472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5AF-03DC-4D72-AE43-6C086335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A1C-1759-4AD6-A407-AA67CEB7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039C-DD13-4AB8-814D-7FD82F84A7A5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9810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Gestión de Personas y de Tecnologías: una perspectiva cognitivo-cultura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81280" y="453708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Carlos Díaz Cane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893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onsideraciones en el Plano del Aprendizaje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a distinción entre lo importante y lo secundario tiende a ser confuso para los futur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a presentación de la información requerida para la funcionalidad de las herramientas tiende a ser abstracta y ajena al contexto de u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os niveles de comprensión lectora de los usuarios es a menudo insuficiente para los grados de abstracción requeridos por el manejo instrumen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mplicancias en el Plano de las Person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Se redefinen sus roles y competencias, con el consiguiente incremento del estrés frente a las nuevas exigencias que sup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Deben articular con la misma disponibilidad de tiempo las exigencias asociadas a la producción y aquellas asociadas al aprendiz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Pueden producirse procesos de reubicación y/o desvinculación labo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00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5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Indicadores Frecuentes de Desajust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Organizaciones generadas por “agregación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Heterocronismo fun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esarrollo de estrategias “compensatorias“ y “sustitutas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ifusión de la “exégesis“ y la “casuística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scisión operativa (coexistencia de rutinización e informalid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Quejas relativas a los nuevos instrumentos y reificación de los antigu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rrores “erráticos“ y frecu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Algunos Aspectos de la Situación de Implantación a Consider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Propósitos de la actividad afect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Carácterísticas personales, culturales y contex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Características instrumentales cl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Modalidades de Impla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Naturaleza de la lógica funcional que las personas van a establecer con las herramien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Naturaleza del locus de control inscrito en las normas y la supervi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4000"/>
                            </p:stCondLst>
                            <p:childTnLst>
                              <p:par>
                                <p:cTn id="80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7500"/>
                            </p:stCondLst>
                            <p:childTnLst>
                              <p:par>
                                <p:cTn id="81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45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00"/>
                </a:solidFill>
                <a:latin typeface="Times New Roman"/>
              </a:rPr>
              <a:t>Propósitos de la actividad, carácterísticas personales, culturales y contextu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l levantamiento de las premisas organizacionales busca la recuperación del sentido organizador que los propósitos dan a 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3048120"/>
            <a:ext cx="862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260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l análisis de las características  sociodemográficas de los eventuales usuarios informa sobre las perspectivas vitales disponibles en la base social sobre la que se soporta 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8006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 análisis de la situación y procesos de trabajo dan cuenta de la actividad efectiva en contexto que las personas realizan. En especial de las coordinaciones y regulaciones que actualiz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aracterísticas instrumentales clav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Complejidad :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ford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iversidad fun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Necesidad de soporte y manten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Tramas operacionales involucr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Grado de heterogeneidad operacional que introdu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7500"/>
                            </p:stCondLst>
                            <p:childTnLst>
                              <p:par>
                                <p:cTn id="87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88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8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89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Extensión de la impla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Ritmo de impla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Modalidades de control dispon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00"/>
                </a:solidFill>
                <a:latin typeface="Times New Roman"/>
              </a:rPr>
              <a:t>Consideraciones de Proces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4000"/>
                            </p:stCondLst>
                            <p:childTnLst>
                              <p:par>
                                <p:cTn id="914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7500"/>
                            </p:stCondLst>
                            <p:childTnLst>
                              <p:par>
                                <p:cTn id="921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8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Lógicas de Relación Sujeto-Artefact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66672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ÓGICA FUNCIONAL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entrada en la mantención del estado funcional del artefa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047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ÓGICA DE PROCESO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entrada en la mantención de los procesos de transformación realizados por el artefacto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047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ÓGICA DE UTILIZACIÓN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entrada en el carácter instrumental del artefacto en tanto que medio efectivo de la a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60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eglas y Contr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Revisión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La estructura normativa de la actividad y de las interacciones con otros sub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Roles y atribu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Soportes de comunicación y de ayuda a la toma de deci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Modalidades de superv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Instancias y procesos de generación norm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000"/>
                            </p:stCondLst>
                            <p:childTnLst>
                              <p:par>
                                <p:cTn id="97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7500"/>
                            </p:stCondLst>
                            <p:childTnLst>
                              <p:par>
                                <p:cTn id="97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98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800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inámica Organiz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1981080"/>
            <a:ext cx="457200" cy="3353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685600" y="2372040"/>
            <a:ext cx="3096720" cy="2206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2388240"/>
            <a:ext cx="2944800" cy="2064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881240" y="2313360"/>
            <a:ext cx="905400" cy="294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9800" y="2426040"/>
            <a:ext cx="1956960" cy="2942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743200" y="4495680"/>
            <a:ext cx="3048120" cy="152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9400" y="13716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n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560" y="1828800"/>
            <a:ext cx="15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ter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840" y="20574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0" y="3124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ruc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7400" y="44197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50120" y="54864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6600" y="44956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l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920" y="3048120"/>
            <a:ext cx="223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racterís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 l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946400" y="3579840"/>
            <a:ext cx="1010160" cy="1720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90920" y="3580920"/>
            <a:ext cx="2209680" cy="1752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2362320"/>
            <a:ext cx="2895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723400" y="1953000"/>
            <a:ext cx="1569240" cy="2718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905120"/>
            <a:ext cx="1676520" cy="2514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905120"/>
            <a:ext cx="1752840" cy="16761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590920" y="1905120"/>
            <a:ext cx="1676160" cy="16761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590560" y="3581280"/>
            <a:ext cx="3429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742840" y="2362320"/>
            <a:ext cx="152280" cy="21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2362320"/>
            <a:ext cx="75960" cy="2057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743200" y="3581280"/>
            <a:ext cx="3276720" cy="106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2362320"/>
            <a:ext cx="312444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895480" y="1905120"/>
            <a:ext cx="13716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2438280"/>
            <a:ext cx="304560" cy="1143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3581280"/>
            <a:ext cx="15228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4572000"/>
            <a:ext cx="2057400" cy="838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76920" y="4419360"/>
            <a:ext cx="1066680" cy="990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867280" y="3581280"/>
            <a:ext cx="152640" cy="990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243828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905120"/>
            <a:ext cx="13716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3581280"/>
            <a:ext cx="3124440" cy="838440"/>
          </a:xfrm>
          <a:prstGeom prst="line">
            <a:avLst/>
          </a:prstGeom>
          <a:ln w="38160">
            <a:solidFill>
              <a:srgbClr val="ff111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742840" y="2362320"/>
            <a:ext cx="297180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580920" y="2057400"/>
            <a:ext cx="68580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505320" y="2438280"/>
            <a:ext cx="2133360" cy="2895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5680" y="548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2362320"/>
            <a:ext cx="533160" cy="297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04960" y="3505320"/>
            <a:ext cx="2514600" cy="1904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3657600"/>
            <a:ext cx="838080" cy="1828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4648320"/>
            <a:ext cx="838080" cy="76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54100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581280" y="4419360"/>
            <a:ext cx="2286000" cy="990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6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4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6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7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7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8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9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9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4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7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9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¿Cómo interveni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 Enfoqu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daptar las perso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sarrollar la apropiación instru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1. Adaptar a las Person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Enfoque clásico centrado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l aprendizaje normativo y procedural, basado en la </a:t>
            </a:r>
            <a:r>
              <a:rPr b="0" i="1" lang="es-ES_tradnl" sz="2800" spc="-1" strike="noStrike">
                <a:solidFill>
                  <a:srgbClr val="0000ff"/>
                </a:solidFill>
                <a:latin typeface="Times New Roman"/>
              </a:rPr>
              <a:t>acomodación cogni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La selección con base a características ¨análogas¨ a las existentes en el escenario de orígen de la tecn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esarrollo de estructuras normativas acordes a la lógica funcional de los sistemas implan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2. Apropi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Resguardo de la primacía del propósito de la actividad por sobre los requerimientos operativos del instru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prendizaje soportado en la </a:t>
            </a:r>
            <a:r>
              <a:rPr b="0" i="1" lang="es-ES_tradnl" sz="2800" spc="-1" strike="noStrike">
                <a:solidFill>
                  <a:srgbClr val="0000ff"/>
                </a:solidFill>
                <a:latin typeface="Times New Roman"/>
              </a:rPr>
              <a:t>asimilación cogni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Sustento en la cultura organizacional y en el carácter social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Integración del contexto en tanto que variable determinante para la funcionalidad ope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propiación Instrumenta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Organización del aprendizaje instrumental a partir de: la situación efectiva de trabajo, identificación de conocimientos y prácticas transferibles desde la anterior situación de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Desarrollo de estructuras de supervisión, retroalimentación, regulación y control “en proceso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Actualización de competencias de contexto útiles para la funcionalidad instrumental y la actividad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Desarrollo de instancias de socialización orientadas a generar reglas  prácticas y modos operatorios compart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Reglas y Supervisión en la Apropiació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upervisión centrada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tare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facilitación de espacios de evaluación y construcción colec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 desarrollo de la curva de aprendiz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419720"/>
            <a:ext cx="7559640" cy="19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Control en proceso de niveles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-289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Prescripción Fuerte y Prescripción Déb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-289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iscresionalidad y Autonom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3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62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imes New Roman"/>
              </a:rPr>
              <a:t>Dimensiones del Análisis y Arreglo Instrumental: Ergonomí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El análisis y arreglo de los instrumentos puede ser abordado desde distintas dimensio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Sus características estructu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Sus significados inscr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Su contexto de u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Las modalidades efectivas de u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Los propósitos y representaciones de sus usu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822cd"/>
                </a:solidFill>
                <a:latin typeface="Times New Roman"/>
              </a:rPr>
              <a:t>Relación Sujeto-Artefacto-Obje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600200"/>
            <a:ext cx="175248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5000" y="1523880"/>
            <a:ext cx="17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22cd"/>
                </a:solidFill>
                <a:latin typeface="Times New Roman"/>
              </a:rPr>
              <a:t>Modos de us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22cd"/>
                </a:solidFill>
                <a:latin typeface="Times New Roman"/>
              </a:rPr>
              <a:t>del Instru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800" y="1066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3d23"/>
                </a:solidFill>
                <a:latin typeface="Times New Roman"/>
              </a:rPr>
              <a:t>Contexto de u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1371600"/>
            <a:ext cx="2209680" cy="990720"/>
          </a:xfrm>
          <a:prstGeom prst="donut">
            <a:avLst>
              <a:gd name="adj" fmla="val 25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15400" y="1447920"/>
            <a:ext cx="21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Times New Roman"/>
              </a:rPr>
              <a:t>Objeto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Times New Roman"/>
              </a:rPr>
              <a:t>de 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990720"/>
            <a:ext cx="7162560" cy="3581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1828800"/>
            <a:ext cx="1752480" cy="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2514600"/>
            <a:ext cx="22096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91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7440" y="25146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822cd"/>
                </a:solidFill>
                <a:latin typeface="Times New Roman"/>
              </a:rPr>
              <a:t>Instrumental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822cd"/>
                </a:solidFill>
                <a:latin typeface="Times New Roman"/>
              </a:rPr>
              <a:t>del Objeto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267080"/>
            <a:ext cx="1447920" cy="60984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91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267080"/>
            <a:ext cx="16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Times New Roman"/>
              </a:rPr>
              <a:t>Propó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191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22cd"/>
                </a:solidFill>
                <a:latin typeface="Times New Roman"/>
              </a:rPr>
              <a:t>Cualidades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22cd"/>
                </a:solidFill>
                <a:latin typeface="Times New Roman"/>
              </a:rPr>
              <a:t>Objeto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962520"/>
            <a:ext cx="1981440" cy="1066680"/>
          </a:xfrm>
          <a:custGeom>
            <a:avLst/>
            <a:gdLst>
              <a:gd name="textAreaLeft" fmla="*/ 452160 w 1981440"/>
              <a:gd name="textAreaRight" fmla="*/ 1529280 w 19814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f91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4495680"/>
            <a:ext cx="609480" cy="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7400" y="19051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3d23"/>
                </a:solidFill>
                <a:latin typeface="Times New Roman"/>
              </a:rPr>
              <a:t>Artefa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5638680" cy="3124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5257800"/>
            <a:ext cx="1676520" cy="60948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20600" y="53341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Neces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981080" y="4876560"/>
            <a:ext cx="914400" cy="685800"/>
          </a:xfrm>
          <a:prstGeom prst="line">
            <a:avLst/>
          </a:prstGeom>
          <a:ln w="76320">
            <a:solidFill>
              <a:srgbClr val="1875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724280"/>
            <a:ext cx="1600200" cy="13716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8040" y="54100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1640" y="5562720"/>
            <a:ext cx="2514600" cy="0"/>
          </a:xfrm>
          <a:prstGeom prst="line">
            <a:avLst/>
          </a:prstGeom>
          <a:ln w="76320">
            <a:solidFill>
              <a:srgbClr val="1875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1066680"/>
            <a:ext cx="4343400" cy="5257800"/>
          </a:xfrm>
          <a:custGeom>
            <a:avLst/>
            <a:gdLst>
              <a:gd name="textAreaLeft" fmla="*/ 212040 w 4343400"/>
              <a:gd name="textAreaRight" fmla="*/ 4131360 w 4343400"/>
              <a:gd name="textAreaTop" fmla="*/ 212040 h 5257800"/>
              <a:gd name="textAreaBottom" fmla="*/ 5045760 h 5257800"/>
            </a:gdLst>
            <a:ahLst/>
            <a:rect l="textAreaLeft" t="textAreaTop" r="textAreaRight" b="textAreaBottom"/>
            <a:pathLst>
              <a:path w="21600" h="26147">
                <a:moveTo>
                  <a:pt x="3600" y="0"/>
                </a:moveTo>
                <a:arcTo wR="3600" hR="3600" stAng="16200000" swAng="-5400000"/>
                <a:lnTo>
                  <a:pt x="0" y="22547"/>
                </a:lnTo>
                <a:arcTo wR="3600" hR="3600" stAng="10800000" swAng="-5400000"/>
                <a:lnTo>
                  <a:pt x="18000" y="26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76520" y="3123720"/>
            <a:ext cx="761760" cy="114300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819520" y="2057400"/>
            <a:ext cx="304560" cy="45720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123720" y="3200400"/>
            <a:ext cx="762120" cy="91440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3800" y="373392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3d23"/>
                </a:solidFill>
                <a:latin typeface="Times New Roman"/>
              </a:rPr>
              <a:t>Re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3d23"/>
                </a:solidFill>
                <a:latin typeface="Times New Roman"/>
              </a:rPr>
              <a:t>Sen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2362320"/>
            <a:ext cx="0" cy="2361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500"/>
                            </p:stCondLst>
                            <p:childTnLst>
                              <p:par>
                                <p:cTn id="2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500"/>
                            </p:stCondLst>
                            <p:childTnLst>
                              <p:par>
                                <p:cTn id="2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¿Porqué Incorporar la Gestión de Personas a los Procesos de Implantación Tecnológica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Las tecnologías se insertan en espacios sociales, culturales, funcionales, materiales y tecnológicos pre-exis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50532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260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s herramientas de trabajo “median” y “mediatizan“ la relación de la persona con su objeto de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4495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 tecnologías canalizan significados inscritos: explícitos e implíc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040" y="53341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La ¨conversación¨ entre estas distintas estructuras de significados, así como la propia mediatización instrumental, redundan en importantes consecuenci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28600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260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Las personas llamadas a utilizar las tecnologías poseen socializaciones previas y caracterìsticas que inciden en sus socializaciones pres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505320" y="1752480"/>
            <a:ext cx="2438280" cy="18288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1219320"/>
            <a:ext cx="121932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0080" y="5310360"/>
            <a:ext cx="171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aracterístic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e l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erso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4191120"/>
            <a:ext cx="114300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840" y="335268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Herramie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écn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4191120"/>
            <a:ext cx="114300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960" y="342900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Organ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8280" y="1407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16920" y="4952880"/>
            <a:ext cx="2791440" cy="1554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ompe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aracterísticas Socio-cultu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aracterísticas Biopsicosoc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Persona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xpectativ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91520" y="2971800"/>
            <a:ext cx="1447560" cy="1554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structu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arg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Remun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Supervis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oordi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3124080"/>
            <a:ext cx="1676520" cy="1067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de Inform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de Comun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de Op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0795200">
            <a:off x="3504960" y="3580920"/>
            <a:ext cx="2438280" cy="1827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2560" y="13478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ctiv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40600" y="914400"/>
            <a:ext cx="2393640" cy="1554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Diagnóstico de Situ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Resolución de Proble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Organización Condu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Regulación de Proce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Intervención sobre Obje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9680" y="228600"/>
            <a:ext cx="6165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Esquema de la Mediación Instru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914400"/>
            <a:ext cx="8610480" cy="5638680"/>
          </a:xfrm>
          <a:prstGeom prst="ellipse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30600" y="198108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to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18288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500"/>
                            </p:stCondLst>
                            <p:childTnLst>
                              <p:par>
                                <p:cTn id="389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3" presetSubtype="52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imes New Roman"/>
              </a:rPr>
              <a:t>Sistema Complejo de la Actividad de Engeström </a:t>
            </a:r>
            <a:br>
              <a:rPr sz="2400"/>
            </a:br>
            <a:r>
              <a:rPr b="1" lang="es-ES_tradnl" sz="2400" spc="-1" strike="noStrike">
                <a:solidFill>
                  <a:srgbClr val="ff9900"/>
                </a:solidFill>
                <a:latin typeface="Times New Roman"/>
              </a:rPr>
              <a:t>(Modificado por C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066680"/>
            <a:ext cx="8534160" cy="54864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f21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1800" y="33526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ers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5920" y="3124080"/>
            <a:ext cx="18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bjet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5360" y="121932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tefa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di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920" y="5410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g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7120" y="533412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mun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9280" y="5181480"/>
            <a:ext cx="171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vis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09680" y="1752120"/>
            <a:ext cx="1447920" cy="17528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3581280"/>
            <a:ext cx="365760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1828800"/>
            <a:ext cx="1295280" cy="16765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914400" y="3733560"/>
            <a:ext cx="1143000" cy="1600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3809880"/>
            <a:ext cx="1066680" cy="13716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5638680"/>
            <a:ext cx="198108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5638680"/>
            <a:ext cx="198144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3733920"/>
            <a:ext cx="1295280" cy="1600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257800" y="3733920"/>
            <a:ext cx="1066680" cy="16761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1981080"/>
            <a:ext cx="0" cy="34290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523880" y="3733560"/>
            <a:ext cx="4572000" cy="1600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4572000" cy="16761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371600" y="1981080"/>
            <a:ext cx="2590920" cy="3276720"/>
          </a:xfrm>
          <a:prstGeom prst="line">
            <a:avLst/>
          </a:prstGeom>
          <a:ln w="38160">
            <a:solidFill>
              <a:srgbClr val="bf211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1981080"/>
            <a:ext cx="2514600" cy="3124440"/>
          </a:xfrm>
          <a:prstGeom prst="line">
            <a:avLst/>
          </a:prstGeom>
          <a:ln w="38160">
            <a:solidFill>
              <a:srgbClr val="bf211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867280"/>
            <a:ext cx="0" cy="304920"/>
          </a:xfrm>
          <a:prstGeom prst="line">
            <a:avLst/>
          </a:prstGeom>
          <a:ln w="38160">
            <a:solidFill>
              <a:srgbClr val="bf211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6172200"/>
            <a:ext cx="6629400" cy="0"/>
          </a:xfrm>
          <a:prstGeom prst="line">
            <a:avLst/>
          </a:prstGeom>
          <a:ln w="38160">
            <a:solidFill>
              <a:srgbClr val="bf21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848720" y="5866920"/>
            <a:ext cx="0" cy="304920"/>
          </a:xfrm>
          <a:prstGeom prst="line">
            <a:avLst/>
          </a:prstGeom>
          <a:ln w="38160">
            <a:solidFill>
              <a:srgbClr val="bf21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62120" cy="19047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Diversos componentes de la mediación (según P. Rabardel 200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2133720"/>
            <a:ext cx="259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Mediación Episté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600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Mediación Reflex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5410080"/>
            <a:ext cx="2895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Mediación Inter-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57150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Mediación Pragmá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1967040" cy="1761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29400" y="419112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57200" y="4952880"/>
            <a:ext cx="579600" cy="1447920"/>
          </a:xfrm>
          <a:prstGeom prst="rect">
            <a:avLst/>
          </a:prstGeom>
          <a:ln w="0">
            <a:noFill/>
          </a:ln>
        </p:spPr>
      </p:pic>
      <p:cxnSp>
        <p:nvCxnSpPr>
          <p:cNvPr id="176" name=""/>
          <p:cNvCxnSpPr>
            <a:endCxn id="174" idx="0"/>
          </p:cNvCxnSpPr>
          <p:nvPr/>
        </p:nvCxnSpPr>
        <p:spPr>
          <a:xfrm>
            <a:off x="1980720" y="3200400"/>
            <a:ext cx="5411160" cy="991440"/>
          </a:xfrm>
          <a:prstGeom prst="bentConnector2">
            <a:avLst/>
          </a:prstGeom>
          <a:ln w="255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5486400" y="5029200"/>
            <a:ext cx="1143000" cy="876240"/>
          </a:xfrm>
          <a:prstGeom prst="rect">
            <a:avLst/>
          </a:prstGeom>
          <a:ln w="0">
            <a:noFill/>
          </a:ln>
        </p:spPr>
      </p:pic>
      <p:cxnSp>
        <p:nvCxnSpPr>
          <p:cNvPr id="178" name=""/>
          <p:cNvCxnSpPr/>
          <p:nvPr/>
        </p:nvCxnSpPr>
        <p:spPr>
          <a:xfrm>
            <a:off x="2514240" y="3428640"/>
            <a:ext cx="4725000" cy="2057760"/>
          </a:xfrm>
          <a:prstGeom prst="bentConnector3">
            <a:avLst>
              <a:gd name="adj1" fmla="val 50000"/>
            </a:avLst>
          </a:prstGeom>
          <a:ln w="255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 flipH="1" rot="16200000">
            <a:off x="343440" y="3541320"/>
            <a:ext cx="1905480" cy="2520"/>
          </a:xfrm>
          <a:prstGeom prst="curvedConnector5">
            <a:avLst>
              <a:gd name="adj1" fmla="val -11999"/>
              <a:gd name="adj2" fmla="val 111133333"/>
              <a:gd name="adj3" fmla="val -11999"/>
            </a:avLst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1828800" y="5029200"/>
            <a:ext cx="579600" cy="1447920"/>
          </a:xfrm>
          <a:prstGeom prst="rect">
            <a:avLst/>
          </a:prstGeom>
          <a:ln w="0">
            <a:noFill/>
          </a:ln>
        </p:spPr>
      </p:pic>
      <p:cxnSp>
        <p:nvCxnSpPr>
          <p:cNvPr id="181" name=""/>
          <p:cNvCxnSpPr/>
          <p:nvPr/>
        </p:nvCxnSpPr>
        <p:spPr>
          <a:xfrm flipH="1">
            <a:off x="1600200" y="3543120"/>
            <a:ext cx="76680" cy="1943640"/>
          </a:xfrm>
          <a:prstGeom prst="curvedConnector5">
            <a:avLst>
              <a:gd name="adj1" fmla="val -3773584"/>
              <a:gd name="adj2" fmla="val 37254"/>
              <a:gd name="adj3" fmla="val -3773584"/>
            </a:avLst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50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9000"/>
                            </p:stCondLst>
                            <p:childTnLst>
                              <p:par>
                                <p:cTn id="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Consecuencias en el Plano Organizacional de las Implantaciones Tecnológic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Tiende a desarrollarse una escisión entre la estructura normativa formal y la practicada por las person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Las relaciones de poder existentes entran en crisis al alterarse los ámbitos de control factico que poseen las distintas personas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La estructura de valores sobre la que se sustentan las prácticas organizacionales se ve tensionada por las estructuras de valores que imponen las nuevas tecnologías: e.g., valor del tiempo, de la autonomía, de la coordinación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onsecuencias en el Plano Funcional de las Implantaciones Tecnológic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Los nuevos sistemas tardan en operar con una efectividad comparable a los antiguos, restándoles confiabilidad frente a 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En paralelo, los antiguos sistemas se degradan paulatinamente o cesan de operar abruptamente, dejando con escaso soporte de operación a 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6000"/>
                            </p:stCondLst>
                            <p:childTnLst>
                              <p:par>
                                <p:cTn id="684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8:50:26Z</dcterms:created>
  <dc:creator>Escuela de Psicología</dc:creator>
  <dc:description/>
  <dc:language>en-US</dc:language>
  <cp:lastModifiedBy>julie lagos</cp:lastModifiedBy>
  <dcterms:modified xsi:type="dcterms:W3CDTF">2004-11-08T12:21:33Z</dcterms:modified>
  <cp:revision>83</cp:revision>
  <dc:subject/>
  <dc:title>Análisis Ergonómico de Instrumentos</dc:title>
</cp:coreProperties>
</file>