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307E-D7DB-4712-AE63-62DA44355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ar sonr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900-84DC-47B8-BDF4-AFB07DF1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661-45BD-40A2-B68A-2A4D1012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3F2-178E-45F9-823E-DD6D5D7F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7D2-34F8-4B2F-95F2-51F05414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1D63-A8B5-4914-BB9E-5A6E7AA0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62AD-86C0-4670-9147-D881D14A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38B1-AE96-40BA-910E-ACC65F41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4C99-F40A-4ADF-B63D-D93AA99D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3EE0-9975-49D9-BB82-BF621F7E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71B9-66BF-4C25-8831-FCBEEEA0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56D8-520C-49AF-9609-F6688CC5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388-F9BC-4E3E-8D43-DFEE003D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AC1E-D9D8-4E26-82BB-C1D0FE4E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4F9B-A942-4CD7-AFA1-B00974DA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E43C-E094-4454-9630-48913508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543F-3AEA-4F6D-983A-0E1DA9C5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7DD5-D7DC-4561-B63B-69776AEE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A2DD1-F32F-4939-A630-A36DABF2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9BA7-05D6-4CF1-9BF3-8D8AF656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5FF8F-8AA2-4F5C-A976-2AEAB895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7EEA-D28A-4744-889B-EBDE9E0D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EB81-46A1-4E00-95DB-02A6CA96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BA4-DFF3-48CF-B833-A470BF48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0CFC-DE8A-467C-A699-35D3D30D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6778-7E27-4579-A972-2DCE8349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6124-AD69-4A29-A422-1571656E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806F-3624-4932-9A30-AFC83BE0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7BF52-7D71-42A3-89FC-147D6EED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C831-D536-4F01-95D6-4DAA094D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4314-FBD8-469D-9D81-F1E4B28F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D39-BC13-4BC3-8586-594C392C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F85-8A6B-4B2F-8B65-695C6A6E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9F8-8E0F-45BB-8154-FFE41FD8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922-6CB6-452A-885E-3BA6C289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04A-7BED-4E79-ACA6-8A8F27EA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3B6-E0BC-492B-8552-7F4134FD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C399-B763-4E6D-A878-3A79DCD1AF8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8879-6384-445F-9E7D-30FA82987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1050-7DA6-4B6B-880D-8812C946780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71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181480"/>
            <a:ext cx="9144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rlota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minario Anual del Círculo de Innovación de Icare</a:t>
            </a:r>
            <a:r>
              <a:rPr b="1" lang="es-E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ntiago de Chile, Juli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28600"/>
            <a:ext cx="5313240" cy="4789440"/>
          </a:xfrm>
          <a:prstGeom prst="ellipse">
            <a:avLst/>
          </a:prstGeom>
          <a:gradFill rotWithShape="0">
            <a:gsLst>
              <a:gs pos="0">
                <a:srgbClr val="ffad3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7960" y="1279440"/>
            <a:ext cx="4141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NÁMICA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A INNOVACION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OPORTUNIDADE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CREC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a0a2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1541520" y="1101600"/>
            <a:ext cx="0" cy="4803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86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DA GRAN OLEADA</a:t>
            </a:r>
            <a:r>
              <a:rPr b="1" lang="es-ES_tradnl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S UN PROCESO  “QUEBRADO EN DO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760" y="1906560"/>
            <a:ext cx="150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fusión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a revolución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1080" y="597672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Ti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1520" y="5905440"/>
            <a:ext cx="690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685440"/>
            <a:ext cx="3021120" cy="5544360"/>
            <a:chOff x="1523880" y="685440"/>
            <a:chExt cx="3021120" cy="5544360"/>
          </a:xfrm>
        </p:grpSpPr>
        <p:grpSp>
          <p:nvGrpSpPr>
            <p:cNvPr id="286" name=""/>
            <p:cNvGrpSpPr/>
            <p:nvPr/>
          </p:nvGrpSpPr>
          <p:grpSpPr>
            <a:xfrm>
              <a:off x="1523880" y="685440"/>
              <a:ext cx="3021120" cy="5544360"/>
              <a:chOff x="1523880" y="685440"/>
              <a:chExt cx="3021120" cy="5544360"/>
            </a:xfrm>
          </p:grpSpPr>
          <p:sp>
            <p:nvSpPr>
              <p:cNvPr id="287" name=""/>
              <p:cNvSpPr/>
              <p:nvPr/>
            </p:nvSpPr>
            <p:spPr>
              <a:xfrm>
                <a:off x="2093760" y="5902200"/>
                <a:ext cx="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68760" y="6059160"/>
                <a:ext cx="56628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s-ES_tradnl" sz="1400" spc="-1" strike="noStrike">
                    <a:solidFill>
                      <a:srgbClr val="ccccff"/>
                    </a:solidFill>
                    <a:latin typeface="Arial Narrow"/>
                  </a:rPr>
                  <a:t>big-ba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92320" y="1208160"/>
                <a:ext cx="0" cy="470520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8932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944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59320" y="3994200"/>
                <a:ext cx="60120" cy="84240"/>
              </a:xfrm>
              <a:prstGeom prst="triangle">
                <a:avLst>
                  <a:gd name="adj" fmla="val 113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20480" y="685440"/>
                <a:ext cx="20901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INSTALACION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l nuevo paradig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3880" y="5632560"/>
                <a:ext cx="577800" cy="60120"/>
              </a:xfrm>
              <a:custGeom>
                <a:avLst/>
                <a:gdLst/>
                <a:ahLst/>
                <a:rect l="l" t="t" r="r" b="b"/>
                <a:pathLst>
                  <a:path w="270" h="33">
                    <a:moveTo>
                      <a:pt x="0" y="33"/>
                    </a:moveTo>
                    <a:cubicBezTo>
                      <a:pt x="45" y="28"/>
                      <a:pt x="214" y="7"/>
                      <a:pt x="270" y="0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092320" y="3992400"/>
                <a:ext cx="2418840" cy="1641600"/>
                <a:chOff x="2092320" y="3992400"/>
                <a:chExt cx="2418840" cy="1641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092320" y="4000320"/>
                  <a:ext cx="2396880" cy="1633680"/>
                </a:xfrm>
                <a:custGeom>
                  <a:avLst/>
                  <a:gdLst/>
                  <a:ahLst/>
                  <a:rect l="l" t="t" r="r" b="b"/>
                  <a:pathLst>
                    <a:path w="1516" h="1029">
                      <a:moveTo>
                        <a:pt x="0" y="1029"/>
                      </a:moveTo>
                      <a:cubicBezTo>
                        <a:pt x="155" y="1012"/>
                        <a:pt x="376" y="973"/>
                        <a:pt x="505" y="948"/>
                      </a:cubicBezTo>
                      <a:cubicBezTo>
                        <a:pt x="634" y="922"/>
                        <a:pt x="689" y="909"/>
                        <a:pt x="758" y="884"/>
                      </a:cubicBezTo>
                      <a:cubicBezTo>
                        <a:pt x="827" y="860"/>
                        <a:pt x="818" y="872"/>
                        <a:pt x="897" y="812"/>
                      </a:cubicBezTo>
                      <a:cubicBezTo>
                        <a:pt x="975" y="751"/>
                        <a:pt x="1132" y="603"/>
                        <a:pt x="1220" y="513"/>
                      </a:cubicBezTo>
                      <a:cubicBezTo>
                        <a:pt x="1308" y="423"/>
                        <a:pt x="1395" y="316"/>
                        <a:pt x="1423" y="254"/>
                      </a:cubicBezTo>
                      <a:cubicBezTo>
                        <a:pt x="1456" y="188"/>
                        <a:pt x="1447" y="209"/>
                        <a:pt x="1465" y="155"/>
                      </a:cubicBezTo>
                      <a:cubicBezTo>
                        <a:pt x="1483" y="101"/>
                        <a:pt x="1509" y="26"/>
                        <a:pt x="1516" y="0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57520" y="3992400"/>
                  <a:ext cx="53640" cy="42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2135160" y="2495520"/>
                <a:ext cx="240984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ifusión “forzada” liderizada por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el capital financier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STRUCCIÓN CREADO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092320" y="1428840"/>
                <a:ext cx="23860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515680" y="1442880"/>
              <a:ext cx="1540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Arial"/>
                </a:rPr>
                <a:t>2O - 30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502400" y="590544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8920" y="6021000"/>
            <a:ext cx="6073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big-b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987440" y="738360"/>
            <a:ext cx="3394080" cy="5177520"/>
            <a:chOff x="4987440" y="738360"/>
            <a:chExt cx="3394080" cy="5177520"/>
          </a:xfrm>
        </p:grpSpPr>
        <p:sp>
          <p:nvSpPr>
            <p:cNvPr id="304" name=""/>
            <p:cNvSpPr/>
            <p:nvPr/>
          </p:nvSpPr>
          <p:spPr>
            <a:xfrm>
              <a:off x="5032440" y="1216080"/>
              <a:ext cx="0" cy="46969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987440" y="738360"/>
              <a:ext cx="3394080" cy="5177520"/>
              <a:chOff x="4987440" y="738360"/>
              <a:chExt cx="3394080" cy="517752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089320" y="1428480"/>
                <a:ext cx="2439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9280" y="738360"/>
                <a:ext cx="1755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ccff"/>
                    </a:solidFill>
                    <a:latin typeface="Arial Narrow"/>
                  </a:rPr>
                  <a:t>DESPLIEGUE</a:t>
                </a:r>
                <a:br>
                  <a:rPr sz="2000"/>
                </a:br>
                <a:r>
                  <a:rPr b="1" lang="es-ES_tradnl" sz="1800" spc="-1" strike="noStrike">
                    <a:solidFill>
                      <a:srgbClr val="ccccff"/>
                    </a:solidFill>
                    <a:latin typeface="Arial Narrow"/>
                  </a:rPr>
                  <a:t>de todo el poten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987440" y="1212840"/>
                <a:ext cx="3394080" cy="4703040"/>
                <a:chOff x="4987440" y="1212840"/>
                <a:chExt cx="3394080" cy="470304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4987440" y="1212840"/>
                  <a:ext cx="3394080" cy="4703040"/>
                  <a:chOff x="4987440" y="1212840"/>
                  <a:chExt cx="3394080" cy="4703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269040" y="121284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04200" y="121896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987440" y="2247480"/>
                    <a:ext cx="3394080" cy="1743840"/>
                    <a:chOff x="4987440" y="2247480"/>
                    <a:chExt cx="3394080" cy="174384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5056200" y="2247480"/>
                      <a:ext cx="3325320" cy="1679040"/>
                      <a:chOff x="5056200" y="2247480"/>
                      <a:chExt cx="3325320" cy="16790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527600" y="2248560"/>
                        <a:ext cx="853920" cy="0"/>
                      </a:xfrm>
                      <a:prstGeom prst="line">
                        <a:avLst/>
                      </a:prstGeom>
                      <a:ln w="63360">
                        <a:solidFill>
                          <a:srgbClr val="ff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5056200" y="2247480"/>
                        <a:ext cx="2476440" cy="167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902">
                            <a:moveTo>
                              <a:pt x="0" y="902"/>
                            </a:moveTo>
                            <a:cubicBezTo>
                              <a:pt x="39" y="823"/>
                              <a:pt x="111" y="742"/>
                              <a:pt x="153" y="684"/>
                            </a:cubicBezTo>
                            <a:cubicBezTo>
                              <a:pt x="195" y="624"/>
                              <a:pt x="221" y="588"/>
                              <a:pt x="262" y="534"/>
                            </a:cubicBezTo>
                            <a:cubicBezTo>
                              <a:pt x="294" y="498"/>
                              <a:pt x="336" y="436"/>
                              <a:pt x="368" y="399"/>
                            </a:cubicBezTo>
                            <a:cubicBezTo>
                              <a:pt x="426" y="339"/>
                              <a:pt x="510" y="211"/>
                              <a:pt x="611" y="147"/>
                            </a:cubicBezTo>
                            <a:cubicBezTo>
                              <a:pt x="721" y="82"/>
                              <a:pt x="894" y="32"/>
                              <a:pt x="1008" y="17"/>
                            </a:cubicBezTo>
                            <a:lnTo>
                              <a:pt x="1083" y="8"/>
                            </a:lnTo>
                            <a:lnTo>
                              <a:pt x="1164" y="0"/>
                            </a:lnTo>
                          </a:path>
                        </a:pathLst>
                      </a:custGeom>
                      <a:noFill/>
                      <a:ln w="6336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 rot="13167600">
                      <a:off x="5003280" y="3903840"/>
                      <a:ext cx="66960" cy="745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5192640" y="3030120"/>
                    <a:ext cx="2484360" cy="22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Difusión armón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L</a:t>
                    </a: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iderizada por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el capital productiv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ÉPOCA DE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BONANZ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5241960" y="1442520"/>
                  <a:ext cx="216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ccccff"/>
                      </a:solidFill>
                      <a:latin typeface="Arial"/>
                    </a:rPr>
                    <a:t>2O - 30 </a:t>
                  </a:r>
                  <a:r>
                    <a:rPr b="1" lang="es-ES_tradnl" sz="1800" spc="-1" strike="noStrike">
                      <a:solidFill>
                        <a:srgbClr val="ccccff"/>
                      </a:solidFill>
                      <a:latin typeface="Arial"/>
                    </a:rPr>
                    <a:t>añ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"/>
          <p:cNvSpPr/>
          <p:nvPr/>
        </p:nvSpPr>
        <p:spPr>
          <a:xfrm flipH="1">
            <a:off x="5029200" y="6434280"/>
            <a:ext cx="15840" cy="11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76600" y="1138320"/>
            <a:ext cx="592200" cy="5121360"/>
            <a:chOff x="4476600" y="1138320"/>
            <a:chExt cx="592200" cy="5121360"/>
          </a:xfrm>
        </p:grpSpPr>
        <p:sp>
          <p:nvSpPr>
            <p:cNvPr id="321" name=""/>
            <p:cNvSpPr/>
            <p:nvPr/>
          </p:nvSpPr>
          <p:spPr>
            <a:xfrm rot="16200000">
              <a:off x="2663640" y="3498840"/>
              <a:ext cx="419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LAPSO BURSÁTIL - RECE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862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76600" y="1138320"/>
              <a:ext cx="592200" cy="59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a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6320" y="1155960"/>
              <a:ext cx="358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808080"/>
                  </a:solidFill>
                  <a:latin typeface="Arial Narrow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9600" y="6019920"/>
            <a:ext cx="1131840" cy="763920"/>
            <a:chOff x="4269600" y="6019920"/>
            <a:chExt cx="1131840" cy="763920"/>
          </a:xfrm>
        </p:grpSpPr>
        <p:sp>
          <p:nvSpPr>
            <p:cNvPr id="326" name=""/>
            <p:cNvSpPr/>
            <p:nvPr/>
          </p:nvSpPr>
          <p:spPr>
            <a:xfrm>
              <a:off x="4419720" y="60199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9600" y="6251400"/>
              <a:ext cx="1131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stam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qu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734500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12476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2849400" y="343152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uptura en la mitad decada gran ole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33920" y="237960"/>
            <a:ext cx="2286000" cy="6543000"/>
            <a:chOff x="3733920" y="237960"/>
            <a:chExt cx="2286000" cy="6543000"/>
          </a:xfrm>
        </p:grpSpPr>
        <p:grpSp>
          <p:nvGrpSpPr>
            <p:cNvPr id="331" name=""/>
            <p:cNvGrpSpPr/>
            <p:nvPr/>
          </p:nvGrpSpPr>
          <p:grpSpPr>
            <a:xfrm>
              <a:off x="3733920" y="821520"/>
              <a:ext cx="2286000" cy="5959440"/>
              <a:chOff x="3733920" y="821520"/>
              <a:chExt cx="2286000" cy="5959440"/>
            </a:xfrm>
          </p:grpSpPr>
          <p:sp>
            <p:nvSpPr>
              <p:cNvPr id="332" name=""/>
              <p:cNvSpPr/>
              <p:nvPr/>
            </p:nvSpPr>
            <p:spPr>
              <a:xfrm flipH="1" rot="16200000">
                <a:off x="2673720" y="3200040"/>
                <a:ext cx="444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BREAKING POINT OF EACH GREAT SUR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821520"/>
                <a:ext cx="2286000" cy="5860800"/>
              </a:xfrm>
              <a:prstGeom prst="downArrow">
                <a:avLst>
                  <a:gd name="adj1" fmla="val 63472"/>
                  <a:gd name="adj2" fmla="val 16593"/>
                </a:avLst>
              </a:prstGeom>
              <a:gradFill rotWithShape="0">
                <a:gsLst>
                  <a:gs pos="0">
                    <a:srgbClr val="ffb03d"/>
                  </a:gs>
                  <a:gs pos="50000">
                    <a:srgbClr val="fee6c3"/>
                  </a:gs>
                  <a:gs pos="100000">
                    <a:srgbClr val="ffb0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72200" y="3618720"/>
                <a:ext cx="9763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93–95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12080" y="4284720"/>
                <a:ext cx="1095120" cy="9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uro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EU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46720" y="2564280"/>
                <a:ext cx="8254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48–5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93000" y="5816160"/>
                <a:ext cx="11350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2000–??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47000" y="6415560"/>
                <a:ext cx="183960" cy="365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03880" y="1486080"/>
                <a:ext cx="91296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793–9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4480" y="848880"/>
                <a:ext cx="116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80000"/>
                    </a:solidFill>
                    <a:latin typeface="Arial Narrow"/>
                  </a:rPr>
                  <a:t>RECE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799160" y="237960"/>
              <a:ext cx="1839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5768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25760" y="1171440"/>
            <a:ext cx="280188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05320" y="100008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720" y="84924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640" y="227160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4560" y="210024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2280" y="194940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640" y="337176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2280" y="304956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4560" y="320040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74640" y="447192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4560" y="430056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solidFill>
            <a:srgbClr val="ffb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2280" y="414972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1360" y="5570640"/>
            <a:ext cx="2801880" cy="76176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" y="524988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" y="1177920"/>
            <a:ext cx="10065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Rev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5760" y="2197080"/>
            <a:ext cx="1056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29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Máquin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de vapor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ferrocarril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3278160"/>
            <a:ext cx="1392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75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cero, electricidad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 ingenierí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4376880"/>
            <a:ext cx="1172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08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tróleo,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uto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produ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n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400" y="5573880"/>
            <a:ext cx="1003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1971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for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telecomu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72200" y="5381640"/>
            <a:ext cx="3539880" cy="1103400"/>
          </a:xfrm>
          <a:prstGeom prst="rightArrow">
            <a:avLst>
              <a:gd name="adj1" fmla="val 71269"/>
              <a:gd name="adj2" fmla="val 52831"/>
            </a:avLst>
          </a:prstGeom>
          <a:noFill/>
          <a:ln w="93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2680" y="-763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Instalación culmina en una burbuja financiera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Despliegue comienza con una época de bon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51760" y="789120"/>
            <a:ext cx="1506960" cy="5511960"/>
            <a:chOff x="2651760" y="789120"/>
            <a:chExt cx="1506960" cy="5511960"/>
          </a:xfrm>
        </p:grpSpPr>
        <p:grpSp>
          <p:nvGrpSpPr>
            <p:cNvPr id="365" name=""/>
            <p:cNvGrpSpPr/>
            <p:nvPr/>
          </p:nvGrpSpPr>
          <p:grpSpPr>
            <a:xfrm>
              <a:off x="2651760" y="1415880"/>
              <a:ext cx="1506960" cy="4885200"/>
              <a:chOff x="2651760" y="1415880"/>
              <a:chExt cx="1506960" cy="4885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51760" y="5613120"/>
                <a:ext cx="1506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Telecomunicacion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98160" y="4492440"/>
                <a:ext cx="1060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ectricidad,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dustr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 inmobilia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26000" y="3492360"/>
                <a:ext cx="13312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redes mund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 y vapo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55760" y="2473200"/>
                <a:ext cx="1002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61400" y="1415880"/>
                <a:ext cx="697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Cana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201840" y="7891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urbu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0920" y="789120"/>
            <a:ext cx="1904040" cy="5333400"/>
            <a:chOff x="5560920" y="789120"/>
            <a:chExt cx="1904040" cy="5333400"/>
          </a:xfrm>
        </p:grpSpPr>
        <p:grpSp>
          <p:nvGrpSpPr>
            <p:cNvPr id="373" name=""/>
            <p:cNvGrpSpPr/>
            <p:nvPr/>
          </p:nvGrpSpPr>
          <p:grpSpPr>
            <a:xfrm>
              <a:off x="5641920" y="1347840"/>
              <a:ext cx="1823040" cy="4774680"/>
              <a:chOff x="5641920" y="1347840"/>
              <a:chExt cx="1823040" cy="477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641920" y="5571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0" spc="-1" strike="noStrike">
                    <a:solidFill>
                      <a:srgbClr val="010000"/>
                    </a:solidFill>
                    <a:latin typeface="Arial Narrow"/>
                  </a:rPr>
                  <a:t>?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43360" y="4625640"/>
                <a:ext cx="964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 de l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ost-guerr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44440" y="3597120"/>
                <a:ext cx="1820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¨Belle Époque¨ Europ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Era Progresista EEUU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43720" y="2517480"/>
                <a:ext cx="1213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Victoria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43000" y="1347840"/>
                <a:ext cx="990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 gran salto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britán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560920" y="7891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poca de bonan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449800" y="6461280"/>
            <a:ext cx="50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la duración de la recesión es inc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-720"/>
            <a:ext cx="9144000" cy="2476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32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Guiados por la regularidad hist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7800" y="584280"/>
            <a:ext cx="28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DEMOS PREVER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ACIA EL FUTUR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33000" y="4405320"/>
            <a:ext cx="66286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transformación de todos los sectore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conómicos por el 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UNA EPOCA DE BONANZA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…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y la gestación de la próxima revolución tecnológica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(bajo este paradig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58040" y="2666880"/>
            <a:ext cx="5196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20 A 30 AÑOS MÁS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PARA EL DESPLIEGUE COMPLETO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LA REVOLUCIÓN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387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392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397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c0c3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1116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ACTUAL CAMBIO DE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58000" y="6262560"/>
            <a:ext cx="638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cambio radical de sentido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2120" y="830160"/>
            <a:ext cx="7772400" cy="606600"/>
            <a:chOff x="762120" y="830160"/>
            <a:chExt cx="7772400" cy="606600"/>
          </a:xfrm>
        </p:grpSpPr>
        <p:sp>
          <p:nvSpPr>
            <p:cNvPr id="404" name=""/>
            <p:cNvSpPr/>
            <p:nvPr/>
          </p:nvSpPr>
          <p:spPr>
            <a:xfrm>
              <a:off x="762120" y="85896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12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5240" y="83808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8200" y="83016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880" y="843120"/>
              <a:ext cx="384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pirámides centralizadas cerr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descentralización en redes abier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7960" y="99540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62120" y="1604880"/>
            <a:ext cx="7772400" cy="606600"/>
            <a:chOff x="762120" y="1604880"/>
            <a:chExt cx="7772400" cy="606600"/>
          </a:xfrm>
        </p:grpSpPr>
        <p:sp>
          <p:nvSpPr>
            <p:cNvPr id="410" name=""/>
            <p:cNvSpPr/>
            <p:nvPr/>
          </p:nvSpPr>
          <p:spPr>
            <a:xfrm>
              <a:off x="3675240" y="16128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24440" y="1617840"/>
              <a:ext cx="403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transformar materias primas a usar 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“materia gris” para procesar conoci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8200" y="16048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20" y="16336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0480" y="1770120"/>
              <a:ext cx="120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62120" y="3124080"/>
            <a:ext cx="7772400" cy="606600"/>
            <a:chOff x="762120" y="3124080"/>
            <a:chExt cx="7772400" cy="606600"/>
          </a:xfrm>
        </p:grpSpPr>
        <p:sp>
          <p:nvSpPr>
            <p:cNvPr id="416" name=""/>
            <p:cNvSpPr/>
            <p:nvPr/>
          </p:nvSpPr>
          <p:spPr>
            <a:xfrm>
              <a:off x="2878200" y="31240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240" y="31320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4440" y="3137040"/>
              <a:ext cx="369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salario como un costo a minimizar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inversión en capital human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3152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6720" y="32893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PERSON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2120" y="4648320"/>
            <a:ext cx="7772400" cy="606240"/>
            <a:chOff x="762120" y="4648320"/>
            <a:chExt cx="7772400" cy="606240"/>
          </a:xfrm>
        </p:grpSpPr>
        <p:sp>
          <p:nvSpPr>
            <p:cNvPr id="422" name=""/>
            <p:cNvSpPr/>
            <p:nvPr/>
          </p:nvSpPr>
          <p:spPr>
            <a:xfrm>
              <a:off x="2878200" y="4648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75240" y="465588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26240" y="4660560"/>
              <a:ext cx="37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planificación central rígid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s estrategias flexibles y adap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120" y="467640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3600" y="47984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STRATEG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62120" y="5413320"/>
            <a:ext cx="7772400" cy="606600"/>
            <a:chOff x="762120" y="5413320"/>
            <a:chExt cx="7772400" cy="606600"/>
          </a:xfrm>
        </p:grpSpPr>
        <p:sp>
          <p:nvSpPr>
            <p:cNvPr id="428" name=""/>
            <p:cNvSpPr/>
            <p:nvPr/>
          </p:nvSpPr>
          <p:spPr>
            <a:xfrm>
              <a:off x="2878200" y="541332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240" y="542160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25880" y="5426280"/>
              <a:ext cx="34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estandarización inter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segmentación múltiple 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544212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35240" y="557856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M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R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62120" y="2362320"/>
            <a:ext cx="7772400" cy="606240"/>
            <a:chOff x="762120" y="2362320"/>
            <a:chExt cx="7772400" cy="606240"/>
          </a:xfrm>
        </p:grpSpPr>
        <p:sp>
          <p:nvSpPr>
            <p:cNvPr id="434" name=""/>
            <p:cNvSpPr/>
            <p:nvPr/>
          </p:nvSpPr>
          <p:spPr>
            <a:xfrm>
              <a:off x="3675240" y="237024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22640" y="2374920"/>
              <a:ext cx="42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rutinas “optimas” estandariz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mejora continua: el cambio como ru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239076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2760" y="2527200"/>
              <a:ext cx="113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OPER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78200" y="2362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889440"/>
            <a:ext cx="7772400" cy="606240"/>
            <a:chOff x="762120" y="3889440"/>
            <a:chExt cx="7772400" cy="606240"/>
          </a:xfrm>
        </p:grpSpPr>
        <p:sp>
          <p:nvSpPr>
            <p:cNvPr id="440" name=""/>
            <p:cNvSpPr/>
            <p:nvPr/>
          </p:nvSpPr>
          <p:spPr>
            <a:xfrm>
              <a:off x="2878200" y="388944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5240" y="389736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27680" y="3902040"/>
              <a:ext cx="40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trato a 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cooperación innovativa y las ali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917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79200" y="405432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VE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5c3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-16920" y="4572000"/>
            <a:ext cx="9149400" cy="2059560"/>
            <a:chOff x="-16920" y="4572000"/>
            <a:chExt cx="9149400" cy="2059560"/>
          </a:xfrm>
        </p:grpSpPr>
        <p:sp>
          <p:nvSpPr>
            <p:cNvPr id="446" name=""/>
            <p:cNvSpPr/>
            <p:nvPr/>
          </p:nvSpPr>
          <p:spPr>
            <a:xfrm>
              <a:off x="-16920" y="5562720"/>
              <a:ext cx="9149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NECESITAMOS COMPRENDER 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EL CAMBIO DE PARADIGMA EN EL MODO DE INNOV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8920" y="4572000"/>
              <a:ext cx="2457360" cy="781200"/>
            </a:xfrm>
            <a:prstGeom prst="downArrow">
              <a:avLst>
                <a:gd name="adj1" fmla="val 63954"/>
                <a:gd name="adj2" fmla="val 55769"/>
              </a:avLst>
            </a:prstGeom>
            <a:gradFill rotWithShape="0">
              <a:gsLst>
                <a:gs pos="0">
                  <a:srgbClr val="ffad3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71400" y="1676520"/>
            <a:ext cx="7772400" cy="2592360"/>
            <a:chOff x="671400" y="1676520"/>
            <a:chExt cx="7772400" cy="2592360"/>
          </a:xfrm>
        </p:grpSpPr>
        <p:sp>
          <p:nvSpPr>
            <p:cNvPr id="449" name=""/>
            <p:cNvSpPr/>
            <p:nvPr/>
          </p:nvSpPr>
          <p:spPr>
            <a:xfrm>
              <a:off x="671400" y="1676520"/>
              <a:ext cx="7772400" cy="2592360"/>
            </a:xfrm>
            <a:prstGeom prst="ellipse">
              <a:avLst/>
            </a:prstGeom>
            <a:gradFill rotWithShape="0">
              <a:gsLst>
                <a:gs pos="0">
                  <a:srgbClr val="fec775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47480" y="1892520"/>
              <a:ext cx="4629240" cy="21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Ahora tenemos que partir de allí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 insertarnos ventajosamente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n la bonanza por ven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-14040" y="0"/>
            <a:ext cx="9144000" cy="2247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6120" y="422280"/>
            <a:ext cx="26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A ESO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 APREND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35"/>
            </a:gs>
            <a:gs pos="100000">
              <a:srgbClr val="7b53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80880" y="3032280"/>
            <a:ext cx="8419320" cy="1008720"/>
            <a:chOff x="380880" y="3032280"/>
            <a:chExt cx="8419320" cy="1008720"/>
          </a:xfrm>
        </p:grpSpPr>
        <p:sp>
          <p:nvSpPr>
            <p:cNvPr id="454" name=""/>
            <p:cNvSpPr/>
            <p:nvPr/>
          </p:nvSpPr>
          <p:spPr>
            <a:xfrm>
              <a:off x="380880" y="3046320"/>
              <a:ext cx="40388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PARTAMENTO DE INVESTIGACIÓN Y DESARROLLO EN CAD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90680" y="3032280"/>
              <a:ext cx="380952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GESTION TECNOLOGICA: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GENIERÍA SIMULTÁNE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NTRO Y FUERA DE L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79520" y="596880"/>
            <a:ext cx="8318520" cy="2222640"/>
            <a:chOff x="479520" y="596880"/>
            <a:chExt cx="8318520" cy="2222640"/>
          </a:xfrm>
        </p:grpSpPr>
        <p:grpSp>
          <p:nvGrpSpPr>
            <p:cNvPr id="457" name=""/>
            <p:cNvGrpSpPr/>
            <p:nvPr/>
          </p:nvGrpSpPr>
          <p:grpSpPr>
            <a:xfrm>
              <a:off x="479520" y="596880"/>
              <a:ext cx="3886200" cy="2209680"/>
              <a:chOff x="479520" y="596880"/>
              <a:chExt cx="3886200" cy="2209680"/>
            </a:xfrm>
          </p:grpSpPr>
          <p:sp>
            <p:nvSpPr>
              <p:cNvPr id="458" name=""/>
              <p:cNvSpPr/>
              <p:nvPr/>
            </p:nvSpPr>
            <p:spPr>
              <a:xfrm>
                <a:off x="479520" y="596880"/>
                <a:ext cx="3886200" cy="220968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37960" y="1512720"/>
                <a:ext cx="256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CIENTIFICO-TECNIC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880" y="673200"/>
                <a:ext cx="273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ej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en m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911840" y="606600"/>
              <a:ext cx="3886200" cy="2212920"/>
              <a:chOff x="4911840" y="606600"/>
              <a:chExt cx="3886200" cy="2212920"/>
            </a:xfrm>
          </p:grpSpPr>
          <p:sp>
            <p:nvSpPr>
              <p:cNvPr id="462" name=""/>
              <p:cNvSpPr/>
              <p:nvPr/>
            </p:nvSpPr>
            <p:spPr>
              <a:xfrm>
                <a:off x="4911840" y="606600"/>
                <a:ext cx="3886200" cy="221292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01600" y="1508040"/>
                <a:ext cx="2506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DEL CONOCIMIENT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75320" y="673200"/>
                <a:ext cx="261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uev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flexi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459720" y="4051440"/>
            <a:ext cx="8285040" cy="916920"/>
            <a:chOff x="459720" y="4051440"/>
            <a:chExt cx="8285040" cy="916920"/>
          </a:xfrm>
        </p:grpSpPr>
        <p:sp>
          <p:nvSpPr>
            <p:cNvPr id="466" name=""/>
            <p:cNvSpPr/>
            <p:nvPr/>
          </p:nvSpPr>
          <p:spPr>
            <a:xfrm>
              <a:off x="459720" y="4205160"/>
              <a:ext cx="392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especializad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separada de la línea de mando ope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9320" y="4051440"/>
              <a:ext cx="383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incorporada a la práctica diari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de toda la organizació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de la red de socios y ali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5119560"/>
            <a:ext cx="8534520" cy="1618560"/>
            <a:chOff x="380880" y="5119560"/>
            <a:chExt cx="8534520" cy="1618560"/>
          </a:xfrm>
        </p:grpSpPr>
        <p:sp>
          <p:nvSpPr>
            <p:cNvPr id="469" name=""/>
            <p:cNvSpPr/>
            <p:nvPr/>
          </p:nvSpPr>
          <p:spPr>
            <a:xfrm>
              <a:off x="380880" y="5272200"/>
              <a:ext cx="403884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OR GRANDES BLOQUE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roductos y procesos compl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6920" y="5119560"/>
              <a:ext cx="403848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CONSTANTE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CREMENTAL Y RADICAL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Mejora continu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y exploraciones múltiples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n diversos puntos del neg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5200" y="76320"/>
            <a:ext cx="84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S MODOS DE CONCEBIR LA ACTIVIDAD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368520"/>
            <a:ext cx="83818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Alta productividad de la ingeniería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Bajo costo de la innovación frec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o intangible se convierte en fuente principal de nuev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intercomunicación total permite la coordinación y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el monitoreo efectivo y no-inv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l acceso inmediato a la información facilita la realización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de estrategias de innovación complejas y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4235040" y="1266480"/>
            <a:ext cx="669960" cy="3197160"/>
          </a:xfrm>
          <a:prstGeom prst="rightArrow">
            <a:avLst>
              <a:gd name="adj1" fmla="val 63361"/>
              <a:gd name="adj2" fmla="val 46921"/>
            </a:avLst>
          </a:prstGeom>
          <a:gradFill rotWithShape="0">
            <a:gsLst>
              <a:gs pos="0">
                <a:srgbClr val="ff9900"/>
              </a:gs>
              <a:gs pos="50000">
                <a:srgbClr val="feeed7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560" y="15228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Por qué se produce una transformación tan profu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3640" y="990720"/>
            <a:ext cx="847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PORQUE LA INFORMÁTICA CAMBIA RADICALMENTE 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LAS CONDICIONES ECONÓMICAS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Y LAS POSIBILIDADES DE COORDINAC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04840" y="0"/>
            <a:ext cx="8734320" cy="6521040"/>
            <a:chOff x="204840" y="0"/>
            <a:chExt cx="8734320" cy="6521040"/>
          </a:xfrm>
        </p:grpSpPr>
        <p:sp>
          <p:nvSpPr>
            <p:cNvPr id="477" name=""/>
            <p:cNvSpPr/>
            <p:nvPr/>
          </p:nvSpPr>
          <p:spPr>
            <a:xfrm flipV="1">
              <a:off x="360360" y="3897720"/>
              <a:ext cx="8423280" cy="2622600"/>
            </a:xfrm>
            <a:prstGeom prst="downArrow">
              <a:avLst>
                <a:gd name="adj1" fmla="val 83537"/>
                <a:gd name="adj2" fmla="val 48685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0360" y="0"/>
              <a:ext cx="8423280" cy="3429000"/>
            </a:xfrm>
            <a:prstGeom prst="downArrow">
              <a:avLst>
                <a:gd name="adj1" fmla="val 81194"/>
                <a:gd name="adj2" fmla="val 4247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840" y="3416400"/>
              <a:ext cx="87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EL NUEVO PARADIGMA FACILITA LAS INNOVACION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53800" y="12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18240" y="4809960"/>
              <a:ext cx="48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de estructura de merc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44040" y="669960"/>
            <a:ext cx="60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ceso rápido a la frontera mundial del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municación con el mund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Diseño ayudado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imulación y pruebas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strumentos de altísima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3840" y="53640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exión directa con los clientes y sus nece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liferación de nichos de especialidad de bajo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rganizaciones modulares facilitadoras de pruebas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d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LA RELACION 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71600" y="3402000"/>
            <a:ext cx="3490920" cy="2751120"/>
            <a:chOff x="471600" y="3402000"/>
            <a:chExt cx="3490920" cy="2751120"/>
          </a:xfrm>
        </p:grpSpPr>
        <p:sp>
          <p:nvSpPr>
            <p:cNvPr id="489" name=""/>
            <p:cNvSpPr/>
            <p:nvPr/>
          </p:nvSpPr>
          <p:spPr>
            <a:xfrm>
              <a:off x="471600" y="3402000"/>
              <a:ext cx="3490920" cy="27511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640" y="3554280"/>
              <a:ext cx="319752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OFER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nrumb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homogeneiz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3600" y="5524560"/>
              <a:ext cx="1972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1600" y="1868400"/>
            <a:ext cx="8123040" cy="1417680"/>
            <a:chOff x="471600" y="1868400"/>
            <a:chExt cx="8123040" cy="1417680"/>
          </a:xfrm>
        </p:grpSpPr>
        <p:grpSp>
          <p:nvGrpSpPr>
            <p:cNvPr id="493" name=""/>
            <p:cNvGrpSpPr/>
            <p:nvPr/>
          </p:nvGrpSpPr>
          <p:grpSpPr>
            <a:xfrm>
              <a:off x="471600" y="1868400"/>
              <a:ext cx="8123040" cy="1417680"/>
              <a:chOff x="471600" y="1868400"/>
              <a:chExt cx="8123040" cy="1417680"/>
            </a:xfrm>
          </p:grpSpPr>
          <p:sp>
            <p:nvSpPr>
              <p:cNvPr id="494" name=""/>
              <p:cNvSpPr/>
              <p:nvPr/>
            </p:nvSpPr>
            <p:spPr>
              <a:xfrm>
                <a:off x="5103720" y="1905120"/>
                <a:ext cx="3490920" cy="1380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7160" y="1873080"/>
                <a:ext cx="378000" cy="13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1600" y="1868400"/>
                <a:ext cx="3490920" cy="1381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5232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3700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103720" y="3438360"/>
            <a:ext cx="3735360" cy="2751480"/>
            <a:chOff x="5103720" y="3438360"/>
            <a:chExt cx="3735360" cy="2751480"/>
          </a:xfrm>
        </p:grpSpPr>
        <p:sp>
          <p:nvSpPr>
            <p:cNvPr id="500" name=""/>
            <p:cNvSpPr/>
            <p:nvPr/>
          </p:nvSpPr>
          <p:spPr>
            <a:xfrm>
              <a:off x="5103720" y="3438360"/>
              <a:ext cx="3490920" cy="275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1920" y="3554280"/>
              <a:ext cx="319716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ori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egm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iversifi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12160" y="5524560"/>
            <a:ext cx="1707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-763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Las bases para el crecimie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 empresas o paí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9680" y="1436400"/>
            <a:ext cx="8047080" cy="4397760"/>
            <a:chOff x="409680" y="1436400"/>
            <a:chExt cx="8047080" cy="4397760"/>
          </a:xfrm>
        </p:grpSpPr>
        <p:sp>
          <p:nvSpPr>
            <p:cNvPr id="135" name=""/>
            <p:cNvSpPr/>
            <p:nvPr/>
          </p:nvSpPr>
          <p:spPr>
            <a:xfrm>
              <a:off x="5043600" y="29746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" y="2244600"/>
              <a:ext cx="324792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2391840"/>
              <a:ext cx="3905280" cy="22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portunidad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tecnológic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y de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8480" y="2306520"/>
              <a:ext cx="324828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3560" y="2714400"/>
              <a:ext cx="277668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rganización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decuad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par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provechar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94240" y="1436400"/>
              <a:ext cx="3672360" cy="1593000"/>
              <a:chOff x="2694240" y="1436400"/>
              <a:chExt cx="3672360" cy="1593000"/>
            </a:xfrm>
          </p:grpSpPr>
          <p:sp>
            <p:nvSpPr>
              <p:cNvPr id="141" name=""/>
              <p:cNvSpPr/>
              <p:nvPr/>
            </p:nvSpPr>
            <p:spPr>
              <a:xfrm flipH="1" flipV="1" rot="10968600">
                <a:off x="2712600" y="2081160"/>
                <a:ext cx="2406600" cy="3758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0968600">
                <a:off x="5721120" y="1597320"/>
                <a:ext cx="617760" cy="114696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 rot="10968600">
                <a:off x="4455720" y="2537640"/>
                <a:ext cx="1379880" cy="4575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 rot="10968600">
                <a:off x="2723760" y="1521720"/>
                <a:ext cx="3522960" cy="131292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0892400">
              <a:off x="3879000" y="4921920"/>
              <a:ext cx="2202120" cy="344520"/>
            </a:xfrm>
            <a:custGeom>
              <a:avLst/>
              <a:gdLst/>
              <a:ahLst/>
              <a:rect l="l" t="t" r="r" b="b"/>
              <a:pathLst>
                <a:path w="729" h="136">
                  <a:moveTo>
                    <a:pt x="0" y="107"/>
                  </a:moveTo>
                  <a:lnTo>
                    <a:pt x="16" y="130"/>
                  </a:lnTo>
                  <a:lnTo>
                    <a:pt x="59" y="112"/>
                  </a:lnTo>
                  <a:lnTo>
                    <a:pt x="98" y="99"/>
                  </a:lnTo>
                  <a:lnTo>
                    <a:pt x="135" y="89"/>
                  </a:lnTo>
                  <a:lnTo>
                    <a:pt x="173" y="77"/>
                  </a:lnTo>
                  <a:lnTo>
                    <a:pt x="207" y="70"/>
                  </a:lnTo>
                  <a:lnTo>
                    <a:pt x="237" y="65"/>
                  </a:lnTo>
                  <a:lnTo>
                    <a:pt x="264" y="60"/>
                  </a:lnTo>
                  <a:lnTo>
                    <a:pt x="295" y="55"/>
                  </a:lnTo>
                  <a:lnTo>
                    <a:pt x="324" y="54"/>
                  </a:lnTo>
                  <a:lnTo>
                    <a:pt x="360" y="56"/>
                  </a:lnTo>
                  <a:lnTo>
                    <a:pt x="388" y="57"/>
                  </a:lnTo>
                  <a:lnTo>
                    <a:pt x="418" y="59"/>
                  </a:lnTo>
                  <a:lnTo>
                    <a:pt x="447" y="64"/>
                  </a:lnTo>
                  <a:lnTo>
                    <a:pt x="483" y="67"/>
                  </a:lnTo>
                  <a:lnTo>
                    <a:pt x="522" y="75"/>
                  </a:lnTo>
                  <a:lnTo>
                    <a:pt x="546" y="82"/>
                  </a:lnTo>
                  <a:lnTo>
                    <a:pt x="572" y="90"/>
                  </a:lnTo>
                  <a:lnTo>
                    <a:pt x="598" y="96"/>
                  </a:lnTo>
                  <a:lnTo>
                    <a:pt x="623" y="105"/>
                  </a:lnTo>
                  <a:lnTo>
                    <a:pt x="656" y="121"/>
                  </a:lnTo>
                  <a:lnTo>
                    <a:pt x="679" y="135"/>
                  </a:lnTo>
                  <a:lnTo>
                    <a:pt x="728" y="93"/>
                  </a:lnTo>
                  <a:lnTo>
                    <a:pt x="688" y="68"/>
                  </a:lnTo>
                  <a:lnTo>
                    <a:pt x="637" y="48"/>
                  </a:lnTo>
                  <a:lnTo>
                    <a:pt x="589" y="35"/>
                  </a:lnTo>
                  <a:lnTo>
                    <a:pt x="529" y="23"/>
                  </a:lnTo>
                  <a:lnTo>
                    <a:pt x="449" y="5"/>
                  </a:lnTo>
                  <a:lnTo>
                    <a:pt x="369" y="0"/>
                  </a:lnTo>
                  <a:lnTo>
                    <a:pt x="289" y="2"/>
                  </a:lnTo>
                  <a:lnTo>
                    <a:pt x="225" y="14"/>
                  </a:lnTo>
                  <a:lnTo>
                    <a:pt x="148" y="34"/>
                  </a:lnTo>
                  <a:lnTo>
                    <a:pt x="91" y="59"/>
                  </a:lnTo>
                  <a:lnTo>
                    <a:pt x="0" y="107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92400">
              <a:off x="2768400" y="4703400"/>
              <a:ext cx="564840" cy="1050840"/>
            </a:xfrm>
            <a:custGeom>
              <a:avLst/>
              <a:gdLst/>
              <a:ahLst/>
              <a:rect l="l" t="t" r="r" b="b"/>
              <a:pathLst>
                <a:path w="187" h="414">
                  <a:moveTo>
                    <a:pt x="8" y="359"/>
                  </a:moveTo>
                  <a:lnTo>
                    <a:pt x="44" y="413"/>
                  </a:lnTo>
                  <a:lnTo>
                    <a:pt x="45" y="391"/>
                  </a:lnTo>
                  <a:lnTo>
                    <a:pt x="50" y="371"/>
                  </a:lnTo>
                  <a:lnTo>
                    <a:pt x="56" y="344"/>
                  </a:lnTo>
                  <a:lnTo>
                    <a:pt x="64" y="315"/>
                  </a:lnTo>
                  <a:lnTo>
                    <a:pt x="71" y="284"/>
                  </a:lnTo>
                  <a:lnTo>
                    <a:pt x="79" y="254"/>
                  </a:lnTo>
                  <a:lnTo>
                    <a:pt x="88" y="228"/>
                  </a:lnTo>
                  <a:lnTo>
                    <a:pt x="96" y="204"/>
                  </a:lnTo>
                  <a:lnTo>
                    <a:pt x="106" y="181"/>
                  </a:lnTo>
                  <a:lnTo>
                    <a:pt x="117" y="156"/>
                  </a:lnTo>
                  <a:lnTo>
                    <a:pt x="130" y="130"/>
                  </a:lnTo>
                  <a:lnTo>
                    <a:pt x="144" y="106"/>
                  </a:lnTo>
                  <a:lnTo>
                    <a:pt x="159" y="85"/>
                  </a:lnTo>
                  <a:lnTo>
                    <a:pt x="174" y="61"/>
                  </a:lnTo>
                  <a:lnTo>
                    <a:pt x="186" y="42"/>
                  </a:lnTo>
                  <a:lnTo>
                    <a:pt x="159" y="0"/>
                  </a:lnTo>
                  <a:lnTo>
                    <a:pt x="136" y="29"/>
                  </a:lnTo>
                  <a:lnTo>
                    <a:pt x="103" y="75"/>
                  </a:lnTo>
                  <a:lnTo>
                    <a:pt x="64" y="134"/>
                  </a:lnTo>
                  <a:lnTo>
                    <a:pt x="40" y="186"/>
                  </a:lnTo>
                  <a:lnTo>
                    <a:pt x="25" y="246"/>
                  </a:lnTo>
                  <a:lnTo>
                    <a:pt x="10" y="299"/>
                  </a:lnTo>
                  <a:lnTo>
                    <a:pt x="0" y="345"/>
                  </a:lnTo>
                  <a:lnTo>
                    <a:pt x="43" y="412"/>
                  </a:lnTo>
                  <a:lnTo>
                    <a:pt x="43" y="411"/>
                  </a:lnTo>
                  <a:lnTo>
                    <a:pt x="8" y="35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92400">
              <a:off x="3214800" y="4457520"/>
              <a:ext cx="1263600" cy="419040"/>
            </a:xfrm>
            <a:custGeom>
              <a:avLst/>
              <a:gdLst/>
              <a:ahLst/>
              <a:rect l="l" t="t" r="r" b="b"/>
              <a:pathLst>
                <a:path w="418" h="165">
                  <a:moveTo>
                    <a:pt x="0" y="119"/>
                  </a:moveTo>
                  <a:lnTo>
                    <a:pt x="30" y="164"/>
                  </a:lnTo>
                  <a:lnTo>
                    <a:pt x="53" y="154"/>
                  </a:lnTo>
                  <a:lnTo>
                    <a:pt x="75" y="145"/>
                  </a:lnTo>
                  <a:lnTo>
                    <a:pt x="100" y="137"/>
                  </a:lnTo>
                  <a:lnTo>
                    <a:pt x="123" y="127"/>
                  </a:lnTo>
                  <a:lnTo>
                    <a:pt x="151" y="118"/>
                  </a:lnTo>
                  <a:lnTo>
                    <a:pt x="182" y="107"/>
                  </a:lnTo>
                  <a:lnTo>
                    <a:pt x="221" y="96"/>
                  </a:lnTo>
                  <a:lnTo>
                    <a:pt x="259" y="85"/>
                  </a:lnTo>
                  <a:lnTo>
                    <a:pt x="284" y="78"/>
                  </a:lnTo>
                  <a:lnTo>
                    <a:pt x="315" y="71"/>
                  </a:lnTo>
                  <a:lnTo>
                    <a:pt x="347" y="65"/>
                  </a:lnTo>
                  <a:lnTo>
                    <a:pt x="378" y="60"/>
                  </a:lnTo>
                  <a:lnTo>
                    <a:pt x="403" y="58"/>
                  </a:lnTo>
                  <a:lnTo>
                    <a:pt x="417" y="57"/>
                  </a:lnTo>
                  <a:lnTo>
                    <a:pt x="380" y="1"/>
                  </a:lnTo>
                  <a:lnTo>
                    <a:pt x="351" y="0"/>
                  </a:lnTo>
                  <a:lnTo>
                    <a:pt x="297" y="7"/>
                  </a:lnTo>
                  <a:lnTo>
                    <a:pt x="238" y="18"/>
                  </a:lnTo>
                  <a:lnTo>
                    <a:pt x="188" y="34"/>
                  </a:lnTo>
                  <a:lnTo>
                    <a:pt x="132" y="52"/>
                  </a:lnTo>
                  <a:lnTo>
                    <a:pt x="77" y="74"/>
                  </a:lnTo>
                  <a:lnTo>
                    <a:pt x="41" y="92"/>
                  </a:lnTo>
                  <a:lnTo>
                    <a:pt x="0" y="11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92400">
              <a:off x="2847960" y="4589280"/>
              <a:ext cx="3224160" cy="1201680"/>
            </a:xfrm>
            <a:custGeom>
              <a:avLst/>
              <a:gdLst/>
              <a:ahLst/>
              <a:rect l="l" t="t" r="r" b="b"/>
              <a:pathLst>
                <a:path w="1067" h="474">
                  <a:moveTo>
                    <a:pt x="0" y="321"/>
                  </a:moveTo>
                  <a:lnTo>
                    <a:pt x="45" y="285"/>
                  </a:lnTo>
                  <a:lnTo>
                    <a:pt x="71" y="270"/>
                  </a:lnTo>
                  <a:lnTo>
                    <a:pt x="100" y="251"/>
                  </a:lnTo>
                  <a:lnTo>
                    <a:pt x="128" y="235"/>
                  </a:lnTo>
                  <a:lnTo>
                    <a:pt x="158" y="219"/>
                  </a:lnTo>
                  <a:lnTo>
                    <a:pt x="186" y="205"/>
                  </a:lnTo>
                  <a:lnTo>
                    <a:pt x="215" y="193"/>
                  </a:lnTo>
                  <a:lnTo>
                    <a:pt x="244" y="180"/>
                  </a:lnTo>
                  <a:lnTo>
                    <a:pt x="283" y="166"/>
                  </a:lnTo>
                  <a:lnTo>
                    <a:pt x="319" y="157"/>
                  </a:lnTo>
                  <a:lnTo>
                    <a:pt x="351" y="147"/>
                  </a:lnTo>
                  <a:lnTo>
                    <a:pt x="390" y="140"/>
                  </a:lnTo>
                  <a:lnTo>
                    <a:pt x="429" y="132"/>
                  </a:lnTo>
                  <a:lnTo>
                    <a:pt x="466" y="126"/>
                  </a:lnTo>
                  <a:lnTo>
                    <a:pt x="498" y="123"/>
                  </a:lnTo>
                  <a:lnTo>
                    <a:pt x="535" y="117"/>
                  </a:lnTo>
                  <a:lnTo>
                    <a:pt x="567" y="115"/>
                  </a:lnTo>
                  <a:lnTo>
                    <a:pt x="603" y="113"/>
                  </a:lnTo>
                  <a:lnTo>
                    <a:pt x="638" y="110"/>
                  </a:lnTo>
                  <a:lnTo>
                    <a:pt x="675" y="112"/>
                  </a:lnTo>
                  <a:lnTo>
                    <a:pt x="709" y="111"/>
                  </a:lnTo>
                  <a:lnTo>
                    <a:pt x="745" y="114"/>
                  </a:lnTo>
                  <a:lnTo>
                    <a:pt x="780" y="118"/>
                  </a:lnTo>
                  <a:lnTo>
                    <a:pt x="813" y="122"/>
                  </a:lnTo>
                  <a:lnTo>
                    <a:pt x="842" y="130"/>
                  </a:lnTo>
                  <a:lnTo>
                    <a:pt x="869" y="138"/>
                  </a:lnTo>
                  <a:lnTo>
                    <a:pt x="892" y="148"/>
                  </a:lnTo>
                  <a:lnTo>
                    <a:pt x="1066" y="0"/>
                  </a:lnTo>
                  <a:lnTo>
                    <a:pt x="1047" y="30"/>
                  </a:lnTo>
                  <a:lnTo>
                    <a:pt x="1025" y="64"/>
                  </a:lnTo>
                  <a:lnTo>
                    <a:pt x="1008" y="92"/>
                  </a:lnTo>
                  <a:lnTo>
                    <a:pt x="995" y="112"/>
                  </a:lnTo>
                  <a:lnTo>
                    <a:pt x="981" y="136"/>
                  </a:lnTo>
                  <a:lnTo>
                    <a:pt x="972" y="157"/>
                  </a:lnTo>
                  <a:lnTo>
                    <a:pt x="963" y="178"/>
                  </a:lnTo>
                  <a:lnTo>
                    <a:pt x="957" y="199"/>
                  </a:lnTo>
                  <a:lnTo>
                    <a:pt x="947" y="223"/>
                  </a:lnTo>
                  <a:lnTo>
                    <a:pt x="939" y="250"/>
                  </a:lnTo>
                  <a:lnTo>
                    <a:pt x="932" y="279"/>
                  </a:lnTo>
                  <a:lnTo>
                    <a:pt x="926" y="303"/>
                  </a:lnTo>
                  <a:lnTo>
                    <a:pt x="917" y="333"/>
                  </a:lnTo>
                  <a:lnTo>
                    <a:pt x="915" y="358"/>
                  </a:lnTo>
                  <a:lnTo>
                    <a:pt x="895" y="360"/>
                  </a:lnTo>
                  <a:lnTo>
                    <a:pt x="875" y="362"/>
                  </a:lnTo>
                  <a:lnTo>
                    <a:pt x="856" y="365"/>
                  </a:lnTo>
                  <a:lnTo>
                    <a:pt x="832" y="369"/>
                  </a:lnTo>
                  <a:lnTo>
                    <a:pt x="808" y="374"/>
                  </a:lnTo>
                  <a:lnTo>
                    <a:pt x="787" y="381"/>
                  </a:lnTo>
                  <a:lnTo>
                    <a:pt x="766" y="386"/>
                  </a:lnTo>
                  <a:lnTo>
                    <a:pt x="744" y="392"/>
                  </a:lnTo>
                  <a:lnTo>
                    <a:pt x="720" y="400"/>
                  </a:lnTo>
                  <a:lnTo>
                    <a:pt x="697" y="408"/>
                  </a:lnTo>
                  <a:lnTo>
                    <a:pt x="673" y="416"/>
                  </a:lnTo>
                  <a:lnTo>
                    <a:pt x="652" y="423"/>
                  </a:lnTo>
                  <a:lnTo>
                    <a:pt x="630" y="433"/>
                  </a:lnTo>
                  <a:lnTo>
                    <a:pt x="607" y="441"/>
                  </a:lnTo>
                  <a:lnTo>
                    <a:pt x="588" y="448"/>
                  </a:lnTo>
                  <a:lnTo>
                    <a:pt x="563" y="458"/>
                  </a:lnTo>
                  <a:lnTo>
                    <a:pt x="532" y="473"/>
                  </a:lnTo>
                  <a:lnTo>
                    <a:pt x="707" y="312"/>
                  </a:lnTo>
                  <a:lnTo>
                    <a:pt x="677" y="295"/>
                  </a:lnTo>
                  <a:lnTo>
                    <a:pt x="649" y="285"/>
                  </a:lnTo>
                  <a:lnTo>
                    <a:pt x="596" y="267"/>
                  </a:lnTo>
                  <a:lnTo>
                    <a:pt x="570" y="262"/>
                  </a:lnTo>
                  <a:lnTo>
                    <a:pt x="544" y="255"/>
                  </a:lnTo>
                  <a:lnTo>
                    <a:pt x="496" y="247"/>
                  </a:lnTo>
                  <a:lnTo>
                    <a:pt x="466" y="243"/>
                  </a:lnTo>
                  <a:lnTo>
                    <a:pt x="432" y="236"/>
                  </a:lnTo>
                  <a:lnTo>
                    <a:pt x="404" y="234"/>
                  </a:lnTo>
                  <a:lnTo>
                    <a:pt x="379" y="232"/>
                  </a:lnTo>
                  <a:lnTo>
                    <a:pt x="355" y="230"/>
                  </a:lnTo>
                  <a:lnTo>
                    <a:pt x="327" y="230"/>
                  </a:lnTo>
                  <a:lnTo>
                    <a:pt x="298" y="231"/>
                  </a:lnTo>
                  <a:lnTo>
                    <a:pt x="268" y="235"/>
                  </a:lnTo>
                  <a:lnTo>
                    <a:pt x="241" y="237"/>
                  </a:lnTo>
                  <a:lnTo>
                    <a:pt x="210" y="244"/>
                  </a:lnTo>
                  <a:lnTo>
                    <a:pt x="180" y="252"/>
                  </a:lnTo>
                  <a:lnTo>
                    <a:pt x="147" y="263"/>
                  </a:lnTo>
                  <a:lnTo>
                    <a:pt x="118" y="273"/>
                  </a:lnTo>
                  <a:lnTo>
                    <a:pt x="86" y="285"/>
                  </a:lnTo>
                  <a:lnTo>
                    <a:pt x="53" y="299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320" y="5791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El   QUÉ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y  el  CÓMO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RELACION TECNOLOGIA-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1600" y="1600200"/>
            <a:ext cx="3525120" cy="5105520"/>
            <a:chOff x="471600" y="1600200"/>
            <a:chExt cx="3525120" cy="5105520"/>
          </a:xfrm>
        </p:grpSpPr>
        <p:sp>
          <p:nvSpPr>
            <p:cNvPr id="506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600" y="1600200"/>
              <a:ext cx="3490920" cy="138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2320" y="183816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313380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6640" y="3505320"/>
              <a:ext cx="3520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AL SERVICIO D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mas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natural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r lo sinté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mano por mec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andarización en tod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os pla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097160" y="1604880"/>
            <a:ext cx="4626360" cy="4795920"/>
            <a:chOff x="4097160" y="1604880"/>
            <a:chExt cx="4626360" cy="4795920"/>
          </a:xfrm>
        </p:grpSpPr>
        <p:sp>
          <p:nvSpPr>
            <p:cNvPr id="513" name=""/>
            <p:cNvSpPr/>
            <p:nvPr/>
          </p:nvSpPr>
          <p:spPr>
            <a:xfrm>
              <a:off x="5103720" y="1636560"/>
              <a:ext cx="3490920" cy="138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3720" y="317016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97160" y="1604880"/>
              <a:ext cx="3780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84720" y="1838160"/>
              <a:ext cx="319716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4040" y="3502080"/>
              <a:ext cx="3759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MÚLTI-PROPÓSIT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ificación de bajo co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scate de lo natural co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rganización mod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orización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la medida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artesanía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high-tech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4a0e"/>
            </a:gs>
            <a:gs pos="50000">
              <a:srgbClr val="ffa41f"/>
            </a:gs>
            <a:gs pos="100000">
              <a:srgbClr val="734a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867280" y="4349880"/>
            <a:ext cx="129564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33720" y="4349880"/>
            <a:ext cx="121896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4343400"/>
            <a:ext cx="251460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6240" y="4413240"/>
            <a:ext cx="51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MODITY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NERICO     ESPECIALIDAD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A LA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110320" y="4937040"/>
            <a:ext cx="4983840" cy="593640"/>
            <a:chOff x="2110320" y="4937040"/>
            <a:chExt cx="4983840" cy="593640"/>
          </a:xfrm>
        </p:grpSpPr>
        <p:sp>
          <p:nvSpPr>
            <p:cNvPr id="523" name=""/>
            <p:cNvSpPr/>
            <p:nvPr/>
          </p:nvSpPr>
          <p:spPr>
            <a:xfrm>
              <a:off x="2735280" y="518148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87520" y="4951440"/>
              <a:ext cx="2601720" cy="579240"/>
            </a:xfrm>
            <a:prstGeom prst="rect">
              <a:avLst/>
            </a:prstGeom>
            <a:solidFill>
              <a:srgbClr val="c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novación, versatilidad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teracción con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0320" y="501336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30040" y="493704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10320" y="5638680"/>
            <a:ext cx="4983840" cy="579240"/>
            <a:chOff x="2110320" y="5638680"/>
            <a:chExt cx="4983840" cy="579240"/>
          </a:xfrm>
        </p:grpSpPr>
        <p:sp>
          <p:nvSpPr>
            <p:cNvPr id="528" name=""/>
            <p:cNvSpPr/>
            <p:nvPr/>
          </p:nvSpPr>
          <p:spPr>
            <a:xfrm>
              <a:off x="2735280" y="594504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360" y="5638680"/>
              <a:ext cx="2399040" cy="579240"/>
            </a:xfrm>
            <a:prstGeom prst="rect">
              <a:avLst/>
            </a:prstGeom>
            <a:solidFill>
              <a:srgbClr val="9c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mportancia del prec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calidades 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6360" y="570060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10320" y="570060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86440" y="762120"/>
            <a:ext cx="564120" cy="3658680"/>
            <a:chOff x="586440" y="762120"/>
            <a:chExt cx="564120" cy="3658680"/>
          </a:xfrm>
        </p:grpSpPr>
        <p:sp>
          <p:nvSpPr>
            <p:cNvPr id="533" name=""/>
            <p:cNvSpPr/>
            <p:nvPr/>
          </p:nvSpPr>
          <p:spPr>
            <a:xfrm>
              <a:off x="830160" y="1387800"/>
              <a:ext cx="0" cy="2590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-13680" y="2246040"/>
              <a:ext cx="164304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ulner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6440" y="396252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440" y="76212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988920" y="0"/>
            <a:ext cx="732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SEGMENTACIÓN DE MERCADOS COMO PRÁCTICA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 VARIEDAD DE CONDICIONES DE 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218240" y="762120"/>
            <a:ext cx="7522560" cy="3780720"/>
            <a:chOff x="1218240" y="762120"/>
            <a:chExt cx="7522560" cy="3780720"/>
          </a:xfrm>
        </p:grpSpPr>
        <p:grpSp>
          <p:nvGrpSpPr>
            <p:cNvPr id="539" name=""/>
            <p:cNvGrpSpPr/>
            <p:nvPr/>
          </p:nvGrpSpPr>
          <p:grpSpPr>
            <a:xfrm>
              <a:off x="1218240" y="762120"/>
              <a:ext cx="608760" cy="3658680"/>
              <a:chOff x="1218240" y="762120"/>
              <a:chExt cx="608760" cy="3658680"/>
            </a:xfrm>
          </p:grpSpPr>
          <p:sp>
            <p:nvSpPr>
              <p:cNvPr id="540" name=""/>
              <p:cNvSpPr/>
              <p:nvPr/>
            </p:nvSpPr>
            <p:spPr>
              <a:xfrm>
                <a:off x="1560600" y="1387800"/>
                <a:ext cx="0" cy="259056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921240" y="2372760"/>
                <a:ext cx="1231920" cy="579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argen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por unid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18240" y="762120"/>
                <a:ext cx="56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+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16520" y="3962520"/>
                <a:ext cx="48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-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133720" y="1082880"/>
              <a:ext cx="6607080" cy="3459960"/>
              <a:chOff x="2133720" y="1082880"/>
              <a:chExt cx="6607080" cy="34599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133720" y="1082880"/>
                <a:ext cx="6607080" cy="3459960"/>
                <a:chOff x="2133720" y="1082880"/>
                <a:chExt cx="6607080" cy="345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69080" y="2079720"/>
                  <a:ext cx="129564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869080" y="3762720"/>
                  <a:ext cx="129564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69080" y="1400400"/>
                  <a:ext cx="129564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135520" y="2079720"/>
                  <a:ext cx="121896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135520" y="3762720"/>
                  <a:ext cx="121896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5520" y="1400400"/>
                  <a:ext cx="121896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354480" y="2073600"/>
                  <a:ext cx="2514600" cy="167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88e0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133720" y="1393920"/>
                  <a:ext cx="5016600" cy="2959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354480" y="3749760"/>
                  <a:ext cx="251460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5e5f7"/>
                    </a:gs>
                    <a:gs pos="100000">
                      <a:srgbClr val="3333cc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54480" y="1393920"/>
                  <a:ext cx="251460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707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7433280" y="1082880"/>
                  <a:ext cx="1307520" cy="3459960"/>
                  <a:chOff x="7433280" y="1082880"/>
                  <a:chExt cx="1307520" cy="34599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7433280" y="4206960"/>
                    <a:ext cx="13075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50960"/>
                        <a:tab algn="l" pos="1501920"/>
                        <a:tab algn="l" pos="2252520"/>
                        <a:tab algn="l" pos="3003480"/>
                        <a:tab algn="l" pos="3754440"/>
                        <a:tab algn="l" pos="4505400"/>
                        <a:tab algn="l" pos="5256360"/>
                        <a:tab algn="l" pos="6006960"/>
                        <a:tab algn="l" pos="6757920"/>
                        <a:tab algn="l" pos="7508880"/>
                        <a:tab algn="l" pos="8259840"/>
                        <a:tab algn="l" pos="9010800"/>
                        <a:tab algn="l" pos="9761400"/>
                        <a:tab algn="l" pos="10512360"/>
                      </a:tabLst>
                    </a:pPr>
                    <a:r>
                      <a:rPr b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STÁNDA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7626600" y="1082880"/>
                    <a:ext cx="969480" cy="3102120"/>
                    <a:chOff x="7626600" y="1082880"/>
                    <a:chExt cx="969480" cy="31021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626600" y="1082880"/>
                      <a:ext cx="9694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8071200" y="1365480"/>
                      <a:ext cx="0" cy="2819520"/>
                    </a:xfrm>
                    <a:prstGeom prst="line">
                      <a:avLst/>
                    </a:prstGeom>
                    <a:ln w="10152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7254000" y="2725200"/>
                      <a:ext cx="1619280" cy="579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ción cre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62" name=""/>
              <p:cNvSpPr/>
              <p:nvPr/>
            </p:nvSpPr>
            <p:spPr>
              <a:xfrm flipV="1">
                <a:off x="4573800" y="138744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06320" y="640080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el cuadro completo se despliega en cad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9960" y="4027320"/>
            <a:ext cx="3849480" cy="1992600"/>
            <a:chOff x="399960" y="4027320"/>
            <a:chExt cx="3849480" cy="1992600"/>
          </a:xfrm>
        </p:grpSpPr>
        <p:grpSp>
          <p:nvGrpSpPr>
            <p:cNvPr id="566" name=""/>
            <p:cNvGrpSpPr/>
            <p:nvPr/>
          </p:nvGrpSpPr>
          <p:grpSpPr>
            <a:xfrm>
              <a:off x="399960" y="4495680"/>
              <a:ext cx="3849480" cy="1524240"/>
              <a:chOff x="399960" y="4495680"/>
              <a:chExt cx="3849480" cy="1524240"/>
            </a:xfrm>
          </p:grpSpPr>
          <p:sp>
            <p:nvSpPr>
              <p:cNvPr id="567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841320" y="4575600"/>
              <a:ext cx="281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"Objetivación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de la tecnología“ en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manuales, planos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1320" y="5334480"/>
              <a:ext cx="29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31840" indent="-2318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mite transferencia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siva por “paquet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28720" y="4027320"/>
              <a:ext cx="1189080" cy="316080"/>
            </a:xfrm>
            <a:custGeom>
              <a:avLst/>
              <a:gdLst/>
              <a:ahLst/>
              <a:rect l="l" t="t" r="r" b="b"/>
              <a:pathLst>
                <a:path w="749" h="223">
                  <a:moveTo>
                    <a:pt x="374" y="222"/>
                  </a:moveTo>
                  <a:lnTo>
                    <a:pt x="0" y="60"/>
                  </a:lnTo>
                  <a:lnTo>
                    <a:pt x="176" y="60"/>
                  </a:lnTo>
                  <a:lnTo>
                    <a:pt x="176" y="0"/>
                  </a:lnTo>
                  <a:lnTo>
                    <a:pt x="573" y="0"/>
                  </a:lnTo>
                  <a:lnTo>
                    <a:pt x="573" y="60"/>
                  </a:lnTo>
                  <a:lnTo>
                    <a:pt x="748" y="60"/>
                  </a:lnTo>
                  <a:lnTo>
                    <a:pt x="374" y="2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04920" y="999360"/>
            <a:ext cx="4038480" cy="2962800"/>
            <a:chOff x="304920" y="999360"/>
            <a:chExt cx="4038480" cy="2962800"/>
          </a:xfrm>
        </p:grpSpPr>
        <p:sp>
          <p:nvSpPr>
            <p:cNvPr id="574" name=""/>
            <p:cNvSpPr/>
            <p:nvPr/>
          </p:nvSpPr>
          <p:spPr>
            <a:xfrm>
              <a:off x="457200" y="999360"/>
              <a:ext cx="3753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en 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04920" y="1352520"/>
              <a:ext cx="4038480" cy="2609640"/>
              <a:chOff x="304920" y="1352520"/>
              <a:chExt cx="4038480" cy="260964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99960" y="1352520"/>
                <a:ext cx="3849480" cy="2609640"/>
                <a:chOff x="399960" y="1352520"/>
                <a:chExt cx="3849480" cy="2609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372320" y="2558160"/>
                <a:ext cx="18586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ECNOLOG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3040" y="2859480"/>
                <a:ext cx="19623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adur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Robustas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cumen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28720" y="2155680"/>
                <a:ext cx="1189080" cy="316080"/>
              </a:xfrm>
              <a:custGeom>
                <a:avLst/>
                <a:gdLst/>
                <a:ahLst/>
                <a:rect l="l" t="t" r="r" b="b"/>
                <a:pathLst>
                  <a:path w="749" h="223">
                    <a:moveTo>
                      <a:pt x="374" y="222"/>
                    </a:moveTo>
                    <a:lnTo>
                      <a:pt x="0" y="60"/>
                    </a:lnTo>
                    <a:lnTo>
                      <a:pt x="176" y="60"/>
                    </a:lnTo>
                    <a:lnTo>
                      <a:pt x="176" y="0"/>
                    </a:lnTo>
                    <a:lnTo>
                      <a:pt x="573" y="0"/>
                    </a:lnTo>
                    <a:lnTo>
                      <a:pt x="573" y="60"/>
                    </a:lnTo>
                    <a:lnTo>
                      <a:pt x="748" y="60"/>
                    </a:lnTo>
                    <a:lnTo>
                      <a:pt x="374" y="222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4920" y="1470240"/>
                <a:ext cx="4038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EL DESARROLLO TECNOLÓGICO </a:t>
                </a:r>
                <a:br>
                  <a:rPr sz="1600"/>
                </a:b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OMO FUNCIÓN ESPECI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4782960" y="4027320"/>
            <a:ext cx="4056120" cy="1992600"/>
            <a:chOff x="4782960" y="4027320"/>
            <a:chExt cx="4056120" cy="1992600"/>
          </a:xfrm>
        </p:grpSpPr>
        <p:sp>
          <p:nvSpPr>
            <p:cNvPr id="585" name=""/>
            <p:cNvSpPr/>
            <p:nvPr/>
          </p:nvSpPr>
          <p:spPr>
            <a:xfrm>
              <a:off x="6172200" y="402732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4782960" y="4495680"/>
              <a:ext cx="3997080" cy="1524240"/>
              <a:chOff x="4782960" y="4495680"/>
              <a:chExt cx="3997080" cy="1524240"/>
            </a:xfrm>
          </p:grpSpPr>
          <p:sp>
            <p:nvSpPr>
              <p:cNvPr id="587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5105520" y="4573440"/>
              <a:ext cx="327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propiación  profunda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de la tecnología por el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capital humano de la empr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5334480"/>
              <a:ext cx="373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 se transfiere, exige procesos activos de cap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33120"/>
            <a:ext cx="914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INNOVACIÓN EN EL NUEVO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LA TRANSFERENCIA DE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749840" y="999360"/>
            <a:ext cx="4030200" cy="2962800"/>
            <a:chOff x="4749840" y="999360"/>
            <a:chExt cx="4030200" cy="2962800"/>
          </a:xfrm>
        </p:grpSpPr>
        <p:grpSp>
          <p:nvGrpSpPr>
            <p:cNvPr id="594" name=""/>
            <p:cNvGrpSpPr/>
            <p:nvPr/>
          </p:nvGrpSpPr>
          <p:grpSpPr>
            <a:xfrm>
              <a:off x="4749840" y="1352520"/>
              <a:ext cx="4030200" cy="2609640"/>
              <a:chOff x="4749840" y="1352520"/>
              <a:chExt cx="4030200" cy="2609640"/>
            </a:xfrm>
          </p:grpSpPr>
          <p:sp>
            <p:nvSpPr>
              <p:cNvPr id="595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952880" y="2881800"/>
              <a:ext cx="36576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ná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pecíficas a la empr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 alto componente tá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6920" y="999360"/>
              <a:ext cx="3792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205740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00600" y="1444320"/>
              <a:ext cx="388620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 INGENIERÍA SIMULTÁ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LA MEJORA CONTIN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36320" y="2554920"/>
              <a:ext cx="1858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52280" y="6196680"/>
            <a:ext cx="8516880" cy="326520"/>
            <a:chOff x="152280" y="6196680"/>
            <a:chExt cx="8516880" cy="326520"/>
          </a:xfrm>
        </p:grpSpPr>
        <p:sp>
          <p:nvSpPr>
            <p:cNvPr id="604" name=""/>
            <p:cNvSpPr/>
            <p:nvPr/>
          </p:nvSpPr>
          <p:spPr>
            <a:xfrm>
              <a:off x="152280" y="6197760"/>
              <a:ext cx="434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COMPRA-VEN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5080" y="6196680"/>
              <a:ext cx="4024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ALIAN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043600" y="231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12600"/>
            <a:ext cx="8771040" cy="3198600"/>
            <a:chOff x="0" y="-12600"/>
            <a:chExt cx="8771040" cy="3198600"/>
          </a:xfrm>
        </p:grpSpPr>
        <p:sp>
          <p:nvSpPr>
            <p:cNvPr id="608" name=""/>
            <p:cNvSpPr/>
            <p:nvPr/>
          </p:nvSpPr>
          <p:spPr>
            <a:xfrm>
              <a:off x="0" y="-12600"/>
              <a:ext cx="3422520" cy="3198600"/>
            </a:xfrm>
            <a:prstGeom prst="rightArrow">
              <a:avLst>
                <a:gd name="adj1" fmla="val 74676"/>
                <a:gd name="adj2" fmla="val 12211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2800" y="626760"/>
              <a:ext cx="210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LA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5080" y="628560"/>
              <a:ext cx="502596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doneidad de la estrate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l capital hum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 las redes y alian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nova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0" y="3657600"/>
            <a:ext cx="9144000" cy="3198960"/>
            <a:chOff x="0" y="3657600"/>
            <a:chExt cx="9144000" cy="3198960"/>
          </a:xfrm>
        </p:grpSpPr>
        <p:sp>
          <p:nvSpPr>
            <p:cNvPr id="612" name=""/>
            <p:cNvSpPr/>
            <p:nvPr/>
          </p:nvSpPr>
          <p:spPr>
            <a:xfrm>
              <a:off x="0" y="3657600"/>
              <a:ext cx="3394080" cy="3198960"/>
            </a:xfrm>
            <a:prstGeom prst="rightArrow">
              <a:avLst>
                <a:gd name="adj1" fmla="val 74676"/>
                <a:gd name="adj2" fmla="val 12108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1240" y="4662360"/>
              <a:ext cx="262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EL P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5080" y="4206960"/>
              <a:ext cx="5398920" cy="18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cursos y venta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format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Organización mod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3073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b39"/>
                </a:solidFill>
                <a:latin typeface="Arial Narrow"/>
              </a:rPr>
              <a:t>La competitividad en el período de despliegue de este parad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4876920"/>
            <a:ext cx="9144000" cy="198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Una red panamericana de alianzas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para convertir al continente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en el proveedor mundial de materiales especializados de todo tipo (incluyendo productos naturales y renovables)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y los servicios conexos</a:t>
            </a:r>
            <a:r>
              <a:rPr b="1" lang="es-ES_tradnl" sz="1200" spc="-1" strike="noStrike">
                <a:solidFill>
                  <a:srgbClr val="ffcb39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6520" y="586728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AG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752480" y="2100240"/>
            <a:ext cx="6782040" cy="2319120"/>
            <a:chOff x="1752480" y="2100240"/>
            <a:chExt cx="6782040" cy="2319120"/>
          </a:xfrm>
        </p:grpSpPr>
        <p:sp>
          <p:nvSpPr>
            <p:cNvPr id="620" name=""/>
            <p:cNvSpPr/>
            <p:nvPr/>
          </p:nvSpPr>
          <p:spPr>
            <a:xfrm>
              <a:off x="1752480" y="2619360"/>
              <a:ext cx="678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os recursos naturales y la  experiencia asoci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capital huma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s ciencias químicas y de la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experiencia ingenieril, gerencial y empresa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3440" y="2100240"/>
              <a:ext cx="398916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UNIR EN REDES Y POTENCIA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L NORTE Y DEL S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623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628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58400" y="4417920"/>
              <a:ext cx="3974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633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de la Revolución 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379440" y="219240"/>
            <a:ext cx="3490920" cy="5722920"/>
            <a:chOff x="379440" y="219240"/>
            <a:chExt cx="3490920" cy="5722920"/>
          </a:xfrm>
        </p:grpSpPr>
        <p:grpSp>
          <p:nvGrpSpPr>
            <p:cNvPr id="638" name=""/>
            <p:cNvGrpSpPr/>
            <p:nvPr/>
          </p:nvGrpSpPr>
          <p:grpSpPr>
            <a:xfrm>
              <a:off x="379440" y="219240"/>
              <a:ext cx="3490920" cy="5722920"/>
              <a:chOff x="379440" y="219240"/>
              <a:chExt cx="3490920" cy="5722920"/>
            </a:xfrm>
          </p:grpSpPr>
          <p:sp>
            <p:nvSpPr>
              <p:cNvPr id="639" name=""/>
              <p:cNvSpPr/>
              <p:nvPr/>
            </p:nvSpPr>
            <p:spPr>
              <a:xfrm>
                <a:off x="379440" y="219240"/>
                <a:ext cx="3201840" cy="572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54120" y="1579680"/>
                <a:ext cx="3216240" cy="4209480"/>
                <a:chOff x="654120" y="1579680"/>
                <a:chExt cx="3216240" cy="42094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55200" y="1579680"/>
                  <a:ext cx="2032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prim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gricultura, pesc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minería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5200" y="2360880"/>
                  <a:ext cx="23133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Ind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Tradicional, modern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de pun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4120" y="3179880"/>
                  <a:ext cx="30258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terci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ercio, transporte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unicacione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nergía, finanza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publicidad, turism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4120" y="4456080"/>
                  <a:ext cx="321624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rvicios públic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ducación, salud, etc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4120" y="5027760"/>
                  <a:ext cx="2968560" cy="76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obie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jecutivo, legislativo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jud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766800" y="380880"/>
              <a:ext cx="250992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MODERNIZ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UALQUIER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ACTIVIDAD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638680" y="219240"/>
            <a:ext cx="3165480" cy="5724360"/>
            <a:chOff x="5638680" y="219240"/>
            <a:chExt cx="3165480" cy="5724360"/>
          </a:xfrm>
        </p:grpSpPr>
        <p:sp>
          <p:nvSpPr>
            <p:cNvPr id="648" name=""/>
            <p:cNvSpPr/>
            <p:nvPr/>
          </p:nvSpPr>
          <p:spPr>
            <a:xfrm>
              <a:off x="5638680" y="219240"/>
              <a:ext cx="3165480" cy="572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04040" y="450720"/>
              <a:ext cx="220644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AMBI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TOD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L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PATRONES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DE EFICIENCIA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empresas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cualqui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igantes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rande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ediana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equeñ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mi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 todas 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ca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lobal, n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loc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4440" y="6095880"/>
            <a:ext cx="83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modelo institucional para promover la competitividad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tiene que ser mo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048120" y="1447920"/>
            <a:ext cx="3276360" cy="3047760"/>
            <a:chOff x="3048120" y="1447920"/>
            <a:chExt cx="3276360" cy="3047760"/>
          </a:xfrm>
        </p:grpSpPr>
        <p:sp>
          <p:nvSpPr>
            <p:cNvPr id="652" name=""/>
            <p:cNvSpPr/>
            <p:nvPr/>
          </p:nvSpPr>
          <p:spPr>
            <a:xfrm>
              <a:off x="3048120" y="1447920"/>
              <a:ext cx="3276360" cy="3047760"/>
            </a:xfrm>
            <a:prstGeom prst="ellipse">
              <a:avLst/>
            </a:prstGeom>
            <a:gradFill rotWithShape="0">
              <a:gsLst>
                <a:gs pos="0">
                  <a:srgbClr val="babaed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02080" y="2287440"/>
              <a:ext cx="23684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NUEV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PARADIG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2806"/>
            </a:gs>
            <a:gs pos="50000">
              <a:srgbClr val="f9a919"/>
            </a:gs>
            <a:gs pos="100000">
              <a:srgbClr val="3c2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526400" y="2541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SECHAR DOGMAS, SUPERAR DICOTOM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57960" y="1973160"/>
            <a:ext cx="5232960" cy="496080"/>
            <a:chOff x="1857960" y="1973160"/>
            <a:chExt cx="5232960" cy="496080"/>
          </a:xfrm>
        </p:grpSpPr>
        <p:sp>
          <p:nvSpPr>
            <p:cNvPr id="656" name=""/>
            <p:cNvSpPr/>
            <p:nvPr/>
          </p:nvSpPr>
          <p:spPr>
            <a:xfrm>
              <a:off x="3962520" y="208584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57960" y="197316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nj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40840" y="2009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094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5320" y="5386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 lo uno ni lo otro sino ambos a l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28840" y="1371600"/>
            <a:ext cx="4834080" cy="459720"/>
            <a:chOff x="2328840" y="1371600"/>
            <a:chExt cx="4834080" cy="459720"/>
          </a:xfrm>
        </p:grpSpPr>
        <p:sp>
          <p:nvSpPr>
            <p:cNvPr id="662" name=""/>
            <p:cNvSpPr/>
            <p:nvPr/>
          </p:nvSpPr>
          <p:spPr>
            <a:xfrm>
              <a:off x="563868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884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62520" y="1447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6760" y="2612880"/>
            <a:ext cx="7468560" cy="459720"/>
            <a:chOff x="536760" y="2612880"/>
            <a:chExt cx="7468560" cy="459720"/>
          </a:xfrm>
        </p:grpSpPr>
        <p:sp>
          <p:nvSpPr>
            <p:cNvPr id="666" name=""/>
            <p:cNvSpPr/>
            <p:nvPr/>
          </p:nvSpPr>
          <p:spPr>
            <a:xfrm>
              <a:off x="536760" y="2612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ursos na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9040" y="261288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ta tecnolog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272556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38640" y="3216240"/>
            <a:ext cx="8145720" cy="459720"/>
            <a:chOff x="638640" y="3216240"/>
            <a:chExt cx="8145720" cy="459720"/>
          </a:xfrm>
        </p:grpSpPr>
        <p:sp>
          <p:nvSpPr>
            <p:cNvPr id="670" name=""/>
            <p:cNvSpPr/>
            <p:nvPr/>
          </p:nvSpPr>
          <p:spPr>
            <a:xfrm>
              <a:off x="638640" y="321624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gran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42640" y="321624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pequeñ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62520" y="3328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85280" y="3819600"/>
            <a:ext cx="6806520" cy="496080"/>
            <a:chOff x="1385280" y="3819600"/>
            <a:chExt cx="6806520" cy="496080"/>
          </a:xfrm>
        </p:grpSpPr>
        <p:sp>
          <p:nvSpPr>
            <p:cNvPr id="674" name=""/>
            <p:cNvSpPr/>
            <p:nvPr/>
          </p:nvSpPr>
          <p:spPr>
            <a:xfrm>
              <a:off x="1385280" y="38196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9760" y="38559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rcado in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393192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451880" y="4459320"/>
            <a:ext cx="6230520" cy="496080"/>
            <a:chOff x="1451880" y="4459320"/>
            <a:chExt cx="6230520" cy="496080"/>
          </a:xfrm>
        </p:grpSpPr>
        <p:sp>
          <p:nvSpPr>
            <p:cNvPr id="678" name=""/>
            <p:cNvSpPr/>
            <p:nvPr/>
          </p:nvSpPr>
          <p:spPr>
            <a:xfrm>
              <a:off x="1451880" y="4459320"/>
              <a:ext cx="20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40840" y="4495680"/>
              <a:ext cx="204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op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520" y="457200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151280" y="609588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STE PARADIGMA COMBINA LOS CONT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V="1">
            <a:off x="0" y="0"/>
            <a:ext cx="9144000" cy="365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9a919"/>
              </a:gs>
              <a:gs pos="100000">
                <a:srgbClr val="fce9c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228600"/>
            <a:ext cx="8382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operación de tod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infraestructura física y técnic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 garantice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mpeten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94000" y="3962520"/>
            <a:ext cx="6203520" cy="2440440"/>
            <a:chOff x="1494000" y="3962520"/>
            <a:chExt cx="6203520" cy="2440440"/>
          </a:xfrm>
        </p:grpSpPr>
        <p:sp>
          <p:nvSpPr>
            <p:cNvPr id="685" name=""/>
            <p:cNvSpPr/>
            <p:nvPr/>
          </p:nvSpPr>
          <p:spPr>
            <a:xfrm>
              <a:off x="2312280" y="3962520"/>
              <a:ext cx="45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ACIÓN DE CAPITAL HUM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0160" y="4540320"/>
              <a:ext cx="39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ARROLLO TECNOLÓ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4000" y="5119560"/>
              <a:ext cx="620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FUSION DE LA INFORMÁTICA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LAS TELECOMUNICACIONES DE BAJO 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1440" y="6004080"/>
              <a:ext cx="45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NOVACIÓN EN FINANCI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690" name=""/>
            <p:cNvGrpSpPr/>
            <p:nvPr/>
          </p:nvGrpSpPr>
          <p:grpSpPr>
            <a:xfrm>
              <a:off x="2986200" y="0"/>
              <a:ext cx="6157440" cy="6858000"/>
              <a:chOff x="2986200" y="0"/>
              <a:chExt cx="6157440" cy="6858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2986200" y="0"/>
                <a:ext cx="6157440" cy="6858000"/>
                <a:chOff x="2986200" y="0"/>
                <a:chExt cx="6157440" cy="68580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591160" y="0"/>
                  <a:ext cx="3552480" cy="6858000"/>
                </a:xfrm>
                <a:prstGeom prst="rect">
                  <a:avLst/>
                </a:prstGeom>
                <a:solidFill>
                  <a:srgbClr val="7979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6200000">
                  <a:off x="868320" y="2117880"/>
                  <a:ext cx="6858000" cy="2622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979dd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91840" y="1905120"/>
                <a:ext cx="3592800" cy="37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A una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mprensión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lectiva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de largo plazo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y  de  amplio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espectr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0" y="2017800"/>
              <a:ext cx="4151160" cy="2846160"/>
            </a:xfrm>
            <a:prstGeom prst="rightArrow">
              <a:avLst>
                <a:gd name="adj1" fmla="val 50028"/>
                <a:gd name="adj2" fmla="val 3413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29401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sar de la visión coyuntural 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86680" y="781200"/>
            <a:ext cx="2004840" cy="200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8098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827520" y="3065400"/>
            <a:ext cx="1527120" cy="1527120"/>
            <a:chOff x="3827520" y="3065400"/>
            <a:chExt cx="1527120" cy="1527120"/>
          </a:xfrm>
        </p:grpSpPr>
        <p:sp>
          <p:nvSpPr>
            <p:cNvPr id="154" name=""/>
            <p:cNvSpPr/>
            <p:nvPr/>
          </p:nvSpPr>
          <p:spPr>
            <a:xfrm>
              <a:off x="3827520" y="3065400"/>
              <a:ext cx="1527120" cy="15271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9240" y="3237120"/>
              <a:ext cx="1181520" cy="118152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3600" y="3471120"/>
              <a:ext cx="714960" cy="71496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0920" y="3628800"/>
              <a:ext cx="399240" cy="39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54720" y="379260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57120" y="4403880"/>
            <a:ext cx="8399520" cy="2455560"/>
            <a:chOff x="357120" y="4403880"/>
            <a:chExt cx="8399520" cy="245556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57120" y="4403880"/>
              <a:ext cx="1929600" cy="19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7000" y="6156000"/>
              <a:ext cx="620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SON UN BLANCO M</a:t>
              </a:r>
              <a:r>
                <a:rPr b="1" i="1" lang="es-ES_tradnl" sz="40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VI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S OPORTUNIDA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NOLÓGIC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7240" y="76320"/>
            <a:ext cx="40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Pasar de las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cisiones dispers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818240" y="806400"/>
            <a:ext cx="3676320" cy="3676680"/>
            <a:chOff x="4818240" y="806400"/>
            <a:chExt cx="3676320" cy="3676680"/>
          </a:xfrm>
        </p:grpSpPr>
        <p:sp>
          <p:nvSpPr>
            <p:cNvPr id="699" name=""/>
            <p:cNvSpPr/>
            <p:nvPr/>
          </p:nvSpPr>
          <p:spPr>
            <a:xfrm>
              <a:off x="4818240" y="806400"/>
              <a:ext cx="3676320" cy="3676680"/>
            </a:xfrm>
            <a:prstGeom prst="ellipse">
              <a:avLst/>
            </a:prstGeom>
            <a:gradFill rotWithShape="0">
              <a:gsLst>
                <a:gs pos="0">
                  <a:srgbClr val="f6f6fa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43360" y="2130480"/>
              <a:ext cx="218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CONSENS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DE FUTU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76320" y="1249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AL RUMBO COM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888840" y="3797280"/>
            <a:ext cx="4767480" cy="1414800"/>
            <a:chOff x="888840" y="3797280"/>
            <a:chExt cx="4767480" cy="1414800"/>
          </a:xfrm>
        </p:grpSpPr>
        <p:sp>
          <p:nvSpPr>
            <p:cNvPr id="703" name=""/>
            <p:cNvSpPr/>
            <p:nvPr/>
          </p:nvSpPr>
          <p:spPr>
            <a:xfrm>
              <a:off x="888840" y="4205160"/>
              <a:ext cx="28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riva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306960" y="3797280"/>
              <a:ext cx="2349360" cy="1414800"/>
              <a:chOff x="3306960" y="3797280"/>
              <a:chExt cx="2349360" cy="1414800"/>
            </a:xfrm>
          </p:grpSpPr>
          <p:sp>
            <p:nvSpPr>
              <p:cNvPr id="705" name=""/>
              <p:cNvSpPr/>
              <p:nvPr/>
            </p:nvSpPr>
            <p:spPr>
              <a:xfrm flipV="1" rot="20950800">
                <a:off x="3367080" y="4332960"/>
                <a:ext cx="1501920" cy="29268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 rot="20950800">
                <a:off x="3382920" y="3994200"/>
                <a:ext cx="2196720" cy="102096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2322000" y="4160880"/>
            <a:ext cx="4773240" cy="1900440"/>
            <a:chOff x="2322000" y="4160880"/>
            <a:chExt cx="4773240" cy="1900440"/>
          </a:xfrm>
        </p:grpSpPr>
        <p:grpSp>
          <p:nvGrpSpPr>
            <p:cNvPr id="708" name=""/>
            <p:cNvGrpSpPr/>
            <p:nvPr/>
          </p:nvGrpSpPr>
          <p:grpSpPr>
            <a:xfrm>
              <a:off x="4674600" y="4160880"/>
              <a:ext cx="2420640" cy="1900440"/>
              <a:chOff x="4674600" y="4160880"/>
              <a:chExt cx="2420640" cy="1900440"/>
            </a:xfrm>
          </p:grpSpPr>
          <p:sp>
            <p:nvSpPr>
              <p:cNvPr id="709" name=""/>
              <p:cNvSpPr/>
              <p:nvPr/>
            </p:nvSpPr>
            <p:spPr>
              <a:xfrm flipV="1" rot="19993200">
                <a:off x="4777200" y="5039640"/>
                <a:ext cx="150228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19993200">
                <a:off x="4786200" y="460044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2322000" y="5103720"/>
              <a:ext cx="25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</a:t>
              </a:r>
              <a:r>
                <a:rPr b="1" lang="es-ES_tradnl" sz="3200" spc="-1" strike="noStrike">
                  <a:solidFill>
                    <a:srgbClr val="ffcc00"/>
                  </a:solidFill>
                  <a:latin typeface="Arial Narrow"/>
                </a:rPr>
                <a:t>ú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124960" y="3931920"/>
            <a:ext cx="3524040" cy="2398680"/>
            <a:chOff x="5124960" y="3931920"/>
            <a:chExt cx="3524040" cy="2398680"/>
          </a:xfrm>
        </p:grpSpPr>
        <p:grpSp>
          <p:nvGrpSpPr>
            <p:cNvPr id="713" name=""/>
            <p:cNvGrpSpPr/>
            <p:nvPr/>
          </p:nvGrpSpPr>
          <p:grpSpPr>
            <a:xfrm>
              <a:off x="6600600" y="3931920"/>
              <a:ext cx="2048400" cy="2398680"/>
              <a:chOff x="6600600" y="3931920"/>
              <a:chExt cx="2048400" cy="2398680"/>
            </a:xfrm>
          </p:grpSpPr>
          <p:sp>
            <p:nvSpPr>
              <p:cNvPr id="714" name=""/>
              <p:cNvSpPr/>
              <p:nvPr/>
            </p:nvSpPr>
            <p:spPr>
              <a:xfrm flipV="1" rot="18169800">
                <a:off x="6604560" y="5229720"/>
                <a:ext cx="150192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 rot="18169800">
                <a:off x="6526440" y="462060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5124960" y="5653080"/>
              <a:ext cx="175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ocied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101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r eso, también importan el DÓNDE y el CUÁ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9680" y="973440"/>
            <a:ext cx="8047080" cy="4393800"/>
            <a:chOff x="409680" y="973440"/>
            <a:chExt cx="8047080" cy="4393800"/>
          </a:xfrm>
        </p:grpSpPr>
        <p:sp>
          <p:nvSpPr>
            <p:cNvPr id="165" name=""/>
            <p:cNvSpPr/>
            <p:nvPr/>
          </p:nvSpPr>
          <p:spPr>
            <a:xfrm>
              <a:off x="738360" y="1582560"/>
              <a:ext cx="324792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083320"/>
              <a:ext cx="39052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Una estrategi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DECUAD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 la situació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país, empres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o industria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08480" y="1644480"/>
              <a:ext cx="324828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3560" y="2052720"/>
              <a:ext cx="277668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…</a:t>
              </a: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n un MOMENT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specífic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cambiante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contexto mund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190680" y="973440"/>
              <a:ext cx="2856600" cy="1567440"/>
              <a:chOff x="3190680" y="973440"/>
              <a:chExt cx="2856600" cy="1567440"/>
            </a:xfrm>
          </p:grpSpPr>
          <p:sp>
            <p:nvSpPr>
              <p:cNvPr id="170" name=""/>
              <p:cNvSpPr/>
              <p:nvPr/>
            </p:nvSpPr>
            <p:spPr>
              <a:xfrm flipH="1" flipV="1" rot="10968600">
                <a:off x="3210840" y="1599480"/>
                <a:ext cx="1864440" cy="3776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 rot="10968600">
                <a:off x="5541120" y="1113840"/>
                <a:ext cx="478080" cy="114804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 rot="10968600">
                <a:off x="4563360" y="2057760"/>
                <a:ext cx="1069200" cy="4572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 rot="10968600">
                <a:off x="3221280" y="1038960"/>
                <a:ext cx="2728080" cy="131400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35600" y="3987360"/>
              <a:ext cx="2587320" cy="1379880"/>
              <a:chOff x="3135600" y="3987360"/>
              <a:chExt cx="2587320" cy="1379880"/>
            </a:xfrm>
          </p:grpSpPr>
          <p:sp>
            <p:nvSpPr>
              <p:cNvPr id="175" name=""/>
              <p:cNvSpPr/>
              <p:nvPr/>
            </p:nvSpPr>
            <p:spPr>
              <a:xfrm rot="10892400">
                <a:off x="4009320" y="4465080"/>
                <a:ext cx="1704960" cy="34380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892400">
                <a:off x="3149640" y="4246560"/>
                <a:ext cx="437040" cy="105048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92400">
                <a:off x="3494520" y="4000320"/>
                <a:ext cx="978120" cy="41904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92400">
                <a:off x="3210840" y="4132080"/>
                <a:ext cx="2496240" cy="120168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6320" y="56736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CRECIMIENTO SOSTENIDO EXIGE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rategias dinámicas anticipando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f0f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63880" y="457200"/>
            <a:ext cx="5016240" cy="4697280"/>
            <a:chOff x="2063880" y="457200"/>
            <a:chExt cx="5016240" cy="4697280"/>
          </a:xfrm>
        </p:grpSpPr>
        <p:sp>
          <p:nvSpPr>
            <p:cNvPr id="181" name=""/>
            <p:cNvSpPr/>
            <p:nvPr/>
          </p:nvSpPr>
          <p:spPr>
            <a:xfrm>
              <a:off x="2063880" y="457200"/>
              <a:ext cx="5016240" cy="4697280"/>
            </a:xfrm>
            <a:prstGeom prst="ellipse">
              <a:avLst/>
            </a:prstGeom>
            <a:gradFill rotWithShape="0">
              <a:gsLst>
                <a:gs pos="0">
                  <a:srgbClr val="294ea9"/>
                </a:gs>
                <a:gs pos="100000">
                  <a:srgbClr val="a3b3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4560" y="982800"/>
              <a:ext cx="242100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¿EN QUÉ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BASARNOS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PARA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ATISBAR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EL FUTURO?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50800" y="3733920"/>
            <a:ext cx="84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ad35"/>
                </a:solidFill>
                <a:latin typeface="Arial Black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ESTUDIO DE LAS REVOLUCIONES TECNOLÓGICAS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SU PROCESO DE ASIM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52880" y="2438280"/>
            <a:ext cx="3810240" cy="3637080"/>
            <a:chOff x="4952880" y="2438280"/>
            <a:chExt cx="3810240" cy="3637080"/>
          </a:xfrm>
        </p:grpSpPr>
        <p:sp>
          <p:nvSpPr>
            <p:cNvPr id="186" name=""/>
            <p:cNvSpPr/>
            <p:nvPr/>
          </p:nvSpPr>
          <p:spPr>
            <a:xfrm>
              <a:off x="4952880" y="2438280"/>
              <a:ext cx="3810240" cy="3637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ad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9840" y="2879640"/>
              <a:ext cx="3172680" cy="24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on cada revolución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mbia la lógica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innovación y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Y cada paradigma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e mantiene po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más de medio sig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55320" y="1371600"/>
            <a:ext cx="6601320" cy="825480"/>
            <a:chOff x="1255320" y="1371600"/>
            <a:chExt cx="6601320" cy="825480"/>
          </a:xfrm>
        </p:grpSpPr>
        <p:sp>
          <p:nvSpPr>
            <p:cNvPr id="189" name=""/>
            <p:cNvSpPr/>
            <p:nvPr/>
          </p:nvSpPr>
          <p:spPr>
            <a:xfrm>
              <a:off x="583344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5532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HISTÓ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" y="2438280"/>
            <a:ext cx="3809880" cy="3657600"/>
            <a:chOff x="457200" y="2438280"/>
            <a:chExt cx="3809880" cy="3657600"/>
          </a:xfrm>
        </p:grpSpPr>
        <p:sp>
          <p:nvSpPr>
            <p:cNvPr id="192" name=""/>
            <p:cNvSpPr/>
            <p:nvPr/>
          </p:nvSpPr>
          <p:spPr>
            <a:xfrm>
              <a:off x="457200" y="2438280"/>
              <a:ext cx="3809880" cy="3657600"/>
            </a:xfrm>
            <a:prstGeom prst="rect">
              <a:avLst/>
            </a:prstGeom>
            <a:gradFill rotWithShape="0">
              <a:gsLst>
                <a:gs pos="0">
                  <a:srgbClr val="ffad35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480" y="2716200"/>
              <a:ext cx="3240000" cy="26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357120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revolución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cada 40-60 añ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secuenci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volutiv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n fases de 8-12 añ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(climas de negoci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distint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195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200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205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416320" y="457200"/>
            <a:ext cx="4212720" cy="1023840"/>
            <a:chOff x="2416320" y="457200"/>
            <a:chExt cx="4212720" cy="1023840"/>
          </a:xfrm>
        </p:grpSpPr>
        <p:grpSp>
          <p:nvGrpSpPr>
            <p:cNvPr id="210" name=""/>
            <p:cNvGrpSpPr/>
            <p:nvPr/>
          </p:nvGrpSpPr>
          <p:grpSpPr>
            <a:xfrm>
              <a:off x="2695680" y="457200"/>
              <a:ext cx="3933360" cy="1023840"/>
              <a:chOff x="2695680" y="457200"/>
              <a:chExt cx="3933360" cy="1023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137400" y="550800"/>
                <a:ext cx="3491640" cy="838080"/>
              </a:xfrm>
              <a:prstGeom prst="rightArrow">
                <a:avLst>
                  <a:gd name="adj1" fmla="val 63778"/>
                  <a:gd name="adj2" fmla="val 29299"/>
                </a:avLst>
              </a:prstGeom>
              <a:gradFill rotWithShape="0">
                <a:gsLst>
                  <a:gs pos="0">
                    <a:srgbClr val="a864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57200"/>
                <a:ext cx="934560" cy="102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86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17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06680" y="793800"/>
                <a:ext cx="2923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eaeaea"/>
                    </a:solidFill>
                    <a:latin typeface="Arial Narrow"/>
                  </a:rPr>
                  <a:t>     ‘</a:t>
                </a:r>
                <a:r>
                  <a:rPr b="1" lang="es-ES_tradnl" sz="1700" spc="-1" strike="noStrike">
                    <a:solidFill>
                      <a:srgbClr val="eaeaea"/>
                    </a:solidFill>
                    <a:latin typeface="Arial Narrow"/>
                  </a:rPr>
                  <a:t>La ‘Revolución Industrial’</a:t>
                </a:r>
                <a:r>
                  <a:rPr b="1" lang="es-ES" sz="1700" spc="-1" strike="noStrike">
                    <a:solidFill>
                      <a:srgbClr val="eaeaea"/>
                    </a:solidFill>
                    <a:latin typeface="Arial Narrow"/>
                  </a:rPr>
                  <a:t>	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2416320" y="665280"/>
              <a:ext cx="1317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575080" y="67932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1720" y="1125360"/>
            <a:ext cx="8163720" cy="1707840"/>
            <a:chOff x="531720" y="1125360"/>
            <a:chExt cx="8163720" cy="1707840"/>
          </a:xfrm>
        </p:grpSpPr>
        <p:grpSp>
          <p:nvGrpSpPr>
            <p:cNvPr id="217" name=""/>
            <p:cNvGrpSpPr/>
            <p:nvPr/>
          </p:nvGrpSpPr>
          <p:grpSpPr>
            <a:xfrm>
              <a:off x="531720" y="1125360"/>
              <a:ext cx="8163720" cy="1707840"/>
              <a:chOff x="531720" y="1125360"/>
              <a:chExt cx="8163720" cy="1707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83480" y="1128600"/>
                <a:ext cx="4777560" cy="1133280"/>
                <a:chOff x="2283480" y="1128600"/>
                <a:chExt cx="4777560" cy="1133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68400" y="1199880"/>
                  <a:ext cx="4292640" cy="990720"/>
                </a:xfrm>
                <a:prstGeom prst="rightArrow">
                  <a:avLst>
                    <a:gd name="adj1" fmla="val 63778"/>
                    <a:gd name="adj2" fmla="val 30470"/>
                  </a:avLst>
                </a:prstGeom>
                <a:gradFill rotWithShape="0">
                  <a:gsLst>
                    <a:gs pos="0">
                      <a:srgbClr val="d27d00"/>
                    </a:gs>
                    <a:gs pos="100000">
                      <a:srgbClr val="29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3480" y="1128600"/>
                  <a:ext cx="1027440" cy="113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1800"/>
                    </a:gs>
                    <a:gs pos="100000">
                      <a:srgbClr val="d27d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dddddd"/>
                      </a:solidFill>
                      <a:latin typeface="Arial"/>
                    </a:rPr>
                    <a:t>182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94600" y="1412640"/>
                  <a:ext cx="4176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dddddd"/>
                      </a:solidFill>
                      <a:latin typeface="Arial Narrow"/>
                    </a:rPr>
                    <a:t>           </a:t>
                  </a: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Época del hierro, la máquina de vapor </a:t>
                  </a:r>
                  <a:br>
                    <a:rPr sz="1800"/>
                  </a:b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y el ferrocarril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 rot="16200000">
                <a:off x="116280" y="1541520"/>
                <a:ext cx="1290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Big-Ba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7611480" y="1749240"/>
                <a:ext cx="1707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Agotami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1949400" y="1373040"/>
              <a:ext cx="16200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143080" y="1390680"/>
              <a:ext cx="12060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73120" y="1900080"/>
            <a:ext cx="5994000" cy="1262160"/>
            <a:chOff x="1473120" y="1900080"/>
            <a:chExt cx="5994000" cy="1262160"/>
          </a:xfrm>
        </p:grpSpPr>
        <p:grpSp>
          <p:nvGrpSpPr>
            <p:cNvPr id="227" name=""/>
            <p:cNvGrpSpPr/>
            <p:nvPr/>
          </p:nvGrpSpPr>
          <p:grpSpPr>
            <a:xfrm>
              <a:off x="1828800" y="1900080"/>
              <a:ext cx="5638320" cy="1262160"/>
              <a:chOff x="1828800" y="1900080"/>
              <a:chExt cx="5638320" cy="12621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0600" y="1987560"/>
                <a:ext cx="5096520" cy="1089000"/>
              </a:xfrm>
              <a:prstGeom prst="rightArrow">
                <a:avLst>
                  <a:gd name="adj1" fmla="val 63778"/>
                  <a:gd name="adj2" fmla="val 32912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5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28800" y="1900080"/>
                <a:ext cx="1118880" cy="1262160"/>
              </a:xfrm>
              <a:prstGeom prst="ellipse">
                <a:avLst/>
              </a:prstGeom>
              <a:gradFill rotWithShape="0">
                <a:gsLst>
                  <a:gs pos="0">
                    <a:srgbClr val="653c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f5f5f"/>
                    </a:solidFill>
                    <a:latin typeface="Arial"/>
                  </a:rPr>
                  <a:t>18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3360" y="2340000"/>
                <a:ext cx="4126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      </a:t>
                </a: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Época del acero y la ingeniería pesad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 txBox="1"/>
            <p:nvPr/>
          </p:nvSpPr>
          <p:spPr>
            <a:xfrm>
              <a:off x="1473120" y="2211480"/>
              <a:ext cx="1620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66800" y="2228760"/>
              <a:ext cx="120600" cy="20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-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INCO REVOLUCIONES TECNOLÓGICAS EN 230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30240" y="2751120"/>
            <a:ext cx="6994080" cy="1398600"/>
            <a:chOff x="930240" y="2751120"/>
            <a:chExt cx="6994080" cy="1398600"/>
          </a:xfrm>
        </p:grpSpPr>
        <p:sp>
          <p:nvSpPr>
            <p:cNvPr id="235" name=""/>
            <p:cNvSpPr txBox="1"/>
            <p:nvPr/>
          </p:nvSpPr>
          <p:spPr>
            <a:xfrm>
              <a:off x="1158840" y="3165480"/>
              <a:ext cx="1429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371600" y="2751120"/>
              <a:ext cx="6552720" cy="1398600"/>
              <a:chOff x="1371600" y="2751120"/>
              <a:chExt cx="6552720" cy="1398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52640" y="2852640"/>
                <a:ext cx="5971680" cy="1197000"/>
              </a:xfrm>
              <a:prstGeom prst="rightArrow">
                <a:avLst>
                  <a:gd name="adj1" fmla="val 63778"/>
                  <a:gd name="adj2" fmla="val 35084"/>
                </a:avLst>
              </a:prstGeom>
              <a:gradFill rotWithShape="0">
                <a:gsLst>
                  <a:gs pos="0">
                    <a:srgbClr val="feb64b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2751120"/>
                <a:ext cx="12132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b64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4d4d4d"/>
                    </a:solidFill>
                    <a:latin typeface="Arial"/>
                  </a:rPr>
                  <a:t>1908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41520" y="3130560"/>
                <a:ext cx="528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Época del petróleo</a:t>
                </a:r>
                <a:r>
                  <a:rPr b="1" lang="es-ES" sz="2000" spc="-1" strike="noStrike">
                    <a:solidFill>
                      <a:srgbClr val="4d4d4d"/>
                    </a:solidFill>
                    <a:latin typeface="Arial Narrow"/>
                  </a:rPr>
                  <a:t>, </a:t>
                </a: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el automóvil 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y la producción en m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 txBox="1"/>
            <p:nvPr/>
          </p:nvSpPr>
          <p:spPr>
            <a:xfrm>
              <a:off x="930240" y="3144960"/>
              <a:ext cx="19044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20840" y="3695760"/>
            <a:ext cx="8113680" cy="1552320"/>
            <a:chOff x="420840" y="3695760"/>
            <a:chExt cx="8113680" cy="1552320"/>
          </a:xfrm>
        </p:grpSpPr>
        <p:grpSp>
          <p:nvGrpSpPr>
            <p:cNvPr id="242" name=""/>
            <p:cNvGrpSpPr/>
            <p:nvPr/>
          </p:nvGrpSpPr>
          <p:grpSpPr>
            <a:xfrm>
              <a:off x="838080" y="3695760"/>
              <a:ext cx="7696440" cy="1552320"/>
              <a:chOff x="838080" y="3695760"/>
              <a:chExt cx="7696440" cy="1552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546200" y="3824280"/>
                <a:ext cx="6988320" cy="1295280"/>
              </a:xfrm>
              <a:prstGeom prst="rightArrow">
                <a:avLst>
                  <a:gd name="adj1" fmla="val 63778"/>
                  <a:gd name="adj2" fmla="val 37941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79400" y="3824280"/>
                <a:ext cx="3594240" cy="1295280"/>
              </a:xfrm>
              <a:prstGeom prst="rightArrow">
                <a:avLst>
                  <a:gd name="adj1" fmla="val 63778"/>
                  <a:gd name="adj2" fmla="val 19514"/>
                </a:avLst>
              </a:prstGeom>
              <a:gradFill rotWithShape="0">
                <a:gsLst>
                  <a:gs pos="0">
                    <a:srgbClr val="fecb7e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82120" y="4270320"/>
                <a:ext cx="547200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 Narrow"/>
                  </a:rPr>
                  <a:t>Época de la informática y las  </a:t>
                </a:r>
                <a:r>
                  <a:rPr b="1" lang="en-US" sz="2100" spc="-1" strike="noStrike">
                    <a:solidFill>
                      <a:srgbClr val="ffffff"/>
                    </a:solidFill>
                    <a:latin typeface="Arial Narrow"/>
                  </a:rPr>
                  <a:t>Telecomunicacione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080" y="3695760"/>
                <a:ext cx="1355760" cy="15523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cb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7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420840" y="4173480"/>
              <a:ext cx="2044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720" y="4195800"/>
              <a:ext cx="154080" cy="26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6120" y="4829040"/>
            <a:ext cx="8867880" cy="1552680"/>
            <a:chOff x="276120" y="4829040"/>
            <a:chExt cx="8867880" cy="1552680"/>
          </a:xfrm>
        </p:grpSpPr>
        <p:sp>
          <p:nvSpPr>
            <p:cNvPr id="250" name=""/>
            <p:cNvSpPr/>
            <p:nvPr/>
          </p:nvSpPr>
          <p:spPr>
            <a:xfrm>
              <a:off x="1950480" y="5315040"/>
              <a:ext cx="6840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 Narrow"/>
                </a:rPr>
                <a:t>¿Época de biotecnología, nanotecnología, bioelectrónic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120" y="4829040"/>
              <a:ext cx="1552680" cy="1552680"/>
            </a:xfrm>
            <a:prstGeom prst="ellipse">
              <a:avLst/>
            </a:prstGeom>
            <a:gradFill rotWithShape="0">
              <a:gsLst>
                <a:gs pos="0">
                  <a:srgbClr val="feedd4"/>
                </a:gs>
                <a:gs pos="100000">
                  <a:srgbClr val="ffb241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4919760"/>
              <a:ext cx="7467480" cy="1371600"/>
            </a:xfrm>
            <a:custGeom>
              <a:avLst/>
              <a:gdLst/>
              <a:ahLst/>
              <a:rect l="l" t="t" r="r" b="b"/>
              <a:pathLst>
                <a:path w="5097" h="864">
                  <a:moveTo>
                    <a:pt x="48" y="672"/>
                  </a:moveTo>
                  <a:lnTo>
                    <a:pt x="4848" y="672"/>
                  </a:lnTo>
                  <a:lnTo>
                    <a:pt x="4848" y="864"/>
                  </a:lnTo>
                  <a:lnTo>
                    <a:pt x="5097" y="432"/>
                  </a:lnTo>
                  <a:lnTo>
                    <a:pt x="4847" y="0"/>
                  </a:lnTo>
                  <a:lnTo>
                    <a:pt x="4847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25760" y="6381720"/>
            <a:ext cx="8451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UN CONJUNTO DISTINTO DE OPORTUNIDADES CADA MEDIO SI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b3600"/>
                </a:gs>
                <a:gs pos="50000">
                  <a:srgbClr val="ff9900"/>
                </a:gs>
                <a:gs pos="100000">
                  <a:srgbClr val="5b3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6296760"/>
              <a:ext cx="8001000" cy="484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7c7cd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CAMBIO ESTRUCTURAL Y NUEVO TEJIDO PRODUCTIV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0600" y="3956040"/>
            <a:ext cx="8429400" cy="2216160"/>
            <a:chOff x="390600" y="3956040"/>
            <a:chExt cx="8429400" cy="2216160"/>
          </a:xfrm>
        </p:grpSpPr>
        <p:sp>
          <p:nvSpPr>
            <p:cNvPr id="258" name=""/>
            <p:cNvSpPr/>
            <p:nvPr/>
          </p:nvSpPr>
          <p:spPr>
            <a:xfrm>
              <a:off x="419040" y="3956040"/>
              <a:ext cx="8400960" cy="22161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0600" y="5467320"/>
              <a:ext cx="841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Salto cuántico en productividad potencial en toda la economí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57240" y="5937120"/>
            <a:ext cx="1836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08400" y="5937120"/>
            <a:ext cx="2792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47520"/>
            <a:ext cx="914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OBLE CARÁCTER DE CADA REVOLUCIÓN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8240" y="1190520"/>
            <a:ext cx="3311640" cy="4051440"/>
            <a:chOff x="768240" y="1190520"/>
            <a:chExt cx="3311640" cy="4051440"/>
          </a:xfrm>
        </p:grpSpPr>
        <p:sp>
          <p:nvSpPr>
            <p:cNvPr id="264" name=""/>
            <p:cNvSpPr/>
            <p:nvPr/>
          </p:nvSpPr>
          <p:spPr>
            <a:xfrm>
              <a:off x="768240" y="1190520"/>
              <a:ext cx="33116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4960" y="1382760"/>
              <a:ext cx="3236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PRODUCTOS, INDUSTRI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E INFRAESTRUCTUR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 NUEV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6200000">
              <a:off x="2182320" y="2351880"/>
              <a:ext cx="47952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12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74760" y="3730680"/>
              <a:ext cx="2297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ESPECTA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 INDUSTR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Y EMPRESA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NUE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1208160"/>
            <a:ext cx="4448160" cy="1350720"/>
            <a:chOff x="4191120" y="1208160"/>
            <a:chExt cx="4448160" cy="1350720"/>
          </a:xfrm>
        </p:grpSpPr>
        <p:sp>
          <p:nvSpPr>
            <p:cNvPr id="270" name=""/>
            <p:cNvSpPr/>
            <p:nvPr/>
          </p:nvSpPr>
          <p:spPr>
            <a:xfrm>
              <a:off x="5165640" y="1208160"/>
              <a:ext cx="3367080" cy="13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8440" y="1377720"/>
              <a:ext cx="339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TECNOLOGÍAS GENÉRIC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Y NUEVOS MODELOS ORGANIZ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1768320"/>
              <a:ext cx="914400" cy="228240"/>
            </a:xfrm>
            <a:prstGeom prst="leftRightArrow">
              <a:avLst>
                <a:gd name="adj1" fmla="val 50000"/>
                <a:gd name="adj2" fmla="val 104553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2520" y="2619360"/>
            <a:ext cx="4029120" cy="2622600"/>
            <a:chOff x="3962520" y="2619360"/>
            <a:chExt cx="4029120" cy="2622600"/>
          </a:xfrm>
        </p:grpSpPr>
        <p:sp>
          <p:nvSpPr>
            <p:cNvPr id="274" name=""/>
            <p:cNvSpPr/>
            <p:nvPr/>
          </p:nvSpPr>
          <p:spPr>
            <a:xfrm>
              <a:off x="3962520" y="4194000"/>
              <a:ext cx="1447560" cy="380880"/>
            </a:xfrm>
            <a:prstGeom prst="leftRightArrow">
              <a:avLst>
                <a:gd name="adj1" fmla="val 50000"/>
                <a:gd name="adj2" fmla="val 9918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56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3740040"/>
              <a:ext cx="1904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MODER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l APARATO PRODUCTIV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6608520" y="2313720"/>
              <a:ext cx="47916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4960" y="77616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S MOTORES D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1800" y="77616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 PARADIGMA TECNO-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5:24:16Z</dcterms:created>
  <dc:creator>carlota</dc:creator>
  <dc:description/>
  <dc:language>en-US</dc:language>
  <cp:lastModifiedBy>Jose Fernandez</cp:lastModifiedBy>
  <dcterms:modified xsi:type="dcterms:W3CDTF">2004-07-29T17:09:16Z</dcterms:modified>
  <cp:revision>19</cp:revision>
  <dc:subject/>
  <dc:title>Slide 1</dc:title>
</cp:coreProperties>
</file>