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151D-1369-42D4-9509-A8B10E59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F44-5212-4F4B-BE8B-17848752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6C8-0AF3-4519-91C2-21477A3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08F-7884-4F23-B057-B3343EB0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47E-879A-4035-A203-96BF6EE3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A72-BBA2-4704-94C1-05846CD3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505-BBAA-4B85-8201-5EFA1AB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9787-E85F-4D51-B5EB-BDD1A27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D629-828C-40CE-ADB7-91E45A2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381-5A59-473E-98AD-366EBBC8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D57F-BC4D-46FC-B296-52175D20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88B6-9DE4-4CDE-B9A2-9F92A75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62D-B058-4324-9844-6E219586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ECA9-814B-44C9-B0BE-9B433CA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C220-EFF5-4438-B090-37CCE3A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536-5E81-4EC3-9D98-888824B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7FF-FBCB-44A9-B8C3-7562ADFB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B81-7F8B-4D79-B4F2-6AE7B1E8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F72D-FD39-4C2B-8A25-8A505389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80B6-3A88-41C4-96F3-CC5BB17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C5B9-8A83-4850-A861-E2C2256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F858-0650-45B9-91CE-5496D080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1709-F2D0-4064-80E3-373DE8D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5B5-C97C-4A46-999C-B9C430CC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8CEB-A4E1-4134-84F9-664DD7C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DCDB-0C93-43A4-8FDA-72B0CF2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D00A-71F6-4B07-86A4-F23D2EF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B996-CDA5-4AFF-A2C1-66B1B3A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A517-D136-43EF-AE88-E2823E3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8F28-F737-4AD9-935A-5BAFB09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A03A-AE0E-4511-8A6B-3693E5FC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AE6-BC42-40DC-99B7-4ACDB795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884-23BE-413C-9F45-A90FD3E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1E7-A471-47E4-905C-A329819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115-DE10-432C-9DEA-3425D72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5D9-25ED-4E32-99B6-2002D64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DD3-E63D-44CB-9642-3BD4E24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399-8F23-434E-A7EA-9A06538434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E4E-E8BC-4931-8EA2-EF0BC5D84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D81-8CE6-48F6-8D11-5B1AD609F6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Jose Fernandez</cp:lastModifiedBy>
  <dcterms:modified xsi:type="dcterms:W3CDTF">2004-07-29T17:09:16Z</dcterms:modified>
  <cp:revision>19</cp:revision>
  <dc:subject/>
  <dc:title>Slide 1</dc:title>
</cp:coreProperties>
</file>