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295F-B46A-47F1-884A-E1558E09D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56F-1D6A-4C2E-8041-D77256DC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C62-AC73-4FAC-8DF7-1F057137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358-8836-42B0-B461-155C69D3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D01-AEA8-4925-A335-DD80412E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B429-7201-40CE-99FC-F5468018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D44-62F2-4A59-B470-3EFD5EB0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82F7-ED57-4D7E-8DE4-3F607029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D6E6-3B5D-4A68-A0E4-070C20D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9181-9464-4AF5-A568-6E884F58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6A91-9DB8-48D6-A387-B8328751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DA7E-C618-4FB4-9FFF-7FD28A54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130-1B06-4D00-9D9D-3CC25D4A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0B4D-748A-4A06-B5E1-9ABD4609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38CA-A29E-45B4-AD89-DDD30A57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6234-B90D-48B4-A7F7-1EBE05FA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3BF4-5575-4E42-B8FE-BA55E10B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CE4B-5B14-46C3-B8FB-A5ABD188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4C21-3EA7-403A-ABC0-EC4CBA54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85CD-A0BA-439B-8CDA-8476A1B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CB38-B596-48B3-984F-FE28B629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EC9B-8905-46EF-9EC7-2902B22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04C6-BDF1-493A-925C-9604F1A7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00A-5E78-42A3-A6B0-AC54A602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4A69-6B71-4AA9-BE36-D2ECA4C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DF0D-B6E7-4295-B2D1-F90DE18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D488-A842-4DBD-822E-4EA54DCF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0321-6739-44F5-9C24-56584329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8DD6-8E9E-4250-9552-1A1755E7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46FC8-3EAA-43AD-8A52-5824A5D1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72ADA-0682-4405-9F4E-2FEC9ADF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A39-49B6-451E-86BA-5FE2A9BF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F74-25F8-41A3-8E1F-15B8CC33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3BD-997B-4F25-BC78-8342B2D8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E04-4DDE-4542-B209-F2940B2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8B5-C163-47DD-9703-564B86D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B91-D98A-403E-8084-6F4114C5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997A-350D-40D0-9CF3-79383B34C2A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D900-3673-4F46-9008-427A9D888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F45-3D9A-4F99-80DB-22555C70EFA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Jose Fernandez</cp:lastModifiedBy>
  <dcterms:modified xsi:type="dcterms:W3CDTF">2004-07-29T17:09:16Z</dcterms:modified>
  <cp:revision>19</cp:revision>
  <dc:subject/>
  <dc:title>Slide 1</dc:title>
</cp:coreProperties>
</file>