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78A-C544-4900-AE25-1A00927C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175-03F7-401E-981D-F48C4EE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91E-7966-420C-909B-E909035D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98D-7F1F-49B9-85BC-D7C43623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BCB8-019A-412A-B92A-7ECA657F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88F5-57FA-4712-9E6E-C85C627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2F7-70F6-4CEA-876D-C434EA3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9B8F-C640-4DBC-BAA9-B187848F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D71-10DE-42CF-8A92-5361197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F2B3-31B8-4B57-995D-0BC5226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081D-CD8B-46D4-A86F-ED612D1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888-5B05-4251-98DA-EC2B186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E2EE-22AC-41A3-9A3D-47FC18A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0D3F-4E3D-4E5E-94F9-CCA5077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D4D9-C3C1-4DC1-8D99-B86E8B4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A332-462C-4A8D-A21C-39A4F513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5773-C16B-4011-9E29-BC09CED4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A1C-508C-45C5-A066-8E93D32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75E-24A1-4D4A-AB83-81E729D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9C3-B695-4190-888D-EC86E00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2EB-DA80-4F99-A608-78A05B5D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F81-B62F-4909-B4B0-2213425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D15-CE1A-401B-B8AC-E3FBF726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889-7B41-4873-971E-5A25028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9EF6-AA68-4DE0-A855-3833E8F16765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76A6-77CE-4AFA-813B-7077000FA0A3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Reconfigurando la Red de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utora: Verna Alle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Grupo: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Rubén Hidalg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René Pedraz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Sergio Zapat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a de Servicios, Ingres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y Conocimient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E-comer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Estrategias de r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Conocimiento del intercambio de val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Beneficios intangibles (lealtad y reconocimiento de marc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a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Manufacturador de ropa con marketing gratuito a distribuidores y otros manufactu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Por qu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Datos de vent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lacion usuario f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teligencia del mercad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troalimentacion de consumid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teligencia competitiv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Otros cas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Linux(comunida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Mp3(distribuci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des de valor son mas que cadena de valo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Conocimiento e intangibles son medio de cambi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configurar la Red del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La pregunta clave del negocio en la economía del conocimiento es ¿Cómo se crea valor?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La respuesta tradicional a esa pregunta es a través de la cadena del valor !!!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Un desafío estratégico importante del negocio hoy, es reconfigurar la cadena de valor a una estructura más fluída de la red de valo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El comercio electrónico esta evolucionando  hacia   los   e-webs y business web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0" y="0"/>
                    <a:ext cx="9144000" cy="6858000"/>
                    <a:chOff x="0" y="0"/>
                    <a:chExt cx="9144000" cy="6858000"/>
                  </a:xfrm>
                </p:grpSpPr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1752480" y="533520"/>
                      <a:ext cx="5791320" cy="1295280"/>
                    </a:xfrm>
                    <a:prstGeom prst="rect">
                      <a:avLst/>
                    </a:prstGeom>
                    <a:solidFill>
                      <a:srgbClr val="0000cc"/>
                    </a:solidFill>
                    <a:ln w="9360">
                      <a:solidFill>
                        <a:srgbClr val="00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7010280" y="5943600"/>
                    <a:ext cx="1905120" cy="7621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ec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762120" y="5715000"/>
                  <a:ext cx="1981080" cy="9144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762120" y="5715000"/>
                <a:ext cx="198108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10280" y="5943600"/>
                <a:ext cx="1905120" cy="762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76120" y="281160"/>
              <a:ext cx="8481960" cy="1295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1585800"/>
              <a:ext cx="5791320" cy="2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240" y="29520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00"/>
                  </a:solidFill>
                  <a:latin typeface="Bangle"/>
                </a:rPr>
                <a:t>De la Cadena del Valor hacia la Red de Valor</a:t>
              </a:r>
              <a:endParaRPr b="0" lang="en-US" sz="3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as Tres Monedas del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os Bienes,Servicios y los ingresos (GSR)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Conocimiento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Tahoma"/>
              </a:rPr>
              <a:t>Beneficios intangibles</a:t>
            </a:r>
            <a:r>
              <a:rPr b="0" lang="es-MX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a de valores de Intercamb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93800" y="1657440"/>
            <a:ext cx="6187680" cy="3297240"/>
            <a:chOff x="1693800" y="1657440"/>
            <a:chExt cx="6187680" cy="3297240"/>
          </a:xfrm>
        </p:grpSpPr>
        <p:sp>
          <p:nvSpPr>
            <p:cNvPr id="107" name="_s5130"/>
            <p:cNvSpPr/>
            <p:nvPr/>
          </p:nvSpPr>
          <p:spPr>
            <a:xfrm>
              <a:off x="3951360" y="2243160"/>
              <a:ext cx="1672920" cy="1674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46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_s5131"/>
            <p:cNvSpPr/>
            <p:nvPr/>
          </p:nvSpPr>
          <p:spPr>
            <a:xfrm>
              <a:off x="3951360" y="165744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_s5132"/>
            <p:cNvSpPr/>
            <p:nvPr/>
          </p:nvSpPr>
          <p:spPr>
            <a:xfrm>
              <a:off x="4502160" y="3197160"/>
              <a:ext cx="1672920" cy="167508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46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6208560" y="453564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_s5134"/>
            <p:cNvSpPr/>
            <p:nvPr/>
          </p:nvSpPr>
          <p:spPr>
            <a:xfrm>
              <a:off x="3400200" y="3197160"/>
              <a:ext cx="1672920" cy="1675080"/>
            </a:xfrm>
            <a:prstGeom prst="ellipse">
              <a:avLst/>
            </a:prstGeom>
            <a:solidFill>
              <a:srgbClr val="0066ff">
                <a:alpha val="50000"/>
              </a:srgbClr>
            </a:solidFill>
            <a:ln w="46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2" name="_s5135"/>
            <p:cNvSpPr/>
            <p:nvPr/>
          </p:nvSpPr>
          <p:spPr>
            <a:xfrm>
              <a:off x="1693800" y="453708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685800" y="1828800"/>
          <a:ext cx="7632720" cy="4708440"/>
        </p:xfrm>
        <a:graphic>
          <a:graphicData uri="http://schemas.openxmlformats.org/drawingml/2006/table">
            <a:tbl>
              <a:tblPr/>
              <a:tblGrid>
                <a:gridCol w="2016000"/>
                <a:gridCol w="2951280"/>
                <a:gridCol w="266544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ecanism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lor provist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lor recibid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rupo de discusión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n-line interactiv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ienes, Servici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scusión moderad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spuesta a las pregunta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Tarifa de suscripció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ocimient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oticias focalizadas y personalizadas, ofertas basadas en preferencias del usuari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ocimient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eedback para desarrollo de product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atos de uso de client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0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eneficios intangibl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Sentimiento de comunida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ltad de client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0" y="47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Mapeando el valor de intercamb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81040" y="1523880"/>
            <a:ext cx="7129440" cy="437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360" y="1700280"/>
            <a:ext cx="3435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oductos y Servicios, e Ingreso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160" y="1982880"/>
            <a:ext cx="170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600" y="2341440"/>
            <a:ext cx="2608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neficios intangib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Mapeando la Red de Valo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4674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etodología aplicada a Proyect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Descripción Proyecto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ff66"/>
                </a:solidFill>
                <a:latin typeface="Tahoma"/>
              </a:rPr>
              <a:t>Rediseño + Sistema que apoye la gestión de licitación y contratación de servicios externos del Hospital Luis Tisné a través de: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Repositorio integrado de información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Apoyo en la creación de bases de licitación y contratos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Incorporación de herramienta para testear nivel de satisfacción de usuarios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a de Servicios e Ingres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197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3:18:25Z</dcterms:created>
  <dc:creator>Sergio Zapata</dc:creator>
  <dc:description/>
  <dc:language>en-US</dc:language>
  <cp:lastModifiedBy>CTAD - Mecesup3</cp:lastModifiedBy>
  <dcterms:modified xsi:type="dcterms:W3CDTF">2004-09-03T15:19:45Z</dcterms:modified>
  <cp:revision>19</cp:revision>
  <dc:subject/>
  <dc:title>Reconfigurar la Red del Valor</dc:title>
</cp:coreProperties>
</file>