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1BD-35A6-4D8F-967D-79E956D8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2F7-617B-425B-9E97-77581696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667-FB6E-4332-AE15-6F07BD97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9A6-6624-4830-B99B-E60C60EA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7F7-0E3A-4127-9364-04876A50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2E8-7254-4D5C-BA3A-26784129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BE9-4DE2-41D9-B8BA-18A62F4A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D50-74A8-47C0-8F8B-BE5CEFCC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4CA-A390-497F-9F76-A10D9C47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40F-C385-44A7-BE3E-88B4546E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7A5-5198-4452-9B90-192C9AD7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E76-3E82-48BE-A8B1-463E730E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DF76-EF48-48CA-878C-5D8B13238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ntiago, 12 de noviembre d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fesora: Alejandra Miz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tor: Alejandro Ferr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de 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Fundamentos de la intervención del Estado en la Economí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políticas redistribu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cción de desequilib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líticas de subsidios sec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g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La regulación del Estado: su justificación y sus lí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mer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 imperf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de trans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lanteamientos de la escuela positiva o el cuestionamiento a los méritos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iesgo de cap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asimetrías de información en contr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en controla o gobierna al regulador? ¿A qué señales respon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nomía o dependencia polític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¿Cómo medir la calidad de la regul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tin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osto efectividad de la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decuación a los estándar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ficiencia del mercado regulado y la satisfacción de los consum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-4813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La autor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s posibles de la autor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diciones para su aplicación exitosa y efic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dudas acerca de la autorregulación y su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álisis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9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5. La regulación de la libr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96720" indent="-453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Porqué propiciar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co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institucionalidad de la libre competencia en Ch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Tribunal de Defensa de la Libre Compe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El DL. 211de 19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bate de actualidad (pasado y futuro): ¿Cómo discernir si una fusión es contraria a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nálisis de mercados relev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dices de concentr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arreras de 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asticidad de la de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ienes sustit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cidad de monitoreo y sanción ex post de abusos de posición domin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6200" y="1628640"/>
            <a:ext cx="84978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6.- Los desafíos futuros de la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iliar la seguridad jurídica con la adaptabilidad oportuna y riguro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monizar la regulación administrativa y la resolución oportuna de conflictos regulatorios mediante resoluciones judiciales especializadas y oportu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autonomía de los reguladores ... Y una contrapartida necesaria, más accountability y procesos de selección con alta preeminencia téc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globalización de la regulación: ¿Cuánta soberanía pierde (y debe perder) el regulador local frente a los estándares internacion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7.- Algunas leccion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- La regulación y el fin de la guerra fría: una buena síntesis para el armisticio final entre el Estado y el Mer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- Es mejor regular ex ante... después es casi im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- No subestimar el lobby:.. y por tanto refuerce su capacidad y autonomía para hacer vale el bien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.- Si las decisiones del regulador son cuestionadas judicialmente, y los tribunales fallan tarde y mal, la regulación previa será inú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.- OJO con la costo efectividad: El regulador suele ver los beneficios, y los regulados el costo. La importancia del diálogo y comprensión recípr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.- La desconfianza público-privado aún nos pena... Y afecta fuertemente la tarea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7.- ¿Y dónde está el indicador de desempeño del regula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.- El mercado no siempre tiene la razón. Para muestra, un par de casos de seguridad social: seguro catastrófico y rentas vitali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20:08:06Z</dcterms:created>
  <dc:creator>Alejandro Ferreiro Y</dc:creator>
  <dc:description/>
  <dc:language>en-US</dc:language>
  <cp:lastModifiedBy>José Inostroza</cp:lastModifiedBy>
  <dcterms:modified xsi:type="dcterms:W3CDTF">2004-11-11T20:08:15Z</dcterms:modified>
  <cp:revision>41</cp:revision>
  <dc:subject/>
  <dc:title>La regulación de las empres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03833229</vt:r8>
  </property>
  <property fmtid="{D5CDD505-2E9C-101B-9397-08002B2CF9AE}" pid="3" name="_AuthorEmail">
    <vt:lpwstr>aferreiro@svs.cl</vt:lpwstr>
  </property>
  <property fmtid="{D5CDD505-2E9C-101B-9397-08002B2CF9AE}" pid="4" name="_AuthorEmailDisplayName">
    <vt:lpwstr>Ferreiro Yazigi Alejandro</vt:lpwstr>
  </property>
  <property fmtid="{D5CDD505-2E9C-101B-9397-08002B2CF9AE}" pid="5" name="_EmailSubject">
    <vt:lpwstr>clase de mañana</vt:lpwstr>
  </property>
  <property fmtid="{D5CDD505-2E9C-101B-9397-08002B2CF9AE}" pid="6" name="_ReviewingToolsShownOnce">
    <vt:lpwstr/>
  </property>
</Properties>
</file>