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066680"/>
            <a:ext cx="914400" cy="5639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5400" y="165240"/>
            <a:ext cx="8047080" cy="922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57400" y="6308640"/>
            <a:ext cx="7696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99"/>
                </a:solidFill>
                <a:latin typeface="Arial Black"/>
              </a:rPr>
              <a:t>Departamento de Ingeniería Industrial. 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99"/>
                </a:solidFill>
                <a:latin typeface="Arial Black"/>
              </a:rPr>
              <a:t>Octubre del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88960" cy="81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981080" y="0"/>
            <a:ext cx="7162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286000"/>
            <a:ext cx="6553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Algunas Aplicaciones de Economía Ambiental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Raúl O’Ry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Director, Depto. de Ingenieria Industrial</a:t>
            </a:r>
            <a:r>
              <a:rPr b="0" lang="es-ES" sz="20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 Black"/>
              </a:rPr>
              <a:t>Magíster en Gestión y Políticas Púb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 Black"/>
              </a:rPr>
              <a:t>Octu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984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28600"/>
            <a:ext cx="594360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Black"/>
              </a:rPr>
              <a:t>UNIVERSIDAD DE CHILE</a:t>
            </a:r>
            <a:r>
              <a:rPr b="0" lang="es-CL" sz="2400" spc="-1" strike="noStrike">
                <a:solidFill>
                  <a:srgbClr val="3333cc"/>
                </a:solidFill>
                <a:latin typeface="Arial Black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Arial Black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Arial Black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Arial Black"/>
              </a:rPr>
              <a:t>CENTRO DE ECONOMÍA APL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82000" y="208080"/>
            <a:ext cx="585720" cy="81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563868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133720"/>
            <a:ext cx="65534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 Efectividad de Instrumentos Regulatorios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fig caso1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Análisis Riesgo Costo de una Regulación Ambiental para el Arsé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295280"/>
            <a:ext cx="800100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Hay altas tasas de mortalidad asociadas al arsénico en el norte. Standard Mortality Rate (SMR) para cáncer al pulmón sobrepasa el promedio nacional  en 2.6 ve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Dadas las altas tasas de mortalidad por cáncer al pulmón y otros se presume que uno de los principales responsables son los altos niveles de arsénico tanto en agua como a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gua Chile cumplía la norma OMS. Hasta 1980 los niveles eran muy al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En aire en cambio sólo en 1990 empezó la preocupación respecto de las emisiones. Hubo presiones internacionales (acusaciones de dumping), interés por entrar al NAF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1295280"/>
            <a:ext cx="80010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terés de las autoridades de salud (importantes impactos en salud, se concentra en aire ya que en agua ya se cumplen las norm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inisterio de Salud propuso en 1992 una norma de calidad de 0.05 </a:t>
            </a:r>
            <a:r>
              <a:rPr b="1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g/Nm3 como promedio anual para las concentraciones de arsé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aire existía poca información. Experiencia y normas se referían a casos laborales o en los que no existía el problema. Ambos son muy diferentes a la regulación de población no laboralmente expues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mportancia del sector minero en Chile. Cualquier regulación afecta a la minería, sector de gran importancia económica para el país. Por ello la regulación debía ser cuidadosamente estudi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OBLEMA DEL ARSENICO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1508040"/>
            <a:ext cx="7391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instrumento aplicar, norma de calidad – la cual de acuerdo a nuestra legislación debía ser uniforme para todo el país- o norma de emisión, que podía se diferenciada  según el número de afectados y emisiones de cada fundición? 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¿Qué valor de norma aplicar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5760" y="31896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PREGUNTAS CENT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9" dur="1" fill="hold"/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METODOLOGÍA ANÁLISIS RIESG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94000" y="-34920"/>
            <a:ext cx="8778960" cy="6435360"/>
            <a:chOff x="594000" y="-34920"/>
            <a:chExt cx="8778960" cy="6435360"/>
          </a:xfrm>
        </p:grpSpPr>
        <p:sp>
          <p:nvSpPr>
            <p:cNvPr id="81" name=""/>
            <p:cNvSpPr/>
            <p:nvPr/>
          </p:nvSpPr>
          <p:spPr>
            <a:xfrm>
              <a:off x="4809240" y="1902960"/>
              <a:ext cx="1080" cy="41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24600" y="4033080"/>
              <a:ext cx="4890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9560" y="3666240"/>
              <a:ext cx="3340800" cy="146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5840" y="2934720"/>
              <a:ext cx="1669680" cy="1708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663640" y="4155120"/>
              <a:ext cx="2147040" cy="122004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240" y="4034160"/>
              <a:ext cx="2028240" cy="13413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097520"/>
              <a:ext cx="119340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Emisiones de Arsé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T/dí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86200" y="1219320"/>
              <a:ext cx="11937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sto Reduc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(US$/Añ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97320" y="4139280"/>
              <a:ext cx="176544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Riesgo Individual (Muertes/ Pobl. Expuest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6920" y="5689800"/>
              <a:ext cx="11934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Concentración Arsénico (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g/m</a:t>
              </a:r>
              <a:r>
                <a:rPr b="0" lang="es-ES" sz="1200" spc="-1" strike="noStrike" baseline="30000">
                  <a:solidFill>
                    <a:srgbClr val="000000"/>
                  </a:solidFill>
                  <a:latin typeface="Arial Black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200" y="2520000"/>
              <a:ext cx="4320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9360" y="2520000"/>
              <a:ext cx="3128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0760" y="5324040"/>
              <a:ext cx="1193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I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60480" y="5324040"/>
              <a:ext cx="119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(I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82360" y="4280400"/>
              <a:ext cx="703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4000" y="-35280"/>
              <a:ext cx="3661200" cy="38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317200" y="-33480"/>
              <a:ext cx="4055760" cy="389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OSTOS DE REDUCCIÓN PARA DISTINTOS VALORES DE NORMA DE CALIDAD D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3000" y="1403280"/>
            <a:ext cx="7922520" cy="4844880"/>
            <a:chOff x="1143000" y="1403280"/>
            <a:chExt cx="7922520" cy="4844880"/>
          </a:xfrm>
        </p:grpSpPr>
        <p:sp>
          <p:nvSpPr>
            <p:cNvPr id="10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21560" y="444312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21560" y="40690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21560" y="37126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1560" y="335448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1560" y="2980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21560" y="26218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1560" y="22654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1560" y="189108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1560" y="1533240"/>
              <a:ext cx="591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1560" y="1533240"/>
              <a:ext cx="5910480" cy="3267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760" y="1809360"/>
              <a:ext cx="13536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000" y="1809360"/>
              <a:ext cx="133920" cy="29919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7880" y="2736000"/>
              <a:ext cx="13392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16680" y="2736000"/>
              <a:ext cx="13536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1680" y="2736000"/>
              <a:ext cx="120240" cy="20653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1560" y="2948040"/>
              <a:ext cx="135000" cy="1852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1800" y="2980080"/>
              <a:ext cx="13500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11680" y="2980080"/>
              <a:ext cx="135360" cy="18212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81920" y="3030120"/>
              <a:ext cx="135360" cy="1770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1800" y="3110040"/>
              <a:ext cx="135360" cy="169092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1680" y="3192120"/>
              <a:ext cx="135360" cy="160884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1920" y="3338280"/>
              <a:ext cx="135360" cy="14626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180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6800" y="3436200"/>
              <a:ext cx="12024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7040" y="3436200"/>
              <a:ext cx="13536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86920" y="3436200"/>
              <a:ext cx="133200" cy="1364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160" y="3452400"/>
              <a:ext cx="133200" cy="13485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5600" y="3484080"/>
              <a:ext cx="135000" cy="131688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32400" y="1533240"/>
              <a:ext cx="1440" cy="32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3240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32400" y="444312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2400" y="40690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32400" y="37126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32400" y="33544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32400" y="2980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32400" y="26218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32400" y="22654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32400" y="189108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3240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21560" y="4801320"/>
              <a:ext cx="591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1324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682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216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76800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3176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8525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21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95180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014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363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5859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37040" y="4801320"/>
              <a:ext cx="180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67192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21560" y="4801320"/>
              <a:ext cx="1440" cy="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6200" y="4671000"/>
              <a:ext cx="11397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5960" y="4671000"/>
              <a:ext cx="226656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2520" y="4671000"/>
              <a:ext cx="23904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1560" y="4671000"/>
              <a:ext cx="2257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317640" y="4588560"/>
              <a:ext cx="224280" cy="817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41920" y="4557240"/>
              <a:ext cx="450360" cy="3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2640" y="4557240"/>
              <a:ext cx="22428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16920" y="4443120"/>
              <a:ext cx="240480" cy="113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57400" y="3792240"/>
              <a:ext cx="224280" cy="6505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82040" y="3744000"/>
              <a:ext cx="105480" cy="478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787520" y="3484080"/>
              <a:ext cx="120240" cy="2599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907760" y="3272400"/>
              <a:ext cx="14760" cy="211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922880" y="3256200"/>
              <a:ext cx="29520" cy="158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952400" y="2979720"/>
              <a:ext cx="14760" cy="27612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67520" y="2980080"/>
              <a:ext cx="29520" cy="1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97040" y="2801520"/>
              <a:ext cx="14760" cy="178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011800" y="1776960"/>
              <a:ext cx="60840" cy="10242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0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4132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060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7280" y="4623120"/>
              <a:ext cx="9072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71560" y="462312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97640" y="45410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8000" y="450900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72280" y="450900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13120" y="439524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7400" y="374436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42880" y="3696480"/>
              <a:ext cx="88920" cy="961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61680" y="343620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8240" y="32245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07760" y="3208320"/>
              <a:ext cx="88920" cy="97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2880" y="2931840"/>
              <a:ext cx="88920" cy="97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2400" y="293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7520" y="2751840"/>
              <a:ext cx="9072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26920" y="1729080"/>
              <a:ext cx="90360" cy="9612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60720" y="4801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720" y="4395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60720" y="398844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0720" y="35823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0720" y="317628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60720" y="27518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60720" y="234576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0720" y="1939320"/>
              <a:ext cx="60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60720" y="1533240"/>
              <a:ext cx="6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10600" y="4671000"/>
              <a:ext cx="381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-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1960" y="43131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9160" y="39387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9160" y="3582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9160" y="32245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9160" y="2850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8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17080" y="24919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0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17080" y="213516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2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7080" y="176112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4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17080" y="14032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60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9532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75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035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528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1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1364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8732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62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07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48160" y="4979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184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,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636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06000" y="49795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2240" y="5353560"/>
              <a:ext cx="177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ncentración (ug/m3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7946280" y="2812680"/>
              <a:ext cx="203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sto Anual (MMUS$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3320" y="46710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3320" y="42649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0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3320" y="38584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3320" y="34524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1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3320" y="30463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3320" y="26218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2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3320" y="221580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3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23320" y="180936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3,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3320" y="140328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4,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97200" y="3242160"/>
              <a:ext cx="228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Riesgo Asociado (Mortalida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32160" y="5874120"/>
              <a:ext cx="3675240" cy="37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5960" y="6004080"/>
              <a:ext cx="390600" cy="113760"/>
            </a:xfrm>
            <a:prstGeom prst="rect">
              <a:avLst/>
            </a:prstGeom>
            <a:solidFill>
              <a:srgbClr val="ff99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78360" y="592380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Riesgo Asociad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17280" y="6069960"/>
              <a:ext cx="405360" cy="14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7040" y="6019920"/>
              <a:ext cx="90360" cy="97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7920" y="5923800"/>
              <a:ext cx="92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 Black"/>
                </a:rPr>
                <a:t>Costo Anu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51080" y="4446720"/>
              <a:ext cx="5225760" cy="341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77200" y="3677040"/>
              <a:ext cx="316800" cy="11116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94000" y="1794960"/>
              <a:ext cx="316800" cy="299340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228600"/>
            <a:ext cx="800100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MPACTO EN FUNDICIONES DE DIFERENTES NIVELES DE NORMA DE CALIDAD PARA E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1371600"/>
            <a:ext cx="7924680" cy="4952880"/>
            <a:chOff x="1295280" y="1371600"/>
            <a:chExt cx="7924680" cy="4952880"/>
          </a:xfrm>
        </p:grpSpPr>
        <p:graphicFrame>
          <p:nvGraphicFramePr>
            <p:cNvPr id="246" name=""/>
            <p:cNvGraphicFramePr/>
            <p:nvPr/>
          </p:nvGraphicFramePr>
          <p:xfrm>
            <a:off x="1295280" y="1371600"/>
            <a:ext cx="7924680" cy="49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371600"/>
                      <a:ext cx="792468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1295280" y="1371600"/>
              <a:ext cx="0" cy="47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y Beneficios de Reducir el Arsénico en Aire y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2330280"/>
          <a:ext cx="7924680" cy="25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30280"/>
                    <a:ext cx="79246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71600" y="1432080"/>
            <a:ext cx="74674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orma de emisión y no de calidad (flexibilid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mportancia de estudios empí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Necesidad de modelos sofisticados y trabajo interdiscipli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esarrollo de una política sin necesidad de evaluar en términos monetarios los benef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ncia de entender los intereses en j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1" dur="1" fill="hold"/>
                                  <p:tgtEl>
                                    <p:spTgt spid="2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1219320"/>
            <a:ext cx="8001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l 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Contaminación de sue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u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roblemas globales y regionales (calentamiento global, lluvia ácida, destrucción capa ozon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Manejo de sustancias tóx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Economía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renovables (bosques, agua y pes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Recursos no renovables (cobre, producción de alimentos, petróleo y energía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4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Beneficios Netos de Reducir la Contaminación en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1143000"/>
            <a:ext cx="77724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sde 1994 la Ley de Bases del Medio Ambiente exige realizar análisis de costos y beneficios a los planes y norma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Otras instituciones públicas han estado involucradas en este tipo de esfuerzos como el Ministerio de Minería y la SECTRA (modelo MODEC, Apheba, entre ot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uego de la aplicación del Decreto 4, fuentes fijas reclaman haber realizado un esfuerzo significativo de descontaminación y que no les correspondería hacer má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mo la meta propuesta para estas fuentes no se ha hecho en base a un análisis optimizante de costo-beneficio, cabe la duda de cómo se comparan los </a:t>
            </a:r>
            <a:r>
              <a:rPr b="0" i="1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beneficios netos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de aplicar cada tipo de instr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mparan los costos de aplicar SPA, SPE y normas de emisión parejas (STD)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5" dur="1" fill="hold"/>
                                  <p:tgtEl>
                                    <p:spTgt spid="25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716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Método de Va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523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ara realizar la valoración de beneficios ambientales es necesario conocer las emisiones sin política y luego con política (en este caso SPA, SPE ó STD). Por ejemplo, se muestran las variaciones en emisiones para el caso del estándar (ST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4120" y="3124080"/>
            <a:ext cx="3504600" cy="2438280"/>
            <a:chOff x="5334120" y="3124080"/>
            <a:chExt cx="3504600" cy="2438280"/>
          </a:xfrm>
        </p:grpSpPr>
        <p:grpSp>
          <p:nvGrpSpPr>
            <p:cNvPr id="261" name=""/>
            <p:cNvGrpSpPr/>
            <p:nvPr/>
          </p:nvGrpSpPr>
          <p:grpSpPr>
            <a:xfrm>
              <a:off x="5334120" y="3124080"/>
              <a:ext cx="3504600" cy="2438280"/>
              <a:chOff x="5334120" y="3124080"/>
              <a:chExt cx="3504600" cy="2438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334120" y="3124080"/>
                <a:ext cx="3504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736" y="0"/>
                    </a:moveTo>
                    <a:lnTo>
                      <a:pt x="1340" y="171"/>
                    </a:lnTo>
                    <a:lnTo>
                      <a:pt x="574" y="372"/>
                    </a:lnTo>
                    <a:lnTo>
                      <a:pt x="0" y="153"/>
                    </a:lnTo>
                    <a:lnTo>
                      <a:pt x="7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5880" y="4634640"/>
                <a:ext cx="1716120" cy="22536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80840" y="4415760"/>
                <a:ext cx="1726560" cy="195120"/>
              </a:xfrm>
              <a:custGeom>
                <a:avLst/>
                <a:gdLst/>
                <a:ahLst/>
                <a:rect l="l" t="t" r="r" b="b"/>
                <a:pathLst>
                  <a:path w="308" h="34">
                    <a:moveTo>
                      <a:pt x="0" y="29"/>
                    </a:moveTo>
                    <a:lnTo>
                      <a:pt x="169" y="0"/>
                    </a:lnTo>
                    <a:lnTo>
                      <a:pt x="308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5800" y="4190400"/>
                <a:ext cx="1743120" cy="16164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5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8960" y="3966120"/>
                <a:ext cx="1755000" cy="126360"/>
              </a:xfrm>
              <a:custGeom>
                <a:avLst/>
                <a:gdLst/>
                <a:ahLst/>
                <a:rect l="l" t="t" r="r" b="b"/>
                <a:pathLst>
                  <a:path w="313" h="22">
                    <a:moveTo>
                      <a:pt x="0" y="19"/>
                    </a:moveTo>
                    <a:lnTo>
                      <a:pt x="171" y="0"/>
                    </a:lnTo>
                    <a:lnTo>
                      <a:pt x="313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164280" y="3735360"/>
                <a:ext cx="1766160" cy="92160"/>
              </a:xfrm>
              <a:custGeom>
                <a:avLst/>
                <a:gdLst/>
                <a:ahLst/>
                <a:rect l="l" t="t" r="r" b="b"/>
                <a:pathLst>
                  <a:path w="315" h="16">
                    <a:moveTo>
                      <a:pt x="0" y="14"/>
                    </a:moveTo>
                    <a:lnTo>
                      <a:pt x="172" y="0"/>
                    </a:lnTo>
                    <a:lnTo>
                      <a:pt x="315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57800" y="3498480"/>
                <a:ext cx="1777680" cy="6300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85880" y="4634640"/>
                <a:ext cx="1716120" cy="489960"/>
              </a:xfrm>
              <a:custGeom>
                <a:avLst/>
                <a:gdLst/>
                <a:ahLst/>
                <a:rect l="l" t="t" r="r" b="b"/>
                <a:pathLst>
                  <a:path w="1340" h="372">
                    <a:moveTo>
                      <a:pt x="574" y="372"/>
                    </a:moveTo>
                    <a:lnTo>
                      <a:pt x="0" y="153"/>
                    </a:lnTo>
                    <a:lnTo>
                      <a:pt x="736" y="0"/>
                    </a:lnTo>
                    <a:lnTo>
                      <a:pt x="1340" y="171"/>
                    </a:lnTo>
                    <a:lnTo>
                      <a:pt x="574" y="372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28360" y="3498480"/>
                <a:ext cx="806760" cy="1361160"/>
              </a:xfrm>
              <a:custGeom>
                <a:avLst/>
                <a:gdLst/>
                <a:ahLst/>
                <a:rect l="l" t="t" r="r" b="b"/>
                <a:pathLst>
                  <a:path w="630" h="1033">
                    <a:moveTo>
                      <a:pt x="604" y="1033"/>
                    </a:moveTo>
                    <a:lnTo>
                      <a:pt x="630" y="48"/>
                    </a:lnTo>
                    <a:lnTo>
                      <a:pt x="0" y="0"/>
                    </a:lnTo>
                    <a:lnTo>
                      <a:pt x="0" y="862"/>
                    </a:lnTo>
                    <a:lnTo>
                      <a:pt x="604" y="1033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57800" y="3498480"/>
                <a:ext cx="970560" cy="1337760"/>
              </a:xfrm>
              <a:custGeom>
                <a:avLst/>
                <a:gdLst/>
                <a:ahLst/>
                <a:rect l="l" t="t" r="r" b="b"/>
                <a:pathLst>
                  <a:path w="758" h="1015">
                    <a:moveTo>
                      <a:pt x="758" y="862"/>
                    </a:moveTo>
                    <a:lnTo>
                      <a:pt x="758" y="0"/>
                    </a:lnTo>
                    <a:lnTo>
                      <a:pt x="0" y="40"/>
                    </a:lnTo>
                    <a:lnTo>
                      <a:pt x="22" y="1015"/>
                    </a:lnTo>
                    <a:lnTo>
                      <a:pt x="758" y="862"/>
                    </a:lnTo>
                    <a:close/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920640" y="4860000"/>
                <a:ext cx="98100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87600" y="51076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49160" y="5090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17200" y="50720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78400" y="50551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9960" y="50378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01520" y="50259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8040" y="50086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19240" y="49917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75760" y="49744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31920" y="496260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88440" y="494568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352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946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51160" y="49057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00840" y="48877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0880" y="487692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02360" y="48600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35760" y="51710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60320" y="513648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82360" y="5099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09080" y="50695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40840" y="50378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37680" y="500364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51440" y="497700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57640" y="494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59880" y="492336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85880" y="4836240"/>
                <a:ext cx="735120" cy="28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5880" y="483624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25840" y="48477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65080" y="486540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10080" y="48823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48600" y="48992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93240" y="491652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38240" y="49338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77840" y="495216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7880" y="496908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72880" y="498636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17520" y="500364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668640" y="502596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13640" y="504432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63680" y="5061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14800" y="508392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69880" y="5101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21000" y="5124600"/>
                <a:ext cx="10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66800" y="4894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46720" y="49233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30600" y="4957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19880" y="49903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14920" y="5025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79000" y="50616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72240" y="50997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75200" y="51393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81400" y="518256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55640" y="4634640"/>
                <a:ext cx="89640" cy="2232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35" y="4"/>
                    </a:moveTo>
                    <a:lnTo>
                      <a:pt x="0" y="0"/>
                    </a:lnTo>
                    <a:lnTo>
                      <a:pt x="30" y="13"/>
                    </a:lnTo>
                    <a:lnTo>
                      <a:pt x="70" y="17"/>
                    </a:lnTo>
                    <a:lnTo>
                      <a:pt x="35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004520" y="459360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40" y="31"/>
                    </a:moveTo>
                    <a:lnTo>
                      <a:pt x="0" y="35"/>
                    </a:lnTo>
                    <a:lnTo>
                      <a:pt x="31" y="0"/>
                    </a:lnTo>
                    <a:lnTo>
                      <a:pt x="70" y="4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49440" y="4593600"/>
                <a:ext cx="94680" cy="6984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43" y="35"/>
                    </a:moveTo>
                    <a:lnTo>
                      <a:pt x="0" y="53"/>
                    </a:lnTo>
                    <a:lnTo>
                      <a:pt x="35" y="40"/>
                    </a:lnTo>
                    <a:lnTo>
                      <a:pt x="74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98320" y="4646520"/>
                <a:ext cx="95760" cy="39240"/>
              </a:xfrm>
              <a:custGeom>
                <a:avLst/>
                <a:gdLst/>
                <a:ahLst/>
                <a:rect l="l" t="t" r="r" b="b"/>
                <a:pathLst>
                  <a:path w="75" h="30">
                    <a:moveTo>
                      <a:pt x="40" y="13"/>
                    </a:moveTo>
                    <a:lnTo>
                      <a:pt x="0" y="30"/>
                    </a:lnTo>
                    <a:lnTo>
                      <a:pt x="35" y="17"/>
                    </a:lnTo>
                    <a:lnTo>
                      <a:pt x="75" y="0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48280" y="466884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22"/>
                    </a:lnTo>
                    <a:lnTo>
                      <a:pt x="30" y="22"/>
                    </a:lnTo>
                    <a:lnTo>
                      <a:pt x="74" y="0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91760" y="4698000"/>
                <a:ext cx="94680" cy="23400"/>
              </a:xfrm>
              <a:custGeom>
                <a:avLst/>
                <a:gdLst/>
                <a:ahLst/>
                <a:rect l="l" t="t" r="r" b="b"/>
                <a:pathLst>
                  <a:path w="74" h="18">
                    <a:moveTo>
                      <a:pt x="44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2080" y="4692600"/>
                <a:ext cx="94680" cy="28800"/>
              </a:xfrm>
              <a:custGeom>
                <a:avLst/>
                <a:gdLst/>
                <a:ahLst/>
                <a:rect l="l" t="t" r="r" b="b"/>
                <a:pathLst>
                  <a:path w="74" h="22">
                    <a:moveTo>
                      <a:pt x="39" y="13"/>
                    </a:moveTo>
                    <a:lnTo>
                      <a:pt x="0" y="17"/>
                    </a:lnTo>
                    <a:lnTo>
                      <a:pt x="30" y="0"/>
                    </a:lnTo>
                    <a:lnTo>
                      <a:pt x="74" y="22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5560" y="4692600"/>
                <a:ext cx="94680" cy="3924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44" y="17"/>
                    </a:moveTo>
                    <a:lnTo>
                      <a:pt x="0" y="30"/>
                    </a:lnTo>
                    <a:lnTo>
                      <a:pt x="31" y="4"/>
                    </a:lnTo>
                    <a:lnTo>
                      <a:pt x="74" y="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29040" y="4680360"/>
                <a:ext cx="95760" cy="63360"/>
              </a:xfrm>
              <a:custGeom>
                <a:avLst/>
                <a:gdLst/>
                <a:ahLst/>
                <a:rect l="l" t="t" r="r" b="b"/>
                <a:pathLst>
                  <a:path w="75" h="48">
                    <a:moveTo>
                      <a:pt x="44" y="39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75" y="13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2880" y="4629240"/>
                <a:ext cx="95760" cy="119880"/>
              </a:xfrm>
              <a:custGeom>
                <a:avLst/>
                <a:gdLst/>
                <a:ahLst/>
                <a:rect l="l" t="t" r="r" b="b"/>
                <a:pathLst>
                  <a:path w="75" h="91">
                    <a:moveTo>
                      <a:pt x="44" y="87"/>
                    </a:moveTo>
                    <a:lnTo>
                      <a:pt x="0" y="91"/>
                    </a:lnTo>
                    <a:lnTo>
                      <a:pt x="31" y="0"/>
                    </a:lnTo>
                    <a:lnTo>
                      <a:pt x="75" y="39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7800" y="462924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3" y="91"/>
                    </a:moveTo>
                    <a:lnTo>
                      <a:pt x="0" y="105"/>
                    </a:lnTo>
                    <a:lnTo>
                      <a:pt x="30" y="48"/>
                    </a:lnTo>
                    <a:lnTo>
                      <a:pt x="74" y="0"/>
                    </a:lnTo>
                    <a:lnTo>
                      <a:pt x="43" y="9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61280" y="4692600"/>
                <a:ext cx="94680" cy="8568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44" y="57"/>
                    </a:moveTo>
                    <a:lnTo>
                      <a:pt x="0" y="65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9720" y="4731840"/>
                <a:ext cx="99720" cy="698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48" y="35"/>
                    </a:moveTo>
                    <a:lnTo>
                      <a:pt x="0" y="44"/>
                    </a:lnTo>
                    <a:lnTo>
                      <a:pt x="30" y="53"/>
                    </a:lnTo>
                    <a:lnTo>
                      <a:pt x="78" y="0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337080" y="478980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6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82000" y="480204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3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20440" y="4813920"/>
                <a:ext cx="99720" cy="27360"/>
              </a:xfrm>
              <a:custGeom>
                <a:avLst/>
                <a:gdLst/>
                <a:ahLst/>
                <a:rect l="l" t="t" r="r" b="b"/>
                <a:pathLst>
                  <a:path w="78" h="21">
                    <a:moveTo>
                      <a:pt x="48" y="0"/>
                    </a:moveTo>
                    <a:lnTo>
                      <a:pt x="0" y="13"/>
                    </a:lnTo>
                    <a:lnTo>
                      <a:pt x="30" y="21"/>
                    </a:lnTo>
                    <a:lnTo>
                      <a:pt x="78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93800" y="465156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4"/>
                    </a:moveTo>
                    <a:lnTo>
                      <a:pt x="0" y="0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44120" y="4593600"/>
                <a:ext cx="94680" cy="8676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39" y="44"/>
                    </a:moveTo>
                    <a:lnTo>
                      <a:pt x="0" y="0"/>
                    </a:lnTo>
                    <a:lnTo>
                      <a:pt x="35" y="66"/>
                    </a:lnTo>
                    <a:lnTo>
                      <a:pt x="74" y="66"/>
                    </a:lnTo>
                    <a:lnTo>
                      <a:pt x="39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94080" y="4583160"/>
                <a:ext cx="94680" cy="97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39" y="8"/>
                    </a:moveTo>
                    <a:lnTo>
                      <a:pt x="0" y="48"/>
                    </a:lnTo>
                    <a:lnTo>
                      <a:pt x="35" y="0"/>
                    </a:lnTo>
                    <a:lnTo>
                      <a:pt x="74" y="74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42960" y="4571280"/>
                <a:ext cx="96120" cy="9756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40" y="57"/>
                    </a:moveTo>
                    <a:lnTo>
                      <a:pt x="0" y="74"/>
                    </a:lnTo>
                    <a:lnTo>
                      <a:pt x="31" y="0"/>
                    </a:lnTo>
                    <a:lnTo>
                      <a:pt x="75" y="9"/>
                    </a:lnTo>
                    <a:lnTo>
                      <a:pt x="4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86440" y="4571280"/>
                <a:ext cx="96120" cy="12672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44" y="74"/>
                    </a:moveTo>
                    <a:lnTo>
                      <a:pt x="0" y="96"/>
                    </a:lnTo>
                    <a:lnTo>
                      <a:pt x="35" y="30"/>
                    </a:lnTo>
                    <a:lnTo>
                      <a:pt x="75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36760" y="4610880"/>
                <a:ext cx="94680" cy="11052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39" y="66"/>
                    </a:moveTo>
                    <a:lnTo>
                      <a:pt x="0" y="84"/>
                    </a:lnTo>
                    <a:lnTo>
                      <a:pt x="31" y="66"/>
                    </a:lnTo>
                    <a:lnTo>
                      <a:pt x="74" y="0"/>
                    </a:lnTo>
                    <a:lnTo>
                      <a:pt x="39" y="6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0240" y="4668840"/>
                <a:ext cx="96120" cy="5256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44" y="40"/>
                    </a:moveTo>
                    <a:lnTo>
                      <a:pt x="0" y="18"/>
                    </a:lnTo>
                    <a:lnTo>
                      <a:pt x="35" y="0"/>
                    </a:lnTo>
                    <a:lnTo>
                      <a:pt x="75" y="22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25160" y="4554000"/>
                <a:ext cx="99720" cy="143640"/>
              </a:xfrm>
              <a:custGeom>
                <a:avLst/>
                <a:gdLst/>
                <a:ahLst/>
                <a:rect l="l" t="t" r="r" b="b"/>
                <a:pathLst>
                  <a:path w="78" h="109">
                    <a:moveTo>
                      <a:pt x="43" y="105"/>
                    </a:moveTo>
                    <a:lnTo>
                      <a:pt x="0" y="109"/>
                    </a:lnTo>
                    <a:lnTo>
                      <a:pt x="35" y="0"/>
                    </a:lnTo>
                    <a:lnTo>
                      <a:pt x="78" y="87"/>
                    </a:lnTo>
                    <a:lnTo>
                      <a:pt x="43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8640" y="4554000"/>
                <a:ext cx="101160" cy="14364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109"/>
                    </a:moveTo>
                    <a:lnTo>
                      <a:pt x="0" y="96"/>
                    </a:lnTo>
                    <a:lnTo>
                      <a:pt x="35" y="35"/>
                    </a:lnTo>
                    <a:lnTo>
                      <a:pt x="79" y="0"/>
                    </a:lnTo>
                    <a:lnTo>
                      <a:pt x="4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12480" y="460008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61"/>
                    </a:moveTo>
                    <a:lnTo>
                      <a:pt x="0" y="22"/>
                    </a:lnTo>
                    <a:lnTo>
                      <a:pt x="35" y="87"/>
                    </a:lnTo>
                    <a:lnTo>
                      <a:pt x="79" y="0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55960" y="4629240"/>
                <a:ext cx="101160" cy="165960"/>
              </a:xfrm>
              <a:custGeom>
                <a:avLst/>
                <a:gdLst/>
                <a:ahLst/>
                <a:rect l="l" t="t" r="r" b="b"/>
                <a:pathLst>
                  <a:path w="79" h="126">
                    <a:moveTo>
                      <a:pt x="44" y="0"/>
                    </a:moveTo>
                    <a:lnTo>
                      <a:pt x="0" y="48"/>
                    </a:lnTo>
                    <a:lnTo>
                      <a:pt x="35" y="126"/>
                    </a:lnTo>
                    <a:lnTo>
                      <a:pt x="79" y="6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99800" y="4692600"/>
                <a:ext cx="101160" cy="114480"/>
              </a:xfrm>
              <a:custGeom>
                <a:avLst/>
                <a:gdLst/>
                <a:ahLst/>
                <a:rect l="l" t="t" r="r" b="b"/>
                <a:pathLst>
                  <a:path w="79" h="87">
                    <a:moveTo>
                      <a:pt x="44" y="0"/>
                    </a:moveTo>
                    <a:lnTo>
                      <a:pt x="0" y="30"/>
                    </a:lnTo>
                    <a:lnTo>
                      <a:pt x="31" y="87"/>
                    </a:lnTo>
                    <a:lnTo>
                      <a:pt x="79" y="7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38240" y="4731840"/>
                <a:ext cx="100800" cy="75240"/>
              </a:xfrm>
              <a:custGeom>
                <a:avLst/>
                <a:gdLst/>
                <a:ahLst/>
                <a:rect l="l" t="t" r="r" b="b"/>
                <a:pathLst>
                  <a:path w="79" h="57">
                    <a:moveTo>
                      <a:pt x="48" y="0"/>
                    </a:moveTo>
                    <a:lnTo>
                      <a:pt x="0" y="53"/>
                    </a:lnTo>
                    <a:lnTo>
                      <a:pt x="35" y="48"/>
                    </a:lnTo>
                    <a:lnTo>
                      <a:pt x="79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3160" y="4795200"/>
                <a:ext cx="99720" cy="35280"/>
              </a:xfrm>
              <a:custGeom>
                <a:avLst/>
                <a:gdLst/>
                <a:ahLst/>
                <a:rect l="l" t="t" r="r" b="b"/>
                <a:pathLst>
                  <a:path w="78" h="27">
                    <a:moveTo>
                      <a:pt x="43" y="5"/>
                    </a:moveTo>
                    <a:lnTo>
                      <a:pt x="0" y="18"/>
                    </a:lnTo>
                    <a:lnTo>
                      <a:pt x="30" y="27"/>
                    </a:lnTo>
                    <a:lnTo>
                      <a:pt x="78" y="0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20520" y="48189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9" y="0"/>
                    </a:moveTo>
                    <a:lnTo>
                      <a:pt x="0" y="9"/>
                    </a:lnTo>
                    <a:lnTo>
                      <a:pt x="31" y="22"/>
                    </a:lnTo>
                    <a:lnTo>
                      <a:pt x="79" y="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58960" y="483084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8"/>
                    </a:lnTo>
                    <a:lnTo>
                      <a:pt x="31" y="22"/>
                    </a:lnTo>
                    <a:lnTo>
                      <a:pt x="79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39160" y="466884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89120" y="4680360"/>
                <a:ext cx="94680" cy="17280"/>
              </a:xfrm>
              <a:custGeom>
                <a:avLst/>
                <a:gdLst/>
                <a:ahLst/>
                <a:rect l="l" t="t" r="r" b="b"/>
                <a:pathLst>
                  <a:path w="74" h="13">
                    <a:moveTo>
                      <a:pt x="39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908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83"/>
                    </a:moveTo>
                    <a:lnTo>
                      <a:pt x="0" y="9"/>
                    </a:lnTo>
                    <a:lnTo>
                      <a:pt x="35" y="0"/>
                    </a:lnTo>
                    <a:lnTo>
                      <a:pt x="74" y="96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82560" y="4484160"/>
                <a:ext cx="56160" cy="98640"/>
              </a:xfrm>
              <a:custGeom>
                <a:avLst/>
                <a:gdLst/>
                <a:ahLst/>
                <a:rect l="l" t="t" r="r" b="b"/>
                <a:pathLst>
                  <a:path w="44" h="75">
                    <a:moveTo>
                      <a:pt x="44" y="75"/>
                    </a:moveTo>
                    <a:lnTo>
                      <a:pt x="44" y="75"/>
                    </a:lnTo>
                    <a:lnTo>
                      <a:pt x="0" y="6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6982560" y="4570920"/>
                <a:ext cx="5616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0452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22" y="61"/>
                    </a:moveTo>
                    <a:lnTo>
                      <a:pt x="0" y="6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004520" y="44841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32600" y="4484160"/>
                <a:ext cx="51120" cy="98640"/>
              </a:xfrm>
              <a:custGeom>
                <a:avLst/>
                <a:gdLst/>
                <a:ahLst/>
                <a:rect l="l" t="t" r="r" b="b"/>
                <a:pathLst>
                  <a:path w="40" h="75">
                    <a:moveTo>
                      <a:pt x="5" y="75"/>
                    </a:moveTo>
                    <a:lnTo>
                      <a:pt x="5" y="75"/>
                    </a:lnTo>
                    <a:lnTo>
                      <a:pt x="40" y="66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5" y="7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7039080" y="4570920"/>
                <a:ext cx="446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03224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27560" y="4403880"/>
                <a:ext cx="28080" cy="802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4" y="61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32600" y="448416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31440" y="4490640"/>
                <a:ext cx="51120" cy="119880"/>
              </a:xfrm>
              <a:custGeom>
                <a:avLst/>
                <a:gdLst/>
                <a:ahLst/>
                <a:rect l="l" t="t" r="r" b="b"/>
                <a:pathLst>
                  <a:path w="40" h="91">
                    <a:moveTo>
                      <a:pt x="0" y="91"/>
                    </a:moveTo>
                    <a:lnTo>
                      <a:pt x="0" y="91"/>
                    </a:lnTo>
                    <a:lnTo>
                      <a:pt x="40" y="61"/>
                    </a:lnTo>
                    <a:lnTo>
                      <a:pt x="40" y="0"/>
                    </a:lnTo>
                    <a:lnTo>
                      <a:pt x="18" y="4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931440" y="4571280"/>
                <a:ext cx="5112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4480" y="4409280"/>
                <a:ext cx="28080" cy="86760"/>
              </a:xfrm>
              <a:custGeom>
                <a:avLst/>
                <a:gdLst/>
                <a:ahLst/>
                <a:rect l="l" t="t" r="r" b="b"/>
                <a:pathLst>
                  <a:path w="22" h="66">
                    <a:moveTo>
                      <a:pt x="0" y="66"/>
                    </a:moveTo>
                    <a:lnTo>
                      <a:pt x="22" y="6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954480" y="44906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6954120" y="440928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82560" y="4484160"/>
                <a:ext cx="21600" cy="86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6"/>
                    </a:moveTo>
                    <a:lnTo>
                      <a:pt x="0" y="66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982560" y="4483800"/>
                <a:ext cx="2160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77520" y="4403880"/>
                <a:ext cx="49680" cy="86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4" y="66"/>
                    </a:moveTo>
                    <a:lnTo>
                      <a:pt x="21" y="61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982560" y="4484160"/>
                <a:ext cx="21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004520" y="4403520"/>
                <a:ext cx="22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76360" y="4496040"/>
                <a:ext cx="78120" cy="20160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43" y="87"/>
                    </a:lnTo>
                    <a:lnTo>
                      <a:pt x="61" y="0"/>
                    </a:lnTo>
                    <a:lnTo>
                      <a:pt x="52" y="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6876360" y="4610520"/>
                <a:ext cx="5472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931440" y="4496040"/>
                <a:ext cx="230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2960" y="4409280"/>
                <a:ext cx="34560" cy="92160"/>
              </a:xfrm>
              <a:custGeom>
                <a:avLst/>
                <a:gdLst/>
                <a:ahLst/>
                <a:rect l="l" t="t" r="r" b="b"/>
                <a:pathLst>
                  <a:path w="27" h="70">
                    <a:moveTo>
                      <a:pt x="0" y="70"/>
                    </a:moveTo>
                    <a:lnTo>
                      <a:pt x="9" y="6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942960" y="4496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954480" y="4408920"/>
                <a:ext cx="226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76360" y="4501440"/>
                <a:ext cx="66240" cy="196200"/>
              </a:xfrm>
              <a:custGeom>
                <a:avLst/>
                <a:gdLst/>
                <a:ahLst/>
                <a:rect l="l" t="t" r="r" b="b"/>
                <a:pathLst>
                  <a:path w="52" h="149">
                    <a:moveTo>
                      <a:pt x="0" y="149"/>
                    </a:moveTo>
                    <a:lnTo>
                      <a:pt x="0" y="149"/>
                    </a:lnTo>
                    <a:lnTo>
                      <a:pt x="35" y="62"/>
                    </a:lnTo>
                    <a:lnTo>
                      <a:pt x="52" y="5"/>
                    </a:lnTo>
                    <a:lnTo>
                      <a:pt x="52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876360" y="4583160"/>
                <a:ext cx="4464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42960" y="4409280"/>
                <a:ext cx="34560" cy="98640"/>
              </a:xfrm>
              <a:custGeom>
                <a:avLst/>
                <a:gdLst/>
                <a:ahLst/>
                <a:rect l="l" t="t" r="r" b="b"/>
                <a:pathLst>
                  <a:path w="27" h="75">
                    <a:moveTo>
                      <a:pt x="0" y="70"/>
                    </a:moveTo>
                    <a:lnTo>
                      <a:pt x="0" y="7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42960" y="45014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24880" y="4583160"/>
                <a:ext cx="96120" cy="11448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40" y="87"/>
                    </a:moveTo>
                    <a:lnTo>
                      <a:pt x="0" y="65"/>
                    </a:lnTo>
                    <a:lnTo>
                      <a:pt x="31" y="87"/>
                    </a:lnTo>
                    <a:lnTo>
                      <a:pt x="75" y="0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70160" y="453708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43" y="100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74" y="122"/>
                    </a:lnTo>
                    <a:lnTo>
                      <a:pt x="43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13640" y="4537080"/>
                <a:ext cx="94680" cy="63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4" y="13"/>
                    </a:moveTo>
                    <a:lnTo>
                      <a:pt x="0" y="48"/>
                    </a:lnTo>
                    <a:lnTo>
                      <a:pt x="30" y="30"/>
                    </a:lnTo>
                    <a:lnTo>
                      <a:pt x="74" y="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57480" y="4576680"/>
                <a:ext cx="94680" cy="138240"/>
              </a:xfrm>
              <a:custGeom>
                <a:avLst/>
                <a:gdLst/>
                <a:ahLst/>
                <a:rect l="l" t="t" r="r" b="b"/>
                <a:pathLst>
                  <a:path w="74" h="105">
                    <a:moveTo>
                      <a:pt x="44" y="18"/>
                    </a:moveTo>
                    <a:lnTo>
                      <a:pt x="0" y="105"/>
                    </a:lnTo>
                    <a:lnTo>
                      <a:pt x="31" y="53"/>
                    </a:lnTo>
                    <a:lnTo>
                      <a:pt x="74" y="0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00960" y="4646520"/>
                <a:ext cx="95760" cy="1486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44" y="52"/>
                    </a:moveTo>
                    <a:lnTo>
                      <a:pt x="0" y="113"/>
                    </a:lnTo>
                    <a:lnTo>
                      <a:pt x="31" y="4"/>
                    </a:lnTo>
                    <a:lnTo>
                      <a:pt x="75" y="0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39400" y="4651560"/>
                <a:ext cx="100800" cy="15552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8" y="109"/>
                    </a:moveTo>
                    <a:lnTo>
                      <a:pt x="0" y="118"/>
                    </a:lnTo>
                    <a:lnTo>
                      <a:pt x="35" y="70"/>
                    </a:lnTo>
                    <a:lnTo>
                      <a:pt x="79" y="0"/>
                    </a:lnTo>
                    <a:lnTo>
                      <a:pt x="48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83240" y="4743720"/>
                <a:ext cx="100800" cy="633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44" y="48"/>
                    </a:moveTo>
                    <a:lnTo>
                      <a:pt x="0" y="39"/>
                    </a:lnTo>
                    <a:lnTo>
                      <a:pt x="31" y="44"/>
                    </a:lnTo>
                    <a:lnTo>
                      <a:pt x="7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21680" y="4795200"/>
                <a:ext cx="10116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0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79" y="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60120" y="4824360"/>
                <a:ext cx="100800" cy="352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48" y="5"/>
                    </a:moveTo>
                    <a:lnTo>
                      <a:pt x="0" y="18"/>
                    </a:lnTo>
                    <a:lnTo>
                      <a:pt x="31" y="27"/>
                    </a:lnTo>
                    <a:lnTo>
                      <a:pt x="79" y="0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98560" y="484776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8" y="0"/>
                    </a:moveTo>
                    <a:lnTo>
                      <a:pt x="0" y="9"/>
                    </a:lnTo>
                    <a:lnTo>
                      <a:pt x="30" y="22"/>
                    </a:lnTo>
                    <a:lnTo>
                      <a:pt x="79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83800" y="468036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9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33760" y="4692600"/>
                <a:ext cx="94680" cy="1044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39" y="0"/>
                    </a:moveTo>
                    <a:lnTo>
                      <a:pt x="0" y="4"/>
                    </a:lnTo>
                    <a:lnTo>
                      <a:pt x="35" y="4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83720" y="4571280"/>
                <a:ext cx="94680" cy="12672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39" y="96"/>
                    </a:moveTo>
                    <a:lnTo>
                      <a:pt x="0" y="0"/>
                    </a:lnTo>
                    <a:lnTo>
                      <a:pt x="30" y="61"/>
                    </a:lnTo>
                    <a:lnTo>
                      <a:pt x="74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55640" y="4484160"/>
                <a:ext cx="66240" cy="167040"/>
              </a:xfrm>
              <a:custGeom>
                <a:avLst/>
                <a:gdLst/>
                <a:ahLst/>
                <a:rect l="l" t="t" r="r" b="b"/>
                <a:pathLst>
                  <a:path w="52" h="127">
                    <a:moveTo>
                      <a:pt x="52" y="127"/>
                    </a:moveTo>
                    <a:lnTo>
                      <a:pt x="52" y="127"/>
                    </a:lnTo>
                    <a:lnTo>
                      <a:pt x="22" y="66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52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7083720" y="4570920"/>
                <a:ext cx="38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055640" y="448380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27560" y="440388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26" y="66"/>
                    </a:moveTo>
                    <a:lnTo>
                      <a:pt x="22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7055640" y="44841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7027560" y="4403520"/>
                <a:ext cx="280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60680" y="4490640"/>
                <a:ext cx="61200" cy="160560"/>
              </a:xfrm>
              <a:custGeom>
                <a:avLst/>
                <a:gdLst/>
                <a:ahLst/>
                <a:rect l="l" t="t" r="r" b="b"/>
                <a:pathLst>
                  <a:path w="48" h="122">
                    <a:moveTo>
                      <a:pt x="48" y="122"/>
                    </a:moveTo>
                    <a:lnTo>
                      <a:pt x="48" y="122"/>
                    </a:lnTo>
                    <a:lnTo>
                      <a:pt x="9" y="13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48" y="1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7072200" y="450792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7060320" y="449028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27560" y="4403880"/>
                <a:ext cx="44640" cy="975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26" y="66"/>
                    </a:moveTo>
                    <a:lnTo>
                      <a:pt x="35" y="7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60680" y="4490640"/>
                <a:ext cx="111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67160" y="4501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072200" y="450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06680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77520" y="4403880"/>
                <a:ext cx="94680" cy="9756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70" y="74"/>
                    </a:moveTo>
                    <a:lnTo>
                      <a:pt x="74" y="74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7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67160" y="450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7027560" y="4403520"/>
                <a:ext cx="44640" cy="9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77520" y="4403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11000" y="45014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9" y="22"/>
                    </a:moveTo>
                    <a:lnTo>
                      <a:pt x="9" y="22"/>
                    </a:lnTo>
                    <a:lnTo>
                      <a:pt x="48" y="5"/>
                    </a:lnTo>
                    <a:lnTo>
                      <a:pt x="44" y="0"/>
                    </a:lnTo>
                    <a:lnTo>
                      <a:pt x="0" y="9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022160" y="450792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1100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977520" y="4409280"/>
                <a:ext cx="89640" cy="10368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26" y="79"/>
                    </a:move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011000" y="4501440"/>
                <a:ext cx="5616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77520" y="440928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21000" y="4507920"/>
                <a:ext cx="21600" cy="7488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57"/>
                    </a:moveTo>
                    <a:lnTo>
                      <a:pt x="0" y="57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921000" y="4507920"/>
                <a:ext cx="2160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20640" y="451296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37560" y="4362840"/>
                <a:ext cx="39600" cy="150120"/>
              </a:xfrm>
              <a:custGeom>
                <a:avLst/>
                <a:gdLst/>
                <a:ahLst/>
                <a:rect l="l" t="t" r="r" b="b"/>
                <a:pathLst>
                  <a:path w="31" h="114">
                    <a:moveTo>
                      <a:pt x="0" y="114"/>
                    </a:moveTo>
                    <a:lnTo>
                      <a:pt x="4" y="110"/>
                    </a:lnTo>
                    <a:lnTo>
                      <a:pt x="31" y="3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937560" y="45079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942960" y="4409280"/>
                <a:ext cx="3456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937560" y="436284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11000" y="45129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7010640" y="4512960"/>
                <a:ext cx="1116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1100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15680" y="451296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66000" y="436284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5" y="114"/>
                    </a:lnTo>
                    <a:lnTo>
                      <a:pt x="9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010640" y="451296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337440" y="3762720"/>
              <a:ext cx="986760" cy="1130760"/>
              <a:chOff x="6337440" y="3762720"/>
              <a:chExt cx="986760" cy="1130760"/>
            </a:xfrm>
          </p:grpSpPr>
          <p:sp>
            <p:nvSpPr>
              <p:cNvPr id="463" name=""/>
              <p:cNvSpPr/>
              <p:nvPr/>
            </p:nvSpPr>
            <p:spPr>
              <a:xfrm flipH="1" flipV="1">
                <a:off x="6977520" y="4408560"/>
                <a:ext cx="33120" cy="10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66000" y="436248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64840" y="4512600"/>
                <a:ext cx="56160" cy="184680"/>
              </a:xfrm>
              <a:custGeom>
                <a:avLst/>
                <a:gdLst/>
                <a:ahLst/>
                <a:rect l="l" t="t" r="r" b="b"/>
                <a:pathLst>
                  <a:path w="44" h="140">
                    <a:moveTo>
                      <a:pt x="0" y="140"/>
                    </a:moveTo>
                    <a:lnTo>
                      <a:pt x="0" y="140"/>
                    </a:lnTo>
                    <a:lnTo>
                      <a:pt x="44" y="53"/>
                    </a:lnTo>
                    <a:lnTo>
                      <a:pt x="44" y="0"/>
                    </a:lnTo>
                    <a:lnTo>
                      <a:pt x="17" y="9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864840" y="4582800"/>
                <a:ext cx="5616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886080" y="451260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864840" y="452448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86440" y="4289040"/>
                <a:ext cx="34200" cy="235440"/>
              </a:xfrm>
              <a:custGeom>
                <a:avLst/>
                <a:gdLst/>
                <a:ahLst/>
                <a:rect l="l" t="t" r="r" b="b"/>
                <a:pathLst>
                  <a:path w="27" h="179">
                    <a:moveTo>
                      <a:pt x="0" y="179"/>
                    </a:moveTo>
                    <a:lnTo>
                      <a:pt x="27" y="17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886440" y="4512240"/>
                <a:ext cx="34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88608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09480" y="428904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9480" y="428184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21000" y="451260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0" y="53"/>
                    </a:moveTo>
                    <a:lnTo>
                      <a:pt x="0" y="5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921000" y="451260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92064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09480" y="4289040"/>
                <a:ext cx="56160" cy="223560"/>
              </a:xfrm>
              <a:custGeom>
                <a:avLst/>
                <a:gdLst/>
                <a:ahLst/>
                <a:rect l="l" t="t" r="r" b="b"/>
                <a:pathLst>
                  <a:path w="44" h="170">
                    <a:moveTo>
                      <a:pt x="9" y="170"/>
                    </a:moveTo>
                    <a:lnTo>
                      <a:pt x="22" y="170"/>
                    </a:lnTo>
                    <a:lnTo>
                      <a:pt x="44" y="5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21000" y="451260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937560" y="4362120"/>
                <a:ext cx="280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09480" y="428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42890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08320" y="4524480"/>
                <a:ext cx="56160" cy="172440"/>
              </a:xfrm>
              <a:custGeom>
                <a:avLst/>
                <a:gdLst/>
                <a:ahLst/>
                <a:rect l="l" t="t" r="r" b="b"/>
                <a:pathLst>
                  <a:path w="44" h="131">
                    <a:moveTo>
                      <a:pt x="44" y="131"/>
                    </a:moveTo>
                    <a:lnTo>
                      <a:pt x="44" y="13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4" y="0"/>
                    </a:lnTo>
                    <a:lnTo>
                      <a:pt x="44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6808320" y="4536720"/>
                <a:ext cx="56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08320" y="4289040"/>
                <a:ext cx="56160" cy="240840"/>
              </a:xfrm>
              <a:custGeom>
                <a:avLst/>
                <a:gdLst/>
                <a:ahLst/>
                <a:rect l="l" t="t" r="r" b="b"/>
                <a:pathLst>
                  <a:path w="44" h="183">
                    <a:moveTo>
                      <a:pt x="44" y="179"/>
                    </a:moveTo>
                    <a:lnTo>
                      <a:pt x="0" y="183"/>
                    </a:lnTo>
                    <a:lnTo>
                      <a:pt x="18" y="4"/>
                    </a:lnTo>
                    <a:lnTo>
                      <a:pt x="40" y="0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808320" y="452448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31360" y="404604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22" h="188">
                    <a:moveTo>
                      <a:pt x="22" y="184"/>
                    </a:moveTo>
                    <a:lnTo>
                      <a:pt x="0" y="188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831360" y="428904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4828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847920" y="40460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4840" y="4524480"/>
                <a:ext cx="21600" cy="172440"/>
              </a:xfrm>
              <a:custGeom>
                <a:avLst/>
                <a:gdLst/>
                <a:ahLst/>
                <a:rect l="l" t="t" r="r" b="b"/>
                <a:pathLst>
                  <a:path w="17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864840" y="4524120"/>
                <a:ext cx="21600" cy="17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59440" y="4289040"/>
                <a:ext cx="49680" cy="235440"/>
              </a:xfrm>
              <a:custGeom>
                <a:avLst/>
                <a:gdLst/>
                <a:ahLst/>
                <a:rect l="l" t="t" r="r" b="b"/>
                <a:pathLst>
                  <a:path w="39" h="179">
                    <a:moveTo>
                      <a:pt x="4" y="179"/>
                    </a:moveTo>
                    <a:lnTo>
                      <a:pt x="21" y="179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4" y="17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4840" y="4524480"/>
                <a:ext cx="216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886440" y="4289040"/>
                <a:ext cx="22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53320" y="4046040"/>
                <a:ext cx="56160" cy="242640"/>
              </a:xfrm>
              <a:custGeom>
                <a:avLst/>
                <a:gdLst/>
                <a:ahLst/>
                <a:rect l="l" t="t" r="r" b="b"/>
                <a:pathLst>
                  <a:path w="44" h="184">
                    <a:moveTo>
                      <a:pt x="5" y="184"/>
                    </a:moveTo>
                    <a:lnTo>
                      <a:pt x="44" y="184"/>
                    </a:lnTo>
                    <a:lnTo>
                      <a:pt x="44" y="17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18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9440" y="4289040"/>
                <a:ext cx="49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909480" y="4281480"/>
                <a:ext cx="14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85296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53320" y="401724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3320" y="40460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685296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52160" y="4529880"/>
                <a:ext cx="56160" cy="45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3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5" y="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752160" y="4536360"/>
                <a:ext cx="56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6808320" y="452988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58640" y="4294080"/>
                <a:ext cx="72720" cy="24768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8"/>
                    </a:moveTo>
                    <a:lnTo>
                      <a:pt x="39" y="17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758640" y="4529880"/>
                <a:ext cx="49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6808320" y="4293720"/>
                <a:ext cx="22680" cy="23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03280" y="4046040"/>
                <a:ext cx="45000" cy="253080"/>
              </a:xfrm>
              <a:custGeom>
                <a:avLst/>
                <a:gdLst/>
                <a:ahLst/>
                <a:rect l="l" t="t" r="r" b="b"/>
                <a:pathLst>
                  <a:path w="35" h="192">
                    <a:moveTo>
                      <a:pt x="0" y="192"/>
                    </a:moveTo>
                    <a:lnTo>
                      <a:pt x="22" y="1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803280" y="429408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831360" y="4046040"/>
                <a:ext cx="1656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48280" y="401724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0" y="22"/>
                    </a:moveTo>
                    <a:lnTo>
                      <a:pt x="0" y="2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48280" y="404604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848280" y="4017240"/>
                <a:ext cx="4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52160" y="4541760"/>
                <a:ext cx="22680" cy="342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26"/>
                    </a:moveTo>
                    <a:lnTo>
                      <a:pt x="0" y="26"/>
                    </a:lnTo>
                    <a:lnTo>
                      <a:pt x="18" y="4"/>
                    </a:lnTo>
                    <a:lnTo>
                      <a:pt x="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5216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675828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58640" y="4299480"/>
                <a:ext cx="61200" cy="24768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184"/>
                    </a:moveTo>
                    <a:lnTo>
                      <a:pt x="13" y="188"/>
                    </a:lnTo>
                    <a:lnTo>
                      <a:pt x="30" y="158"/>
                    </a:lnTo>
                    <a:lnTo>
                      <a:pt x="48" y="5"/>
                    </a:lnTo>
                    <a:lnTo>
                      <a:pt x="35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58640" y="45417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775200" y="450720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796800" y="430596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03280" y="4046040"/>
                <a:ext cx="4500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2"/>
                    </a:moveTo>
                    <a:lnTo>
                      <a:pt x="13" y="197"/>
                    </a:lnTo>
                    <a:lnTo>
                      <a:pt x="35" y="4"/>
                    </a:lnTo>
                    <a:lnTo>
                      <a:pt x="35" y="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03280" y="4299480"/>
                <a:ext cx="16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820200" y="405144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4017240"/>
                <a:ext cx="4680" cy="3420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2"/>
                    </a:moveTo>
                    <a:lnTo>
                      <a:pt x="0" y="2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48280" y="4046040"/>
                <a:ext cx="1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848280" y="401688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97080" y="4553640"/>
                <a:ext cx="55080" cy="92160"/>
              </a:xfrm>
              <a:custGeom>
                <a:avLst/>
                <a:gdLst/>
                <a:ahLst/>
                <a:rect l="l" t="t" r="r" b="b"/>
                <a:pathLst>
                  <a:path w="43" h="70">
                    <a:moveTo>
                      <a:pt x="0" y="70"/>
                    </a:moveTo>
                    <a:lnTo>
                      <a:pt x="0" y="70"/>
                    </a:lnTo>
                    <a:lnTo>
                      <a:pt x="43" y="17"/>
                    </a:lnTo>
                    <a:lnTo>
                      <a:pt x="39" y="0"/>
                    </a:lnTo>
                    <a:lnTo>
                      <a:pt x="22" y="4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6697080" y="4575960"/>
                <a:ext cx="5508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25160" y="4524480"/>
                <a:ext cx="21600" cy="342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0" y="26"/>
                    </a:moveTo>
                    <a:lnTo>
                      <a:pt x="17" y="2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725160" y="455364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7120" y="454716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4" y="22"/>
                    </a:moveTo>
                    <a:lnTo>
                      <a:pt x="4" y="22"/>
                    </a:lnTo>
                    <a:lnTo>
                      <a:pt x="0" y="5"/>
                    </a:lnTo>
                    <a:lnTo>
                      <a:pt x="22" y="0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6751800" y="454716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42080" y="4507560"/>
                <a:ext cx="54720" cy="4572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6" y="30"/>
                    </a:moveTo>
                    <a:lnTo>
                      <a:pt x="4" y="35"/>
                    </a:lnTo>
                    <a:lnTo>
                      <a:pt x="0" y="13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6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747120" y="454716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742080" y="450720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775200" y="4507560"/>
                <a:ext cx="2160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40560" y="4559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44" y="66"/>
                    </a:moveTo>
                    <a:lnTo>
                      <a:pt x="44" y="66"/>
                    </a:lnTo>
                    <a:lnTo>
                      <a:pt x="0" y="70"/>
                    </a:lnTo>
                    <a:lnTo>
                      <a:pt x="52" y="4"/>
                    </a:lnTo>
                    <a:lnTo>
                      <a:pt x="66" y="0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640560" y="464616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70752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6697080" y="4559040"/>
                <a:ext cx="2808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07520" y="4524480"/>
                <a:ext cx="34200" cy="3924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4" y="26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707160" y="4559040"/>
                <a:ext cx="17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725160" y="4524480"/>
                <a:ext cx="1656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40560" y="45640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66" h="105">
                    <a:moveTo>
                      <a:pt x="35" y="105"/>
                    </a:moveTo>
                    <a:lnTo>
                      <a:pt x="35" y="105"/>
                    </a:lnTo>
                    <a:lnTo>
                      <a:pt x="0" y="66"/>
                    </a:lnTo>
                    <a:lnTo>
                      <a:pt x="52" y="0"/>
                    </a:lnTo>
                    <a:lnTo>
                      <a:pt x="66" y="5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6640200" y="4651200"/>
                <a:ext cx="4500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0752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685200" y="457056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07520" y="4524480"/>
                <a:ext cx="34200" cy="4572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4" y="35"/>
                    </a:moveTo>
                    <a:lnTo>
                      <a:pt x="0" y="3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6707160" y="4564080"/>
                <a:ext cx="17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725160" y="452448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84400" y="4651200"/>
                <a:ext cx="101160" cy="9216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4" y="0"/>
                    </a:moveTo>
                    <a:lnTo>
                      <a:pt x="0" y="70"/>
                    </a:lnTo>
                    <a:lnTo>
                      <a:pt x="31" y="0"/>
                    </a:lnTo>
                    <a:lnTo>
                      <a:pt x="79" y="3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23200" y="4651200"/>
                <a:ext cx="100800" cy="150120"/>
              </a:xfrm>
              <a:custGeom>
                <a:avLst/>
                <a:gdLst/>
                <a:ahLst/>
                <a:rect l="l" t="t" r="r" b="b"/>
                <a:pathLst>
                  <a:path w="79" h="114">
                    <a:moveTo>
                      <a:pt x="48" y="70"/>
                    </a:moveTo>
                    <a:lnTo>
                      <a:pt x="0" y="114"/>
                    </a:lnTo>
                    <a:lnTo>
                      <a:pt x="35" y="105"/>
                    </a:lnTo>
                    <a:lnTo>
                      <a:pt x="79" y="0"/>
                    </a:lnTo>
                    <a:lnTo>
                      <a:pt x="48" y="7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61640" y="47894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26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00080" y="4823640"/>
                <a:ext cx="106200" cy="52560"/>
              </a:xfrm>
              <a:custGeom>
                <a:avLst/>
                <a:gdLst/>
                <a:ahLst/>
                <a:rect l="l" t="t" r="r" b="b"/>
                <a:pathLst>
                  <a:path w="83" h="40">
                    <a:moveTo>
                      <a:pt x="48" y="0"/>
                    </a:moveTo>
                    <a:lnTo>
                      <a:pt x="0" y="27"/>
                    </a:lnTo>
                    <a:lnTo>
                      <a:pt x="35" y="40"/>
                    </a:lnTo>
                    <a:lnTo>
                      <a:pt x="83" y="1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37440" y="4859280"/>
                <a:ext cx="107640" cy="34200"/>
              </a:xfrm>
              <a:custGeom>
                <a:avLst/>
                <a:gdLst/>
                <a:ahLst/>
                <a:rect l="l" t="t" r="r" b="b"/>
                <a:pathLst>
                  <a:path w="84" h="26">
                    <a:moveTo>
                      <a:pt x="49" y="0"/>
                    </a:moveTo>
                    <a:lnTo>
                      <a:pt x="0" y="13"/>
                    </a:lnTo>
                    <a:lnTo>
                      <a:pt x="36" y="26"/>
                    </a:lnTo>
                    <a:lnTo>
                      <a:pt x="84" y="1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28440" y="4691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8"/>
                    </a:lnTo>
                    <a:lnTo>
                      <a:pt x="36" y="17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78400" y="469728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39" y="4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22240" y="4628520"/>
                <a:ext cx="101160" cy="85680"/>
              </a:xfrm>
              <a:custGeom>
                <a:avLst/>
                <a:gdLst/>
                <a:ahLst/>
                <a:rect l="l" t="t" r="r" b="b"/>
                <a:pathLst>
                  <a:path w="79" h="65">
                    <a:moveTo>
                      <a:pt x="44" y="52"/>
                    </a:moveTo>
                    <a:lnTo>
                      <a:pt x="0" y="17"/>
                    </a:lnTo>
                    <a:lnTo>
                      <a:pt x="40" y="0"/>
                    </a:lnTo>
                    <a:lnTo>
                      <a:pt x="79" y="65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72200" y="4501080"/>
                <a:ext cx="49680" cy="14976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7072200" y="4507560"/>
                <a:ext cx="49680" cy="14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7240" y="4471920"/>
                <a:ext cx="39600" cy="3564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7"/>
                    </a:moveTo>
                    <a:lnTo>
                      <a:pt x="0" y="2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7077240" y="4501080"/>
                <a:ext cx="39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117200" y="4507560"/>
                <a:ext cx="56160" cy="143280"/>
              </a:xfrm>
              <a:custGeom>
                <a:avLst/>
                <a:gdLst/>
                <a:ahLst/>
                <a:rect l="l" t="t" r="r" b="b"/>
                <a:pathLst>
                  <a:path w="44" h="109">
                    <a:moveTo>
                      <a:pt x="4" y="109"/>
                    </a:moveTo>
                    <a:lnTo>
                      <a:pt x="4" y="109"/>
                    </a:lnTo>
                    <a:lnTo>
                      <a:pt x="44" y="92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4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122240" y="4628520"/>
                <a:ext cx="5112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7133760" y="451260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711684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7200" y="447192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27"/>
                    </a:moveTo>
                    <a:lnTo>
                      <a:pt x="13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17200" y="4507560"/>
                <a:ext cx="162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7116840" y="4471560"/>
                <a:ext cx="1620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22160" y="4501080"/>
                <a:ext cx="55080" cy="28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0" y="22"/>
                    </a:moveTo>
                    <a:lnTo>
                      <a:pt x="0" y="22"/>
                    </a:lnTo>
                    <a:lnTo>
                      <a:pt x="39" y="5"/>
                    </a:lnTo>
                    <a:lnTo>
                      <a:pt x="43" y="0"/>
                    </a:lnTo>
                    <a:lnTo>
                      <a:pt x="21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7022160" y="4507560"/>
                <a:ext cx="49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7072200" y="450108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49160" y="4471920"/>
                <a:ext cx="67680" cy="4068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0" y="31"/>
                    </a:moveTo>
                    <a:lnTo>
                      <a:pt x="22" y="22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049160" y="450108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7077240" y="4471560"/>
                <a:ext cx="396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22160" y="4512600"/>
                <a:ext cx="7776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1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4916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066800" y="4518000"/>
                <a:ext cx="3276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49160" y="4471920"/>
                <a:ext cx="67680" cy="46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0" y="35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7048800" y="451260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100280" y="447192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15680" y="45126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5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7015320" y="4512600"/>
                <a:ext cx="6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66000" y="4362480"/>
                <a:ext cx="49680" cy="150120"/>
              </a:xfrm>
              <a:custGeom>
                <a:avLst/>
                <a:gdLst/>
                <a:ahLst/>
                <a:rect l="l" t="t" r="r" b="b"/>
                <a:pathLst>
                  <a:path w="39" h="114">
                    <a:moveTo>
                      <a:pt x="39" y="114"/>
                    </a:moveTo>
                    <a:lnTo>
                      <a:pt x="39" y="114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15680" y="45126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6966000" y="4362120"/>
                <a:ext cx="49680" cy="150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15680" y="4512600"/>
                <a:ext cx="5112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7021800" y="4529520"/>
                <a:ext cx="45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049160" y="452988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11000" y="4369320"/>
                <a:ext cx="38160" cy="160560"/>
              </a:xfrm>
              <a:custGeom>
                <a:avLst/>
                <a:gdLst/>
                <a:ahLst/>
                <a:rect l="l" t="t" r="r" b="b"/>
                <a:pathLst>
                  <a:path w="30" h="122">
                    <a:moveTo>
                      <a:pt x="30" y="122"/>
                    </a:moveTo>
                    <a:lnTo>
                      <a:pt x="4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7015680" y="4512600"/>
                <a:ext cx="3312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11000" y="436932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14880" y="4281840"/>
                <a:ext cx="50760" cy="802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40" y="61"/>
                    </a:lnTo>
                    <a:lnTo>
                      <a:pt x="0" y="5"/>
                    </a:lnTo>
                    <a:lnTo>
                      <a:pt x="35" y="0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6914520" y="4289040"/>
                <a:ext cx="507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914880" y="428148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09480" y="4051440"/>
                <a:ext cx="49680" cy="237240"/>
              </a:xfrm>
              <a:custGeom>
                <a:avLst/>
                <a:gdLst/>
                <a:ahLst/>
                <a:rect l="l" t="t" r="r" b="b"/>
                <a:pathLst>
                  <a:path w="39" h="180">
                    <a:moveTo>
                      <a:pt x="39" y="175"/>
                    </a:moveTo>
                    <a:lnTo>
                      <a:pt x="4" y="180"/>
                    </a:lnTo>
                    <a:lnTo>
                      <a:pt x="0" y="175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9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914880" y="4281840"/>
                <a:ext cx="446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6909480" y="4281480"/>
                <a:ext cx="50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49440" y="4029120"/>
                <a:ext cx="504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0" y="1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949440" y="4051440"/>
                <a:ext cx="5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59520" y="4281840"/>
                <a:ext cx="51120" cy="87120"/>
              </a:xfrm>
              <a:custGeom>
                <a:avLst/>
                <a:gdLst/>
                <a:ahLst/>
                <a:rect l="l" t="t" r="r" b="b"/>
                <a:pathLst>
                  <a:path w="40" h="66">
                    <a:moveTo>
                      <a:pt x="5" y="61"/>
                    </a:moveTo>
                    <a:lnTo>
                      <a:pt x="5" y="61"/>
                    </a:lnTo>
                    <a:lnTo>
                      <a:pt x="40" y="66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66000" y="4362480"/>
                <a:ext cx="450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6959520" y="428148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54480" y="4051440"/>
                <a:ext cx="44640" cy="242280"/>
              </a:xfrm>
              <a:custGeom>
                <a:avLst/>
                <a:gdLst/>
                <a:ahLst/>
                <a:rect l="l" t="t" r="r" b="b"/>
                <a:pathLst>
                  <a:path w="35" h="184">
                    <a:moveTo>
                      <a:pt x="4" y="175"/>
                    </a:moveTo>
                    <a:lnTo>
                      <a:pt x="35" y="18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59520" y="4281840"/>
                <a:ext cx="39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6959520" y="405108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95412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54480" y="402912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54480" y="405144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6954120" y="402912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59440" y="4046040"/>
                <a:ext cx="89640" cy="235440"/>
              </a:xfrm>
              <a:custGeom>
                <a:avLst/>
                <a:gdLst/>
                <a:ahLst/>
                <a:rect l="l" t="t" r="r" b="b"/>
                <a:pathLst>
                  <a:path w="70" h="179">
                    <a:moveTo>
                      <a:pt x="39" y="179"/>
                    </a:moveTo>
                    <a:lnTo>
                      <a:pt x="39" y="179"/>
                    </a:lnTo>
                    <a:lnTo>
                      <a:pt x="70" y="4"/>
                    </a:lnTo>
                    <a:lnTo>
                      <a:pt x="0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909480" y="4051440"/>
                <a:ext cx="39600" cy="23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685908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59440" y="4046040"/>
                <a:ext cx="49680" cy="23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53320" y="4017240"/>
                <a:ext cx="101160" cy="34200"/>
              </a:xfrm>
              <a:custGeom>
                <a:avLst/>
                <a:gdLst/>
                <a:ahLst/>
                <a:rect l="l" t="t" r="r" b="b"/>
                <a:pathLst>
                  <a:path w="79" h="26">
                    <a:moveTo>
                      <a:pt x="5" y="22"/>
                    </a:moveTo>
                    <a:lnTo>
                      <a:pt x="75" y="26"/>
                    </a:lnTo>
                    <a:lnTo>
                      <a:pt x="7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59440" y="4046040"/>
                <a:ext cx="89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949440" y="402912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3320" y="4017240"/>
                <a:ext cx="6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53320" y="3803760"/>
                <a:ext cx="101160" cy="225000"/>
              </a:xfrm>
              <a:custGeom>
                <a:avLst/>
                <a:gdLst/>
                <a:ahLst/>
                <a:rect l="l" t="t" r="r" b="b"/>
                <a:pathLst>
                  <a:path w="79" h="171">
                    <a:moveTo>
                      <a:pt x="79" y="171"/>
                    </a:moveTo>
                    <a:lnTo>
                      <a:pt x="79" y="171"/>
                    </a:lnTo>
                    <a:lnTo>
                      <a:pt x="0" y="162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79" y="17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853320" y="3803760"/>
                <a:ext cx="33120" cy="21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04440" y="3803760"/>
                <a:ext cx="49680" cy="22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86440" y="3763080"/>
                <a:ext cx="180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86440" y="3803760"/>
                <a:ext cx="18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898320" y="376308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82440" y="3762720"/>
              <a:ext cx="987120" cy="1148400"/>
              <a:chOff x="6382440" y="3762720"/>
              <a:chExt cx="987120" cy="114840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6440" y="4306320"/>
                <a:ext cx="23040" cy="201600"/>
              </a:xfrm>
              <a:custGeom>
                <a:avLst/>
                <a:gdLst/>
                <a:ahLst/>
                <a:rect l="l" t="t" r="r" b="b"/>
                <a:pathLst>
                  <a:path w="18" h="153">
                    <a:moveTo>
                      <a:pt x="0" y="153"/>
                    </a:moveTo>
                    <a:lnTo>
                      <a:pt x="0" y="153"/>
                    </a:lnTo>
                    <a:lnTo>
                      <a:pt x="14" y="4"/>
                    </a:lnTo>
                    <a:lnTo>
                      <a:pt x="18" y="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6796440" y="4306320"/>
                <a:ext cx="23040" cy="201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814440" y="4051800"/>
                <a:ext cx="33120" cy="259560"/>
              </a:xfrm>
              <a:custGeom>
                <a:avLst/>
                <a:gdLst/>
                <a:ahLst/>
                <a:rect l="l" t="t" r="r" b="b"/>
                <a:pathLst>
                  <a:path w="26" h="197">
                    <a:moveTo>
                      <a:pt x="4" y="193"/>
                    </a:moveTo>
                    <a:lnTo>
                      <a:pt x="0" y="197"/>
                    </a:lnTo>
                    <a:lnTo>
                      <a:pt x="21" y="18"/>
                    </a:lnTo>
                    <a:lnTo>
                      <a:pt x="21" y="9"/>
                    </a:lnTo>
                    <a:lnTo>
                      <a:pt x="26" y="0"/>
                    </a:lnTo>
                    <a:lnTo>
                      <a:pt x="4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6814440" y="4306320"/>
                <a:ext cx="5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4144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6819840" y="4051800"/>
                <a:ext cx="2808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41440" y="4017240"/>
                <a:ext cx="11160" cy="4572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5" y="26"/>
                    </a:moveTo>
                    <a:lnTo>
                      <a:pt x="0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841080" y="4051800"/>
                <a:ext cx="612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847560" y="4017240"/>
                <a:ext cx="468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841440" y="406332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84144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0" y="197"/>
                    </a:moveTo>
                    <a:lnTo>
                      <a:pt x="0" y="197"/>
                    </a:lnTo>
                    <a:lnTo>
                      <a:pt x="9" y="162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41440" y="40633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852960" y="3803400"/>
                <a:ext cx="33120" cy="21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0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86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886440" y="376308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41360" y="4311720"/>
                <a:ext cx="72720" cy="213480"/>
              </a:xfrm>
              <a:custGeom>
                <a:avLst/>
                <a:gdLst/>
                <a:ahLst/>
                <a:rect l="l" t="t" r="r" b="b"/>
                <a:pathLst>
                  <a:path w="57" h="162">
                    <a:moveTo>
                      <a:pt x="0" y="162"/>
                    </a:moveTo>
                    <a:lnTo>
                      <a:pt x="0" y="162"/>
                    </a:lnTo>
                    <a:lnTo>
                      <a:pt x="43" y="149"/>
                    </a:lnTo>
                    <a:lnTo>
                      <a:pt x="57" y="0"/>
                    </a:lnTo>
                    <a:lnTo>
                      <a:pt x="35" y="4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741360" y="4507560"/>
                <a:ext cx="547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96440" y="4311360"/>
                <a:ext cx="1800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86360" y="4075200"/>
                <a:ext cx="55080" cy="241200"/>
              </a:xfrm>
              <a:custGeom>
                <a:avLst/>
                <a:gdLst/>
                <a:ahLst/>
                <a:rect l="l" t="t" r="r" b="b"/>
                <a:pathLst>
                  <a:path w="43" h="183">
                    <a:moveTo>
                      <a:pt x="0" y="183"/>
                    </a:moveTo>
                    <a:lnTo>
                      <a:pt x="22" y="17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786360" y="4311720"/>
                <a:ext cx="28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814440" y="4075200"/>
                <a:ext cx="2700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41360" y="4316760"/>
                <a:ext cx="49680" cy="208080"/>
              </a:xfrm>
              <a:custGeom>
                <a:avLst/>
                <a:gdLst/>
                <a:ahLst/>
                <a:rect l="l" t="t" r="r" b="b"/>
                <a:pathLst>
                  <a:path w="39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30" y="49"/>
                    </a:lnTo>
                    <a:lnTo>
                      <a:pt x="39" y="5"/>
                    </a:lnTo>
                    <a:lnTo>
                      <a:pt x="35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786360" y="4075200"/>
                <a:ext cx="55080" cy="247680"/>
              </a:xfrm>
              <a:custGeom>
                <a:avLst/>
                <a:gdLst/>
                <a:ahLst/>
                <a:rect l="l" t="t" r="r" b="b"/>
                <a:pathLst>
                  <a:path w="43" h="188">
                    <a:moveTo>
                      <a:pt x="0" y="183"/>
                    </a:moveTo>
                    <a:lnTo>
                      <a:pt x="4" y="18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86360" y="43167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85200" y="4570920"/>
                <a:ext cx="39240" cy="131760"/>
              </a:xfrm>
              <a:custGeom>
                <a:avLst/>
                <a:gdLst/>
                <a:ahLst/>
                <a:rect l="l" t="t" r="r" b="b"/>
                <a:pathLst>
                  <a:path w="31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685200" y="4570920"/>
                <a:ext cx="39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24800" y="4381200"/>
                <a:ext cx="55080" cy="195120"/>
              </a:xfrm>
              <a:custGeom>
                <a:avLst/>
                <a:gdLst/>
                <a:ahLst/>
                <a:rect l="l" t="t" r="r" b="b"/>
                <a:pathLst>
                  <a:path w="43" h="148">
                    <a:moveTo>
                      <a:pt x="0" y="148"/>
                    </a:moveTo>
                    <a:lnTo>
                      <a:pt x="0" y="144"/>
                    </a:lnTo>
                    <a:lnTo>
                      <a:pt x="13" y="10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724800" y="45709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24800" y="4524840"/>
                <a:ext cx="165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741360" y="4380840"/>
                <a:ext cx="38160" cy="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85200" y="4576320"/>
                <a:ext cx="61200" cy="12636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0" y="96"/>
                    </a:moveTo>
                    <a:lnTo>
                      <a:pt x="0" y="96"/>
                    </a:lnTo>
                    <a:lnTo>
                      <a:pt x="31" y="92"/>
                    </a:lnTo>
                    <a:lnTo>
                      <a:pt x="48" y="9"/>
                    </a:lnTo>
                    <a:lnTo>
                      <a:pt x="31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6685200" y="469800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724800" y="458820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672480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24800" y="438120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48"/>
                    </a:moveTo>
                    <a:lnTo>
                      <a:pt x="17" y="157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2480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746400" y="438084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623280" y="4651560"/>
                <a:ext cx="101160" cy="511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48" y="39"/>
                    </a:moveTo>
                    <a:lnTo>
                      <a:pt x="0" y="0"/>
                    </a:lnTo>
                    <a:lnTo>
                      <a:pt x="35" y="31"/>
                    </a:lnTo>
                    <a:lnTo>
                      <a:pt x="79" y="35"/>
                    </a:ln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67120" y="4651560"/>
                <a:ext cx="10116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4" y="0"/>
                    </a:moveTo>
                    <a:lnTo>
                      <a:pt x="0" y="105"/>
                    </a:lnTo>
                    <a:lnTo>
                      <a:pt x="31" y="79"/>
                    </a:lnTo>
                    <a:lnTo>
                      <a:pt x="79" y="3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505200" y="475596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79" h="70">
                    <a:moveTo>
                      <a:pt x="48" y="26"/>
                    </a:moveTo>
                    <a:lnTo>
                      <a:pt x="0" y="70"/>
                    </a:lnTo>
                    <a:lnTo>
                      <a:pt x="35" y="61"/>
                    </a:lnTo>
                    <a:lnTo>
                      <a:pt x="79" y="0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44000" y="4836240"/>
                <a:ext cx="106200" cy="5796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48" y="9"/>
                    </a:moveTo>
                    <a:lnTo>
                      <a:pt x="0" y="31"/>
                    </a:lnTo>
                    <a:lnTo>
                      <a:pt x="35" y="44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382440" y="487692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0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274880" y="470952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4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223760" y="4714920"/>
                <a:ext cx="95760" cy="169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40" y="0"/>
                    </a:moveTo>
                    <a:lnTo>
                      <a:pt x="0" y="0"/>
                    </a:lnTo>
                    <a:lnTo>
                      <a:pt x="35" y="13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73720" y="4564440"/>
                <a:ext cx="94680" cy="167400"/>
              </a:xfrm>
              <a:custGeom>
                <a:avLst/>
                <a:gdLst/>
                <a:ahLst/>
                <a:rect l="l" t="t" r="r" b="b"/>
                <a:pathLst>
                  <a:path w="74" h="127">
                    <a:moveTo>
                      <a:pt x="39" y="114"/>
                    </a:moveTo>
                    <a:lnTo>
                      <a:pt x="0" y="49"/>
                    </a:lnTo>
                    <a:lnTo>
                      <a:pt x="35" y="0"/>
                    </a:lnTo>
                    <a:lnTo>
                      <a:pt x="74" y="127"/>
                    </a:lnTo>
                    <a:lnTo>
                      <a:pt x="39" y="11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33760" y="4512960"/>
                <a:ext cx="84600" cy="115920"/>
              </a:xfrm>
              <a:custGeom>
                <a:avLst/>
                <a:gdLst/>
                <a:ahLst/>
                <a:rect l="l" t="t" r="r" b="b"/>
                <a:pathLst>
                  <a:path w="66" h="88">
                    <a:moveTo>
                      <a:pt x="31" y="88"/>
                    </a:moveTo>
                    <a:lnTo>
                      <a:pt x="31" y="88"/>
                    </a:lnTo>
                    <a:lnTo>
                      <a:pt x="66" y="39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1" y="8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173720" y="4564080"/>
                <a:ext cx="4464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33760" y="4512960"/>
                <a:ext cx="3960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17200" y="4472280"/>
                <a:ext cx="44640" cy="406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3" y="31"/>
                    </a:moveTo>
                    <a:lnTo>
                      <a:pt x="3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33760" y="4512960"/>
                <a:ext cx="28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17200" y="4472280"/>
                <a:ext cx="16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62200" y="4512960"/>
                <a:ext cx="56160" cy="511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44" y="39"/>
                    </a:moveTo>
                    <a:lnTo>
                      <a:pt x="44" y="3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7167240" y="4524840"/>
                <a:ext cx="511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7162200" y="45126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17200" y="4472280"/>
                <a:ext cx="49680" cy="529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5" y="31"/>
                    </a:moveTo>
                    <a:lnTo>
                      <a:pt x="39" y="40"/>
                    </a:lnTo>
                    <a:lnTo>
                      <a:pt x="3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2200" y="451296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716220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160" y="4518360"/>
                <a:ext cx="44640" cy="74880"/>
              </a:xfrm>
              <a:custGeom>
                <a:avLst/>
                <a:gdLst/>
                <a:ahLst/>
                <a:rect l="l" t="t" r="r" b="b"/>
                <a:pathLst>
                  <a:path w="35" h="57">
                    <a:moveTo>
                      <a:pt x="0" y="57"/>
                    </a:moveTo>
                    <a:lnTo>
                      <a:pt x="0" y="57"/>
                    </a:lnTo>
                    <a:lnTo>
                      <a:pt x="35" y="40"/>
                    </a:lnTo>
                    <a:lnTo>
                      <a:pt x="35" y="9"/>
                    </a:lnTo>
                    <a:lnTo>
                      <a:pt x="2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7100280" y="451800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67160" y="451836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100280" y="4472280"/>
                <a:ext cx="16560" cy="5796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0" y="35"/>
                    </a:moveTo>
                    <a:lnTo>
                      <a:pt x="9" y="4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100280" y="4518360"/>
                <a:ext cx="1152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100280" y="4472280"/>
                <a:ext cx="1656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1216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11216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12160" y="447228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0" y="44"/>
                    </a:moveTo>
                    <a:lnTo>
                      <a:pt x="35" y="44"/>
                    </a:lnTo>
                    <a:lnTo>
                      <a:pt x="39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12160" y="453060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15680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7117200" y="4472280"/>
                <a:ext cx="4464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9160" y="4530600"/>
                <a:ext cx="62640" cy="630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14" y="48"/>
                    </a:moveTo>
                    <a:lnTo>
                      <a:pt x="14" y="48"/>
                    </a:lnTo>
                    <a:lnTo>
                      <a:pt x="49" y="31"/>
                    </a:lnTo>
                    <a:lnTo>
                      <a:pt x="35" y="5"/>
                    </a:lnTo>
                    <a:lnTo>
                      <a:pt x="0" y="0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7067160" y="457092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49160" y="4530600"/>
                <a:ext cx="18000" cy="6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11000" y="4369680"/>
                <a:ext cx="83160" cy="167400"/>
              </a:xfrm>
              <a:custGeom>
                <a:avLst/>
                <a:gdLst/>
                <a:ahLst/>
                <a:rect l="l" t="t" r="r" b="b"/>
                <a:pathLst>
                  <a:path w="65" h="127">
                    <a:moveTo>
                      <a:pt x="30" y="122"/>
                    </a:moveTo>
                    <a:lnTo>
                      <a:pt x="65" y="1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49160" y="453060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11000" y="4369680"/>
                <a:ext cx="38160" cy="160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94160" y="453708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4" y="26"/>
                    </a:moveTo>
                    <a:lnTo>
                      <a:pt x="14" y="2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710028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709380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11000" y="4369680"/>
                <a:ext cx="89280" cy="172440"/>
              </a:xfrm>
              <a:custGeom>
                <a:avLst/>
                <a:gdLst/>
                <a:ahLst/>
                <a:rect l="l" t="t" r="r" b="b"/>
                <a:pathLst>
                  <a:path w="70" h="131">
                    <a:moveTo>
                      <a:pt x="65" y="127"/>
                    </a:moveTo>
                    <a:lnTo>
                      <a:pt x="70" y="131"/>
                    </a:lnTo>
                    <a:lnTo>
                      <a:pt x="35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4160" y="453708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705564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9120" y="4294080"/>
                <a:ext cx="56160" cy="131760"/>
              </a:xfrm>
              <a:custGeom>
                <a:avLst/>
                <a:gdLst/>
                <a:ahLst/>
                <a:rect l="l" t="t" r="r" b="b"/>
                <a:pathLst>
                  <a:path w="44" h="100">
                    <a:moveTo>
                      <a:pt x="44" y="100"/>
                    </a:moveTo>
                    <a:lnTo>
                      <a:pt x="44" y="100"/>
                    </a:lnTo>
                    <a:lnTo>
                      <a:pt x="9" y="57"/>
                    </a:lnTo>
                    <a:lnTo>
                      <a:pt x="0" y="0"/>
                    </a:lnTo>
                    <a:lnTo>
                      <a:pt x="18" y="4"/>
                    </a:lnTo>
                    <a:lnTo>
                      <a:pt x="44" y="10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>
                <a:off x="7011000" y="4369680"/>
                <a:ext cx="4464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999120" y="4293720"/>
                <a:ext cx="1152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912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9520" y="4051800"/>
                <a:ext cx="62640" cy="247680"/>
              </a:xfrm>
              <a:custGeom>
                <a:avLst/>
                <a:gdLst/>
                <a:ahLst/>
                <a:rect l="l" t="t" r="r" b="b"/>
                <a:pathLst>
                  <a:path w="49" h="188">
                    <a:moveTo>
                      <a:pt x="49" y="188"/>
                    </a:moveTo>
                    <a:lnTo>
                      <a:pt x="31" y="1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9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6998760" y="4294080"/>
                <a:ext cx="22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6959520" y="4051440"/>
                <a:ext cx="396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59520" y="4051800"/>
                <a:ext cx="1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 flipV="1">
                <a:off x="6954120" y="4029480"/>
                <a:ext cx="46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600" y="4299480"/>
                <a:ext cx="68040" cy="144720"/>
              </a:xfrm>
              <a:custGeom>
                <a:avLst/>
                <a:gdLst/>
                <a:ahLst/>
                <a:rect l="l" t="t" r="r" b="b"/>
                <a:pathLst>
                  <a:path w="53" h="110">
                    <a:moveTo>
                      <a:pt x="9" y="110"/>
                    </a:moveTo>
                    <a:lnTo>
                      <a:pt x="9" y="110"/>
                    </a:lnTo>
                    <a:lnTo>
                      <a:pt x="53" y="9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9" y="11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999120" y="4425840"/>
                <a:ext cx="56160" cy="18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54480" y="4051800"/>
                <a:ext cx="67680" cy="254160"/>
              </a:xfrm>
              <a:custGeom>
                <a:avLst/>
                <a:gdLst/>
                <a:ahLst/>
                <a:rect l="l" t="t" r="r" b="b"/>
                <a:pathLst>
                  <a:path w="53" h="193">
                    <a:moveTo>
                      <a:pt x="26" y="193"/>
                    </a:moveTo>
                    <a:lnTo>
                      <a:pt x="53" y="18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6" y="19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987600" y="4299480"/>
                <a:ext cx="345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95412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54480" y="402948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17"/>
                    </a:moveTo>
                    <a:lnTo>
                      <a:pt x="4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54480" y="4051800"/>
                <a:ext cx="46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82560" y="4306320"/>
                <a:ext cx="16560" cy="138240"/>
              </a:xfrm>
              <a:custGeom>
                <a:avLst/>
                <a:gdLst/>
                <a:ahLst/>
                <a:rect l="l" t="t" r="r" b="b"/>
                <a:pathLst>
                  <a:path w="13" h="105">
                    <a:moveTo>
                      <a:pt x="13" y="105"/>
                    </a:moveTo>
                    <a:lnTo>
                      <a:pt x="13" y="10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6987600" y="4306320"/>
                <a:ext cx="1152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8220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42960" y="4051800"/>
                <a:ext cx="44640" cy="25956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1" y="197"/>
                    </a:moveTo>
                    <a:lnTo>
                      <a:pt x="35" y="19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1" y="19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982560" y="4306320"/>
                <a:ext cx="4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6954480" y="4051800"/>
                <a:ext cx="33120" cy="25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04440" y="3803760"/>
                <a:ext cx="49680" cy="254160"/>
              </a:xfrm>
              <a:custGeom>
                <a:avLst/>
                <a:gdLst/>
                <a:ahLst/>
                <a:rect l="l" t="t" r="r" b="b"/>
                <a:pathLst>
                  <a:path w="39" h="193">
                    <a:moveTo>
                      <a:pt x="30" y="193"/>
                    </a:moveTo>
                    <a:lnTo>
                      <a:pt x="39" y="188"/>
                    </a:lnTo>
                    <a:lnTo>
                      <a:pt x="39" y="1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942960" y="405180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954480" y="4029480"/>
                <a:ext cx="108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 flipV="1">
                <a:off x="6904440" y="3803760"/>
                <a:ext cx="49680" cy="225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5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04440" y="380376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flipV="1">
                <a:off x="6897600" y="3762720"/>
                <a:ext cx="61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71040" y="4311720"/>
                <a:ext cx="28080" cy="132840"/>
              </a:xfrm>
              <a:custGeom>
                <a:avLst/>
                <a:gdLst/>
                <a:ahLst/>
                <a:rect l="l" t="t" r="r" b="b"/>
                <a:pathLst>
                  <a:path w="22" h="101">
                    <a:moveTo>
                      <a:pt x="22" y="101"/>
                    </a:moveTo>
                    <a:lnTo>
                      <a:pt x="22" y="101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22" y="10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26040" y="4058280"/>
                <a:ext cx="56160" cy="258120"/>
              </a:xfrm>
              <a:custGeom>
                <a:avLst/>
                <a:gdLst/>
                <a:ahLst/>
                <a:rect l="l" t="t" r="r" b="b"/>
                <a:pathLst>
                  <a:path w="44" h="196">
                    <a:moveTo>
                      <a:pt x="44" y="192"/>
                    </a:moveTo>
                    <a:lnTo>
                      <a:pt x="35" y="196"/>
                    </a:lnTo>
                    <a:lnTo>
                      <a:pt x="13" y="109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44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6971040" y="431172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926040" y="406296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97960" y="3803760"/>
                <a:ext cx="44640" cy="259200"/>
              </a:xfrm>
              <a:custGeom>
                <a:avLst/>
                <a:gdLst/>
                <a:ahLst/>
                <a:rect l="l" t="t" r="r" b="b"/>
                <a:pathLst>
                  <a:path w="35" h="197">
                    <a:moveTo>
                      <a:pt x="35" y="193"/>
                    </a:moveTo>
                    <a:lnTo>
                      <a:pt x="22" y="19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5" y="19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926040" y="4058280"/>
                <a:ext cx="165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9796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897960" y="3763080"/>
                <a:ext cx="6120" cy="4068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5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97600" y="380376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897960" y="376272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41440" y="4063320"/>
                <a:ext cx="101160" cy="13860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79" y="10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841440" y="4062960"/>
                <a:ext cx="10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4144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26040" y="4063320"/>
                <a:ext cx="1656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41440" y="3803760"/>
                <a:ext cx="84600" cy="25920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66" y="197"/>
                    </a:moveTo>
                    <a:lnTo>
                      <a:pt x="0" y="197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66" y="1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841080" y="4063320"/>
                <a:ext cx="84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6841440" y="3803760"/>
                <a:ext cx="4464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97960" y="3803760"/>
                <a:ext cx="28080" cy="259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886440" y="3763080"/>
                <a:ext cx="1152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0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886440" y="3803760"/>
                <a:ext cx="115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886440" y="3762720"/>
                <a:ext cx="1152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97960" y="3763080"/>
                <a:ext cx="1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64480" y="4323240"/>
                <a:ext cx="61560" cy="25308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17" y="192"/>
                    </a:moveTo>
                    <a:lnTo>
                      <a:pt x="17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17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686412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440" y="4075200"/>
                <a:ext cx="101160" cy="247680"/>
              </a:xfrm>
              <a:custGeom>
                <a:avLst/>
                <a:gdLst/>
                <a:ahLst/>
                <a:rect l="l" t="t" r="r" b="b"/>
                <a:pathLst>
                  <a:path w="79" h="188">
                    <a:moveTo>
                      <a:pt x="18" y="188"/>
                    </a:moveTo>
                    <a:lnTo>
                      <a:pt x="66" y="188"/>
                    </a:lnTo>
                    <a:lnTo>
                      <a:pt x="79" y="9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64480" y="4323240"/>
                <a:ext cx="61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6926040" y="4202280"/>
                <a:ext cx="1656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79880" y="4323240"/>
                <a:ext cx="51120" cy="160560"/>
              </a:xfrm>
              <a:custGeom>
                <a:avLst/>
                <a:gdLst/>
                <a:ahLst/>
                <a:rect l="l" t="t" r="r" b="b"/>
                <a:pathLst>
                  <a:path w="40" h="122">
                    <a:moveTo>
                      <a:pt x="40" y="122"/>
                    </a:moveTo>
                    <a:lnTo>
                      <a:pt x="40" y="122"/>
                    </a:lnTo>
                    <a:lnTo>
                      <a:pt x="0" y="44"/>
                    </a:lnTo>
                    <a:lnTo>
                      <a:pt x="9" y="0"/>
                    </a:lnTo>
                    <a:lnTo>
                      <a:pt x="40" y="4"/>
                    </a:lnTo>
                    <a:lnTo>
                      <a:pt x="4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 flipV="1">
                <a:off x="6779880" y="4380840"/>
                <a:ext cx="5112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779880" y="4322880"/>
                <a:ext cx="1152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9140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91400" y="4075200"/>
                <a:ext cx="49680" cy="253080"/>
              </a:xfrm>
              <a:custGeom>
                <a:avLst/>
                <a:gdLst/>
                <a:ahLst/>
                <a:rect l="l" t="t" r="r" b="b"/>
                <a:pathLst>
                  <a:path w="39" h="192">
                    <a:moveTo>
                      <a:pt x="31" y="192"/>
                    </a:moveTo>
                    <a:lnTo>
                      <a:pt x="0" y="188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1" y="1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6791040" y="4323240"/>
                <a:ext cx="392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6791400" y="4075200"/>
                <a:ext cx="49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31000" y="4323240"/>
                <a:ext cx="55080" cy="253080"/>
              </a:xfrm>
              <a:custGeom>
                <a:avLst/>
                <a:gdLst/>
                <a:ahLst/>
                <a:rect l="l" t="t" r="r" b="b"/>
                <a:pathLst>
                  <a:path w="43" h="192">
                    <a:moveTo>
                      <a:pt x="43" y="192"/>
                    </a:moveTo>
                    <a:lnTo>
                      <a:pt x="43" y="192"/>
                    </a:lnTo>
                    <a:lnTo>
                      <a:pt x="0" y="122"/>
                    </a:lnTo>
                    <a:lnTo>
                      <a:pt x="0" y="4"/>
                    </a:lnTo>
                    <a:lnTo>
                      <a:pt x="26" y="0"/>
                    </a:lnTo>
                    <a:lnTo>
                      <a:pt x="43" y="19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683064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64480" y="4323240"/>
                <a:ext cx="21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31000" y="4075200"/>
                <a:ext cx="33120" cy="253080"/>
              </a:xfrm>
              <a:custGeom>
                <a:avLst/>
                <a:gdLst/>
                <a:ahLst/>
                <a:rect l="l" t="t" r="r" b="b"/>
                <a:pathLst>
                  <a:path w="26" h="192">
                    <a:moveTo>
                      <a:pt x="26" y="188"/>
                    </a:moveTo>
                    <a:lnTo>
                      <a:pt x="0" y="19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6" y="18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831000" y="4323240"/>
                <a:ext cx="33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41440" y="4075200"/>
                <a:ext cx="22680" cy="247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24800" y="4588560"/>
                <a:ext cx="49680" cy="109080"/>
              </a:xfrm>
              <a:custGeom>
                <a:avLst/>
                <a:gdLst/>
                <a:ahLst/>
                <a:rect l="l" t="t" r="r" b="b"/>
                <a:pathLst>
                  <a:path w="39" h="83">
                    <a:moveTo>
                      <a:pt x="0" y="83"/>
                    </a:moveTo>
                    <a:lnTo>
                      <a:pt x="0" y="83"/>
                    </a:lnTo>
                    <a:lnTo>
                      <a:pt x="35" y="39"/>
                    </a:lnTo>
                    <a:lnTo>
                      <a:pt x="39" y="9"/>
                    </a:lnTo>
                    <a:lnTo>
                      <a:pt x="17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6724800" y="4639680"/>
                <a:ext cx="4500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724800" y="4588560"/>
                <a:ext cx="2160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746400" y="4381200"/>
                <a:ext cx="33120" cy="218520"/>
              </a:xfrm>
              <a:custGeom>
                <a:avLst/>
                <a:gdLst/>
                <a:ahLst/>
                <a:rect l="l" t="t" r="r" b="b"/>
                <a:pathLst>
                  <a:path w="26" h="166">
                    <a:moveTo>
                      <a:pt x="0" y="157"/>
                    </a:moveTo>
                    <a:lnTo>
                      <a:pt x="22" y="16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46400" y="4588560"/>
                <a:ext cx="280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746400" y="4381200"/>
                <a:ext cx="3312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69800" y="460008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30"/>
                    </a:moveTo>
                    <a:lnTo>
                      <a:pt x="0" y="30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769800" y="4600080"/>
                <a:ext cx="1656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77484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774840" y="4381200"/>
                <a:ext cx="56160" cy="218520"/>
              </a:xfrm>
              <a:custGeom>
                <a:avLst/>
                <a:gdLst/>
                <a:ahLst/>
                <a:rect l="l" t="t" r="r" b="b"/>
                <a:pathLst>
                  <a:path w="44" h="166">
                    <a:moveTo>
                      <a:pt x="0" y="166"/>
                    </a:moveTo>
                    <a:lnTo>
                      <a:pt x="9" y="166"/>
                    </a:lnTo>
                    <a:lnTo>
                      <a:pt x="44" y="7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6422400" y="4202280"/>
              <a:ext cx="1041120" cy="743400"/>
              <a:chOff x="6422400" y="4202280"/>
              <a:chExt cx="1041120" cy="743400"/>
            </a:xfrm>
          </p:grpSpPr>
          <p:sp>
            <p:nvSpPr>
              <p:cNvPr id="865" name=""/>
              <p:cNvSpPr/>
              <p:nvPr/>
            </p:nvSpPr>
            <p:spPr>
              <a:xfrm>
                <a:off x="6775200" y="460008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779880" y="4380840"/>
                <a:ext cx="5076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669000" y="4640040"/>
                <a:ext cx="101160" cy="196200"/>
              </a:xfrm>
              <a:custGeom>
                <a:avLst/>
                <a:gdLst/>
                <a:ahLst/>
                <a:rect l="l" t="t" r="r" b="b"/>
                <a:pathLst>
                  <a:path w="79" h="149">
                    <a:moveTo>
                      <a:pt x="44" y="44"/>
                    </a:moveTo>
                    <a:lnTo>
                      <a:pt x="0" y="40"/>
                    </a:lnTo>
                    <a:lnTo>
                      <a:pt x="35" y="149"/>
                    </a:lnTo>
                    <a:lnTo>
                      <a:pt x="79" y="0"/>
                    </a:lnTo>
                    <a:lnTo>
                      <a:pt x="44" y="44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07800" y="4692600"/>
                <a:ext cx="10584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8" y="0"/>
                    </a:moveTo>
                    <a:lnTo>
                      <a:pt x="0" y="48"/>
                    </a:lnTo>
                    <a:lnTo>
                      <a:pt x="35" y="118"/>
                    </a:lnTo>
                    <a:lnTo>
                      <a:pt x="83" y="10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551640" y="4755960"/>
                <a:ext cx="100800" cy="1432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44" y="0"/>
                    </a:moveTo>
                    <a:lnTo>
                      <a:pt x="0" y="61"/>
                    </a:lnTo>
                    <a:lnTo>
                      <a:pt x="35" y="109"/>
                    </a:lnTo>
                    <a:lnTo>
                      <a:pt x="79" y="7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90080" y="4836600"/>
                <a:ext cx="105840" cy="74880"/>
              </a:xfrm>
              <a:custGeom>
                <a:avLst/>
                <a:gdLst/>
                <a:ahLst/>
                <a:rect l="l" t="t" r="r" b="b"/>
                <a:pathLst>
                  <a:path w="83" h="57">
                    <a:moveTo>
                      <a:pt x="48" y="0"/>
                    </a:moveTo>
                    <a:lnTo>
                      <a:pt x="0" y="44"/>
                    </a:lnTo>
                    <a:lnTo>
                      <a:pt x="30" y="57"/>
                    </a:lnTo>
                    <a:lnTo>
                      <a:pt x="83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422400" y="4894560"/>
                <a:ext cx="105840" cy="3384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53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318800" y="4721760"/>
                <a:ext cx="94680" cy="2232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39" y="0"/>
                    </a:moveTo>
                    <a:lnTo>
                      <a:pt x="0" y="8"/>
                    </a:lnTo>
                    <a:lnTo>
                      <a:pt x="35" y="17"/>
                    </a:lnTo>
                    <a:lnTo>
                      <a:pt x="74" y="8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267680" y="4732200"/>
                <a:ext cx="95760" cy="2376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40" y="0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217640" y="4564440"/>
                <a:ext cx="9432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9" y="127"/>
                    </a:moveTo>
                    <a:lnTo>
                      <a:pt x="0" y="0"/>
                    </a:lnTo>
                    <a:lnTo>
                      <a:pt x="35" y="140"/>
                    </a:lnTo>
                    <a:lnTo>
                      <a:pt x="74" y="145"/>
                    </a:lnTo>
                    <a:lnTo>
                      <a:pt x="39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40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217640" y="4564080"/>
                <a:ext cx="44640" cy="18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7166520" y="4524840"/>
                <a:ext cx="507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66880" y="4525200"/>
                <a:ext cx="95400" cy="224280"/>
              </a:xfrm>
              <a:custGeom>
                <a:avLst/>
                <a:gdLst/>
                <a:ahLst/>
                <a:rect l="l" t="t" r="r" b="b"/>
                <a:pathLst>
                  <a:path w="75" h="170">
                    <a:moveTo>
                      <a:pt x="75" y="170"/>
                    </a:moveTo>
                    <a:lnTo>
                      <a:pt x="75" y="170"/>
                    </a:lnTo>
                    <a:lnTo>
                      <a:pt x="35" y="1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5" y="17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7211160" y="4744080"/>
                <a:ext cx="50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161480" y="45183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66880" y="4525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11440" y="4530600"/>
                <a:ext cx="44640" cy="40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31"/>
                    </a:moveTo>
                    <a:lnTo>
                      <a:pt x="0" y="31"/>
                    </a:lnTo>
                    <a:lnTo>
                      <a:pt x="35" y="0"/>
                    </a:lnTo>
                    <a:lnTo>
                      <a:pt x="21" y="1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111440" y="4530600"/>
                <a:ext cx="44640" cy="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11440" y="454752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38440" y="4518360"/>
                <a:ext cx="22680" cy="288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22"/>
                    </a:moveTo>
                    <a:lnTo>
                      <a:pt x="14" y="9"/>
                    </a:lnTo>
                    <a:lnTo>
                      <a:pt x="18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7156440" y="4518000"/>
                <a:ext cx="50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138080" y="453060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161480" y="4525200"/>
                <a:ext cx="49680" cy="21888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39" y="166"/>
                    </a:moveTo>
                    <a:lnTo>
                      <a:pt x="39" y="16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flipV="1">
                <a:off x="7166880" y="4525200"/>
                <a:ext cx="4464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61480" y="454752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56440" y="45183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22"/>
                    </a:moveTo>
                    <a:lnTo>
                      <a:pt x="8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161480" y="4525200"/>
                <a:ext cx="50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7161480" y="451836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156440" y="453060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99920" y="4542120"/>
                <a:ext cx="38520" cy="2880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9" y="22"/>
                    </a:moveTo>
                    <a:lnTo>
                      <a:pt x="9" y="22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7111440" y="4547160"/>
                <a:ext cx="26640" cy="2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709956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99920" y="4542120"/>
                <a:ext cx="115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55280" y="4426200"/>
                <a:ext cx="100800" cy="121320"/>
              </a:xfrm>
              <a:custGeom>
                <a:avLst/>
                <a:gdLst/>
                <a:ahLst/>
                <a:rect l="l" t="t" r="r" b="b"/>
                <a:pathLst>
                  <a:path w="79" h="92">
                    <a:moveTo>
                      <a:pt x="35" y="88"/>
                    </a:moveTo>
                    <a:lnTo>
                      <a:pt x="65" y="92"/>
                    </a:lnTo>
                    <a:lnTo>
                      <a:pt x="79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99920" y="4542120"/>
                <a:ext cx="38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7138440" y="4530240"/>
                <a:ext cx="176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55280" y="442620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79" y="105"/>
                    </a:moveTo>
                    <a:lnTo>
                      <a:pt x="0" y="26"/>
                    </a:lnTo>
                    <a:lnTo>
                      <a:pt x="39" y="0"/>
                    </a:lnTo>
                    <a:lnTo>
                      <a:pt x="79" y="105"/>
                    </a:lnTo>
                    <a:lnTo>
                      <a:pt x="79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05528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6"/>
                    </a:moveTo>
                    <a:lnTo>
                      <a:pt x="9" y="0"/>
                    </a:lnTo>
                    <a:lnTo>
                      <a:pt x="18" y="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999120" y="43920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83" h="110">
                    <a:moveTo>
                      <a:pt x="44" y="26"/>
                    </a:moveTo>
                    <a:lnTo>
                      <a:pt x="0" y="40"/>
                    </a:lnTo>
                    <a:lnTo>
                      <a:pt x="39" y="110"/>
                    </a:lnTo>
                    <a:lnTo>
                      <a:pt x="83" y="0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971040" y="431676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61" h="167">
                    <a:moveTo>
                      <a:pt x="61" y="167"/>
                    </a:moveTo>
                    <a:lnTo>
                      <a:pt x="61" y="167"/>
                    </a:lnTo>
                    <a:lnTo>
                      <a:pt x="22" y="9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1" y="16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6999120" y="4444560"/>
                <a:ext cx="496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6971040" y="4316400"/>
                <a:ext cx="28080" cy="127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22" y="8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6971040" y="4316760"/>
                <a:ext cx="115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flipV="1">
                <a:off x="6942960" y="4202280"/>
                <a:ext cx="2808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65640" y="4323240"/>
                <a:ext cx="83160" cy="213840"/>
              </a:xfrm>
              <a:custGeom>
                <a:avLst/>
                <a:gdLst/>
                <a:ahLst/>
                <a:rect l="l" t="t" r="r" b="b"/>
                <a:pathLst>
                  <a:path w="65" h="162">
                    <a:moveTo>
                      <a:pt x="65" y="162"/>
                    </a:moveTo>
                    <a:lnTo>
                      <a:pt x="65" y="162"/>
                    </a:lnTo>
                    <a:lnTo>
                      <a:pt x="22" y="13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65" y="16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flipV="1">
                <a:off x="6993360" y="4495680"/>
                <a:ext cx="5508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942960" y="4202280"/>
                <a:ext cx="39600" cy="120960"/>
              </a:xfrm>
              <a:custGeom>
                <a:avLst/>
                <a:gdLst/>
                <a:ahLst/>
                <a:rect l="l" t="t" r="r" b="b"/>
                <a:pathLst>
                  <a:path w="31" h="92">
                    <a:moveTo>
                      <a:pt x="31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965640" y="4323240"/>
                <a:ext cx="16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92920" y="4583160"/>
                <a:ext cx="44640" cy="457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35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92920" y="458316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8644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40" y="205"/>
                    </a:moveTo>
                    <a:lnTo>
                      <a:pt x="5" y="197"/>
                    </a:lnTo>
                    <a:lnTo>
                      <a:pt x="0" y="192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4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flipV="1">
                <a:off x="6892920" y="4582800"/>
                <a:ext cx="4464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6886440" y="4322880"/>
                <a:ext cx="3960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2640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26400" y="4202280"/>
                <a:ext cx="16200" cy="120960"/>
              </a:xfrm>
              <a:custGeom>
                <a:avLst/>
                <a:gdLst/>
                <a:ahLst/>
                <a:rect l="l" t="t" r="r" b="b"/>
                <a:pathLst>
                  <a:path w="13" h="92">
                    <a:moveTo>
                      <a:pt x="13" y="92"/>
                    </a:moveTo>
                    <a:lnTo>
                      <a:pt x="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6926040" y="4323240"/>
                <a:ext cx="16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926400" y="4202280"/>
                <a:ext cx="1620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931080" y="4593600"/>
                <a:ext cx="17640" cy="3528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693108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937560" y="4323240"/>
                <a:ext cx="56160" cy="270360"/>
              </a:xfrm>
              <a:custGeom>
                <a:avLst/>
                <a:gdLst/>
                <a:ahLst/>
                <a:rect l="l" t="t" r="r" b="b"/>
                <a:pathLst>
                  <a:path w="44" h="205">
                    <a:moveTo>
                      <a:pt x="0" y="205"/>
                    </a:moveTo>
                    <a:lnTo>
                      <a:pt x="9" y="205"/>
                    </a:lnTo>
                    <a:lnTo>
                      <a:pt x="44" y="131"/>
                    </a:lnTo>
                    <a:lnTo>
                      <a:pt x="22" y="0"/>
                    </a:lnTo>
                    <a:lnTo>
                      <a:pt x="4" y="0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937560" y="4593600"/>
                <a:ext cx="11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flipV="1">
                <a:off x="6965640" y="4323240"/>
                <a:ext cx="28080" cy="172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694260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42960" y="4202280"/>
                <a:ext cx="22680" cy="120960"/>
              </a:xfrm>
              <a:custGeom>
                <a:avLst/>
                <a:gdLst/>
                <a:ahLst/>
                <a:rect l="l" t="t" r="r" b="b"/>
                <a:pathLst>
                  <a:path w="18" h="92">
                    <a:moveTo>
                      <a:pt x="0" y="92"/>
                    </a:moveTo>
                    <a:lnTo>
                      <a:pt x="18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2960" y="4323240"/>
                <a:ext cx="22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6942600" y="4202280"/>
                <a:ext cx="22680" cy="12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892920" y="4583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30" y="35"/>
                    </a:moveTo>
                    <a:lnTo>
                      <a:pt x="30" y="35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6892920" y="4582800"/>
                <a:ext cx="38160" cy="45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92920" y="458316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831360" y="448416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48" y="75"/>
                    </a:lnTo>
                    <a:lnTo>
                      <a:pt x="43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6892560" y="4582800"/>
                <a:ext cx="1620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6886080" y="4576680"/>
                <a:ext cx="61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6831000" y="4484160"/>
                <a:ext cx="5508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69880" y="4593600"/>
                <a:ext cx="60840" cy="352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48" y="27"/>
                    </a:moveTo>
                    <a:lnTo>
                      <a:pt x="48" y="27"/>
                    </a:lnTo>
                    <a:lnTo>
                      <a:pt x="5" y="22"/>
                    </a:lnTo>
                    <a:lnTo>
                      <a:pt x="0" y="9"/>
                    </a:lnTo>
                    <a:lnTo>
                      <a:pt x="31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6869880" y="459324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1360" y="4484160"/>
                <a:ext cx="77760" cy="121320"/>
              </a:xfrm>
              <a:custGeom>
                <a:avLst/>
                <a:gdLst/>
                <a:ahLst/>
                <a:rect l="l" t="t" r="r" b="b"/>
                <a:pathLst>
                  <a:path w="61" h="92">
                    <a:moveTo>
                      <a:pt x="61" y="83"/>
                    </a:moveTo>
                    <a:lnTo>
                      <a:pt x="30" y="9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6869520" y="4593600"/>
                <a:ext cx="3924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70160" y="4600080"/>
                <a:ext cx="54720" cy="178200"/>
              </a:xfrm>
              <a:custGeom>
                <a:avLst/>
                <a:gdLst/>
                <a:ahLst/>
                <a:rect l="l" t="t" r="r" b="b"/>
                <a:pathLst>
                  <a:path w="43" h="135">
                    <a:moveTo>
                      <a:pt x="39" y="135"/>
                    </a:moveTo>
                    <a:lnTo>
                      <a:pt x="39" y="135"/>
                    </a:lnTo>
                    <a:lnTo>
                      <a:pt x="0" y="30"/>
                    </a:lnTo>
                    <a:lnTo>
                      <a:pt x="13" y="0"/>
                    </a:lnTo>
                    <a:lnTo>
                      <a:pt x="43" y="0"/>
                    </a:lnTo>
                    <a:lnTo>
                      <a:pt x="39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6770160" y="4600080"/>
                <a:ext cx="16200" cy="3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86720" y="4484160"/>
                <a:ext cx="44640" cy="115920"/>
              </a:xfrm>
              <a:custGeom>
                <a:avLst/>
                <a:gdLst/>
                <a:ahLst/>
                <a:rect l="l" t="t" r="r" b="b"/>
                <a:pathLst>
                  <a:path w="35" h="88">
                    <a:moveTo>
                      <a:pt x="30" y="88"/>
                    </a:moveTo>
                    <a:lnTo>
                      <a:pt x="0" y="88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6786720" y="4600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6786720" y="4484160"/>
                <a:ext cx="446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20200" y="4600080"/>
                <a:ext cx="56160" cy="178200"/>
              </a:xfrm>
              <a:custGeom>
                <a:avLst/>
                <a:gdLst/>
                <a:ahLst/>
                <a:rect l="l" t="t" r="r" b="b"/>
                <a:pathLst>
                  <a:path w="44" h="135">
                    <a:moveTo>
                      <a:pt x="0" y="135"/>
                    </a:moveTo>
                    <a:lnTo>
                      <a:pt x="0" y="135"/>
                    </a:lnTo>
                    <a:lnTo>
                      <a:pt x="44" y="17"/>
                    </a:lnTo>
                    <a:lnTo>
                      <a:pt x="39" y="4"/>
                    </a:lnTo>
                    <a:lnTo>
                      <a:pt x="4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6820200" y="4622760"/>
                <a:ext cx="5616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6869520" y="4605120"/>
                <a:ext cx="612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25240" y="4484160"/>
                <a:ext cx="44640" cy="121320"/>
              </a:xfrm>
              <a:custGeom>
                <a:avLst/>
                <a:gdLst/>
                <a:ahLst/>
                <a:rect l="l" t="t" r="r" b="b"/>
                <a:pathLst>
                  <a:path w="35" h="92">
                    <a:moveTo>
                      <a:pt x="0" y="88"/>
                    </a:moveTo>
                    <a:lnTo>
                      <a:pt x="35" y="9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25240" y="460008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6831000" y="4483800"/>
                <a:ext cx="3852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714000" y="4610880"/>
                <a:ext cx="56160" cy="22536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71"/>
                    </a:moveTo>
                    <a:lnTo>
                      <a:pt x="0" y="171"/>
                    </a:lnTo>
                    <a:lnTo>
                      <a:pt x="44" y="22"/>
                    </a:lnTo>
                    <a:lnTo>
                      <a:pt x="39" y="0"/>
                    </a:lnTo>
                    <a:lnTo>
                      <a:pt x="26" y="14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714000" y="4639680"/>
                <a:ext cx="5616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713640" y="462924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47120" y="4564440"/>
                <a:ext cx="1656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49"/>
                    </a:moveTo>
                    <a:lnTo>
                      <a:pt x="13" y="3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6747120" y="4610880"/>
                <a:ext cx="165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747120" y="456444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764040" y="4610880"/>
                <a:ext cx="56160" cy="167400"/>
              </a:xfrm>
              <a:custGeom>
                <a:avLst/>
                <a:gdLst/>
                <a:ahLst/>
                <a:rect l="l" t="t" r="r" b="b"/>
                <a:pathLst>
                  <a:path w="44" h="127">
                    <a:moveTo>
                      <a:pt x="44" y="127"/>
                    </a:moveTo>
                    <a:lnTo>
                      <a:pt x="44" y="127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9" y="14"/>
                    </a:lnTo>
                    <a:lnTo>
                      <a:pt x="44" y="1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6770160" y="4640040"/>
                <a:ext cx="49680" cy="13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76404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75200" y="4629240"/>
                <a:ext cx="4464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58640" y="4564440"/>
                <a:ext cx="16200" cy="64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49"/>
                    </a:moveTo>
                    <a:lnTo>
                      <a:pt x="4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6763680" y="4610880"/>
                <a:ext cx="11160" cy="1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58640" y="456444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52440" y="4629240"/>
                <a:ext cx="94320" cy="218880"/>
              </a:xfrm>
              <a:custGeom>
                <a:avLst/>
                <a:gdLst/>
                <a:ahLst/>
                <a:rect l="l" t="t" r="r" b="b"/>
                <a:pathLst>
                  <a:path w="74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48" y="157"/>
                    </a:lnTo>
                    <a:lnTo>
                      <a:pt x="74" y="0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6652440" y="4836600"/>
                <a:ext cx="6120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6714000" y="46288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673524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735600" y="4564440"/>
                <a:ext cx="22680" cy="6444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9"/>
                    </a:moveTo>
                    <a:lnTo>
                      <a:pt x="9" y="4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35600" y="4629240"/>
                <a:ext cx="11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6747120" y="4564080"/>
                <a:ext cx="1152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52440" y="4629240"/>
                <a:ext cx="89280" cy="218880"/>
              </a:xfrm>
              <a:custGeom>
                <a:avLst/>
                <a:gdLst/>
                <a:ahLst/>
                <a:rect l="l" t="t" r="r" b="b"/>
                <a:pathLst>
                  <a:path w="70" h="166">
                    <a:moveTo>
                      <a:pt x="0" y="166"/>
                    </a:moveTo>
                    <a:lnTo>
                      <a:pt x="0" y="166"/>
                    </a:lnTo>
                    <a:lnTo>
                      <a:pt x="35" y="161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6652440" y="484164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6697080" y="4634640"/>
                <a:ext cx="44640" cy="20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673524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735600" y="4564440"/>
                <a:ext cx="22680" cy="69840"/>
              </a:xfrm>
              <a:custGeom>
                <a:avLst/>
                <a:gdLst/>
                <a:ahLst/>
                <a:rect l="l" t="t" r="r" b="b"/>
                <a:pathLst>
                  <a:path w="18" h="53">
                    <a:moveTo>
                      <a:pt x="0" y="49"/>
                    </a:moveTo>
                    <a:lnTo>
                      <a:pt x="5" y="5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735600" y="4629240"/>
                <a:ext cx="61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6742080" y="456444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96280" y="4841640"/>
                <a:ext cx="100800" cy="69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44" y="5"/>
                    </a:moveTo>
                    <a:lnTo>
                      <a:pt x="0" y="44"/>
                    </a:lnTo>
                    <a:lnTo>
                      <a:pt x="35" y="53"/>
                    </a:lnTo>
                    <a:lnTo>
                      <a:pt x="79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28240" y="4899600"/>
                <a:ext cx="112320" cy="28800"/>
              </a:xfrm>
              <a:custGeom>
                <a:avLst/>
                <a:gdLst/>
                <a:ahLst/>
                <a:rect l="l" t="t" r="r" b="b"/>
                <a:pathLst>
                  <a:path w="88" h="22">
                    <a:moveTo>
                      <a:pt x="53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467040" y="4911480"/>
                <a:ext cx="105840" cy="34200"/>
              </a:xfrm>
              <a:custGeom>
                <a:avLst/>
                <a:gdLst/>
                <a:ahLst/>
                <a:rect l="l" t="t" r="r" b="b"/>
                <a:pathLst>
                  <a:path w="83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3" y="1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363800" y="473220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312320" y="47440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40" y="0"/>
                    </a:moveTo>
                    <a:lnTo>
                      <a:pt x="0" y="9"/>
                    </a:lnTo>
                    <a:lnTo>
                      <a:pt x="40" y="22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262280" y="4749480"/>
                <a:ext cx="10116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5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9" y="18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211520" y="4721760"/>
                <a:ext cx="100800" cy="56520"/>
              </a:xfrm>
              <a:custGeom>
                <a:avLst/>
                <a:gdLst/>
                <a:ahLst/>
                <a:rect l="l" t="t" r="r" b="b"/>
                <a:pathLst>
                  <a:path w="79" h="43">
                    <a:moveTo>
                      <a:pt x="40" y="21"/>
                    </a:moveTo>
                    <a:lnTo>
                      <a:pt x="0" y="17"/>
                    </a:lnTo>
                    <a:lnTo>
                      <a:pt x="35" y="0"/>
                    </a:lnTo>
                    <a:lnTo>
                      <a:pt x="79" y="43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1480" y="4547520"/>
                <a:ext cx="49680" cy="196200"/>
              </a:xfrm>
              <a:custGeom>
                <a:avLst/>
                <a:gdLst/>
                <a:ahLst/>
                <a:rect l="l" t="t" r="r" b="b"/>
                <a:pathLst>
                  <a:path w="39" h="149">
                    <a:moveTo>
                      <a:pt x="39" y="149"/>
                    </a:moveTo>
                    <a:lnTo>
                      <a:pt x="39" y="149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39" y="1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7161480" y="4547160"/>
                <a:ext cx="49680" cy="196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56440" y="4455000"/>
                <a:ext cx="49680" cy="9864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39" y="75"/>
                    </a:moveTo>
                    <a:lnTo>
                      <a:pt x="4" y="70"/>
                    </a:lnTo>
                    <a:lnTo>
                      <a:pt x="0" y="57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161480" y="4547520"/>
                <a:ext cx="446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7156440" y="4530240"/>
                <a:ext cx="504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7156440" y="4454640"/>
                <a:ext cx="496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06120" y="4554000"/>
                <a:ext cx="49680" cy="189720"/>
              </a:xfrm>
              <a:custGeom>
                <a:avLst/>
                <a:gdLst/>
                <a:ahLst/>
                <a:rect l="l" t="t" r="r" b="b"/>
                <a:pathLst>
                  <a:path w="39" h="144">
                    <a:moveTo>
                      <a:pt x="4" y="144"/>
                    </a:moveTo>
                    <a:lnTo>
                      <a:pt x="4" y="144"/>
                    </a:lnTo>
                    <a:lnTo>
                      <a:pt x="39" y="127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4" y="14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211520" y="4721760"/>
                <a:ext cx="446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flipV="1">
                <a:off x="7228080" y="455940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flipV="1"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06120" y="4455000"/>
                <a:ext cx="21600" cy="10404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5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206120" y="4554000"/>
                <a:ext cx="216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7206120" y="4454640"/>
                <a:ext cx="21600" cy="10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05320" y="4392000"/>
                <a:ext cx="100800" cy="138240"/>
              </a:xfrm>
              <a:custGeom>
                <a:avLst/>
                <a:gdLst/>
                <a:ahLst/>
                <a:rect l="l" t="t" r="r" b="b"/>
                <a:pathLst>
                  <a:path w="79" h="105">
                    <a:moveTo>
                      <a:pt x="40" y="105"/>
                    </a:moveTo>
                    <a:lnTo>
                      <a:pt x="0" y="0"/>
                    </a:lnTo>
                    <a:lnTo>
                      <a:pt x="35" y="18"/>
                    </a:lnTo>
                    <a:lnTo>
                      <a:pt x="79" y="48"/>
                    </a:lnTo>
                    <a:lnTo>
                      <a:pt x="40" y="105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48800" y="4392000"/>
                <a:ext cx="100800" cy="162000"/>
              </a:xfrm>
              <a:custGeom>
                <a:avLst/>
                <a:gdLst/>
                <a:ahLst/>
                <a:rect l="l" t="t" r="r" b="b"/>
                <a:pathLst>
                  <a:path w="79" h="123">
                    <a:moveTo>
                      <a:pt x="44" y="0"/>
                    </a:moveTo>
                    <a:lnTo>
                      <a:pt x="0" y="110"/>
                    </a:lnTo>
                    <a:lnTo>
                      <a:pt x="35" y="123"/>
                    </a:lnTo>
                    <a:lnTo>
                      <a:pt x="79" y="1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78" h="44">
                    <a:moveTo>
                      <a:pt x="78" y="44"/>
                    </a:moveTo>
                    <a:lnTo>
                      <a:pt x="43" y="31"/>
                    </a:lnTo>
                    <a:lnTo>
                      <a:pt x="0" y="0"/>
                    </a:lnTo>
                    <a:lnTo>
                      <a:pt x="78" y="44"/>
                    </a:lnTo>
                    <a:lnTo>
                      <a:pt x="78" y="4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93720" y="4496040"/>
                <a:ext cx="99720" cy="57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10"/>
                    </a:moveTo>
                    <a:lnTo>
                      <a:pt x="10" y="7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993720" y="449604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78" h="74">
                    <a:moveTo>
                      <a:pt x="35" y="74"/>
                    </a:moveTo>
                    <a:lnTo>
                      <a:pt x="35" y="74"/>
                    </a:lnTo>
                    <a:lnTo>
                      <a:pt x="78" y="4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720" y="459360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31080" y="4593600"/>
                <a:ext cx="230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27"/>
                    </a:moveTo>
                    <a:lnTo>
                      <a:pt x="0" y="27"/>
                    </a:lnTo>
                    <a:lnTo>
                      <a:pt x="18" y="5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930720" y="4593600"/>
                <a:ext cx="1764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49080" y="4496040"/>
                <a:ext cx="44640" cy="104040"/>
              </a:xfrm>
              <a:custGeom>
                <a:avLst/>
                <a:gdLst/>
                <a:ahLst/>
                <a:rect l="l" t="t" r="r" b="b"/>
                <a:pathLst>
                  <a:path w="35" h="79">
                    <a:moveTo>
                      <a:pt x="0" y="74"/>
                    </a:moveTo>
                    <a:lnTo>
                      <a:pt x="4" y="79"/>
                    </a:lnTo>
                    <a:lnTo>
                      <a:pt x="26" y="39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49080" y="4593600"/>
                <a:ext cx="50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94908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38720" y="459360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038720" y="460008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82560" y="4496040"/>
                <a:ext cx="56160" cy="10404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4"/>
                    </a:moveTo>
                    <a:lnTo>
                      <a:pt x="44" y="79"/>
                    </a:lnTo>
                    <a:lnTo>
                      <a:pt x="0" y="3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38720" y="459360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 flipV="1">
                <a:off x="6982560" y="454752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93720" y="4496040"/>
                <a:ext cx="4464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876360" y="4600080"/>
                <a:ext cx="77760" cy="2880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43" y="22"/>
                    </a:moveTo>
                    <a:lnTo>
                      <a:pt x="43" y="22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61" y="0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6876360" y="4622760"/>
                <a:ext cx="54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6931080" y="4600080"/>
                <a:ext cx="2304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04440" y="4547520"/>
                <a:ext cx="77760" cy="57960"/>
              </a:xfrm>
              <a:custGeom>
                <a:avLst/>
                <a:gdLst/>
                <a:ahLst/>
                <a:rect l="l" t="t" r="r" b="b"/>
                <a:pathLst>
                  <a:path w="61" h="44">
                    <a:moveTo>
                      <a:pt x="39" y="40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904440" y="46000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954480" y="4547520"/>
                <a:ext cx="2808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6511320" y="4415400"/>
              <a:ext cx="1098360" cy="583200"/>
              <a:chOff x="6511320" y="4415400"/>
              <a:chExt cx="1098360" cy="583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6876360" y="4605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35" y="61"/>
                    </a:moveTo>
                    <a:lnTo>
                      <a:pt x="35" y="61"/>
                    </a:lnTo>
                    <a:lnTo>
                      <a:pt x="0" y="13"/>
                    </a:lnTo>
                    <a:lnTo>
                      <a:pt x="22" y="0"/>
                    </a:lnTo>
                    <a:lnTo>
                      <a:pt x="61" y="4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6876360" y="4622400"/>
                <a:ext cx="446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04440" y="4547160"/>
                <a:ext cx="78120" cy="6336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39" y="48"/>
                    </a:moveTo>
                    <a:lnTo>
                      <a:pt x="0" y="44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6904440" y="460512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19840" y="4622400"/>
                <a:ext cx="100800" cy="15588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44" y="0"/>
                    </a:moveTo>
                    <a:lnTo>
                      <a:pt x="0" y="118"/>
                    </a:lnTo>
                    <a:lnTo>
                      <a:pt x="35" y="40"/>
                    </a:lnTo>
                    <a:lnTo>
                      <a:pt x="79" y="4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74840" y="4628880"/>
                <a:ext cx="89640" cy="149040"/>
              </a:xfrm>
              <a:custGeom>
                <a:avLst/>
                <a:gdLst/>
                <a:ahLst/>
                <a:rect l="l" t="t" r="r" b="b"/>
                <a:pathLst>
                  <a:path w="70" h="113">
                    <a:moveTo>
                      <a:pt x="35" y="113"/>
                    </a:moveTo>
                    <a:lnTo>
                      <a:pt x="35" y="113"/>
                    </a:lnTo>
                    <a:lnTo>
                      <a:pt x="70" y="35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35" y="1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6819840" y="4674960"/>
                <a:ext cx="446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677448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774840" y="4628880"/>
                <a:ext cx="45000" cy="14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758280" y="4564080"/>
                <a:ext cx="61560" cy="644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13" y="49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774840" y="4628880"/>
                <a:ext cx="45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758280" y="4564080"/>
                <a:ext cx="16200" cy="64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769800" y="4628880"/>
                <a:ext cx="94680" cy="21240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26" y="161"/>
                    </a:moveTo>
                    <a:lnTo>
                      <a:pt x="26" y="161"/>
                    </a:lnTo>
                    <a:lnTo>
                      <a:pt x="74" y="35"/>
                    </a:lnTo>
                    <a:lnTo>
                      <a:pt x="39" y="0"/>
                    </a:lnTo>
                    <a:lnTo>
                      <a:pt x="0" y="4"/>
                    </a:lnTo>
                    <a:lnTo>
                      <a:pt x="26" y="16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6802920" y="4674960"/>
                <a:ext cx="61560" cy="165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758280" y="4564080"/>
                <a:ext cx="61560" cy="698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9" y="53"/>
                    </a:moveTo>
                    <a:lnTo>
                      <a:pt x="48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769800" y="4628880"/>
                <a:ext cx="496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696720" y="4634280"/>
                <a:ext cx="55080" cy="207000"/>
              </a:xfrm>
              <a:custGeom>
                <a:avLst/>
                <a:gdLst/>
                <a:ahLst/>
                <a:rect l="l" t="t" r="r" b="b"/>
                <a:pathLst>
                  <a:path w="43" h="157">
                    <a:moveTo>
                      <a:pt x="0" y="157"/>
                    </a:moveTo>
                    <a:lnTo>
                      <a:pt x="0" y="157"/>
                    </a:lnTo>
                    <a:lnTo>
                      <a:pt x="35" y="70"/>
                    </a:lnTo>
                    <a:lnTo>
                      <a:pt x="43" y="4"/>
                    </a:lnTo>
                    <a:lnTo>
                      <a:pt x="35" y="0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6696720" y="4726800"/>
                <a:ext cx="450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696360" y="4634280"/>
                <a:ext cx="4500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41720" y="4564080"/>
                <a:ext cx="16200" cy="7524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0" y="53"/>
                    </a:moveTo>
                    <a:lnTo>
                      <a:pt x="8" y="5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741720" y="4634280"/>
                <a:ext cx="1008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6741360" y="4564080"/>
                <a:ext cx="162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41720" y="4634280"/>
                <a:ext cx="61200" cy="20700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48" y="157"/>
                    </a:moveTo>
                    <a:lnTo>
                      <a:pt x="48" y="157"/>
                    </a:lnTo>
                    <a:lnTo>
                      <a:pt x="0" y="70"/>
                    </a:lnTo>
                    <a:lnTo>
                      <a:pt x="8" y="4"/>
                    </a:lnTo>
                    <a:lnTo>
                      <a:pt x="22" y="0"/>
                    </a:lnTo>
                    <a:lnTo>
                      <a:pt x="48" y="15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6741720" y="4726800"/>
                <a:ext cx="61200" cy="114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69800" y="4634280"/>
                <a:ext cx="32760" cy="20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51800" y="4564080"/>
                <a:ext cx="18000" cy="7524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4" y="53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4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6751800" y="4634280"/>
                <a:ext cx="180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8280" y="4564080"/>
                <a:ext cx="1152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40560" y="4726800"/>
                <a:ext cx="101160" cy="184320"/>
              </a:xfrm>
              <a:custGeom>
                <a:avLst/>
                <a:gdLst/>
                <a:ahLst/>
                <a:rect l="l" t="t" r="r" b="b"/>
                <a:pathLst>
                  <a:path w="79" h="140">
                    <a:moveTo>
                      <a:pt x="44" y="87"/>
                    </a:moveTo>
                    <a:lnTo>
                      <a:pt x="0" y="140"/>
                    </a:lnTo>
                    <a:lnTo>
                      <a:pt x="35" y="131"/>
                    </a:lnTo>
                    <a:lnTo>
                      <a:pt x="79" y="0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2880" y="4899600"/>
                <a:ext cx="112680" cy="40680"/>
              </a:xfrm>
              <a:custGeom>
                <a:avLst/>
                <a:gdLst/>
                <a:ahLst/>
                <a:rect l="l" t="t" r="r" b="b"/>
                <a:pathLst>
                  <a:path w="88" h="31">
                    <a:moveTo>
                      <a:pt x="53" y="9"/>
                    </a:moveTo>
                    <a:lnTo>
                      <a:pt x="0" y="22"/>
                    </a:lnTo>
                    <a:lnTo>
                      <a:pt x="40" y="31"/>
                    </a:lnTo>
                    <a:lnTo>
                      <a:pt x="88" y="0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511320" y="4928400"/>
                <a:ext cx="112680" cy="3420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48" y="0"/>
                    </a:moveTo>
                    <a:lnTo>
                      <a:pt x="0" y="13"/>
                    </a:lnTo>
                    <a:lnTo>
                      <a:pt x="35" y="26"/>
                    </a:lnTo>
                    <a:lnTo>
                      <a:pt x="88" y="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414200" y="474912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39" y="0"/>
                    </a:moveTo>
                    <a:lnTo>
                      <a:pt x="0" y="9"/>
                    </a:lnTo>
                    <a:lnTo>
                      <a:pt x="39" y="18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364160" y="4761000"/>
                <a:ext cx="99720" cy="2376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39" y="0"/>
                    </a:moveTo>
                    <a:lnTo>
                      <a:pt x="0" y="9"/>
                    </a:lnTo>
                    <a:lnTo>
                      <a:pt x="35" y="18"/>
                    </a:lnTo>
                    <a:lnTo>
                      <a:pt x="78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312680" y="4772880"/>
                <a:ext cx="96120" cy="2232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40" y="0"/>
                    </a:moveTo>
                    <a:lnTo>
                      <a:pt x="0" y="4"/>
                    </a:lnTo>
                    <a:lnTo>
                      <a:pt x="35" y="17"/>
                    </a:lnTo>
                    <a:lnTo>
                      <a:pt x="75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56520" y="4721400"/>
                <a:ext cx="101160" cy="7380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44" y="43"/>
                    </a:moveTo>
                    <a:lnTo>
                      <a:pt x="0" y="0"/>
                    </a:lnTo>
                    <a:lnTo>
                      <a:pt x="40" y="35"/>
                    </a:lnTo>
                    <a:lnTo>
                      <a:pt x="79" y="56"/>
                    </a:lnTo>
                    <a:lnTo>
                      <a:pt x="44" y="4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228440" y="4559040"/>
                <a:ext cx="79560" cy="208080"/>
              </a:xfrm>
              <a:custGeom>
                <a:avLst/>
                <a:gdLst/>
                <a:ahLst/>
                <a:rect l="l" t="t" r="r" b="b"/>
                <a:pathLst>
                  <a:path w="62" h="158">
                    <a:moveTo>
                      <a:pt x="62" y="158"/>
                    </a:moveTo>
                    <a:lnTo>
                      <a:pt x="62" y="158"/>
                    </a:lnTo>
                    <a:lnTo>
                      <a:pt x="22" y="1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62" y="1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flipV="1">
                <a:off x="7256520" y="4721400"/>
                <a:ext cx="51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 flipV="1">
                <a:off x="7228440" y="4559040"/>
                <a:ext cx="28080" cy="16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06480" y="4454640"/>
                <a:ext cx="33120" cy="109440"/>
              </a:xfrm>
              <a:custGeom>
                <a:avLst/>
                <a:gdLst/>
                <a:ahLst/>
                <a:rect l="l" t="t" r="r" b="b"/>
                <a:pathLst>
                  <a:path w="26" h="83">
                    <a:moveTo>
                      <a:pt x="26" y="83"/>
                    </a:moveTo>
                    <a:lnTo>
                      <a:pt x="17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 flipV="1">
                <a:off x="7228440" y="4559040"/>
                <a:ext cx="1152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7206480" y="4454640"/>
                <a:ext cx="21600" cy="10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39960" y="4564080"/>
                <a:ext cx="67680" cy="203040"/>
              </a:xfrm>
              <a:custGeom>
                <a:avLst/>
                <a:gdLst/>
                <a:ahLst/>
                <a:rect l="l" t="t" r="r" b="b"/>
                <a:pathLst>
                  <a:path w="53" h="154">
                    <a:moveTo>
                      <a:pt x="53" y="154"/>
                    </a:moveTo>
                    <a:lnTo>
                      <a:pt x="53" y="154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flipV="1">
                <a:off x="7262640" y="457596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flipV="1">
                <a:off x="7239600" y="456372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06480" y="4454640"/>
                <a:ext cx="56160" cy="121320"/>
              </a:xfrm>
              <a:custGeom>
                <a:avLst/>
                <a:gdLst/>
                <a:ahLst/>
                <a:rect l="l" t="t" r="r" b="b"/>
                <a:pathLst>
                  <a:path w="44" h="92">
                    <a:moveTo>
                      <a:pt x="26" y="83"/>
                    </a:moveTo>
                    <a:lnTo>
                      <a:pt x="44" y="92"/>
                    </a:lnTo>
                    <a:lnTo>
                      <a:pt x="35" y="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6" y="8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39960" y="4564080"/>
                <a:ext cx="2268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flipV="1">
                <a:off x="7251120" y="453636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flipV="1">
                <a:off x="7206120" y="4454280"/>
                <a:ext cx="45000" cy="8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150320" y="4415400"/>
                <a:ext cx="101160" cy="148680"/>
              </a:xfrm>
              <a:custGeom>
                <a:avLst/>
                <a:gdLst/>
                <a:ahLst/>
                <a:rect l="l" t="t" r="r" b="b"/>
                <a:pathLst>
                  <a:path w="79" h="113">
                    <a:moveTo>
                      <a:pt x="44" y="30"/>
                    </a:moveTo>
                    <a:lnTo>
                      <a:pt x="0" y="0"/>
                    </a:lnTo>
                    <a:lnTo>
                      <a:pt x="40" y="113"/>
                    </a:lnTo>
                    <a:lnTo>
                      <a:pt x="79" y="92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093800" y="4415400"/>
                <a:ext cx="107640" cy="167400"/>
              </a:xfrm>
              <a:custGeom>
                <a:avLst/>
                <a:gdLst/>
                <a:ahLst/>
                <a:rect l="l" t="t" r="r" b="b"/>
                <a:pathLst>
                  <a:path w="84" h="127">
                    <a:moveTo>
                      <a:pt x="44" y="0"/>
                    </a:moveTo>
                    <a:lnTo>
                      <a:pt x="0" y="105"/>
                    </a:lnTo>
                    <a:lnTo>
                      <a:pt x="40" y="127"/>
                    </a:lnTo>
                    <a:lnTo>
                      <a:pt x="84" y="1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038720" y="459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03836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38720" y="4593240"/>
                <a:ext cx="1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38720" y="4553640"/>
                <a:ext cx="106200" cy="39240"/>
              </a:xfrm>
              <a:custGeom>
                <a:avLst/>
                <a:gdLst/>
                <a:ahLst/>
                <a:rect l="l" t="t" r="r" b="b"/>
                <a:pathLst>
                  <a:path w="83" h="30">
                    <a:moveTo>
                      <a:pt x="0" y="30"/>
                    </a:moveTo>
                    <a:lnTo>
                      <a:pt x="4" y="30"/>
                    </a:lnTo>
                    <a:lnTo>
                      <a:pt x="83" y="2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38720" y="459324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 flipV="1">
                <a:off x="7093800" y="4553640"/>
                <a:ext cx="5112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7038720" y="4553640"/>
                <a:ext cx="5472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038720" y="4593240"/>
                <a:ext cx="89280" cy="6984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39" y="53"/>
                    </a:moveTo>
                    <a:lnTo>
                      <a:pt x="39" y="53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70" y="5"/>
                    </a:ln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08840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43760" y="4582800"/>
                <a:ext cx="10116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66" y="13"/>
                    </a:moveTo>
                    <a:lnTo>
                      <a:pt x="0" y="8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7043760" y="4593240"/>
                <a:ext cx="84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7128360" y="458280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38720" y="4599720"/>
                <a:ext cx="49680" cy="63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39" y="48"/>
                    </a:moveTo>
                    <a:lnTo>
                      <a:pt x="39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7038720" y="459972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038720" y="4599720"/>
                <a:ext cx="1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038720" y="459972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48"/>
                    </a:move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7038720" y="4599360"/>
                <a:ext cx="1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6982560" y="4547160"/>
                <a:ext cx="5616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93720" y="4610520"/>
                <a:ext cx="94680" cy="145080"/>
              </a:xfrm>
              <a:custGeom>
                <a:avLst/>
                <a:gdLst/>
                <a:ahLst/>
                <a:rect l="l" t="t" r="r" b="b"/>
                <a:pathLst>
                  <a:path w="74" h="110">
                    <a:moveTo>
                      <a:pt x="26" y="110"/>
                    </a:moveTo>
                    <a:lnTo>
                      <a:pt x="26" y="110"/>
                    </a:lnTo>
                    <a:lnTo>
                      <a:pt x="74" y="4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6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99336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82560" y="4547160"/>
                <a:ext cx="56160" cy="633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9" y="48"/>
                    </a:moveTo>
                    <a:lnTo>
                      <a:pt x="44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93720" y="4610520"/>
                <a:ext cx="45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1000" y="4610520"/>
                <a:ext cx="56160" cy="138240"/>
              </a:xfrm>
              <a:custGeom>
                <a:avLst/>
                <a:gdLst/>
                <a:ahLst/>
                <a:rect l="l" t="t" r="r" b="b"/>
                <a:pathLst>
                  <a:path w="44" h="105">
                    <a:moveTo>
                      <a:pt x="39" y="105"/>
                    </a:moveTo>
                    <a:lnTo>
                      <a:pt x="39" y="105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44" y="5"/>
                    </a:lnTo>
                    <a:lnTo>
                      <a:pt x="39" y="10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6921000" y="4685760"/>
                <a:ext cx="496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921000" y="4610520"/>
                <a:ext cx="33120" cy="7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5448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54480" y="4547160"/>
                <a:ext cx="28080" cy="6984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18" y="53"/>
                    </a:moveTo>
                    <a:lnTo>
                      <a:pt x="0" y="4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6954120" y="4610520"/>
                <a:ext cx="226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6954480" y="4547160"/>
                <a:ext cx="2808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971040" y="4610520"/>
                <a:ext cx="56160" cy="145080"/>
              </a:xfrm>
              <a:custGeom>
                <a:avLst/>
                <a:gdLst/>
                <a:ahLst/>
                <a:rect l="l" t="t" r="r" b="b"/>
                <a:pathLst>
                  <a:path w="44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0" y="105"/>
                    </a:lnTo>
                    <a:lnTo>
                      <a:pt x="5" y="5"/>
                    </a:lnTo>
                    <a:lnTo>
                      <a:pt x="18" y="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97716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93720" y="4610520"/>
                <a:ext cx="33120" cy="14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77160" y="454716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13" y="48"/>
                    </a:moveTo>
                    <a:lnTo>
                      <a:pt x="0" y="5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3" y="4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6976800" y="4610520"/>
                <a:ext cx="162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82560" y="4547160"/>
                <a:ext cx="1116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6448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8"/>
                    </a:moveTo>
                    <a:lnTo>
                      <a:pt x="0" y="0"/>
                    </a:lnTo>
                    <a:lnTo>
                      <a:pt x="35" y="131"/>
                    </a:lnTo>
                    <a:lnTo>
                      <a:pt x="83" y="56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802920" y="467532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8" y="0"/>
                    </a:moveTo>
                    <a:lnTo>
                      <a:pt x="0" y="126"/>
                    </a:lnTo>
                    <a:lnTo>
                      <a:pt x="39" y="78"/>
                    </a:lnTo>
                    <a:lnTo>
                      <a:pt x="83" y="13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741720" y="4726800"/>
                <a:ext cx="111240" cy="1144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8" y="87"/>
                    </a:moveTo>
                    <a:lnTo>
                      <a:pt x="0" y="0"/>
                    </a:lnTo>
                    <a:lnTo>
                      <a:pt x="39" y="17"/>
                    </a:lnTo>
                    <a:lnTo>
                      <a:pt x="87" y="39"/>
                    </a:lnTo>
                    <a:lnTo>
                      <a:pt x="48" y="87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685560" y="4726800"/>
                <a:ext cx="106200" cy="172440"/>
              </a:xfrm>
              <a:custGeom>
                <a:avLst/>
                <a:gdLst/>
                <a:ahLst/>
                <a:rect l="l" t="t" r="r" b="b"/>
                <a:pathLst>
                  <a:path w="83" h="131">
                    <a:moveTo>
                      <a:pt x="44" y="0"/>
                    </a:moveTo>
                    <a:lnTo>
                      <a:pt x="0" y="131"/>
                    </a:lnTo>
                    <a:lnTo>
                      <a:pt x="35" y="122"/>
                    </a:lnTo>
                    <a:lnTo>
                      <a:pt x="83" y="17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624000" y="4887720"/>
                <a:ext cx="106200" cy="64440"/>
              </a:xfrm>
              <a:custGeom>
                <a:avLst/>
                <a:gdLst/>
                <a:ahLst/>
                <a:rect l="l" t="t" r="r" b="b"/>
                <a:pathLst>
                  <a:path w="83" h="49">
                    <a:moveTo>
                      <a:pt x="48" y="9"/>
                    </a:moveTo>
                    <a:lnTo>
                      <a:pt x="0" y="40"/>
                    </a:lnTo>
                    <a:lnTo>
                      <a:pt x="35" y="49"/>
                    </a:lnTo>
                    <a:lnTo>
                      <a:pt x="83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555960" y="4940280"/>
                <a:ext cx="112680" cy="39240"/>
              </a:xfrm>
              <a:custGeom>
                <a:avLst/>
                <a:gdLst/>
                <a:ahLst/>
                <a:rect l="l" t="t" r="r" b="b"/>
                <a:pathLst>
                  <a:path w="88" h="30">
                    <a:moveTo>
                      <a:pt x="53" y="0"/>
                    </a:moveTo>
                    <a:lnTo>
                      <a:pt x="0" y="17"/>
                    </a:lnTo>
                    <a:lnTo>
                      <a:pt x="35" y="30"/>
                    </a:lnTo>
                    <a:lnTo>
                      <a:pt x="88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464240" y="4761000"/>
                <a:ext cx="95760" cy="28800"/>
              </a:xfrm>
              <a:custGeom>
                <a:avLst/>
                <a:gdLst/>
                <a:ahLst/>
                <a:rect l="l" t="t" r="r" b="b"/>
                <a:pathLst>
                  <a:path w="75" h="22">
                    <a:moveTo>
                      <a:pt x="40" y="0"/>
                    </a:moveTo>
                    <a:lnTo>
                      <a:pt x="0" y="9"/>
                    </a:lnTo>
                    <a:lnTo>
                      <a:pt x="35" y="22"/>
                    </a:lnTo>
                    <a:lnTo>
                      <a:pt x="75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08800" y="477288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43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57680" y="4784760"/>
                <a:ext cx="100800" cy="16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40" y="0"/>
                    </a:moveTo>
                    <a:lnTo>
                      <a:pt x="0" y="8"/>
                    </a:lnTo>
                    <a:lnTo>
                      <a:pt x="40" y="13"/>
                    </a:lnTo>
                    <a:lnTo>
                      <a:pt x="79" y="1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08000" y="4685760"/>
                <a:ext cx="100800" cy="11592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9" y="83"/>
                    </a:moveTo>
                    <a:lnTo>
                      <a:pt x="0" y="62"/>
                    </a:lnTo>
                    <a:lnTo>
                      <a:pt x="39" y="0"/>
                    </a:lnTo>
                    <a:lnTo>
                      <a:pt x="79" y="8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63000" y="4576320"/>
                <a:ext cx="94680" cy="19116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35" y="145"/>
                    </a:moveTo>
                    <a:lnTo>
                      <a:pt x="35" y="145"/>
                    </a:lnTo>
                    <a:lnTo>
                      <a:pt x="74" y="8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35" y="1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308000" y="4685760"/>
                <a:ext cx="49680" cy="81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263000" y="4576320"/>
                <a:ext cx="45000" cy="19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251480" y="4536720"/>
                <a:ext cx="28080" cy="3924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9" y="30"/>
                    </a:moveTo>
                    <a:lnTo>
                      <a:pt x="22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63000" y="4576320"/>
                <a:ext cx="16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251480" y="4536720"/>
                <a:ext cx="1116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279560" y="4576320"/>
                <a:ext cx="78120" cy="10944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1" y="83"/>
                    </a:moveTo>
                    <a:lnTo>
                      <a:pt x="61" y="83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61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flipV="1">
                <a:off x="7279560" y="457596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251480" y="453672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22" y="30"/>
                    </a:moveTo>
                    <a:lnTo>
                      <a:pt x="39" y="39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279560" y="4576320"/>
                <a:ext cx="216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 flipV="1">
                <a:off x="7251480" y="4536720"/>
                <a:ext cx="496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01440" y="4536720"/>
                <a:ext cx="99720" cy="511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39" y="0"/>
                    </a:moveTo>
                    <a:lnTo>
                      <a:pt x="0" y="21"/>
                    </a:lnTo>
                    <a:lnTo>
                      <a:pt x="35" y="26"/>
                    </a:lnTo>
                    <a:lnTo>
                      <a:pt x="78" y="3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145280" y="4564080"/>
                <a:ext cx="100800" cy="2376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4" y="0"/>
                    </a:moveTo>
                    <a:lnTo>
                      <a:pt x="0" y="14"/>
                    </a:lnTo>
                    <a:lnTo>
                      <a:pt x="35" y="18"/>
                    </a:lnTo>
                    <a:lnTo>
                      <a:pt x="79" y="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33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88760" y="4599720"/>
                <a:ext cx="67320" cy="633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0" y="48"/>
                    </a:lnTo>
                    <a:lnTo>
                      <a:pt x="31" y="0"/>
                    </a:lnTo>
                    <a:lnTo>
                      <a:pt x="53" y="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7088760" y="4599720"/>
                <a:ext cx="3924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28360" y="459972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128360" y="4582800"/>
                <a:ext cx="6156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22" y="21"/>
                    </a:moveTo>
                    <a:lnTo>
                      <a:pt x="0" y="13"/>
                    </a:lnTo>
                    <a:lnTo>
                      <a:pt x="13" y="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7128360" y="4599360"/>
                <a:ext cx="2808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7128360" y="4582440"/>
                <a:ext cx="16560" cy="16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4582800"/>
                <a:ext cx="446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88760" y="4610520"/>
                <a:ext cx="78120" cy="5256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0" y="40"/>
                    </a:moveTo>
                    <a:lnTo>
                      <a:pt x="0" y="40"/>
                    </a:lnTo>
                    <a:lnTo>
                      <a:pt x="35" y="40"/>
                    </a:lnTo>
                    <a:lnTo>
                      <a:pt x="61" y="5"/>
                    </a:lnTo>
                    <a:lnTo>
                      <a:pt x="53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7133760" y="4617360"/>
                <a:ext cx="3312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715608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156440" y="458820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7"/>
                    </a:moveTo>
                    <a:lnTo>
                      <a:pt x="8" y="2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156440" y="4610520"/>
                <a:ext cx="10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7166880" y="4588200"/>
                <a:ext cx="22680" cy="2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27200" y="4622400"/>
                <a:ext cx="61560" cy="1332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0" y="101"/>
                    </a:moveTo>
                    <a:lnTo>
                      <a:pt x="0" y="101"/>
                    </a:lnTo>
                    <a:lnTo>
                      <a:pt x="48" y="31"/>
                    </a:lnTo>
                    <a:lnTo>
                      <a:pt x="44" y="0"/>
                    </a:lnTo>
                    <a:lnTo>
                      <a:pt x="31" y="9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7027200" y="4663440"/>
                <a:ext cx="61560" cy="9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7066800" y="462240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067160" y="4588200"/>
                <a:ext cx="16200" cy="4608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5"/>
                    </a:moveTo>
                    <a:lnTo>
                      <a:pt x="13" y="2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7067160" y="4622040"/>
                <a:ext cx="16200" cy="1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083720" y="4622400"/>
                <a:ext cx="49680" cy="40680"/>
              </a:xfrm>
              <a:custGeom>
                <a:avLst/>
                <a:gdLst/>
                <a:ahLst/>
                <a:rect l="l" t="t" r="r" b="b"/>
                <a:pathLst>
                  <a:path w="39" h="31">
                    <a:moveTo>
                      <a:pt x="4" y="31"/>
                    </a:moveTo>
                    <a:lnTo>
                      <a:pt x="4" y="31"/>
                    </a:lnTo>
                    <a:lnTo>
                      <a:pt x="39" y="31"/>
                    </a:lnTo>
                    <a:lnTo>
                      <a:pt x="22" y="5"/>
                    </a:lnTo>
                    <a:lnTo>
                      <a:pt x="0" y="0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088760" y="4663440"/>
                <a:ext cx="446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>
                <a:off x="7111800" y="4628520"/>
                <a:ext cx="21600" cy="3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077240" y="4588200"/>
                <a:ext cx="34560" cy="4068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5" y="26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083720" y="4622400"/>
                <a:ext cx="280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 flipV="1">
                <a:off x="7077240" y="4587840"/>
                <a:ext cx="34560" cy="40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971040" y="4634280"/>
                <a:ext cx="96120" cy="121320"/>
              </a:xfrm>
              <a:custGeom>
                <a:avLst/>
                <a:gdLst/>
                <a:ahLst/>
                <a:rect l="l" t="t" r="r" b="b"/>
                <a:pathLst>
                  <a:path w="75" h="92">
                    <a:moveTo>
                      <a:pt x="44" y="92"/>
                    </a:moveTo>
                    <a:lnTo>
                      <a:pt x="44" y="92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44" y="9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>
                <a:off x="6971040" y="4749120"/>
                <a:ext cx="5616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7027200" y="4634280"/>
                <a:ext cx="39600" cy="12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043760" y="458820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18" y="35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7043760" y="4634280"/>
                <a:ext cx="230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7067160" y="4588200"/>
                <a:ext cx="10080" cy="46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971040" y="4634280"/>
                <a:ext cx="96120" cy="184320"/>
              </a:xfrm>
              <a:custGeom>
                <a:avLst/>
                <a:gdLst/>
                <a:ahLst/>
                <a:rect l="l" t="t" r="r" b="b"/>
                <a:pathLst>
                  <a:path w="75" h="140">
                    <a:moveTo>
                      <a:pt x="40" y="140"/>
                    </a:moveTo>
                    <a:lnTo>
                      <a:pt x="40" y="140"/>
                    </a:lnTo>
                    <a:lnTo>
                      <a:pt x="0" y="87"/>
                    </a:lnTo>
                    <a:lnTo>
                      <a:pt x="57" y="0"/>
                    </a:lnTo>
                    <a:lnTo>
                      <a:pt x="75" y="4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 flipV="1">
                <a:off x="6971040" y="4748760"/>
                <a:ext cx="51120" cy="6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7021800" y="4639680"/>
                <a:ext cx="45000" cy="17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043760" y="4588200"/>
                <a:ext cx="33120" cy="511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18" y="39"/>
                    </a:moveTo>
                    <a:lnTo>
                      <a:pt x="0" y="3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8" y="3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7043760" y="4634280"/>
                <a:ext cx="230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7067160" y="4588200"/>
                <a:ext cx="10080" cy="51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909480" y="4749120"/>
                <a:ext cx="112680" cy="167400"/>
              </a:xfrm>
              <a:custGeom>
                <a:avLst/>
                <a:gdLst/>
                <a:ahLst/>
                <a:rect l="l" t="t" r="r" b="b"/>
                <a:pathLst>
                  <a:path w="88" h="127">
                    <a:moveTo>
                      <a:pt x="48" y="0"/>
                    </a:moveTo>
                    <a:lnTo>
                      <a:pt x="0" y="75"/>
                    </a:lnTo>
                    <a:lnTo>
                      <a:pt x="39" y="127"/>
                    </a:lnTo>
                    <a:lnTo>
                      <a:pt x="88" y="5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852960" y="4778280"/>
                <a:ext cx="106200" cy="155520"/>
              </a:xfrm>
              <a:custGeom>
                <a:avLst/>
                <a:gdLst/>
                <a:ahLst/>
                <a:rect l="l" t="t" r="r" b="b"/>
                <a:pathLst>
                  <a:path w="83" h="118">
                    <a:moveTo>
                      <a:pt x="44" y="53"/>
                    </a:moveTo>
                    <a:lnTo>
                      <a:pt x="0" y="0"/>
                    </a:lnTo>
                    <a:lnTo>
                      <a:pt x="35" y="118"/>
                    </a:lnTo>
                    <a:lnTo>
                      <a:pt x="83" y="105"/>
                    </a:lnTo>
                    <a:lnTo>
                      <a:pt x="44" y="53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91760" y="4749120"/>
                <a:ext cx="106200" cy="184320"/>
              </a:xfrm>
              <a:custGeom>
                <a:avLst/>
                <a:gdLst/>
                <a:ahLst/>
                <a:rect l="l" t="t" r="r" b="b"/>
                <a:pathLst>
                  <a:path w="83" h="140">
                    <a:moveTo>
                      <a:pt x="48" y="22"/>
                    </a:moveTo>
                    <a:lnTo>
                      <a:pt x="0" y="0"/>
                    </a:lnTo>
                    <a:lnTo>
                      <a:pt x="39" y="140"/>
                    </a:lnTo>
                    <a:lnTo>
                      <a:pt x="83" y="140"/>
                    </a:lnTo>
                    <a:lnTo>
                      <a:pt x="48" y="22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30200" y="4749120"/>
                <a:ext cx="111240" cy="21348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48" y="0"/>
                    </a:moveTo>
                    <a:lnTo>
                      <a:pt x="0" y="105"/>
                    </a:lnTo>
                    <a:lnTo>
                      <a:pt x="39" y="162"/>
                    </a:lnTo>
                    <a:lnTo>
                      <a:pt x="87" y="14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68640" y="488772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48" y="0"/>
                    </a:moveTo>
                    <a:lnTo>
                      <a:pt x="0" y="49"/>
                    </a:lnTo>
                    <a:lnTo>
                      <a:pt x="35" y="70"/>
                    </a:lnTo>
                    <a:lnTo>
                      <a:pt x="87" y="5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00960" y="495252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53" y="0"/>
                    </a:moveTo>
                    <a:lnTo>
                      <a:pt x="0" y="21"/>
                    </a:lnTo>
                    <a:lnTo>
                      <a:pt x="40" y="35"/>
                    </a:lnTo>
                    <a:lnTo>
                      <a:pt x="88" y="2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08880" y="4778280"/>
                <a:ext cx="100800" cy="2340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40" y="0"/>
                    </a:moveTo>
                    <a:lnTo>
                      <a:pt x="0" y="9"/>
                    </a:lnTo>
                    <a:lnTo>
                      <a:pt x="40" y="18"/>
                    </a:lnTo>
                    <a:lnTo>
                      <a:pt x="79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8840" y="4789800"/>
                <a:ext cx="100800" cy="288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39" y="0"/>
                    </a:moveTo>
                    <a:lnTo>
                      <a:pt x="0" y="9"/>
                    </a:lnTo>
                    <a:lnTo>
                      <a:pt x="39" y="22"/>
                    </a:lnTo>
                    <a:lnTo>
                      <a:pt x="79" y="9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08800" y="4802040"/>
                <a:ext cx="99720" cy="28800"/>
              </a:xfrm>
              <a:custGeom>
                <a:avLst/>
                <a:gdLst/>
                <a:ahLst/>
                <a:rect l="l" t="t" r="r" b="b"/>
                <a:pathLst>
                  <a:path w="78" h="22">
                    <a:moveTo>
                      <a:pt x="39" y="0"/>
                    </a:moveTo>
                    <a:lnTo>
                      <a:pt x="0" y="0"/>
                    </a:lnTo>
                    <a:lnTo>
                      <a:pt x="39" y="22"/>
                    </a:lnTo>
                    <a:lnTo>
                      <a:pt x="7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357680" y="4685760"/>
                <a:ext cx="100800" cy="145080"/>
              </a:xfrm>
              <a:custGeom>
                <a:avLst/>
                <a:gdLst/>
                <a:ahLst/>
                <a:rect l="l" t="t" r="r" b="b"/>
                <a:pathLst>
                  <a:path w="79" h="110">
                    <a:moveTo>
                      <a:pt x="40" y="88"/>
                    </a:moveTo>
                    <a:lnTo>
                      <a:pt x="0" y="0"/>
                    </a:lnTo>
                    <a:lnTo>
                      <a:pt x="40" y="31"/>
                    </a:lnTo>
                    <a:lnTo>
                      <a:pt x="79" y="110"/>
                    </a:lnTo>
                    <a:lnTo>
                      <a:pt x="40" y="88"/>
                    </a:lnTo>
                    <a:close/>
                  </a:path>
                </a:pathLst>
              </a:custGeom>
              <a:solidFill>
                <a:srgbClr val="9999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301520" y="4588200"/>
                <a:ext cx="56160" cy="972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44" y="74"/>
                    </a:moveTo>
                    <a:lnTo>
                      <a:pt x="44" y="74"/>
                    </a:lnTo>
                    <a:lnTo>
                      <a:pt x="40" y="2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01520" y="4588200"/>
                <a:ext cx="56160" cy="9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301520" y="458820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30152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01520" y="4588200"/>
                <a:ext cx="1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44" y="79"/>
                    </a:moveTo>
                    <a:lnTo>
                      <a:pt x="4" y="48"/>
                    </a:lnTo>
                    <a:lnTo>
                      <a:pt x="0" y="0"/>
                    </a:lnTo>
                    <a:lnTo>
                      <a:pt x="44" y="79"/>
                    </a:lnTo>
                    <a:lnTo>
                      <a:pt x="44" y="7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52640" y="4622400"/>
                <a:ext cx="56160" cy="1044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8"/>
                    </a:lnTo>
                    <a:lnTo>
                      <a:pt x="1" y="1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308000" y="4588200"/>
                <a:ext cx="44640" cy="338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35" y="26"/>
                    </a:moveTo>
                    <a:lnTo>
                      <a:pt x="35" y="26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5" y="2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flipV="1">
                <a:off x="7308000" y="4588200"/>
                <a:ext cx="44640" cy="3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0800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46440" y="4570920"/>
                <a:ext cx="66240" cy="2880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52" y="22"/>
                    </a:moveTo>
                    <a:lnTo>
                      <a:pt x="48" y="13"/>
                    </a:lnTo>
                    <a:lnTo>
                      <a:pt x="4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 flipV="1">
                <a:off x="7307640" y="4588200"/>
                <a:ext cx="468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7301160" y="4588200"/>
                <a:ext cx="6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7246080" y="4570920"/>
                <a:ext cx="55080" cy="1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56520" y="4599720"/>
                <a:ext cx="96120" cy="17280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1" y="131"/>
                    </a:moveTo>
                    <a:lnTo>
                      <a:pt x="31" y="131"/>
                    </a:lnTo>
                    <a:lnTo>
                      <a:pt x="75" y="17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31" y="1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296120" y="4622400"/>
                <a:ext cx="56160" cy="150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7256520" y="4599720"/>
                <a:ext cx="561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256520" y="4605120"/>
                <a:ext cx="39600" cy="167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7246440" y="4570920"/>
              <a:ext cx="65880" cy="338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8" y="26"/>
                  </a:moveTo>
                  <a:lnTo>
                    <a:pt x="52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7256880" y="4600080"/>
              <a:ext cx="558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01080" y="4605120"/>
              <a:ext cx="45000" cy="1717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30" y="131"/>
                  </a:moveTo>
                  <a:lnTo>
                    <a:pt x="30" y="131"/>
                  </a:lnTo>
                  <a:lnTo>
                    <a:pt x="0" y="9"/>
                  </a:lnTo>
                  <a:lnTo>
                    <a:pt x="35" y="0"/>
                  </a:lnTo>
                  <a:lnTo>
                    <a:pt x="30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7201080" y="461628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720108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91000" y="4570920"/>
              <a:ext cx="55440" cy="453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26"/>
                  </a:moveTo>
                  <a:lnTo>
                    <a:pt x="9" y="35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7200720" y="4605120"/>
              <a:ext cx="45000" cy="1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7191000" y="458856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191000" y="4570560"/>
              <a:ext cx="55440" cy="1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39240" y="4605120"/>
              <a:ext cx="57240" cy="17172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7"/>
                  </a:moveTo>
                  <a:lnTo>
                    <a:pt x="44" y="127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3" y="0"/>
                  </a:lnTo>
                  <a:lnTo>
                    <a:pt x="44" y="12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7238880" y="4772520"/>
              <a:ext cx="572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56880" y="4605120"/>
              <a:ext cx="39960" cy="167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46440" y="4570920"/>
              <a:ext cx="10080" cy="3384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7246440" y="460512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6440" y="4570920"/>
              <a:ext cx="10080" cy="3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3400" y="4616640"/>
              <a:ext cx="572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39" y="131"/>
                  </a:moveTo>
                  <a:lnTo>
                    <a:pt x="39" y="131"/>
                  </a:lnTo>
                  <a:lnTo>
                    <a:pt x="0" y="35"/>
                  </a:lnTo>
                  <a:lnTo>
                    <a:pt x="26" y="0"/>
                  </a:lnTo>
                  <a:lnTo>
                    <a:pt x="44" y="0"/>
                  </a:lnTo>
                  <a:lnTo>
                    <a:pt x="39" y="13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133400" y="4616640"/>
              <a:ext cx="32760" cy="4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6652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66520" y="4588920"/>
              <a:ext cx="24120" cy="277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8" y="22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7166160" y="4616640"/>
              <a:ext cx="241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166520" y="4588560"/>
              <a:ext cx="2412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83800" y="4616640"/>
              <a:ext cx="55440" cy="1738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44" y="122"/>
                  </a:moveTo>
                  <a:lnTo>
                    <a:pt x="44" y="122"/>
                  </a:lnTo>
                  <a:lnTo>
                    <a:pt x="0" y="13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44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7183800" y="4777200"/>
              <a:ext cx="55440" cy="13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201080" y="4616640"/>
              <a:ext cx="3816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191000" y="4588920"/>
              <a:ext cx="10080" cy="277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191000" y="4616640"/>
              <a:ext cx="10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91000" y="4588920"/>
              <a:ext cx="10080" cy="2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5680" y="4629960"/>
              <a:ext cx="77760" cy="160200"/>
            </a:xfrm>
            <a:custGeom>
              <a:avLst/>
              <a:gdLst/>
              <a:ahLst/>
              <a:rect l="l" t="t" r="r" b="b"/>
              <a:pathLst>
                <a:path w="61" h="122">
                  <a:moveTo>
                    <a:pt x="61" y="122"/>
                  </a:moveTo>
                  <a:lnTo>
                    <a:pt x="61" y="122"/>
                  </a:lnTo>
                  <a:lnTo>
                    <a:pt x="22" y="26"/>
                  </a:lnTo>
                  <a:lnTo>
                    <a:pt x="5" y="0"/>
                  </a:lnTo>
                  <a:lnTo>
                    <a:pt x="0" y="4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7133400" y="4662360"/>
              <a:ext cx="50400" cy="12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7112520" y="4629960"/>
              <a:ext cx="20880" cy="3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7105680" y="462996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077600" y="4588920"/>
              <a:ext cx="34560" cy="4608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2" y="35"/>
                  </a:moveTo>
                  <a:lnTo>
                    <a:pt x="27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105680" y="4629600"/>
              <a:ext cx="64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7077600" y="4588920"/>
              <a:ext cx="3456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088400" y="4635000"/>
              <a:ext cx="95400" cy="15552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74" y="118"/>
                  </a:moveTo>
                  <a:lnTo>
                    <a:pt x="74" y="118"/>
                  </a:lnTo>
                  <a:lnTo>
                    <a:pt x="31" y="105"/>
                  </a:lnTo>
                  <a:lnTo>
                    <a:pt x="0" y="4"/>
                  </a:lnTo>
                  <a:lnTo>
                    <a:pt x="13" y="0"/>
                  </a:lnTo>
                  <a:lnTo>
                    <a:pt x="74" y="1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7128360" y="4772520"/>
              <a:ext cx="55440" cy="18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088400" y="463464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077600" y="4588920"/>
              <a:ext cx="27720" cy="507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35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7088400" y="4635000"/>
              <a:ext cx="1728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22160" y="4639680"/>
              <a:ext cx="55440" cy="271800"/>
            </a:xfrm>
            <a:custGeom>
              <a:avLst/>
              <a:gdLst/>
              <a:ahLst/>
              <a:rect l="l" t="t" r="r" b="b"/>
              <a:pathLst>
                <a:path w="43" h="206">
                  <a:moveTo>
                    <a:pt x="35" y="206"/>
                  </a:moveTo>
                  <a:lnTo>
                    <a:pt x="35" y="206"/>
                  </a:lnTo>
                  <a:lnTo>
                    <a:pt x="0" y="136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35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7021800" y="4818240"/>
              <a:ext cx="45000" cy="9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022160" y="4639680"/>
              <a:ext cx="45000" cy="17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67520" y="4588920"/>
              <a:ext cx="10080" cy="50760"/>
            </a:xfrm>
            <a:custGeom>
              <a:avLst/>
              <a:gdLst/>
              <a:ahLst/>
              <a:rect l="l" t="t" r="r" b="b"/>
              <a:pathLst>
                <a:path w="8" h="39">
                  <a:moveTo>
                    <a:pt x="8" y="39"/>
                  </a:moveTo>
                  <a:lnTo>
                    <a:pt x="0" y="3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067520" y="4639680"/>
              <a:ext cx="10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067520" y="4588560"/>
              <a:ext cx="100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67520" y="4639680"/>
              <a:ext cx="60480" cy="271800"/>
            </a:xfrm>
            <a:custGeom>
              <a:avLst/>
              <a:gdLst/>
              <a:ahLst/>
              <a:rect l="l" t="t" r="r" b="b"/>
              <a:pathLst>
                <a:path w="48" h="206">
                  <a:moveTo>
                    <a:pt x="0" y="206"/>
                  </a:moveTo>
                  <a:lnTo>
                    <a:pt x="0" y="206"/>
                  </a:lnTo>
                  <a:lnTo>
                    <a:pt x="48" y="10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067520" y="4772160"/>
              <a:ext cx="60480" cy="13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7088400" y="4639680"/>
              <a:ext cx="39600" cy="132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707724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77600" y="4588920"/>
              <a:ext cx="10440" cy="5076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77600" y="4639680"/>
              <a:ext cx="1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7077240" y="4588560"/>
              <a:ext cx="10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59520" y="4818600"/>
              <a:ext cx="108000" cy="979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49" y="0"/>
                  </a:moveTo>
                  <a:lnTo>
                    <a:pt x="0" y="74"/>
                  </a:lnTo>
                  <a:lnTo>
                    <a:pt x="40" y="57"/>
                  </a:lnTo>
                  <a:lnTo>
                    <a:pt x="84" y="7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8680" y="4893840"/>
              <a:ext cx="113040" cy="63360"/>
            </a:xfrm>
            <a:custGeom>
              <a:avLst/>
              <a:gdLst/>
              <a:ahLst/>
              <a:rect l="l" t="t" r="r" b="b"/>
              <a:pathLst>
                <a:path w="88" h="48">
                  <a:moveTo>
                    <a:pt x="48" y="17"/>
                  </a:moveTo>
                  <a:lnTo>
                    <a:pt x="0" y="30"/>
                  </a:lnTo>
                  <a:lnTo>
                    <a:pt x="40" y="48"/>
                  </a:lnTo>
                  <a:lnTo>
                    <a:pt x="88" y="0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41440" y="4933080"/>
              <a:ext cx="107280" cy="3600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4" y="0"/>
                  </a:moveTo>
                  <a:lnTo>
                    <a:pt x="0" y="0"/>
                  </a:lnTo>
                  <a:lnTo>
                    <a:pt x="35" y="27"/>
                  </a:lnTo>
                  <a:lnTo>
                    <a:pt x="84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80600" y="4933080"/>
              <a:ext cx="105840" cy="5400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48" y="0"/>
                  </a:moveTo>
                  <a:lnTo>
                    <a:pt x="0" y="22"/>
                  </a:lnTo>
                  <a:lnTo>
                    <a:pt x="35" y="40"/>
                  </a:lnTo>
                  <a:lnTo>
                    <a:pt x="83" y="2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14720" y="496260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52" y="0"/>
                  </a:moveTo>
                  <a:lnTo>
                    <a:pt x="0" y="13"/>
                  </a:lnTo>
                  <a:lnTo>
                    <a:pt x="39" y="27"/>
                  </a:lnTo>
                  <a:lnTo>
                    <a:pt x="87" y="1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52080" y="4979160"/>
              <a:ext cx="110880" cy="3600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48" y="0"/>
                  </a:moveTo>
                  <a:lnTo>
                    <a:pt x="0" y="14"/>
                  </a:lnTo>
                  <a:lnTo>
                    <a:pt x="35" y="27"/>
                  </a:lnTo>
                  <a:lnTo>
                    <a:pt x="87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61080" y="47905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8880" y="4802040"/>
              <a:ext cx="107280" cy="2916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13"/>
                  </a:lnTo>
                  <a:lnTo>
                    <a:pt x="40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58480" y="4807080"/>
              <a:ext cx="102240" cy="2448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39" y="9"/>
                  </a:moveTo>
                  <a:lnTo>
                    <a:pt x="0" y="18"/>
                  </a:lnTo>
                  <a:lnTo>
                    <a:pt x="39" y="0"/>
                  </a:lnTo>
                  <a:lnTo>
                    <a:pt x="79" y="18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10240" y="4726800"/>
              <a:ext cx="98640" cy="10476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39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78" y="61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52640" y="4623480"/>
              <a:ext cx="105840" cy="19476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44" y="79"/>
                  </a:moveTo>
                  <a:lnTo>
                    <a:pt x="0" y="0"/>
                  </a:lnTo>
                  <a:lnTo>
                    <a:pt x="39" y="70"/>
                  </a:lnTo>
                  <a:lnTo>
                    <a:pt x="83" y="149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296840" y="4623480"/>
              <a:ext cx="105840" cy="21276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44" y="0"/>
                  </a:moveTo>
                  <a:lnTo>
                    <a:pt x="0" y="114"/>
                  </a:lnTo>
                  <a:lnTo>
                    <a:pt x="39" y="162"/>
                  </a:lnTo>
                  <a:lnTo>
                    <a:pt x="83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39240" y="4772520"/>
              <a:ext cx="10800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4"/>
                  </a:lnTo>
                  <a:lnTo>
                    <a:pt x="40" y="35"/>
                  </a:lnTo>
                  <a:lnTo>
                    <a:pt x="83" y="4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183800" y="4777200"/>
              <a:ext cx="108000" cy="70560"/>
            </a:xfrm>
            <a:custGeom>
              <a:avLst/>
              <a:gdLst/>
              <a:ahLst/>
              <a:rect l="l" t="t" r="r" b="b"/>
              <a:pathLst>
                <a:path w="84" h="53">
                  <a:moveTo>
                    <a:pt x="44" y="0"/>
                  </a:moveTo>
                  <a:lnTo>
                    <a:pt x="0" y="9"/>
                  </a:lnTo>
                  <a:lnTo>
                    <a:pt x="40" y="53"/>
                  </a:lnTo>
                  <a:lnTo>
                    <a:pt x="84" y="3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28360" y="4772520"/>
              <a:ext cx="105840" cy="75240"/>
            </a:xfrm>
            <a:custGeom>
              <a:avLst/>
              <a:gdLst/>
              <a:ahLst/>
              <a:rect l="l" t="t" r="r" b="b"/>
              <a:pathLst>
                <a:path w="83" h="57">
                  <a:moveTo>
                    <a:pt x="43" y="13"/>
                  </a:moveTo>
                  <a:lnTo>
                    <a:pt x="0" y="0"/>
                  </a:lnTo>
                  <a:lnTo>
                    <a:pt x="39" y="52"/>
                  </a:lnTo>
                  <a:lnTo>
                    <a:pt x="83" y="57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67520" y="4772520"/>
              <a:ext cx="110880" cy="139320"/>
            </a:xfrm>
            <a:custGeom>
              <a:avLst/>
              <a:gdLst/>
              <a:ahLst/>
              <a:rect l="l" t="t" r="r" b="b"/>
              <a:pathLst>
                <a:path w="87" h="105">
                  <a:moveTo>
                    <a:pt x="48" y="0"/>
                  </a:moveTo>
                  <a:lnTo>
                    <a:pt x="0" y="105"/>
                  </a:lnTo>
                  <a:lnTo>
                    <a:pt x="39" y="70"/>
                  </a:lnTo>
                  <a:lnTo>
                    <a:pt x="87" y="5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11720" y="4866120"/>
              <a:ext cx="105840" cy="5688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4" y="35"/>
                  </a:moveTo>
                  <a:lnTo>
                    <a:pt x="0" y="22"/>
                  </a:lnTo>
                  <a:lnTo>
                    <a:pt x="39" y="44"/>
                  </a:lnTo>
                  <a:lnTo>
                    <a:pt x="83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949080" y="4893840"/>
              <a:ext cx="110880" cy="7992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48" y="0"/>
                  </a:moveTo>
                  <a:lnTo>
                    <a:pt x="0" y="48"/>
                  </a:lnTo>
                  <a:lnTo>
                    <a:pt x="39" y="61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86440" y="4957560"/>
              <a:ext cx="113040" cy="295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9" y="0"/>
                  </a:moveTo>
                  <a:lnTo>
                    <a:pt x="0" y="9"/>
                  </a:lnTo>
                  <a:lnTo>
                    <a:pt x="40" y="22"/>
                  </a:lnTo>
                  <a:lnTo>
                    <a:pt x="88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5960" y="496908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762960" y="4987080"/>
              <a:ext cx="113040" cy="32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9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97440" y="499860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616520" y="4807080"/>
              <a:ext cx="100800" cy="2916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61080" y="481860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4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08880" y="4807080"/>
              <a:ext cx="107280" cy="4536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18"/>
                  </a:moveTo>
                  <a:lnTo>
                    <a:pt x="0" y="0"/>
                  </a:lnTo>
                  <a:lnTo>
                    <a:pt x="40" y="35"/>
                  </a:lnTo>
                  <a:lnTo>
                    <a:pt x="84" y="31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58480" y="4807080"/>
              <a:ext cx="102240" cy="52200"/>
            </a:xfrm>
            <a:custGeom>
              <a:avLst/>
              <a:gdLst/>
              <a:ahLst/>
              <a:rect l="l" t="t" r="r" b="b"/>
              <a:pathLst>
                <a:path w="79" h="40">
                  <a:moveTo>
                    <a:pt x="39" y="0"/>
                  </a:moveTo>
                  <a:lnTo>
                    <a:pt x="0" y="9"/>
                  </a:lnTo>
                  <a:lnTo>
                    <a:pt x="39" y="40"/>
                  </a:lnTo>
                  <a:lnTo>
                    <a:pt x="79" y="3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03040" y="4715280"/>
              <a:ext cx="105840" cy="144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44" y="79"/>
                  </a:moveTo>
                  <a:lnTo>
                    <a:pt x="0" y="0"/>
                  </a:lnTo>
                  <a:lnTo>
                    <a:pt x="40" y="66"/>
                  </a:lnTo>
                  <a:lnTo>
                    <a:pt x="83" y="110"/>
                  </a:lnTo>
                  <a:lnTo>
                    <a:pt x="44" y="79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47240" y="4715280"/>
              <a:ext cx="105840" cy="18324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44" y="0"/>
                  </a:moveTo>
                  <a:lnTo>
                    <a:pt x="0" y="92"/>
                  </a:lnTo>
                  <a:lnTo>
                    <a:pt x="40" y="140"/>
                  </a:lnTo>
                  <a:lnTo>
                    <a:pt x="84" y="66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291800" y="481860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43" y="13"/>
                  </a:moveTo>
                  <a:lnTo>
                    <a:pt x="0" y="0"/>
                  </a:lnTo>
                  <a:lnTo>
                    <a:pt x="39" y="39"/>
                  </a:lnTo>
                  <a:lnTo>
                    <a:pt x="83" y="61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234200" y="4818600"/>
              <a:ext cx="108000" cy="10476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44" y="0"/>
                  </a:moveTo>
                  <a:lnTo>
                    <a:pt x="0" y="22"/>
                  </a:lnTo>
                  <a:lnTo>
                    <a:pt x="39" y="79"/>
                  </a:lnTo>
                  <a:lnTo>
                    <a:pt x="83" y="39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78760" y="4841280"/>
              <a:ext cx="105840" cy="820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5"/>
                  </a:moveTo>
                  <a:lnTo>
                    <a:pt x="0" y="0"/>
                  </a:lnTo>
                  <a:lnTo>
                    <a:pt x="39" y="62"/>
                  </a:lnTo>
                  <a:lnTo>
                    <a:pt x="83" y="62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17920" y="4841280"/>
              <a:ext cx="110880" cy="8208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48" y="0"/>
                  </a:moveTo>
                  <a:lnTo>
                    <a:pt x="0" y="18"/>
                  </a:lnTo>
                  <a:lnTo>
                    <a:pt x="44" y="18"/>
                  </a:lnTo>
                  <a:lnTo>
                    <a:pt x="87" y="6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60320" y="4866120"/>
              <a:ext cx="113040" cy="86400"/>
            </a:xfrm>
            <a:custGeom>
              <a:avLst/>
              <a:gdLst/>
              <a:ahLst/>
              <a:rect l="l" t="t" r="r" b="b"/>
              <a:pathLst>
                <a:path w="88" h="66">
                  <a:moveTo>
                    <a:pt x="44" y="0"/>
                  </a:moveTo>
                  <a:lnTo>
                    <a:pt x="0" y="44"/>
                  </a:lnTo>
                  <a:lnTo>
                    <a:pt x="40" y="66"/>
                  </a:lnTo>
                  <a:lnTo>
                    <a:pt x="8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999840" y="4923360"/>
              <a:ext cx="112680" cy="6840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48" y="0"/>
                  </a:moveTo>
                  <a:lnTo>
                    <a:pt x="0" y="39"/>
                  </a:lnTo>
                  <a:lnTo>
                    <a:pt x="39" y="52"/>
                  </a:lnTo>
                  <a:lnTo>
                    <a:pt x="88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39000" y="4974120"/>
              <a:ext cx="110880" cy="338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9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876360" y="4987080"/>
              <a:ext cx="110880" cy="3240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15160" y="5003640"/>
              <a:ext cx="11124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8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87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47480" y="501984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39" y="26"/>
                  </a:lnTo>
                  <a:lnTo>
                    <a:pt x="92" y="1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667280" y="4818600"/>
              <a:ext cx="100800" cy="2916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39" y="0"/>
                  </a:moveTo>
                  <a:lnTo>
                    <a:pt x="0" y="13"/>
                  </a:lnTo>
                  <a:lnTo>
                    <a:pt x="39" y="22"/>
                  </a:lnTo>
                  <a:lnTo>
                    <a:pt x="79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616520" y="4836240"/>
              <a:ext cx="100800" cy="2952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39" y="0"/>
                  </a:moveTo>
                  <a:lnTo>
                    <a:pt x="0" y="9"/>
                  </a:lnTo>
                  <a:lnTo>
                    <a:pt x="39" y="22"/>
                  </a:lnTo>
                  <a:lnTo>
                    <a:pt x="78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61080" y="4847760"/>
              <a:ext cx="105840" cy="2304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44" y="0"/>
                  </a:moveTo>
                  <a:lnTo>
                    <a:pt x="0" y="4"/>
                  </a:lnTo>
                  <a:lnTo>
                    <a:pt x="44" y="17"/>
                  </a:lnTo>
                  <a:lnTo>
                    <a:pt x="83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08880" y="4824720"/>
              <a:ext cx="107280" cy="4608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40" y="22"/>
                  </a:moveTo>
                  <a:lnTo>
                    <a:pt x="0" y="27"/>
                  </a:lnTo>
                  <a:lnTo>
                    <a:pt x="40" y="0"/>
                  </a:lnTo>
                  <a:lnTo>
                    <a:pt x="84" y="35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53440" y="4802040"/>
              <a:ext cx="107280" cy="6840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43" y="44"/>
                  </a:moveTo>
                  <a:lnTo>
                    <a:pt x="0" y="0"/>
                  </a:lnTo>
                  <a:lnTo>
                    <a:pt x="43" y="52"/>
                  </a:lnTo>
                  <a:lnTo>
                    <a:pt x="83" y="17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8000" y="4802040"/>
              <a:ext cx="110880" cy="102600"/>
            </a:xfrm>
            <a:custGeom>
              <a:avLst/>
              <a:gdLst/>
              <a:ahLst/>
              <a:rect l="l" t="t" r="r" b="b"/>
              <a:pathLst>
                <a:path w="87" h="79">
                  <a:moveTo>
                    <a:pt x="44" y="0"/>
                  </a:moveTo>
                  <a:lnTo>
                    <a:pt x="0" y="74"/>
                  </a:lnTo>
                  <a:lnTo>
                    <a:pt x="44" y="79"/>
                  </a:lnTo>
                  <a:lnTo>
                    <a:pt x="87" y="5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42200" y="4870800"/>
              <a:ext cx="110880" cy="3384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22"/>
                  </a:moveTo>
                  <a:lnTo>
                    <a:pt x="0" y="0"/>
                  </a:lnTo>
                  <a:lnTo>
                    <a:pt x="44" y="27"/>
                  </a:lnTo>
                  <a:lnTo>
                    <a:pt x="88" y="27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600" y="4870800"/>
              <a:ext cx="113040" cy="6840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44" y="0"/>
                  </a:moveTo>
                  <a:lnTo>
                    <a:pt x="0" y="40"/>
                  </a:lnTo>
                  <a:lnTo>
                    <a:pt x="44" y="53"/>
                  </a:lnTo>
                  <a:lnTo>
                    <a:pt x="88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29160" y="4923360"/>
              <a:ext cx="113040" cy="3384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73360" y="4866120"/>
              <a:ext cx="105840" cy="910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43" y="44"/>
                  </a:moveTo>
                  <a:lnTo>
                    <a:pt x="0" y="0"/>
                  </a:lnTo>
                  <a:lnTo>
                    <a:pt x="39" y="66"/>
                  </a:lnTo>
                  <a:lnTo>
                    <a:pt x="83" y="70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112520" y="4866120"/>
              <a:ext cx="111240" cy="1209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48" y="0"/>
                  </a:moveTo>
                  <a:lnTo>
                    <a:pt x="0" y="66"/>
                  </a:lnTo>
                  <a:lnTo>
                    <a:pt x="39" y="92"/>
                  </a:lnTo>
                  <a:lnTo>
                    <a:pt x="87" y="6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050240" y="4952520"/>
              <a:ext cx="11088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9" y="0"/>
                  </a:moveTo>
                  <a:lnTo>
                    <a:pt x="0" y="30"/>
                  </a:lnTo>
                  <a:lnTo>
                    <a:pt x="40" y="43"/>
                  </a:lnTo>
                  <a:lnTo>
                    <a:pt x="88" y="2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987600" y="49921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8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926760" y="500832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8" y="0"/>
                  </a:moveTo>
                  <a:lnTo>
                    <a:pt x="0" y="9"/>
                  </a:lnTo>
                  <a:lnTo>
                    <a:pt x="40" y="27"/>
                  </a:lnTo>
                  <a:lnTo>
                    <a:pt x="88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865560" y="5019840"/>
              <a:ext cx="1112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8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796080" y="5038200"/>
              <a:ext cx="118080" cy="3384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3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8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17680" y="4836240"/>
              <a:ext cx="105840" cy="29520"/>
            </a:xfrm>
            <a:custGeom>
              <a:avLst/>
              <a:gdLst/>
              <a:ahLst/>
              <a:rect l="l" t="t" r="r" b="b"/>
              <a:pathLst>
                <a:path w="84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4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67280" y="484776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13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165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4"/>
                  </a:lnTo>
                  <a:lnTo>
                    <a:pt x="39" y="22"/>
                  </a:lnTo>
                  <a:lnTo>
                    <a:pt x="83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561080" y="4824720"/>
              <a:ext cx="105840" cy="7992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44" y="35"/>
                  </a:moveTo>
                  <a:lnTo>
                    <a:pt x="0" y="0"/>
                  </a:lnTo>
                  <a:lnTo>
                    <a:pt x="44" y="62"/>
                  </a:lnTo>
                  <a:lnTo>
                    <a:pt x="83" y="53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508880" y="4824720"/>
              <a:ext cx="107280" cy="9828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40" y="0"/>
                  </a:moveTo>
                  <a:lnTo>
                    <a:pt x="0" y="35"/>
                  </a:lnTo>
                  <a:lnTo>
                    <a:pt x="40" y="75"/>
                  </a:lnTo>
                  <a:lnTo>
                    <a:pt x="84" y="6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53440" y="4870800"/>
              <a:ext cx="107280" cy="619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3" y="0"/>
                  </a:moveTo>
                  <a:lnTo>
                    <a:pt x="0" y="27"/>
                  </a:lnTo>
                  <a:lnTo>
                    <a:pt x="39" y="48"/>
                  </a:lnTo>
                  <a:lnTo>
                    <a:pt x="83" y="4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8000" y="4905000"/>
              <a:ext cx="105840" cy="475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44" y="0"/>
                  </a:moveTo>
                  <a:lnTo>
                    <a:pt x="0" y="0"/>
                  </a:lnTo>
                  <a:lnTo>
                    <a:pt x="39" y="35"/>
                  </a:lnTo>
                  <a:lnTo>
                    <a:pt x="83" y="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42200" y="4905000"/>
              <a:ext cx="105840" cy="6372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44" y="0"/>
                  </a:moveTo>
                  <a:lnTo>
                    <a:pt x="0" y="26"/>
                  </a:lnTo>
                  <a:lnTo>
                    <a:pt x="39" y="48"/>
                  </a:lnTo>
                  <a:lnTo>
                    <a:pt x="83" y="3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9560" y="4939560"/>
              <a:ext cx="110880" cy="3924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48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87" y="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24120" y="4952520"/>
              <a:ext cx="11268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4"/>
                  </a:moveTo>
                  <a:lnTo>
                    <a:pt x="0" y="0"/>
                  </a:lnTo>
                  <a:lnTo>
                    <a:pt x="40" y="26"/>
                  </a:lnTo>
                  <a:lnTo>
                    <a:pt x="88" y="21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61480" y="4952520"/>
              <a:ext cx="113040" cy="554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48" y="0"/>
                  </a:moveTo>
                  <a:lnTo>
                    <a:pt x="0" y="26"/>
                  </a:lnTo>
                  <a:lnTo>
                    <a:pt x="44" y="43"/>
                  </a:lnTo>
                  <a:lnTo>
                    <a:pt x="88" y="2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100640" y="4987080"/>
              <a:ext cx="11772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7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39440" y="5008320"/>
              <a:ext cx="118080" cy="36000"/>
            </a:xfrm>
            <a:custGeom>
              <a:avLst/>
              <a:gdLst/>
              <a:ahLst/>
              <a:rect l="l" t="t" r="r" b="b"/>
              <a:pathLst>
                <a:path w="92" h="27">
                  <a:moveTo>
                    <a:pt x="48" y="0"/>
                  </a:moveTo>
                  <a:lnTo>
                    <a:pt x="0" y="13"/>
                  </a:lnTo>
                  <a:lnTo>
                    <a:pt x="43" y="27"/>
                  </a:lnTo>
                  <a:lnTo>
                    <a:pt x="92" y="1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7160" y="5026680"/>
              <a:ext cx="116280" cy="3384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14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14520" y="504432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49" y="0"/>
                  </a:moveTo>
                  <a:lnTo>
                    <a:pt x="0" y="13"/>
                  </a:lnTo>
                  <a:lnTo>
                    <a:pt x="40" y="26"/>
                  </a:lnTo>
                  <a:lnTo>
                    <a:pt x="92" y="1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848280" y="5060880"/>
              <a:ext cx="118080" cy="3456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52" y="0"/>
                  </a:moveTo>
                  <a:lnTo>
                    <a:pt x="0" y="8"/>
                  </a:lnTo>
                  <a:lnTo>
                    <a:pt x="44" y="26"/>
                  </a:lnTo>
                  <a:lnTo>
                    <a:pt x="92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73120" y="4852800"/>
              <a:ext cx="105840" cy="295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40" y="0"/>
                  </a:moveTo>
                  <a:lnTo>
                    <a:pt x="0" y="9"/>
                  </a:lnTo>
                  <a:lnTo>
                    <a:pt x="44" y="22"/>
                  </a:lnTo>
                  <a:lnTo>
                    <a:pt x="83" y="1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22720" y="4866120"/>
              <a:ext cx="105840" cy="2772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667280" y="487728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616520" y="4893840"/>
              <a:ext cx="105840" cy="2916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39" y="0"/>
                  </a:moveTo>
                  <a:lnTo>
                    <a:pt x="0" y="9"/>
                  </a:lnTo>
                  <a:lnTo>
                    <a:pt x="43" y="22"/>
                  </a:lnTo>
                  <a:lnTo>
                    <a:pt x="83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61080" y="4905000"/>
              <a:ext cx="110880" cy="3456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03840" y="4923360"/>
              <a:ext cx="112680" cy="2916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44" y="0"/>
                  </a:moveTo>
                  <a:lnTo>
                    <a:pt x="0" y="8"/>
                  </a:lnTo>
                  <a:lnTo>
                    <a:pt x="44" y="22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48400" y="4933080"/>
              <a:ext cx="112680" cy="36000"/>
            </a:xfrm>
            <a:custGeom>
              <a:avLst/>
              <a:gdLst/>
              <a:ahLst/>
              <a:rect l="l" t="t" r="r" b="b"/>
              <a:pathLst>
                <a:path w="88" h="27">
                  <a:moveTo>
                    <a:pt x="44" y="0"/>
                  </a:moveTo>
                  <a:lnTo>
                    <a:pt x="0" y="14"/>
                  </a:lnTo>
                  <a:lnTo>
                    <a:pt x="44" y="27"/>
                  </a:lnTo>
                  <a:lnTo>
                    <a:pt x="88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90800" y="4952520"/>
              <a:ext cx="113040" cy="3456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44" y="0"/>
                  </a:moveTo>
                  <a:lnTo>
                    <a:pt x="0" y="13"/>
                  </a:lnTo>
                  <a:lnTo>
                    <a:pt x="44" y="26"/>
                  </a:lnTo>
                  <a:lnTo>
                    <a:pt x="88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36800" y="4969080"/>
              <a:ext cx="111240" cy="295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43" y="0"/>
                  </a:moveTo>
                  <a:lnTo>
                    <a:pt x="0" y="8"/>
                  </a:lnTo>
                  <a:lnTo>
                    <a:pt x="43" y="22"/>
                  </a:lnTo>
                  <a:lnTo>
                    <a:pt x="87" y="1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74520" y="4979160"/>
              <a:ext cx="116280" cy="3600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48" y="0"/>
                  </a:moveTo>
                  <a:lnTo>
                    <a:pt x="0" y="5"/>
                  </a:lnTo>
                  <a:lnTo>
                    <a:pt x="43" y="27"/>
                  </a:lnTo>
                  <a:lnTo>
                    <a:pt x="91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18360" y="4987080"/>
              <a:ext cx="111240" cy="4536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44" y="0"/>
                  </a:moveTo>
                  <a:lnTo>
                    <a:pt x="0" y="17"/>
                  </a:lnTo>
                  <a:lnTo>
                    <a:pt x="39" y="35"/>
                  </a:lnTo>
                  <a:lnTo>
                    <a:pt x="87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57880" y="5008320"/>
              <a:ext cx="110880" cy="4068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48" y="0"/>
                  </a:moveTo>
                  <a:lnTo>
                    <a:pt x="0" y="13"/>
                  </a:lnTo>
                  <a:lnTo>
                    <a:pt x="39" y="31"/>
                  </a:lnTo>
                  <a:lnTo>
                    <a:pt x="87" y="1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93440" y="5026680"/>
              <a:ext cx="113040" cy="4068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49" y="0"/>
                  </a:moveTo>
                  <a:lnTo>
                    <a:pt x="0" y="14"/>
                  </a:lnTo>
                  <a:lnTo>
                    <a:pt x="40" y="31"/>
                  </a:lnTo>
                  <a:lnTo>
                    <a:pt x="88" y="1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32960" y="5044320"/>
              <a:ext cx="112680" cy="39240"/>
            </a:xfrm>
            <a:custGeom>
              <a:avLst/>
              <a:gdLst/>
              <a:ahLst/>
              <a:rect l="l" t="t" r="r" b="b"/>
              <a:pathLst>
                <a:path w="88" h="30">
                  <a:moveTo>
                    <a:pt x="48" y="0"/>
                  </a:moveTo>
                  <a:lnTo>
                    <a:pt x="0" y="13"/>
                  </a:lnTo>
                  <a:lnTo>
                    <a:pt x="40" y="30"/>
                  </a:lnTo>
                  <a:lnTo>
                    <a:pt x="88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66720" y="5060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52" y="0"/>
                  </a:moveTo>
                  <a:lnTo>
                    <a:pt x="0" y="13"/>
                  </a:lnTo>
                  <a:lnTo>
                    <a:pt x="44" y="30"/>
                  </a:lnTo>
                  <a:lnTo>
                    <a:pt x="92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03720" y="5078880"/>
              <a:ext cx="118080" cy="39240"/>
            </a:xfrm>
            <a:custGeom>
              <a:avLst/>
              <a:gdLst/>
              <a:ahLst/>
              <a:rect l="l" t="t" r="r" b="b"/>
              <a:pathLst>
                <a:path w="92" h="30">
                  <a:moveTo>
                    <a:pt x="48" y="0"/>
                  </a:moveTo>
                  <a:lnTo>
                    <a:pt x="0" y="13"/>
                  </a:lnTo>
                  <a:lnTo>
                    <a:pt x="39" y="30"/>
                  </a:lnTo>
                  <a:lnTo>
                    <a:pt x="92" y="1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99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901640" y="3561120"/>
              <a:ext cx="34920" cy="129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901640" y="4859280"/>
              <a:ext cx="2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907400" y="46105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919640" y="435276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24680" y="4092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31160" y="3828600"/>
              <a:ext cx="2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936920" y="35614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941240" y="479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48080" y="454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958880" y="428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65360" y="4030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70400" y="3763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76160" y="3497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198280" y="415620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Kg/d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03320" y="3199320"/>
              <a:ext cx="1363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mis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68040" y="4069440"/>
              <a:ext cx="533520" cy="706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97560" y="4115520"/>
              <a:ext cx="43200" cy="453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72080" y="40910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0-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97560" y="4243320"/>
              <a:ext cx="43200" cy="4536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72080" y="42188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0-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7560" y="4369320"/>
              <a:ext cx="43200" cy="46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2080" y="4346640"/>
              <a:ext cx="37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0-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97560" y="4495680"/>
              <a:ext cx="43200" cy="4536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2440" y="447264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50-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97560" y="4623480"/>
              <a:ext cx="43200" cy="4536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71360" y="460044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34120" y="3124080"/>
              <a:ext cx="3504600" cy="243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8" name=""/>
          <p:cNvGraphicFramePr/>
          <p:nvPr/>
        </p:nvGraphicFramePr>
        <p:xfrm>
          <a:off x="1219320" y="3124080"/>
          <a:ext cx="3733560" cy="25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37335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Las emisiones permiten estimar las concentraciones en cada una de las celdas de la gril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1" name=""/>
          <p:cNvGraphicFramePr/>
          <p:nvPr/>
        </p:nvGraphicFramePr>
        <p:xfrm>
          <a:off x="1295280" y="2362320"/>
          <a:ext cx="381024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38102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3" name=""/>
          <p:cNvGrpSpPr/>
          <p:nvPr/>
        </p:nvGrpSpPr>
        <p:grpSpPr>
          <a:xfrm>
            <a:off x="5486400" y="2438280"/>
            <a:ext cx="3352680" cy="2514600"/>
            <a:chOff x="5486400" y="2438280"/>
            <a:chExt cx="3352680" cy="2514600"/>
          </a:xfrm>
        </p:grpSpPr>
        <p:grpSp>
          <p:nvGrpSpPr>
            <p:cNvPr id="1444" name=""/>
            <p:cNvGrpSpPr/>
            <p:nvPr/>
          </p:nvGrpSpPr>
          <p:grpSpPr>
            <a:xfrm>
              <a:off x="5486400" y="2438280"/>
              <a:ext cx="3352680" cy="2514600"/>
              <a:chOff x="5486400" y="2438280"/>
              <a:chExt cx="3352680" cy="2514600"/>
            </a:xfrm>
          </p:grpSpPr>
          <p:sp>
            <p:nvSpPr>
              <p:cNvPr id="1445" name=""/>
              <p:cNvSpPr/>
              <p:nvPr/>
            </p:nvSpPr>
            <p:spPr>
              <a:xfrm>
                <a:off x="5486400" y="2438280"/>
                <a:ext cx="335268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761" y="0"/>
                    </a:moveTo>
                    <a:lnTo>
                      <a:pt x="1386" y="176"/>
                    </a:lnTo>
                    <a:lnTo>
                      <a:pt x="594" y="384"/>
                    </a:lnTo>
                    <a:lnTo>
                      <a:pt x="0" y="158"/>
                    </a:lnTo>
                    <a:lnTo>
                      <a:pt x="7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365160" y="3996360"/>
                <a:ext cx="1641960" cy="231120"/>
              </a:xfrm>
              <a:custGeom>
                <a:avLst/>
                <a:gdLst/>
                <a:ahLst/>
                <a:rect l="l" t="t" r="r" b="b"/>
                <a:pathLst>
                  <a:path w="306" h="39">
                    <a:moveTo>
                      <a:pt x="0" y="35"/>
                    </a:moveTo>
                    <a:lnTo>
                      <a:pt x="168" y="0"/>
                    </a:lnTo>
                    <a:lnTo>
                      <a:pt x="306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360480" y="3834720"/>
                <a:ext cx="1652400" cy="208800"/>
              </a:xfrm>
              <a:custGeom>
                <a:avLst/>
                <a:gdLst/>
                <a:ahLst/>
                <a:rect l="l" t="t" r="r" b="b"/>
                <a:pathLst>
                  <a:path w="308" h="35">
                    <a:moveTo>
                      <a:pt x="0" y="31"/>
                    </a:moveTo>
                    <a:lnTo>
                      <a:pt x="169" y="0"/>
                    </a:lnTo>
                    <a:lnTo>
                      <a:pt x="308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60480" y="3669120"/>
                <a:ext cx="1657440" cy="190080"/>
              </a:xfrm>
              <a:custGeom>
                <a:avLst/>
                <a:gdLst/>
                <a:ahLst/>
                <a:rect l="l" t="t" r="r" b="b"/>
                <a:pathLst>
                  <a:path w="309" h="32">
                    <a:moveTo>
                      <a:pt x="0" y="28"/>
                    </a:moveTo>
                    <a:lnTo>
                      <a:pt x="169" y="0"/>
                    </a:lnTo>
                    <a:lnTo>
                      <a:pt x="309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354360" y="3502440"/>
                <a:ext cx="1669320" cy="166680"/>
              </a:xfrm>
              <a:custGeom>
                <a:avLst/>
                <a:gdLst/>
                <a:ahLst/>
                <a:rect l="l" t="t" r="r" b="b"/>
                <a:pathLst>
                  <a:path w="311" h="28">
                    <a:moveTo>
                      <a:pt x="0" y="24"/>
                    </a:moveTo>
                    <a:lnTo>
                      <a:pt x="170" y="0"/>
                    </a:lnTo>
                    <a:lnTo>
                      <a:pt x="31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350040" y="3335400"/>
                <a:ext cx="1678320" cy="136440"/>
              </a:xfrm>
              <a:custGeom>
                <a:avLst/>
                <a:gdLst/>
                <a:ahLst/>
                <a:rect l="l" t="t" r="r" b="b"/>
                <a:pathLst>
                  <a:path w="313" h="23">
                    <a:moveTo>
                      <a:pt x="0" y="21"/>
                    </a:moveTo>
                    <a:lnTo>
                      <a:pt x="171" y="0"/>
                    </a:lnTo>
                    <a:lnTo>
                      <a:pt x="31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43920" y="3168720"/>
                <a:ext cx="1684440" cy="112680"/>
              </a:xfrm>
              <a:custGeom>
                <a:avLst/>
                <a:gdLst/>
                <a:ahLst/>
                <a:rect l="l" t="t" r="r" b="b"/>
                <a:pathLst>
                  <a:path w="314" h="19">
                    <a:moveTo>
                      <a:pt x="0" y="16"/>
                    </a:moveTo>
                    <a:lnTo>
                      <a:pt x="172" y="0"/>
                    </a:lnTo>
                    <a:lnTo>
                      <a:pt x="3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339240" y="2996280"/>
                <a:ext cx="1694880" cy="89280"/>
              </a:xfrm>
              <a:custGeom>
                <a:avLst/>
                <a:gdLst/>
                <a:ahLst/>
                <a:rect l="l" t="t" r="r" b="b"/>
                <a:pathLst>
                  <a:path w="316" h="15">
                    <a:moveTo>
                      <a:pt x="0" y="13"/>
                    </a:moveTo>
                    <a:lnTo>
                      <a:pt x="173" y="0"/>
                    </a:lnTo>
                    <a:lnTo>
                      <a:pt x="316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339240" y="2824560"/>
                <a:ext cx="1699920" cy="65520"/>
              </a:xfrm>
              <a:custGeom>
                <a:avLst/>
                <a:gdLst/>
                <a:ahLst/>
                <a:rect l="l" t="t" r="r" b="b"/>
                <a:pathLst>
                  <a:path w="317" h="11">
                    <a:moveTo>
                      <a:pt x="0" y="9"/>
                    </a:moveTo>
                    <a:lnTo>
                      <a:pt x="173" y="0"/>
                    </a:lnTo>
                    <a:lnTo>
                      <a:pt x="31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65160" y="3996360"/>
                <a:ext cx="1641960" cy="504360"/>
              </a:xfrm>
              <a:custGeom>
                <a:avLst/>
                <a:gdLst/>
                <a:ahLst/>
                <a:rect l="l" t="t" r="r" b="b"/>
                <a:pathLst>
                  <a:path w="1386" h="384">
                    <a:moveTo>
                      <a:pt x="594" y="384"/>
                    </a:moveTo>
                    <a:lnTo>
                      <a:pt x="0" y="158"/>
                    </a:lnTo>
                    <a:lnTo>
                      <a:pt x="761" y="0"/>
                    </a:lnTo>
                    <a:lnTo>
                      <a:pt x="1386" y="176"/>
                    </a:lnTo>
                    <a:lnTo>
                      <a:pt x="594" y="38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266960" y="2824560"/>
                <a:ext cx="772200" cy="140292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625" y="1068"/>
                    </a:moveTo>
                    <a:lnTo>
                      <a:pt x="652" y="50"/>
                    </a:lnTo>
                    <a:lnTo>
                      <a:pt x="0" y="0"/>
                    </a:lnTo>
                    <a:lnTo>
                      <a:pt x="0" y="892"/>
                    </a:lnTo>
                    <a:lnTo>
                      <a:pt x="625" y="1068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9240" y="2824560"/>
                <a:ext cx="927360" cy="1379160"/>
              </a:xfrm>
              <a:custGeom>
                <a:avLst/>
                <a:gdLst/>
                <a:ahLst/>
                <a:rect l="l" t="t" r="r" b="b"/>
                <a:pathLst>
                  <a:path w="783" h="1050">
                    <a:moveTo>
                      <a:pt x="783" y="892"/>
                    </a:moveTo>
                    <a:lnTo>
                      <a:pt x="783" y="0"/>
                    </a:lnTo>
                    <a:lnTo>
                      <a:pt x="0" y="41"/>
                    </a:lnTo>
                    <a:lnTo>
                      <a:pt x="22" y="1050"/>
                    </a:lnTo>
                    <a:lnTo>
                      <a:pt x="783" y="892"/>
                    </a:lnTo>
                    <a:close/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068960" y="4227480"/>
                <a:ext cx="93816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133040" y="44838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192080" y="44654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256160" y="444816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315560" y="44298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374600" y="441144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432560" y="4399920"/>
                <a:ext cx="10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87280" y="438264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46680" y="4364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599600" y="434700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52880" y="43354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706520" y="43171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7608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08040" y="4286880"/>
                <a:ext cx="108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862760" y="42750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09920" y="4258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58520" y="424620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007120" y="42274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084080" y="455076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1080" y="451260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0" y="447732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38680" y="444312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65760" y="441144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658640" y="4375800"/>
                <a:ext cx="6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65920" y="4345920"/>
                <a:ext cx="73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867440" y="43142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64640" y="4294440"/>
                <a:ext cx="69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65160" y="4204080"/>
                <a:ext cx="703440" cy="29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65160" y="42040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402960" y="4215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441120" y="423396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483600" y="425124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21760" y="42696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64240" y="4286880"/>
                <a:ext cx="720" cy="2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07080" y="430488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644880" y="43236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93480" y="4340520"/>
                <a:ext cx="72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35960" y="4358880"/>
                <a:ext cx="108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8800" y="437580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27400" y="4399920"/>
                <a:ext cx="72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869880" y="441828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918480" y="443628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966000" y="446040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020360" y="4477320"/>
                <a:ext cx="72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68960" y="4500720"/>
                <a:ext cx="108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49680" y="42645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25640" y="4294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507000" y="4329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591240" y="436428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6920" y="439812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41000" y="44362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834240" y="447732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9280" y="45190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032240" y="456120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97120" y="4001760"/>
                <a:ext cx="86400" cy="1152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36" y="0"/>
                    </a:moveTo>
                    <a:lnTo>
                      <a:pt x="0" y="0"/>
                    </a:lnTo>
                    <a:lnTo>
                      <a:pt x="32" y="5"/>
                    </a:lnTo>
                    <a:lnTo>
                      <a:pt x="73" y="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148520" y="3978000"/>
                <a:ext cx="86400" cy="3024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41" y="18"/>
                    </a:moveTo>
                    <a:lnTo>
                      <a:pt x="0" y="18"/>
                    </a:lnTo>
                    <a:lnTo>
                      <a:pt x="32" y="0"/>
                    </a:lnTo>
                    <a:lnTo>
                      <a:pt x="73" y="23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094880" y="3978000"/>
                <a:ext cx="9108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5" y="18"/>
                    </a:moveTo>
                    <a:lnTo>
                      <a:pt x="0" y="27"/>
                    </a:lnTo>
                    <a:lnTo>
                      <a:pt x="36" y="9"/>
                    </a:lnTo>
                    <a:lnTo>
                      <a:pt x="77" y="0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46640" y="3989880"/>
                <a:ext cx="9072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8"/>
                    </a:moveTo>
                    <a:lnTo>
                      <a:pt x="0" y="32"/>
                    </a:lnTo>
                    <a:lnTo>
                      <a:pt x="37" y="5"/>
                    </a:lnTo>
                    <a:lnTo>
                      <a:pt x="7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999120" y="3996360"/>
                <a:ext cx="91080" cy="522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40" y="27"/>
                    </a:moveTo>
                    <a:lnTo>
                      <a:pt x="0" y="40"/>
                    </a:lnTo>
                    <a:lnTo>
                      <a:pt x="31" y="22"/>
                    </a:lnTo>
                    <a:lnTo>
                      <a:pt x="77" y="0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44400" y="402516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18"/>
                    </a:moveTo>
                    <a:lnTo>
                      <a:pt x="0" y="32"/>
                    </a:lnTo>
                    <a:lnTo>
                      <a:pt x="37" y="23"/>
                    </a:lnTo>
                    <a:lnTo>
                      <a:pt x="77" y="0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97240" y="4048920"/>
                <a:ext cx="91080" cy="2376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0" y="14"/>
                    </a:moveTo>
                    <a:lnTo>
                      <a:pt x="0" y="18"/>
                    </a:lnTo>
                    <a:lnTo>
                      <a:pt x="31" y="0"/>
                    </a:lnTo>
                    <a:lnTo>
                      <a:pt x="77" y="5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42520" y="40370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6" y="27"/>
                    </a:moveTo>
                    <a:lnTo>
                      <a:pt x="0" y="32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6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89600" y="4025160"/>
                <a:ext cx="9072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5" y="41"/>
                    </a:moveTo>
                    <a:lnTo>
                      <a:pt x="0" y="50"/>
                    </a:lnTo>
                    <a:lnTo>
                      <a:pt x="32" y="0"/>
                    </a:lnTo>
                    <a:lnTo>
                      <a:pt x="7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35960" y="401328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5" y="59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9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681600" y="4013280"/>
                <a:ext cx="90720" cy="10764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6" y="68"/>
                    </a:moveTo>
                    <a:lnTo>
                      <a:pt x="0" y="82"/>
                    </a:lnTo>
                    <a:lnTo>
                      <a:pt x="32" y="27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623280" y="40489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9" y="55"/>
                    </a:moveTo>
                    <a:lnTo>
                      <a:pt x="0" y="68"/>
                    </a:lnTo>
                    <a:lnTo>
                      <a:pt x="36" y="28"/>
                    </a:lnTo>
                    <a:lnTo>
                      <a:pt x="81" y="0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569280" y="4085640"/>
                <a:ext cx="96840" cy="6408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46" y="40"/>
                    </a:moveTo>
                    <a:lnTo>
                      <a:pt x="0" y="49"/>
                    </a:lnTo>
                    <a:lnTo>
                      <a:pt x="32" y="36"/>
                    </a:lnTo>
                    <a:lnTo>
                      <a:pt x="82" y="0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510960" y="413316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9" y="13"/>
                    </a:moveTo>
                    <a:lnTo>
                      <a:pt x="0" y="27"/>
                    </a:lnTo>
                    <a:lnTo>
                      <a:pt x="31" y="22"/>
                    </a:lnTo>
                    <a:lnTo>
                      <a:pt x="81" y="0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456600" y="4161960"/>
                <a:ext cx="90720" cy="23400"/>
              </a:xfrm>
              <a:custGeom>
                <a:avLst/>
                <a:gdLst/>
                <a:ahLst/>
                <a:rect l="l" t="t" r="r" b="b"/>
                <a:pathLst>
                  <a:path w="77" h="18">
                    <a:moveTo>
                      <a:pt x="46" y="5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77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397200" y="4180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50" y="0"/>
                    </a:moveTo>
                    <a:lnTo>
                      <a:pt x="0" y="14"/>
                    </a:lnTo>
                    <a:lnTo>
                      <a:pt x="32" y="18"/>
                    </a:lnTo>
                    <a:lnTo>
                      <a:pt x="8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34920" y="40082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4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13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186320" y="3978000"/>
                <a:ext cx="91080" cy="4716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41" y="23"/>
                    </a:moveTo>
                    <a:lnTo>
                      <a:pt x="0" y="0"/>
                    </a:lnTo>
                    <a:lnTo>
                      <a:pt x="36" y="23"/>
                    </a:lnTo>
                    <a:lnTo>
                      <a:pt x="77" y="36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37720" y="394236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41" y="27"/>
                    </a:moveTo>
                    <a:lnTo>
                      <a:pt x="0" y="36"/>
                    </a:lnTo>
                    <a:lnTo>
                      <a:pt x="37" y="0"/>
                    </a:lnTo>
                    <a:lnTo>
                      <a:pt x="77" y="5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90200" y="3907080"/>
                <a:ext cx="9072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0" y="63"/>
                    </a:moveTo>
                    <a:lnTo>
                      <a:pt x="0" y="68"/>
                    </a:lnTo>
                    <a:lnTo>
                      <a:pt x="31" y="0"/>
                    </a:lnTo>
                    <a:lnTo>
                      <a:pt x="77" y="27"/>
                    </a:lnTo>
                    <a:lnTo>
                      <a:pt x="40" y="6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035840" y="3907080"/>
                <a:ext cx="91080" cy="118080"/>
              </a:xfrm>
              <a:custGeom>
                <a:avLst/>
                <a:gdLst/>
                <a:ahLst/>
                <a:rect l="l" t="t" r="r" b="b"/>
                <a:pathLst>
                  <a:path w="77" h="90">
                    <a:moveTo>
                      <a:pt x="46" y="68"/>
                    </a:moveTo>
                    <a:lnTo>
                      <a:pt x="0" y="90"/>
                    </a:lnTo>
                    <a:lnTo>
                      <a:pt x="37" y="13"/>
                    </a:lnTo>
                    <a:lnTo>
                      <a:pt x="77" y="0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88680" y="3924000"/>
                <a:ext cx="90720" cy="131040"/>
              </a:xfrm>
              <a:custGeom>
                <a:avLst/>
                <a:gdLst/>
                <a:ahLst/>
                <a:rect l="l" t="t" r="r" b="b"/>
                <a:pathLst>
                  <a:path w="77" h="100">
                    <a:moveTo>
                      <a:pt x="40" y="77"/>
                    </a:moveTo>
                    <a:lnTo>
                      <a:pt x="0" y="100"/>
                    </a:lnTo>
                    <a:lnTo>
                      <a:pt x="31" y="37"/>
                    </a:lnTo>
                    <a:lnTo>
                      <a:pt x="77" y="0"/>
                    </a:lnTo>
                    <a:lnTo>
                      <a:pt x="4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33960" y="3966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46" y="68"/>
                    </a:moveTo>
                    <a:lnTo>
                      <a:pt x="0" y="63"/>
                    </a:lnTo>
                    <a:lnTo>
                      <a:pt x="37" y="0"/>
                    </a:lnTo>
                    <a:lnTo>
                      <a:pt x="77" y="5"/>
                    </a:lnTo>
                    <a:lnTo>
                      <a:pt x="4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880680" y="3942360"/>
                <a:ext cx="53280" cy="10620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45" y="81"/>
                    </a:moveTo>
                    <a:lnTo>
                      <a:pt x="45" y="81"/>
                    </a:lnTo>
                    <a:lnTo>
                      <a:pt x="0" y="72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45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flipV="1">
                <a:off x="6880680" y="4037040"/>
                <a:ext cx="532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6880680" y="394200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08040" y="3895200"/>
                <a:ext cx="15120" cy="471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36"/>
                    </a:moveTo>
                    <a:lnTo>
                      <a:pt x="0" y="3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908040" y="394236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6908040" y="389484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23160" y="3942360"/>
                <a:ext cx="54360" cy="106200"/>
              </a:xfrm>
              <a:custGeom>
                <a:avLst/>
                <a:gdLst/>
                <a:ahLst/>
                <a:rect l="l" t="t" r="r" b="b"/>
                <a:pathLst>
                  <a:path w="46" h="81">
                    <a:moveTo>
                      <a:pt x="9" y="81"/>
                    </a:moveTo>
                    <a:lnTo>
                      <a:pt x="9" y="81"/>
                    </a:lnTo>
                    <a:lnTo>
                      <a:pt x="46" y="18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9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6933960" y="3965760"/>
                <a:ext cx="4356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 flipV="1">
                <a:off x="695520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23160" y="3895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0" y="36"/>
                    </a:moveTo>
                    <a:lnTo>
                      <a:pt x="27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23160" y="3942360"/>
                <a:ext cx="31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flipV="1">
                <a:off x="6923160" y="3894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827400" y="3942360"/>
                <a:ext cx="80280" cy="9468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45" y="72"/>
                    </a:moveTo>
                    <a:lnTo>
                      <a:pt x="45" y="72"/>
                    </a:lnTo>
                    <a:lnTo>
                      <a:pt x="0" y="63"/>
                    </a:lnTo>
                    <a:lnTo>
                      <a:pt x="50" y="4"/>
                    </a:lnTo>
                    <a:lnTo>
                      <a:pt x="68" y="0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 flipV="1">
                <a:off x="6827040" y="40248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688644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6880680" y="3942360"/>
                <a:ext cx="2736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886440" y="389520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18" y="36"/>
                    </a:moveTo>
                    <a:lnTo>
                      <a:pt x="0" y="4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6886080" y="3942360"/>
                <a:ext cx="212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6908040" y="3895200"/>
                <a:ext cx="15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27400" y="3947760"/>
                <a:ext cx="59040" cy="7740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0" y="59"/>
                    </a:moveTo>
                    <a:lnTo>
                      <a:pt x="0" y="59"/>
                    </a:lnTo>
                    <a:lnTo>
                      <a:pt x="22" y="5"/>
                    </a:lnTo>
                    <a:lnTo>
                      <a:pt x="5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85332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853320" y="3895200"/>
                <a:ext cx="69840" cy="5904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28" y="40"/>
                    </a:moveTo>
                    <a:lnTo>
                      <a:pt x="0" y="45"/>
                    </a:lnTo>
                    <a:lnTo>
                      <a:pt x="14" y="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28" y="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6852960" y="3947760"/>
                <a:ext cx="32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>
                <a:off x="6869880" y="389520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72680" y="3954240"/>
                <a:ext cx="80280" cy="7056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46" y="54"/>
                    </a:moveTo>
                    <a:lnTo>
                      <a:pt x="46" y="54"/>
                    </a:lnTo>
                    <a:lnTo>
                      <a:pt x="0" y="45"/>
                    </a:lnTo>
                    <a:lnTo>
                      <a:pt x="46" y="4"/>
                    </a:lnTo>
                    <a:lnTo>
                      <a:pt x="68" y="0"/>
                    </a:lnTo>
                    <a:lnTo>
                      <a:pt x="46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 flipV="1">
                <a:off x="6772320" y="401292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6827400" y="3954240"/>
                <a:ext cx="2592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827400" y="3918960"/>
                <a:ext cx="42480" cy="406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27"/>
                    </a:moveTo>
                    <a:lnTo>
                      <a:pt x="0" y="3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6827400" y="3954240"/>
                <a:ext cx="25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53320" y="3918960"/>
                <a:ext cx="16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72680" y="395964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37" y="14"/>
                    </a:lnTo>
                    <a:lnTo>
                      <a:pt x="41" y="5"/>
                    </a:lnTo>
                    <a:lnTo>
                      <a:pt x="46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6772680" y="3978000"/>
                <a:ext cx="435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1660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21280" y="3918960"/>
                <a:ext cx="48600" cy="471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5" y="31"/>
                    </a:moveTo>
                    <a:lnTo>
                      <a:pt x="0" y="3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821280" y="395964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821280" y="391860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19760" y="39780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5" y="27"/>
                    </a:moveTo>
                    <a:lnTo>
                      <a:pt x="0" y="54"/>
                    </a:lnTo>
                    <a:lnTo>
                      <a:pt x="32" y="54"/>
                    </a:lnTo>
                    <a:lnTo>
                      <a:pt x="82" y="0"/>
                    </a:lnTo>
                    <a:lnTo>
                      <a:pt x="45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666120" y="4048920"/>
                <a:ext cx="91080" cy="3672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45" y="0"/>
                    </a:moveTo>
                    <a:lnTo>
                      <a:pt x="0" y="28"/>
                    </a:lnTo>
                    <a:lnTo>
                      <a:pt x="32" y="28"/>
                    </a:lnTo>
                    <a:lnTo>
                      <a:pt x="77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07080" y="4085640"/>
                <a:ext cx="96840" cy="47160"/>
              </a:xfrm>
              <a:custGeom>
                <a:avLst/>
                <a:gdLst/>
                <a:ahLst/>
                <a:rect l="l" t="t" r="r" b="b"/>
                <a:pathLst>
                  <a:path w="82" h="36">
                    <a:moveTo>
                      <a:pt x="50" y="0"/>
                    </a:moveTo>
                    <a:lnTo>
                      <a:pt x="0" y="36"/>
                    </a:lnTo>
                    <a:lnTo>
                      <a:pt x="32" y="27"/>
                    </a:lnTo>
                    <a:lnTo>
                      <a:pt x="82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47680" y="4121280"/>
                <a:ext cx="97200" cy="40680"/>
              </a:xfrm>
              <a:custGeom>
                <a:avLst/>
                <a:gdLst/>
                <a:ahLst/>
                <a:rect l="l" t="t" r="r" b="b"/>
                <a:pathLst>
                  <a:path w="82" h="31">
                    <a:moveTo>
                      <a:pt x="50" y="9"/>
                    </a:moveTo>
                    <a:lnTo>
                      <a:pt x="0" y="31"/>
                    </a:lnTo>
                    <a:lnTo>
                      <a:pt x="37" y="31"/>
                    </a:lnTo>
                    <a:lnTo>
                      <a:pt x="82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494400" y="4161960"/>
                <a:ext cx="9684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45" y="0"/>
                    </a:moveTo>
                    <a:lnTo>
                      <a:pt x="0" y="18"/>
                    </a:lnTo>
                    <a:lnTo>
                      <a:pt x="32" y="28"/>
                    </a:lnTo>
                    <a:lnTo>
                      <a:pt x="82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435000" y="4185720"/>
                <a:ext cx="97200" cy="36360"/>
              </a:xfrm>
              <a:custGeom>
                <a:avLst/>
                <a:gdLst/>
                <a:ahLst/>
                <a:rect l="l" t="t" r="r" b="b"/>
                <a:pathLst>
                  <a:path w="82" h="28">
                    <a:moveTo>
                      <a:pt x="50" y="0"/>
                    </a:moveTo>
                    <a:lnTo>
                      <a:pt x="0" y="14"/>
                    </a:lnTo>
                    <a:lnTo>
                      <a:pt x="32" y="28"/>
                    </a:lnTo>
                    <a:lnTo>
                      <a:pt x="82" y="1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277760" y="4025160"/>
                <a:ext cx="9072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8800" y="4008240"/>
                <a:ext cx="90720" cy="352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41" y="13"/>
                    </a:moveTo>
                    <a:lnTo>
                      <a:pt x="0" y="0"/>
                    </a:lnTo>
                    <a:lnTo>
                      <a:pt x="37" y="9"/>
                    </a:lnTo>
                    <a:lnTo>
                      <a:pt x="77" y="27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81280" y="3912480"/>
                <a:ext cx="91080" cy="10728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40" y="73"/>
                    </a:moveTo>
                    <a:lnTo>
                      <a:pt x="0" y="23"/>
                    </a:lnTo>
                    <a:lnTo>
                      <a:pt x="36" y="0"/>
                    </a:lnTo>
                    <a:lnTo>
                      <a:pt x="77" y="82"/>
                    </a:lnTo>
                    <a:lnTo>
                      <a:pt x="4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7280" y="3900240"/>
                <a:ext cx="54000" cy="4176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46" y="32"/>
                    </a:moveTo>
                    <a:lnTo>
                      <a:pt x="46" y="3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1" y="0"/>
                    </a:lnTo>
                    <a:lnTo>
                      <a:pt x="46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7127280" y="3907080"/>
                <a:ext cx="54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27280" y="3782160"/>
                <a:ext cx="48240" cy="124560"/>
              </a:xfrm>
              <a:custGeom>
                <a:avLst/>
                <a:gdLst/>
                <a:ahLst/>
                <a:rect l="l" t="t" r="r" b="b"/>
                <a:pathLst>
                  <a:path w="41" h="95">
                    <a:moveTo>
                      <a:pt x="41" y="90"/>
                    </a:moveTo>
                    <a:lnTo>
                      <a:pt x="0" y="9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1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7127280" y="3900240"/>
                <a:ext cx="48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75520" y="39002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5" y="32"/>
                    </a:moveTo>
                    <a:lnTo>
                      <a:pt x="5" y="32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5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7181280" y="3912120"/>
                <a:ext cx="424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7218360" y="390708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17084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" y="90"/>
                    </a:moveTo>
                    <a:lnTo>
                      <a:pt x="40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175520" y="39002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79760" y="3907080"/>
                <a:ext cx="47520" cy="169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13"/>
                    </a:moveTo>
                    <a:lnTo>
                      <a:pt x="0" y="1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0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7079760" y="3906720"/>
                <a:ext cx="4752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7079760" y="390708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079760" y="3751920"/>
                <a:ext cx="47520" cy="166680"/>
              </a:xfrm>
              <a:custGeom>
                <a:avLst/>
                <a:gdLst/>
                <a:ahLst/>
                <a:rect l="l" t="t" r="r" b="b"/>
                <a:pathLst>
                  <a:path w="40" h="127">
                    <a:moveTo>
                      <a:pt x="0" y="127"/>
                    </a:moveTo>
                    <a:lnTo>
                      <a:pt x="40" y="118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7079760" y="3906720"/>
                <a:ext cx="475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>
                <a:off x="7079760" y="375192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16480" y="3751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22240" y="3751920"/>
                <a:ext cx="48600" cy="154800"/>
              </a:xfrm>
              <a:custGeom>
                <a:avLst/>
                <a:gdLst/>
                <a:ahLst/>
                <a:rect l="l" t="t" r="r" b="b"/>
                <a:pathLst>
                  <a:path w="41" h="118">
                    <a:moveTo>
                      <a:pt x="4" y="118"/>
                    </a:moveTo>
                    <a:lnTo>
                      <a:pt x="4" y="118"/>
                    </a:lnTo>
                    <a:lnTo>
                      <a:pt x="41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27280" y="390708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7127280" y="378216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 flipV="1">
                <a:off x="712692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712188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22240" y="374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222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12188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025040" y="3918960"/>
                <a:ext cx="54360" cy="53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41"/>
                    </a:lnTo>
                    <a:lnTo>
                      <a:pt x="46" y="4"/>
                    </a:lnTo>
                    <a:lnTo>
                      <a:pt x="46" y="0"/>
                    </a:lnTo>
                    <a:lnTo>
                      <a:pt x="18" y="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7025040" y="3923640"/>
                <a:ext cx="5436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079760" y="39189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704628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046640" y="3751920"/>
                <a:ext cx="69840" cy="171720"/>
              </a:xfrm>
              <a:custGeom>
                <a:avLst/>
                <a:gdLst/>
                <a:ahLst/>
                <a:rect l="l" t="t" r="r" b="b"/>
                <a:pathLst>
                  <a:path w="59" h="131">
                    <a:moveTo>
                      <a:pt x="0" y="131"/>
                    </a:moveTo>
                    <a:lnTo>
                      <a:pt x="28" y="127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7046640" y="3918960"/>
                <a:ext cx="32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7079760" y="3751560"/>
                <a:ext cx="367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16480" y="37465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16480" y="375192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7116480" y="37465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025040" y="3924000"/>
                <a:ext cx="21240" cy="486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0" y="37"/>
                    </a:moveTo>
                    <a:lnTo>
                      <a:pt x="0" y="37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702504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7035840" y="392364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035840" y="3751920"/>
                <a:ext cx="80280" cy="178560"/>
              </a:xfrm>
              <a:custGeom>
                <a:avLst/>
                <a:gdLst/>
                <a:ahLst/>
                <a:rect l="l" t="t" r="r" b="b"/>
                <a:pathLst>
                  <a:path w="68" h="136">
                    <a:moveTo>
                      <a:pt x="9" y="131"/>
                    </a:moveTo>
                    <a:lnTo>
                      <a:pt x="0" y="136"/>
                    </a:lnTo>
                    <a:lnTo>
                      <a:pt x="28" y="32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9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H="1">
                <a:off x="7035480" y="39240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7035840" y="379368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706896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1144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11440" y="37465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6472800" y="3425040"/>
              <a:ext cx="937800" cy="802080"/>
              <a:chOff x="6472800" y="3425040"/>
              <a:chExt cx="937800" cy="802080"/>
            </a:xfrm>
          </p:grpSpPr>
          <p:sp>
            <p:nvSpPr>
              <p:cNvPr id="1646" name=""/>
              <p:cNvSpPr/>
              <p:nvPr/>
            </p:nvSpPr>
            <p:spPr>
              <a:xfrm flipH="1">
                <a:off x="7110720" y="37519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977160" y="3930840"/>
                <a:ext cx="57960" cy="4176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40" y="32"/>
                    </a:moveTo>
                    <a:lnTo>
                      <a:pt x="40" y="32"/>
                    </a:lnTo>
                    <a:lnTo>
                      <a:pt x="0" y="27"/>
                    </a:lnTo>
                    <a:lnTo>
                      <a:pt x="9" y="4"/>
                    </a:lnTo>
                    <a:lnTo>
                      <a:pt x="49" y="0"/>
                    </a:lnTo>
                    <a:lnTo>
                      <a:pt x="40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6976800" y="3966120"/>
                <a:ext cx="471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98796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7024320" y="39308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987960" y="3794040"/>
                <a:ext cx="80280" cy="141480"/>
              </a:xfrm>
              <a:custGeom>
                <a:avLst/>
                <a:gdLst/>
                <a:ahLst/>
                <a:rect l="l" t="t" r="r" b="b"/>
                <a:pathLst>
                  <a:path w="68" h="108">
                    <a:moveTo>
                      <a:pt x="40" y="104"/>
                    </a:moveTo>
                    <a:lnTo>
                      <a:pt x="0" y="108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6987600" y="3930840"/>
                <a:ext cx="47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7035120" y="3794040"/>
                <a:ext cx="327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97716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982200" y="3794040"/>
                <a:ext cx="86040" cy="14148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" y="108"/>
                    </a:moveTo>
                    <a:lnTo>
                      <a:pt x="0" y="108"/>
                    </a:lnTo>
                    <a:lnTo>
                      <a:pt x="27" y="22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6982200" y="393588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4840" y="39423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18"/>
                    </a:moveTo>
                    <a:lnTo>
                      <a:pt x="19" y="1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6954840" y="3942360"/>
                <a:ext cx="223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92280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27" y="127"/>
                    </a:lnTo>
                    <a:lnTo>
                      <a:pt x="0" y="91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6954840" y="3942360"/>
                <a:ext cx="1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flipV="1">
                <a:off x="6922800" y="389448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950160" y="37400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27"/>
                    </a:moveTo>
                    <a:lnTo>
                      <a:pt x="0" y="3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>
                <a:off x="6950160" y="377532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971400" y="393588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5" y="23"/>
                    </a:moveTo>
                    <a:lnTo>
                      <a:pt x="5" y="2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977160" y="3935880"/>
                <a:ext cx="46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697104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965640" y="377532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5" y="127"/>
                    </a:moveTo>
                    <a:lnTo>
                      <a:pt x="14" y="122"/>
                    </a:lnTo>
                    <a:lnTo>
                      <a:pt x="41" y="36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6971400" y="3935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982200" y="3822480"/>
                <a:ext cx="316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960600" y="374004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4" y="27"/>
                    </a:moveTo>
                    <a:lnTo>
                      <a:pt x="23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65640" y="3775320"/>
                <a:ext cx="22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869520" y="3782160"/>
                <a:ext cx="80280" cy="13644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45" y="86"/>
                    </a:lnTo>
                    <a:lnTo>
                      <a:pt x="68" y="0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6869520" y="3894840"/>
                <a:ext cx="52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6922800" y="3781800"/>
                <a:ext cx="2736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693900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39360" y="374004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2"/>
                    </a:moveTo>
                    <a:lnTo>
                      <a:pt x="9" y="3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39360" y="378216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6950160" y="3740040"/>
                <a:ext cx="1044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869520" y="3782160"/>
                <a:ext cx="69480" cy="1364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0" y="104"/>
                    </a:moveTo>
                    <a:lnTo>
                      <a:pt x="0" y="104"/>
                    </a:lnTo>
                    <a:lnTo>
                      <a:pt x="32" y="9"/>
                    </a:lnTo>
                    <a:lnTo>
                      <a:pt x="59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907320" y="3781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07320" y="3740040"/>
                <a:ext cx="5292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32"/>
                    </a:moveTo>
                    <a:lnTo>
                      <a:pt x="0" y="41"/>
                    </a:lnTo>
                    <a:lnTo>
                      <a:pt x="0" y="3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907320" y="3782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690732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16240" y="39661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6816240" y="3966120"/>
                <a:ext cx="4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681588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816240" y="3794040"/>
                <a:ext cx="91080" cy="178560"/>
              </a:xfrm>
              <a:custGeom>
                <a:avLst/>
                <a:gdLst/>
                <a:ahLst/>
                <a:rect l="l" t="t" r="r" b="b"/>
                <a:pathLst>
                  <a:path w="77" h="136">
                    <a:moveTo>
                      <a:pt x="0" y="136"/>
                    </a:moveTo>
                    <a:lnTo>
                      <a:pt x="4" y="131"/>
                    </a:lnTo>
                    <a:lnTo>
                      <a:pt x="45" y="95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6816240" y="396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820920" y="3918240"/>
                <a:ext cx="4860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869520" y="3794040"/>
                <a:ext cx="378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01560" y="3794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6907320" y="37818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816240" y="3794040"/>
                <a:ext cx="85320" cy="178560"/>
              </a:xfrm>
              <a:custGeom>
                <a:avLst/>
                <a:gdLst/>
                <a:ahLst/>
                <a:rect l="l" t="t" r="r" b="b"/>
                <a:pathLst>
                  <a:path w="72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31" y="5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816240" y="397260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6816240" y="386460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901560" y="378216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01560" y="3794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57200" y="3972600"/>
                <a:ext cx="59040" cy="7596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0" y="58"/>
                    </a:moveTo>
                    <a:lnTo>
                      <a:pt x="0" y="58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18" y="13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6757200" y="3977640"/>
                <a:ext cx="5904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778440" y="397260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757200" y="398952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778440" y="392364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50"/>
                    </a:moveTo>
                    <a:lnTo>
                      <a:pt x="27" y="3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6778440" y="3972240"/>
                <a:ext cx="31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10120" y="397260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16240" y="397260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799680" y="3864960"/>
                <a:ext cx="53280" cy="10764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14" y="82"/>
                    </a:moveTo>
                    <a:lnTo>
                      <a:pt x="9" y="82"/>
                    </a:lnTo>
                    <a:lnTo>
                      <a:pt x="0" y="45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4" y="8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6810120" y="397260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6816240" y="3864960"/>
                <a:ext cx="3672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703560" y="3989520"/>
                <a:ext cx="74520" cy="957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73"/>
                    </a:moveTo>
                    <a:lnTo>
                      <a:pt x="0" y="73"/>
                    </a:lnTo>
                    <a:lnTo>
                      <a:pt x="45" y="45"/>
                    </a:lnTo>
                    <a:lnTo>
                      <a:pt x="63" y="0"/>
                    </a:lnTo>
                    <a:lnTo>
                      <a:pt x="45" y="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703560" y="4048560"/>
                <a:ext cx="5328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6757200" y="3989160"/>
                <a:ext cx="208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57200" y="3923640"/>
                <a:ext cx="42120" cy="72360"/>
              </a:xfrm>
              <a:custGeom>
                <a:avLst/>
                <a:gdLst/>
                <a:ahLst/>
                <a:rect l="l" t="t" r="r" b="b"/>
                <a:pathLst>
                  <a:path w="36" h="55">
                    <a:moveTo>
                      <a:pt x="0" y="55"/>
                    </a:moveTo>
                    <a:lnTo>
                      <a:pt x="18" y="5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6757200" y="39895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6778440" y="392364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03560" y="399636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0" y="68"/>
                    </a:moveTo>
                    <a:lnTo>
                      <a:pt x="0" y="68"/>
                    </a:lnTo>
                    <a:lnTo>
                      <a:pt x="31" y="9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740280" y="399600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740280" y="39236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14" y="55"/>
                    </a:moveTo>
                    <a:lnTo>
                      <a:pt x="0" y="64"/>
                    </a:lnTo>
                    <a:lnTo>
                      <a:pt x="0" y="5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4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6740280" y="39963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740280" y="392328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44520" y="4008240"/>
                <a:ext cx="9576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59"/>
                    </a:lnTo>
                    <a:lnTo>
                      <a:pt x="81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644520" y="4085640"/>
                <a:ext cx="590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6703560" y="4007880"/>
                <a:ext cx="367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73524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735600" y="400824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6740280" y="3996000"/>
                <a:ext cx="7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644520" y="400824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77" h="86">
                    <a:moveTo>
                      <a:pt x="0" y="86"/>
                    </a:moveTo>
                    <a:lnTo>
                      <a:pt x="0" y="86"/>
                    </a:lnTo>
                    <a:lnTo>
                      <a:pt x="36" y="49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644520" y="4072320"/>
                <a:ext cx="4248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735600" y="399636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735600" y="400824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591240" y="4072320"/>
                <a:ext cx="96120" cy="892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45" y="37"/>
                    </a:moveTo>
                    <a:lnTo>
                      <a:pt x="0" y="68"/>
                    </a:lnTo>
                    <a:lnTo>
                      <a:pt x="31" y="50"/>
                    </a:lnTo>
                    <a:lnTo>
                      <a:pt x="81" y="0"/>
                    </a:lnTo>
                    <a:lnTo>
                      <a:pt x="45" y="3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531840" y="4137840"/>
                <a:ext cx="95760" cy="601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50" y="18"/>
                    </a:moveTo>
                    <a:lnTo>
                      <a:pt x="0" y="46"/>
                    </a:lnTo>
                    <a:lnTo>
                      <a:pt x="31" y="41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472800" y="4191840"/>
                <a:ext cx="9612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50" y="5"/>
                    </a:moveTo>
                    <a:lnTo>
                      <a:pt x="0" y="23"/>
                    </a:lnTo>
                    <a:lnTo>
                      <a:pt x="32" y="27"/>
                    </a:lnTo>
                    <a:lnTo>
                      <a:pt x="81" y="0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319520" y="404352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7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272360" y="4019760"/>
                <a:ext cx="9108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0" y="18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223760" y="39121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77" h="91">
                    <a:moveTo>
                      <a:pt x="41" y="82"/>
                    </a:moveTo>
                    <a:lnTo>
                      <a:pt x="0" y="0"/>
                    </a:lnTo>
                    <a:lnTo>
                      <a:pt x="32" y="23"/>
                    </a:lnTo>
                    <a:lnTo>
                      <a:pt x="77" y="91"/>
                    </a:lnTo>
                    <a:lnTo>
                      <a:pt x="41" y="8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217640" y="390672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217640" y="390672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70480" y="3782160"/>
                <a:ext cx="47160" cy="124560"/>
              </a:xfrm>
              <a:custGeom>
                <a:avLst/>
                <a:gdLst/>
                <a:ahLst/>
                <a:rect l="l" t="t" r="r" b="b"/>
                <a:pathLst>
                  <a:path w="40" h="95">
                    <a:moveTo>
                      <a:pt x="40" y="95"/>
                    </a:moveTo>
                    <a:lnTo>
                      <a:pt x="40" y="9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217640" y="390672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70480" y="3782160"/>
                <a:ext cx="471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217640" y="3906720"/>
                <a:ext cx="43560" cy="352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27"/>
                    </a:moveTo>
                    <a:lnTo>
                      <a:pt x="37" y="27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7223400" y="3911760"/>
                <a:ext cx="378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217640" y="3906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255440" y="391860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212960" y="3794040"/>
                <a:ext cx="42480" cy="124560"/>
              </a:xfrm>
              <a:custGeom>
                <a:avLst/>
                <a:gdLst/>
                <a:ahLst/>
                <a:rect l="l" t="t" r="r" b="b"/>
                <a:pathLst>
                  <a:path w="36" h="95">
                    <a:moveTo>
                      <a:pt x="36" y="95"/>
                    </a:moveTo>
                    <a:lnTo>
                      <a:pt x="4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7217280" y="39063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126560" y="3751920"/>
                <a:ext cx="43560" cy="2988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37" y="23"/>
                    </a:moveTo>
                    <a:lnTo>
                      <a:pt x="37" y="23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7126200" y="3751560"/>
                <a:ext cx="4356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12656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121880" y="372816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4" y="18"/>
                    </a:lnTo>
                    <a:lnTo>
                      <a:pt x="0" y="1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7126200" y="375192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7121520" y="3746520"/>
                <a:ext cx="4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164720" y="3751920"/>
                <a:ext cx="4824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32"/>
                    </a:moveTo>
                    <a:lnTo>
                      <a:pt x="41" y="32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18" y="5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 flipV="1">
                <a:off x="7170120" y="3781800"/>
                <a:ext cx="421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8560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64720" y="372816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23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7164720" y="37519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68240" y="3751920"/>
                <a:ext cx="42480" cy="417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0"/>
                    </a:lnTo>
                    <a:lnTo>
                      <a:pt x="4" y="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7068240" y="3751920"/>
                <a:ext cx="424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7072920" y="3751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7067880" y="376380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73280" y="3591720"/>
                <a:ext cx="48600" cy="172080"/>
              </a:xfrm>
              <a:custGeom>
                <a:avLst/>
                <a:gdLst/>
                <a:ahLst/>
                <a:rect l="l" t="t" r="r" b="b"/>
                <a:pathLst>
                  <a:path w="41" h="131">
                    <a:moveTo>
                      <a:pt x="0" y="131"/>
                    </a:moveTo>
                    <a:lnTo>
                      <a:pt x="32" y="122"/>
                    </a:lnTo>
                    <a:lnTo>
                      <a:pt x="41" y="118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7073280" y="3751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7111080" y="3746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105320" y="35798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105320" y="35917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105320" y="3579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111080" y="3591720"/>
                <a:ext cx="53280" cy="154800"/>
              </a:xfrm>
              <a:custGeom>
                <a:avLst/>
                <a:gdLst/>
                <a:ahLst/>
                <a:rect l="l" t="t" r="r" b="b"/>
                <a:pathLst>
                  <a:path w="45" h="118">
                    <a:moveTo>
                      <a:pt x="9" y="118"/>
                    </a:moveTo>
                    <a:lnTo>
                      <a:pt x="9" y="118"/>
                    </a:lnTo>
                    <a:lnTo>
                      <a:pt x="45" y="10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1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7121880" y="37278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 flipV="1">
                <a:off x="711540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711072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111080" y="3579840"/>
                <a:ext cx="468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111080" y="35917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14240" y="376380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45"/>
                    </a:moveTo>
                    <a:lnTo>
                      <a:pt x="0" y="45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5" y="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7014240" y="3794040"/>
                <a:ext cx="5400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014240" y="377532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020000" y="3596760"/>
                <a:ext cx="48240" cy="17856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0" y="136"/>
                    </a:moveTo>
                    <a:lnTo>
                      <a:pt x="41" y="127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7020000" y="37638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041240" y="3460320"/>
                <a:ext cx="20880" cy="136080"/>
              </a:xfrm>
              <a:custGeom>
                <a:avLst/>
                <a:gdLst/>
                <a:ahLst/>
                <a:rect l="l" t="t" r="r" b="b"/>
                <a:pathLst>
                  <a:path w="18" h="104">
                    <a:moveTo>
                      <a:pt x="0" y="104"/>
                    </a:moveTo>
                    <a:lnTo>
                      <a:pt x="18" y="10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041240" y="3596760"/>
                <a:ext cx="20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68240" y="376380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7068240" y="3763440"/>
                <a:ext cx="468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706788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062480" y="3591720"/>
                <a:ext cx="42480" cy="172080"/>
              </a:xfrm>
              <a:custGeom>
                <a:avLst/>
                <a:gdLst/>
                <a:ahLst/>
                <a:rect l="l" t="t" r="r" b="b"/>
                <a:pathLst>
                  <a:path w="36" h="131">
                    <a:moveTo>
                      <a:pt x="5" y="131"/>
                    </a:moveTo>
                    <a:lnTo>
                      <a:pt x="9" y="131"/>
                    </a:lnTo>
                    <a:lnTo>
                      <a:pt x="36" y="0"/>
                    </a:lnTo>
                    <a:lnTo>
                      <a:pt x="0" y="4"/>
                    </a:lnTo>
                    <a:lnTo>
                      <a:pt x="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68240" y="376380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7073280" y="359172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56720" y="3460320"/>
                <a:ext cx="54360" cy="136080"/>
              </a:xfrm>
              <a:custGeom>
                <a:avLst/>
                <a:gdLst/>
                <a:ahLst/>
                <a:rect l="l" t="t" r="r" b="b"/>
                <a:pathLst>
                  <a:path w="46" h="104">
                    <a:moveTo>
                      <a:pt x="5" y="104"/>
                    </a:moveTo>
                    <a:lnTo>
                      <a:pt x="41" y="100"/>
                    </a:lnTo>
                    <a:lnTo>
                      <a:pt x="4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7062480" y="359172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7105320" y="35794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987960" y="3775320"/>
                <a:ext cx="25920" cy="4716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22" y="36"/>
                    </a:moveTo>
                    <a:lnTo>
                      <a:pt x="22" y="3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6987960" y="3774960"/>
                <a:ext cx="259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60600" y="3603600"/>
                <a:ext cx="53280" cy="171720"/>
              </a:xfrm>
              <a:custGeom>
                <a:avLst/>
                <a:gdLst/>
                <a:ahLst/>
                <a:rect l="l" t="t" r="r" b="b"/>
                <a:pathLst>
                  <a:path w="45" h="131">
                    <a:moveTo>
                      <a:pt x="45" y="131"/>
                    </a:moveTo>
                    <a:lnTo>
                      <a:pt x="23" y="131"/>
                    </a:lnTo>
                    <a:lnTo>
                      <a:pt x="0" y="104"/>
                    </a:lnTo>
                    <a:lnTo>
                      <a:pt x="9" y="0"/>
                    </a:lnTo>
                    <a:lnTo>
                      <a:pt x="41" y="0"/>
                    </a:lnTo>
                    <a:lnTo>
                      <a:pt x="45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987960" y="3775320"/>
                <a:ext cx="2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6960600" y="3740040"/>
                <a:ext cx="273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7140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71400" y="3425040"/>
                <a:ext cx="37800" cy="178560"/>
              </a:xfrm>
              <a:custGeom>
                <a:avLst/>
                <a:gdLst/>
                <a:ahLst/>
                <a:rect l="l" t="t" r="r" b="b"/>
                <a:pathLst>
                  <a:path w="32" h="136">
                    <a:moveTo>
                      <a:pt x="32" y="136"/>
                    </a:moveTo>
                    <a:lnTo>
                      <a:pt x="0" y="136"/>
                    </a:lnTo>
                    <a:lnTo>
                      <a:pt x="14" y="0"/>
                    </a:lnTo>
                    <a:lnTo>
                      <a:pt x="27" y="0"/>
                    </a:lnTo>
                    <a:lnTo>
                      <a:pt x="32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6510960" y="3205080"/>
              <a:ext cx="943560" cy="1022040"/>
              <a:chOff x="6510960" y="3205080"/>
              <a:chExt cx="943560" cy="1022040"/>
            </a:xfrm>
          </p:grpSpPr>
          <p:sp>
            <p:nvSpPr>
              <p:cNvPr id="1847" name=""/>
              <p:cNvSpPr/>
              <p:nvPr/>
            </p:nvSpPr>
            <p:spPr>
              <a:xfrm flipH="1">
                <a:off x="6971040" y="3603600"/>
                <a:ext cx="378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8320" y="3269520"/>
                <a:ext cx="15120" cy="155160"/>
              </a:xfrm>
              <a:custGeom>
                <a:avLst/>
                <a:gdLst/>
                <a:ahLst/>
                <a:rect l="l" t="t" r="r" b="b"/>
                <a:pathLst>
                  <a:path w="13" h="118">
                    <a:moveTo>
                      <a:pt x="13" y="118"/>
                    </a:moveTo>
                    <a:lnTo>
                      <a:pt x="0" y="11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988320" y="3424680"/>
                <a:ext cx="151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014240" y="3775320"/>
                <a:ext cx="5760" cy="4716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0" y="36"/>
                    </a:moveTo>
                    <a:lnTo>
                      <a:pt x="0" y="3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014240" y="3774960"/>
                <a:ext cx="57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009560" y="359676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4" y="136"/>
                    </a:moveTo>
                    <a:lnTo>
                      <a:pt x="9" y="136"/>
                    </a:lnTo>
                    <a:lnTo>
                      <a:pt x="27" y="0"/>
                    </a:lnTo>
                    <a:lnTo>
                      <a:pt x="0" y="5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014240" y="37753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7020000" y="3596760"/>
                <a:ext cx="2088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7009560" y="35967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03440" y="342468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5" y="136"/>
                    </a:moveTo>
                    <a:lnTo>
                      <a:pt x="32" y="131"/>
                    </a:lnTo>
                    <a:lnTo>
                      <a:pt x="45" y="27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5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7009560" y="35964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7041240" y="3460320"/>
                <a:ext cx="1512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03440" y="3269520"/>
                <a:ext cx="42480" cy="15516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0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03440" y="34246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907680" y="3603600"/>
                <a:ext cx="63720" cy="178200"/>
              </a:xfrm>
              <a:custGeom>
                <a:avLst/>
                <a:gdLst/>
                <a:ahLst/>
                <a:rect l="l" t="t" r="r" b="b"/>
                <a:pathLst>
                  <a:path w="54" h="136">
                    <a:moveTo>
                      <a:pt x="0" y="136"/>
                    </a:moveTo>
                    <a:lnTo>
                      <a:pt x="0" y="136"/>
                    </a:lnTo>
                    <a:lnTo>
                      <a:pt x="45" y="104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6907680" y="3740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960600" y="3603600"/>
                <a:ext cx="1044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939360" y="3424680"/>
                <a:ext cx="48600" cy="18360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41" y="0"/>
                    </a:lnTo>
                    <a:lnTo>
                      <a:pt x="27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6939360" y="36036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6971400" y="3424680"/>
                <a:ext cx="165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971400" y="3269520"/>
                <a:ext cx="31680" cy="161640"/>
              </a:xfrm>
              <a:custGeom>
                <a:avLst/>
                <a:gdLst/>
                <a:ahLst/>
                <a:rect l="l" t="t" r="r" b="b"/>
                <a:pathLst>
                  <a:path w="27" h="123">
                    <a:moveTo>
                      <a:pt x="0" y="123"/>
                    </a:moveTo>
                    <a:lnTo>
                      <a:pt x="14" y="1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6971400" y="342468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988320" y="3269160"/>
                <a:ext cx="1512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907680" y="3608640"/>
                <a:ext cx="31680" cy="173160"/>
              </a:xfrm>
              <a:custGeom>
                <a:avLst/>
                <a:gdLst/>
                <a:ahLst/>
                <a:rect l="l" t="t" r="r" b="b"/>
                <a:pathLst>
                  <a:path w="27" h="132">
                    <a:moveTo>
                      <a:pt x="0" y="132"/>
                    </a:moveTo>
                    <a:lnTo>
                      <a:pt x="0" y="132"/>
                    </a:lnTo>
                    <a:lnTo>
                      <a:pt x="18" y="5"/>
                    </a:lnTo>
                    <a:lnTo>
                      <a:pt x="27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692892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928920" y="3431520"/>
                <a:ext cx="4248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9" y="135"/>
                    </a:moveTo>
                    <a:lnTo>
                      <a:pt x="0" y="140"/>
                    </a:lnTo>
                    <a:lnTo>
                      <a:pt x="18" y="49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9" y="13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6928560" y="36086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695016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96060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60600" y="3269520"/>
                <a:ext cx="42480" cy="166680"/>
              </a:xfrm>
              <a:custGeom>
                <a:avLst/>
                <a:gdLst/>
                <a:ahLst/>
                <a:rect l="l" t="t" r="r" b="b"/>
                <a:pathLst>
                  <a:path w="36" h="127">
                    <a:moveTo>
                      <a:pt x="9" y="123"/>
                    </a:moveTo>
                    <a:lnTo>
                      <a:pt x="0" y="127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9" y="123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6960240" y="34315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696060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852960" y="3794040"/>
                <a:ext cx="48600" cy="70560"/>
              </a:xfrm>
              <a:custGeom>
                <a:avLst/>
                <a:gdLst/>
                <a:ahLst/>
                <a:rect l="l" t="t" r="r" b="b"/>
                <a:pathLst>
                  <a:path w="41" h="54">
                    <a:moveTo>
                      <a:pt x="0" y="54"/>
                    </a:moveTo>
                    <a:lnTo>
                      <a:pt x="0" y="54"/>
                    </a:lnTo>
                    <a:lnTo>
                      <a:pt x="41" y="0"/>
                    </a:lnTo>
                    <a:lnTo>
                      <a:pt x="14" y="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6852960" y="3794040"/>
                <a:ext cx="4860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6869520" y="379404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869520" y="3615120"/>
                <a:ext cx="59040" cy="19044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0" y="145"/>
                    </a:moveTo>
                    <a:lnTo>
                      <a:pt x="27" y="136"/>
                    </a:lnTo>
                    <a:lnTo>
                      <a:pt x="32" y="127"/>
                    </a:lnTo>
                    <a:lnTo>
                      <a:pt x="50" y="0"/>
                    </a:lnTo>
                    <a:lnTo>
                      <a:pt x="41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6869520" y="37936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6901560" y="37818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6907680" y="3614760"/>
                <a:ext cx="208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691776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918120" y="3495600"/>
                <a:ext cx="3204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0" y="95"/>
                    </a:moveTo>
                    <a:lnTo>
                      <a:pt x="9" y="9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6918120" y="36151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928920" y="349524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52960" y="3805920"/>
                <a:ext cx="16560" cy="5868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863760" y="3620520"/>
                <a:ext cx="54000" cy="18504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0" y="141"/>
                    </a:lnTo>
                    <a:lnTo>
                      <a:pt x="23" y="5"/>
                    </a:lnTo>
                    <a:lnTo>
                      <a:pt x="46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6863760" y="38059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689076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890760" y="349560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23" y="95"/>
                    </a:moveTo>
                    <a:lnTo>
                      <a:pt x="0" y="100"/>
                    </a:lnTo>
                    <a:lnTo>
                      <a:pt x="0" y="8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6890400" y="36205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689076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799680" y="3805920"/>
                <a:ext cx="64080" cy="11772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0" y="90"/>
                    </a:moveTo>
                    <a:lnTo>
                      <a:pt x="0" y="90"/>
                    </a:lnTo>
                    <a:lnTo>
                      <a:pt x="45" y="45"/>
                    </a:lnTo>
                    <a:lnTo>
                      <a:pt x="54" y="0"/>
                    </a:lnTo>
                    <a:lnTo>
                      <a:pt x="27" y="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6799680" y="3864600"/>
                <a:ext cx="5328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6852960" y="3805560"/>
                <a:ext cx="104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831720" y="3627000"/>
                <a:ext cx="59040" cy="18360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0" y="140"/>
                    </a:moveTo>
                    <a:lnTo>
                      <a:pt x="27" y="136"/>
                    </a:lnTo>
                    <a:lnTo>
                      <a:pt x="50" y="0"/>
                    </a:lnTo>
                    <a:lnTo>
                      <a:pt x="46" y="5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6831720" y="3805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6863760" y="3627000"/>
                <a:ext cx="270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8572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886080" y="3627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890760" y="3608280"/>
                <a:ext cx="72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799680" y="38109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86"/>
                    </a:moveTo>
                    <a:lnTo>
                      <a:pt x="0" y="86"/>
                    </a:lnTo>
                    <a:lnTo>
                      <a:pt x="23" y="9"/>
                    </a:lnTo>
                    <a:lnTo>
                      <a:pt x="27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6827040" y="38106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827040" y="3633480"/>
                <a:ext cx="59040" cy="189000"/>
              </a:xfrm>
              <a:custGeom>
                <a:avLst/>
                <a:gdLst/>
                <a:ahLst/>
                <a:rect l="l" t="t" r="r" b="b"/>
                <a:pathLst>
                  <a:path w="50" h="144">
                    <a:moveTo>
                      <a:pt x="4" y="135"/>
                    </a:moveTo>
                    <a:lnTo>
                      <a:pt x="0" y="144"/>
                    </a:lnTo>
                    <a:lnTo>
                      <a:pt x="9" y="11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" y="13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6826680" y="38109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682704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6837840" y="3633480"/>
                <a:ext cx="48240" cy="153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886080" y="360864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86080" y="363348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50" h="104">
                    <a:moveTo>
                      <a:pt x="0" y="104"/>
                    </a:moveTo>
                    <a:lnTo>
                      <a:pt x="50" y="49"/>
                    </a:lnTo>
                    <a:lnTo>
                      <a:pt x="37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40640" y="3859560"/>
                <a:ext cx="59040" cy="1364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11"/>
                    </a:moveTo>
                    <a:lnTo>
                      <a:pt x="0" y="23"/>
                    </a:lnTo>
                    <a:lnTo>
                      <a:pt x="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784200" y="3822840"/>
                <a:ext cx="42480" cy="1008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13" y="77"/>
                    </a:moveTo>
                    <a:lnTo>
                      <a:pt x="13" y="77"/>
                    </a:lnTo>
                    <a:lnTo>
                      <a:pt x="0" y="28"/>
                    </a:lnTo>
                    <a:lnTo>
                      <a:pt x="18" y="9"/>
                    </a:lnTo>
                    <a:lnTo>
                      <a:pt x="36" y="0"/>
                    </a:lnTo>
                    <a:lnTo>
                      <a:pt x="13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V="1">
                <a:off x="6805800" y="382248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6799680" y="3822840"/>
                <a:ext cx="2736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05800" y="378720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8" y="27"/>
                    </a:moveTo>
                    <a:lnTo>
                      <a:pt x="0" y="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6805800" y="38228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6826680" y="37872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687360" y="4008240"/>
                <a:ext cx="48240" cy="6408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49"/>
                    </a:moveTo>
                    <a:lnTo>
                      <a:pt x="0" y="49"/>
                    </a:lnTo>
                    <a:lnTo>
                      <a:pt x="41" y="0"/>
                    </a:lnTo>
                    <a:lnTo>
                      <a:pt x="18" y="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6687360" y="4008240"/>
                <a:ext cx="4824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670824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08600" y="3859560"/>
                <a:ext cx="75600" cy="160200"/>
              </a:xfrm>
              <a:custGeom>
                <a:avLst/>
                <a:gdLst/>
                <a:ahLst/>
                <a:rect l="l" t="t" r="r" b="b"/>
                <a:pathLst>
                  <a:path w="64" h="122">
                    <a:moveTo>
                      <a:pt x="0" y="122"/>
                    </a:moveTo>
                    <a:lnTo>
                      <a:pt x="23" y="113"/>
                    </a:lnTo>
                    <a:lnTo>
                      <a:pt x="27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6708600" y="4008240"/>
                <a:ext cx="2700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6735600" y="399600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6740640" y="3859200"/>
                <a:ext cx="4356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687360" y="4019760"/>
                <a:ext cx="20880" cy="5256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40"/>
                    </a:moveTo>
                    <a:lnTo>
                      <a:pt x="0" y="40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708600" y="3859560"/>
                <a:ext cx="75600" cy="165600"/>
              </a:xfrm>
              <a:custGeom>
                <a:avLst/>
                <a:gdLst/>
                <a:ahLst/>
                <a:rect l="l" t="t" r="r" b="b"/>
                <a:pathLst>
                  <a:path w="64" h="126">
                    <a:moveTo>
                      <a:pt x="0" y="122"/>
                    </a:moveTo>
                    <a:lnTo>
                      <a:pt x="0" y="126"/>
                    </a:lnTo>
                    <a:lnTo>
                      <a:pt x="14" y="10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708600" y="40197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627960" y="4025160"/>
                <a:ext cx="80280" cy="11268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0" y="86"/>
                    </a:moveTo>
                    <a:lnTo>
                      <a:pt x="0" y="86"/>
                    </a:lnTo>
                    <a:lnTo>
                      <a:pt x="50" y="36"/>
                    </a:lnTo>
                    <a:lnTo>
                      <a:pt x="68" y="0"/>
                    </a:lnTo>
                    <a:lnTo>
                      <a:pt x="59" y="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6627960" y="4072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6687360" y="4024800"/>
                <a:ext cx="208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69744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697800" y="399636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lnTo>
                      <a:pt x="9" y="2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6697800" y="402516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V="1">
                <a:off x="6708600" y="39963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627960" y="4031640"/>
                <a:ext cx="75600" cy="10620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0" y="81"/>
                    </a:moveTo>
                    <a:lnTo>
                      <a:pt x="0" y="81"/>
                    </a:lnTo>
                    <a:lnTo>
                      <a:pt x="36" y="59"/>
                    </a:lnTo>
                    <a:lnTo>
                      <a:pt x="64" y="4"/>
                    </a:lnTo>
                    <a:lnTo>
                      <a:pt x="59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6627960" y="410904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 flipV="1"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697800" y="3996360"/>
                <a:ext cx="27360" cy="4068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0" y="27"/>
                    </a:moveTo>
                    <a:lnTo>
                      <a:pt x="5" y="3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697800" y="40316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568920" y="41090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22"/>
                    </a:moveTo>
                    <a:lnTo>
                      <a:pt x="0" y="63"/>
                    </a:lnTo>
                    <a:lnTo>
                      <a:pt x="37" y="58"/>
                    </a:lnTo>
                    <a:lnTo>
                      <a:pt x="86" y="0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10960" y="418536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9" y="5"/>
                    </a:moveTo>
                    <a:lnTo>
                      <a:pt x="0" y="32"/>
                    </a:lnTo>
                    <a:lnTo>
                      <a:pt x="36" y="32"/>
                    </a:lnTo>
                    <a:lnTo>
                      <a:pt x="86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63800" y="4055040"/>
                <a:ext cx="9072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0" y="0"/>
                    </a:moveTo>
                    <a:lnTo>
                      <a:pt x="0" y="4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5200" y="4031640"/>
                <a:ext cx="90720" cy="4068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41" y="22"/>
                    </a:moveTo>
                    <a:lnTo>
                      <a:pt x="0" y="0"/>
                    </a:lnTo>
                    <a:lnTo>
                      <a:pt x="36" y="9"/>
                    </a:lnTo>
                    <a:lnTo>
                      <a:pt x="77" y="31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261560" y="3942360"/>
                <a:ext cx="95760" cy="10116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68"/>
                    </a:moveTo>
                    <a:lnTo>
                      <a:pt x="0" y="0"/>
                    </a:lnTo>
                    <a:lnTo>
                      <a:pt x="40" y="4"/>
                    </a:lnTo>
                    <a:lnTo>
                      <a:pt x="81" y="77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255800" y="3918600"/>
                <a:ext cx="5760" cy="234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8"/>
                    </a:moveTo>
                    <a:lnTo>
                      <a:pt x="5" y="18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7255800" y="391824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212960" y="3782160"/>
                <a:ext cx="48600" cy="1414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108"/>
                    </a:moveTo>
                    <a:lnTo>
                      <a:pt x="36" y="10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 flipV="1">
                <a:off x="7255800" y="3918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 flipV="1">
                <a:off x="7212960" y="379404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1560" y="392364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0" y="14"/>
                    </a:moveTo>
                    <a:lnTo>
                      <a:pt x="0" y="14"/>
                    </a:lnTo>
                    <a:lnTo>
                      <a:pt x="40" y="18"/>
                    </a:lnTo>
                    <a:lnTo>
                      <a:pt x="36" y="5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61560" y="394236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 flipV="1">
                <a:off x="7304040" y="393012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 flipV="1">
                <a:off x="7261560" y="392328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55800" y="378216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5" y="108"/>
                    </a:moveTo>
                    <a:lnTo>
                      <a:pt x="41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261560" y="3923640"/>
                <a:ext cx="424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 flipV="1">
                <a:off x="725544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185960" y="3758400"/>
                <a:ext cx="69840" cy="352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3" y="27"/>
                    </a:moveTo>
                    <a:lnTo>
                      <a:pt x="23" y="27"/>
                    </a:lnTo>
                    <a:lnTo>
                      <a:pt x="59" y="18"/>
                    </a:lnTo>
                    <a:lnTo>
                      <a:pt x="36" y="4"/>
                    </a:lnTo>
                    <a:lnTo>
                      <a:pt x="0" y="0"/>
                    </a:lnTo>
                    <a:lnTo>
                      <a:pt x="2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7212960" y="378180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 flipV="1"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85960" y="3758400"/>
                <a:ext cx="270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64720" y="3728160"/>
                <a:ext cx="63720" cy="356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18" y="23"/>
                    </a:moveTo>
                    <a:lnTo>
                      <a:pt x="54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5960" y="375840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164720" y="3728160"/>
                <a:ext cx="2088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228440" y="3763800"/>
                <a:ext cx="27000" cy="180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14"/>
                    </a:lnTo>
                    <a:lnTo>
                      <a:pt x="0" y="0"/>
                    </a:lnTo>
                    <a:lnTo>
                      <a:pt x="14" y="5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24536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164720" y="3716640"/>
                <a:ext cx="80280" cy="5364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8" y="41"/>
                    </a:moveTo>
                    <a:lnTo>
                      <a:pt x="54" y="36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68" y="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28440" y="3763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207200" y="371664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16120" y="3591720"/>
                <a:ext cx="48600" cy="136080"/>
              </a:xfrm>
              <a:custGeom>
                <a:avLst/>
                <a:gdLst/>
                <a:ahLst/>
                <a:rect l="l" t="t" r="r" b="b"/>
                <a:pathLst>
                  <a:path w="41" h="104">
                    <a:moveTo>
                      <a:pt x="41" y="104"/>
                    </a:moveTo>
                    <a:lnTo>
                      <a:pt x="41" y="104"/>
                    </a:lnTo>
                    <a:lnTo>
                      <a:pt x="0" y="0"/>
                    </a:lnTo>
                    <a:lnTo>
                      <a:pt x="37" y="4"/>
                    </a:lnTo>
                    <a:lnTo>
                      <a:pt x="41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flipV="1">
                <a:off x="7115760" y="3591720"/>
                <a:ext cx="48600" cy="136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11612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111080" y="3490200"/>
                <a:ext cx="48600" cy="10620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41" y="81"/>
                    </a:moveTo>
                    <a:lnTo>
                      <a:pt x="4" y="77"/>
                    </a:lnTo>
                    <a:lnTo>
                      <a:pt x="0" y="6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7115760" y="3591720"/>
                <a:ext cx="43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flipV="1">
                <a:off x="7110720" y="35794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159680" y="3596760"/>
                <a:ext cx="47160" cy="131040"/>
              </a:xfrm>
              <a:custGeom>
                <a:avLst/>
                <a:gdLst/>
                <a:ahLst/>
                <a:rect l="l" t="t" r="r" b="b"/>
                <a:pathLst>
                  <a:path w="40" h="100">
                    <a:moveTo>
                      <a:pt x="4" y="100"/>
                    </a:moveTo>
                    <a:lnTo>
                      <a:pt x="4" y="100"/>
                    </a:lnTo>
                    <a:lnTo>
                      <a:pt x="40" y="91"/>
                    </a:lnTo>
                    <a:lnTo>
                      <a:pt x="18" y="5"/>
                    </a:lnTo>
                    <a:lnTo>
                      <a:pt x="0" y="0"/>
                    </a:lnTo>
                    <a:lnTo>
                      <a:pt x="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164720" y="3716640"/>
                <a:ext cx="421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 flipV="1">
                <a:off x="7180920" y="360324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 flipV="1">
                <a:off x="7159680" y="359640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153920" y="3490200"/>
                <a:ext cx="27000" cy="11304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5" y="81"/>
                    </a:moveTo>
                    <a:lnTo>
                      <a:pt x="23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159680" y="3596760"/>
                <a:ext cx="208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715356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056720" y="3419280"/>
                <a:ext cx="54360" cy="160200"/>
              </a:xfrm>
              <a:custGeom>
                <a:avLst/>
                <a:gdLst/>
                <a:ahLst/>
                <a:rect l="l" t="t" r="r" b="b"/>
                <a:pathLst>
                  <a:path w="46" h="122">
                    <a:moveTo>
                      <a:pt x="46" y="122"/>
                    </a:moveTo>
                    <a:lnTo>
                      <a:pt x="46" y="122"/>
                    </a:lnTo>
                    <a:lnTo>
                      <a:pt x="0" y="31"/>
                    </a:lnTo>
                    <a:lnTo>
                      <a:pt x="5" y="4"/>
                    </a:lnTo>
                    <a:lnTo>
                      <a:pt x="41" y="0"/>
                    </a:lnTo>
                    <a:lnTo>
                      <a:pt x="46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7056360" y="3459960"/>
                <a:ext cx="5436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062480" y="3240720"/>
                <a:ext cx="4248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36" y="136"/>
                    </a:moveTo>
                    <a:lnTo>
                      <a:pt x="0" y="14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6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7062480" y="3419280"/>
                <a:ext cx="42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09452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094520" y="3205440"/>
                <a:ext cx="612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7094160" y="3240720"/>
                <a:ext cx="6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7094520" y="320544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105320" y="3419280"/>
                <a:ext cx="48600" cy="16020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5" y="122"/>
                    </a:moveTo>
                    <a:lnTo>
                      <a:pt x="5" y="122"/>
                    </a:lnTo>
                    <a:lnTo>
                      <a:pt x="41" y="5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7111080" y="349020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 flipV="1">
                <a:off x="714276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710496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1006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36"/>
                    </a:moveTo>
                    <a:lnTo>
                      <a:pt x="36" y="140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105320" y="34192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 flipV="1">
                <a:off x="710496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flipV="1"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100640" y="3205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0" y="27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100640" y="324072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 flipV="1">
                <a:off x="7100640" y="320508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046280" y="342468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 flipV="1">
                <a:off x="7045920" y="34246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04628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003440" y="3240720"/>
                <a:ext cx="52920" cy="183960"/>
              </a:xfrm>
              <a:custGeom>
                <a:avLst/>
                <a:gdLst/>
                <a:ahLst/>
                <a:rect l="l" t="t" r="r" b="b"/>
                <a:pathLst>
                  <a:path w="45" h="140">
                    <a:moveTo>
                      <a:pt x="45" y="140"/>
                    </a:moveTo>
                    <a:lnTo>
                      <a:pt x="36" y="140"/>
                    </a:lnTo>
                    <a:lnTo>
                      <a:pt x="0" y="22"/>
                    </a:lnTo>
                    <a:lnTo>
                      <a:pt x="0" y="4"/>
                    </a:lnTo>
                    <a:lnTo>
                      <a:pt x="41" y="0"/>
                    </a:lnTo>
                    <a:lnTo>
                      <a:pt x="45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7045920" y="34246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flipV="1">
                <a:off x="7003440" y="3269160"/>
                <a:ext cx="42480" cy="155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6553440" y="2937600"/>
              <a:ext cx="943920" cy="1289880"/>
              <a:chOff x="6553440" y="2937600"/>
              <a:chExt cx="943920" cy="1289880"/>
            </a:xfrm>
          </p:grpSpPr>
          <p:sp>
            <p:nvSpPr>
              <p:cNvPr id="2048" name=""/>
              <p:cNvSpPr/>
              <p:nvPr/>
            </p:nvSpPr>
            <p:spPr>
              <a:xfrm flipV="1">
                <a:off x="7003440" y="324576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700344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03440" y="30556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41" y="141"/>
                    </a:moveTo>
                    <a:lnTo>
                      <a:pt x="0" y="145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41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>
                <a:off x="7003080" y="3240720"/>
                <a:ext cx="48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700344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703080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030800" y="2937600"/>
                <a:ext cx="15480" cy="12456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13" y="90"/>
                    </a:moveTo>
                    <a:lnTo>
                      <a:pt x="0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7030440" y="305568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703080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056720" y="3424680"/>
                <a:ext cx="5760" cy="3528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0" y="27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7056720" y="3424680"/>
                <a:ext cx="576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H="1"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052040" y="3240720"/>
                <a:ext cx="42120" cy="18396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4" y="140"/>
                    </a:moveTo>
                    <a:lnTo>
                      <a:pt x="9" y="14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4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056720" y="342468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7062480" y="3240360"/>
                <a:ext cx="31680" cy="18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705168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046280" y="3055680"/>
                <a:ext cx="54360" cy="184680"/>
              </a:xfrm>
              <a:custGeom>
                <a:avLst/>
                <a:gdLst/>
                <a:ahLst/>
                <a:rect l="l" t="t" r="r" b="b"/>
                <a:pathLst>
                  <a:path w="46" h="141">
                    <a:moveTo>
                      <a:pt x="5" y="141"/>
                    </a:moveTo>
                    <a:lnTo>
                      <a:pt x="41" y="141"/>
                    </a:lnTo>
                    <a:lnTo>
                      <a:pt x="46" y="114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5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052040" y="3240720"/>
                <a:ext cx="42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7094520" y="3205080"/>
                <a:ext cx="61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704592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041600" y="2937600"/>
                <a:ext cx="27000" cy="124560"/>
              </a:xfrm>
              <a:custGeom>
                <a:avLst/>
                <a:gdLst/>
                <a:ahLst/>
                <a:rect l="l" t="t" r="r" b="b"/>
                <a:pathLst>
                  <a:path w="23" h="95">
                    <a:moveTo>
                      <a:pt x="4" y="90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046280" y="3055680"/>
                <a:ext cx="219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950520" y="3436560"/>
                <a:ext cx="10440" cy="59040"/>
              </a:xfrm>
              <a:custGeom>
                <a:avLst/>
                <a:gdLst/>
                <a:ahLst/>
                <a:rect l="l" t="t" r="r" b="b"/>
                <a:pathLst>
                  <a:path w="9" h="45">
                    <a:moveTo>
                      <a:pt x="0" y="45"/>
                    </a:moveTo>
                    <a:lnTo>
                      <a:pt x="0" y="4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950520" y="3436560"/>
                <a:ext cx="1044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954840" y="324612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5" y="145"/>
                    </a:lnTo>
                    <a:lnTo>
                      <a:pt x="41" y="18"/>
                    </a:lnTo>
                    <a:lnTo>
                      <a:pt x="37" y="0"/>
                    </a:lnTo>
                    <a:lnTo>
                      <a:pt x="14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954840" y="343656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6960960" y="3269160"/>
                <a:ext cx="4248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697104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71400" y="3067200"/>
                <a:ext cx="27000" cy="185040"/>
              </a:xfrm>
              <a:custGeom>
                <a:avLst/>
                <a:gdLst/>
                <a:ahLst/>
                <a:rect l="l" t="t" r="r" b="b"/>
                <a:pathLst>
                  <a:path w="23" h="141">
                    <a:moveTo>
                      <a:pt x="0" y="141"/>
                    </a:moveTo>
                    <a:lnTo>
                      <a:pt x="23" y="13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6971400" y="324612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H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998760" y="3246120"/>
                <a:ext cx="4680" cy="23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8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99876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003440" y="3246120"/>
                <a:ext cx="7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88320" y="3062160"/>
                <a:ext cx="42120" cy="183600"/>
              </a:xfrm>
              <a:custGeom>
                <a:avLst/>
                <a:gdLst/>
                <a:ahLst/>
                <a:rect l="l" t="t" r="r" b="b"/>
                <a:pathLst>
                  <a:path w="36" h="140">
                    <a:moveTo>
                      <a:pt x="13" y="140"/>
                    </a:moveTo>
                    <a:lnTo>
                      <a:pt x="9" y="1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6" y="0"/>
                    </a:lnTo>
                    <a:lnTo>
                      <a:pt x="13" y="14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6998400" y="324612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698832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7003080" y="3062160"/>
                <a:ext cx="270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988320" y="2937600"/>
                <a:ext cx="52920" cy="129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36" y="95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36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6987960" y="3062160"/>
                <a:ext cx="421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7030440" y="2937600"/>
                <a:ext cx="104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891120" y="3436560"/>
                <a:ext cx="63720" cy="17208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0" y="131"/>
                    </a:moveTo>
                    <a:lnTo>
                      <a:pt x="0" y="131"/>
                    </a:lnTo>
                    <a:lnTo>
                      <a:pt x="50" y="45"/>
                    </a:lnTo>
                    <a:lnTo>
                      <a:pt x="54" y="0"/>
                    </a:lnTo>
                    <a:lnTo>
                      <a:pt x="27" y="5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891120" y="3495240"/>
                <a:ext cx="5904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950520" y="3436560"/>
                <a:ext cx="432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6922800" y="343656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922800" y="3252600"/>
                <a:ext cx="4860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27" y="140"/>
                    </a:lnTo>
                    <a:lnTo>
                      <a:pt x="41" y="0"/>
                    </a:lnTo>
                    <a:lnTo>
                      <a:pt x="27" y="4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922800" y="3436200"/>
                <a:ext cx="3168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6954840" y="3252600"/>
                <a:ext cx="1656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954840" y="3067200"/>
                <a:ext cx="33120" cy="190440"/>
              </a:xfrm>
              <a:custGeom>
                <a:avLst/>
                <a:gdLst/>
                <a:ahLst/>
                <a:rect l="l" t="t" r="r" b="b"/>
                <a:pathLst>
                  <a:path w="28" h="145">
                    <a:moveTo>
                      <a:pt x="0" y="145"/>
                    </a:moveTo>
                    <a:lnTo>
                      <a:pt x="14" y="1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954840" y="325260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6971400" y="3067200"/>
                <a:ext cx="16560" cy="18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891120" y="344340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27" h="126">
                    <a:moveTo>
                      <a:pt x="0" y="126"/>
                    </a:moveTo>
                    <a:lnTo>
                      <a:pt x="0" y="126"/>
                    </a:lnTo>
                    <a:lnTo>
                      <a:pt x="18" y="4"/>
                    </a:lnTo>
                    <a:lnTo>
                      <a:pt x="27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91236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912360" y="325800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9" y="141"/>
                    </a:moveTo>
                    <a:lnTo>
                      <a:pt x="0" y="145"/>
                    </a:lnTo>
                    <a:lnTo>
                      <a:pt x="18" y="23"/>
                    </a:lnTo>
                    <a:lnTo>
                      <a:pt x="23" y="5"/>
                    </a:lnTo>
                    <a:lnTo>
                      <a:pt x="36" y="0"/>
                    </a:lnTo>
                    <a:lnTo>
                      <a:pt x="9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>
                <a:off x="6912000" y="34434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693360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13" y="145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13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6939720" y="3258000"/>
                <a:ext cx="15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837840" y="3633480"/>
                <a:ext cx="48240" cy="153720"/>
              </a:xfrm>
              <a:custGeom>
                <a:avLst/>
                <a:gdLst/>
                <a:ahLst/>
                <a:rect l="l" t="t" r="r" b="b"/>
                <a:pathLst>
                  <a:path w="41" h="117">
                    <a:moveTo>
                      <a:pt x="0" y="117"/>
                    </a:moveTo>
                    <a:lnTo>
                      <a:pt x="0" y="117"/>
                    </a:lnTo>
                    <a:lnTo>
                      <a:pt x="41" y="0"/>
                    </a:lnTo>
                    <a:lnTo>
                      <a:pt x="22" y="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6837840" y="3633120"/>
                <a:ext cx="48240" cy="153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686340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863760" y="3448440"/>
                <a:ext cx="48240" cy="19044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0" y="145"/>
                    </a:moveTo>
                    <a:lnTo>
                      <a:pt x="19" y="141"/>
                    </a:lnTo>
                    <a:lnTo>
                      <a:pt x="23" y="122"/>
                    </a:lnTo>
                    <a:lnTo>
                      <a:pt x="41" y="0"/>
                    </a:lnTo>
                    <a:lnTo>
                      <a:pt x="32" y="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863760" y="3633480"/>
                <a:ext cx="219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6886080" y="3608280"/>
                <a:ext cx="46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891120" y="3448080"/>
                <a:ext cx="2088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690120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901560" y="3287880"/>
                <a:ext cx="31680" cy="166680"/>
              </a:xfrm>
              <a:custGeom>
                <a:avLst/>
                <a:gdLst/>
                <a:ahLst/>
                <a:rect l="l" t="t" r="r" b="b"/>
                <a:pathLst>
                  <a:path w="27" h="127">
                    <a:moveTo>
                      <a:pt x="0" y="127"/>
                    </a:moveTo>
                    <a:lnTo>
                      <a:pt x="9" y="12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69015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912360" y="3287520"/>
                <a:ext cx="2124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837840" y="3638880"/>
                <a:ext cx="25920" cy="148320"/>
              </a:xfrm>
              <a:custGeom>
                <a:avLst/>
                <a:gdLst/>
                <a:ahLst/>
                <a:rect l="l" t="t" r="r" b="b"/>
                <a:pathLst>
                  <a:path w="22" h="113">
                    <a:moveTo>
                      <a:pt x="0" y="113"/>
                    </a:moveTo>
                    <a:lnTo>
                      <a:pt x="0" y="113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863760" y="3454920"/>
                <a:ext cx="37800" cy="190440"/>
              </a:xfrm>
              <a:custGeom>
                <a:avLst/>
                <a:gdLst/>
                <a:ahLst/>
                <a:rect l="l" t="t" r="r" b="b"/>
                <a:pathLst>
                  <a:path w="32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14" y="95"/>
                    </a:lnTo>
                    <a:lnTo>
                      <a:pt x="32" y="4"/>
                    </a:lnTo>
                    <a:lnTo>
                      <a:pt x="32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863760" y="363888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6880320" y="345996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01560" y="3287880"/>
                <a:ext cx="31680" cy="172080"/>
              </a:xfrm>
              <a:custGeom>
                <a:avLst/>
                <a:gdLst/>
                <a:ahLst/>
                <a:rect l="l" t="t" r="r" b="b"/>
                <a:pathLst>
                  <a:path w="27" h="131">
                    <a:moveTo>
                      <a:pt x="0" y="127"/>
                    </a:moveTo>
                    <a:lnTo>
                      <a:pt x="0" y="13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901560" y="34549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690156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84200" y="3834720"/>
                <a:ext cx="21240" cy="244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19"/>
                    </a:moveTo>
                    <a:lnTo>
                      <a:pt x="0" y="19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6784200" y="3834720"/>
                <a:ext cx="21240" cy="2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789240" y="3645720"/>
                <a:ext cx="74520" cy="18900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144"/>
                    </a:moveTo>
                    <a:lnTo>
                      <a:pt x="14" y="144"/>
                    </a:lnTo>
                    <a:lnTo>
                      <a:pt x="41" y="108"/>
                    </a:lnTo>
                    <a:lnTo>
                      <a:pt x="63" y="0"/>
                    </a:lnTo>
                    <a:lnTo>
                      <a:pt x="54" y="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789240" y="38347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6805800" y="3786840"/>
                <a:ext cx="316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6837840" y="3645360"/>
                <a:ext cx="25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685260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852960" y="3579840"/>
                <a:ext cx="27000" cy="70560"/>
              </a:xfrm>
              <a:custGeom>
                <a:avLst/>
                <a:gdLst/>
                <a:ahLst/>
                <a:rect l="l" t="t" r="r" b="b"/>
                <a:pathLst>
                  <a:path w="23" h="54">
                    <a:moveTo>
                      <a:pt x="0" y="54"/>
                    </a:moveTo>
                    <a:lnTo>
                      <a:pt x="9" y="5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852960" y="364572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863760" y="3579840"/>
                <a:ext cx="1620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784200" y="3834720"/>
                <a:ext cx="4680" cy="244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19"/>
                    </a:moveTo>
                    <a:lnTo>
                      <a:pt x="0" y="19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789240" y="3650760"/>
                <a:ext cx="63720" cy="19044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0" y="140"/>
                    </a:moveTo>
                    <a:lnTo>
                      <a:pt x="0" y="145"/>
                    </a:lnTo>
                    <a:lnTo>
                      <a:pt x="27" y="63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789240" y="383472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852960" y="3579840"/>
                <a:ext cx="27000" cy="77400"/>
              </a:xfrm>
              <a:custGeom>
                <a:avLst/>
                <a:gdLst/>
                <a:ahLst/>
                <a:rect l="l" t="t" r="r" b="b"/>
                <a:pathLst>
                  <a:path w="23" h="59">
                    <a:moveTo>
                      <a:pt x="0" y="54"/>
                    </a:moveTo>
                    <a:lnTo>
                      <a:pt x="0" y="59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852960" y="365076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85296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725160" y="3841200"/>
                <a:ext cx="63720" cy="15480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118"/>
                    </a:moveTo>
                    <a:lnTo>
                      <a:pt x="0" y="118"/>
                    </a:lnTo>
                    <a:lnTo>
                      <a:pt x="50" y="14"/>
                    </a:lnTo>
                    <a:lnTo>
                      <a:pt x="54" y="0"/>
                    </a:lnTo>
                    <a:lnTo>
                      <a:pt x="45" y="4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725160" y="3859200"/>
                <a:ext cx="5904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784200" y="3841200"/>
                <a:ext cx="46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6778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778440" y="3733560"/>
                <a:ext cx="42480" cy="112680"/>
              </a:xfrm>
              <a:custGeom>
                <a:avLst/>
                <a:gdLst/>
                <a:ahLst/>
                <a:rect l="l" t="t" r="r" b="b"/>
                <a:pathLst>
                  <a:path w="36" h="86">
                    <a:moveTo>
                      <a:pt x="0" y="86"/>
                    </a:moveTo>
                    <a:lnTo>
                      <a:pt x="9" y="8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677844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6789240" y="3733200"/>
                <a:ext cx="31680" cy="107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25160" y="3846240"/>
                <a:ext cx="52920" cy="149760"/>
              </a:xfrm>
              <a:custGeom>
                <a:avLst/>
                <a:gdLst/>
                <a:ahLst/>
                <a:rect l="l" t="t" r="r" b="b"/>
                <a:pathLst>
                  <a:path w="45" h="114">
                    <a:moveTo>
                      <a:pt x="0" y="114"/>
                    </a:moveTo>
                    <a:lnTo>
                      <a:pt x="0" y="114"/>
                    </a:lnTo>
                    <a:lnTo>
                      <a:pt x="36" y="41"/>
                    </a:lnTo>
                    <a:lnTo>
                      <a:pt x="45" y="10"/>
                    </a:lnTo>
                    <a:lnTo>
                      <a:pt x="45" y="0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676764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778440" y="3733560"/>
                <a:ext cx="42480" cy="126000"/>
              </a:xfrm>
              <a:custGeom>
                <a:avLst/>
                <a:gdLst/>
                <a:ahLst/>
                <a:rect l="l" t="t" r="r" b="b"/>
                <a:pathLst>
                  <a:path w="36" h="96">
                    <a:moveTo>
                      <a:pt x="0" y="86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778440" y="3846240"/>
                <a:ext cx="1080" cy="12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677844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670800" y="4037040"/>
                <a:ext cx="32760" cy="72000"/>
              </a:xfrm>
              <a:custGeom>
                <a:avLst/>
                <a:gdLst/>
                <a:ahLst/>
                <a:rect l="l" t="t" r="r" b="b"/>
                <a:pathLst>
                  <a:path w="28" h="55">
                    <a:moveTo>
                      <a:pt x="0" y="55"/>
                    </a:moveTo>
                    <a:lnTo>
                      <a:pt x="0" y="55"/>
                    </a:lnTo>
                    <a:lnTo>
                      <a:pt x="28" y="0"/>
                    </a:lnTo>
                    <a:lnTo>
                      <a:pt x="23" y="9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670800" y="4037040"/>
                <a:ext cx="3276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697800" y="3900240"/>
                <a:ext cx="69840" cy="148320"/>
              </a:xfrm>
              <a:custGeom>
                <a:avLst/>
                <a:gdLst/>
                <a:ahLst/>
                <a:rect l="l" t="t" r="r" b="b"/>
                <a:pathLst>
                  <a:path w="59" h="113">
                    <a:moveTo>
                      <a:pt x="0" y="113"/>
                    </a:moveTo>
                    <a:lnTo>
                      <a:pt x="5" y="104"/>
                    </a:lnTo>
                    <a:lnTo>
                      <a:pt x="23" y="73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6697800" y="403704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703560" y="3996000"/>
                <a:ext cx="212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6725160" y="3900240"/>
                <a:ext cx="4212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670800" y="4048560"/>
                <a:ext cx="37800" cy="6012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0" y="46"/>
                    </a:moveTo>
                    <a:lnTo>
                      <a:pt x="0" y="46"/>
                    </a:lnTo>
                    <a:lnTo>
                      <a:pt x="32" y="9"/>
                    </a:lnTo>
                    <a:lnTo>
                      <a:pt x="23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flipV="1">
                <a:off x="6697440" y="404820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697800" y="3900240"/>
                <a:ext cx="69840" cy="16020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0" y="113"/>
                    </a:moveTo>
                    <a:lnTo>
                      <a:pt x="9" y="122"/>
                    </a:lnTo>
                    <a:lnTo>
                      <a:pt x="9" y="118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697800" y="404856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6708600" y="39002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3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V="1">
                <a:off x="6612480" y="4108680"/>
                <a:ext cx="5796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670800" y="4060440"/>
                <a:ext cx="37800" cy="48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12480" y="4060440"/>
                <a:ext cx="95760" cy="124560"/>
              </a:xfrm>
              <a:custGeom>
                <a:avLst/>
                <a:gdLst/>
                <a:ahLst/>
                <a:rect l="l" t="t" r="r" b="b"/>
                <a:pathLst>
                  <a:path w="81" h="95">
                    <a:moveTo>
                      <a:pt x="0" y="95"/>
                    </a:moveTo>
                    <a:lnTo>
                      <a:pt x="0" y="95"/>
                    </a:lnTo>
                    <a:lnTo>
                      <a:pt x="31" y="7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6612480" y="4161600"/>
                <a:ext cx="363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64920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70860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70860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670860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553440" y="4161960"/>
                <a:ext cx="95760" cy="6552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50" y="18"/>
                    </a:moveTo>
                    <a:lnTo>
                      <a:pt x="0" y="50"/>
                    </a:lnTo>
                    <a:lnTo>
                      <a:pt x="32" y="50"/>
                    </a:lnTo>
                    <a:lnTo>
                      <a:pt x="81" y="0"/>
                    </a:lnTo>
                    <a:lnTo>
                      <a:pt x="50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06280" y="4066920"/>
                <a:ext cx="91080" cy="18360"/>
              </a:xfrm>
              <a:custGeom>
                <a:avLst/>
                <a:gdLst/>
                <a:ahLst/>
                <a:rect l="l" t="t" r="r" b="b"/>
                <a:pathLst>
                  <a:path w="77" h="14">
                    <a:moveTo>
                      <a:pt x="41" y="0"/>
                    </a:moveTo>
                    <a:lnTo>
                      <a:pt x="0" y="4"/>
                    </a:lnTo>
                    <a:lnTo>
                      <a:pt x="36" y="14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357680" y="404352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22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32"/>
                    </a:lnTo>
                    <a:lnTo>
                      <a:pt x="41" y="2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309440" y="3942360"/>
                <a:ext cx="48240" cy="10116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41" y="77"/>
                    </a:moveTo>
                    <a:lnTo>
                      <a:pt x="41" y="77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flipV="1">
                <a:off x="7309440" y="3947760"/>
                <a:ext cx="4824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341120" y="39423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353000" y="3942360"/>
                <a:ext cx="47160" cy="118080"/>
              </a:xfrm>
              <a:custGeom>
                <a:avLst/>
                <a:gdLst/>
                <a:ahLst/>
                <a:rect l="l" t="t" r="r" b="b"/>
                <a:pathLst>
                  <a:path w="40" h="90">
                    <a:moveTo>
                      <a:pt x="40" y="90"/>
                    </a:moveTo>
                    <a:lnTo>
                      <a:pt x="40" y="90"/>
                    </a:lnTo>
                    <a:lnTo>
                      <a:pt x="4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9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flipV="1">
                <a:off x="7357680" y="404316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35300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304400" y="3930480"/>
                <a:ext cx="36720" cy="169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4" y="13"/>
                    </a:moveTo>
                    <a:lnTo>
                      <a:pt x="4" y="13"/>
                    </a:lnTo>
                    <a:lnTo>
                      <a:pt x="31" y="9"/>
                    </a:lnTo>
                    <a:lnTo>
                      <a:pt x="0" y="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7309440" y="39423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flipV="1"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04400" y="3930480"/>
                <a:ext cx="46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41" y="113"/>
                    </a:moveTo>
                    <a:lnTo>
                      <a:pt x="72" y="122"/>
                    </a:lnTo>
                    <a:lnTo>
                      <a:pt x="82" y="1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304400" y="3930480"/>
                <a:ext cx="367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41120" y="3942360"/>
                <a:ext cx="11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255800" y="3782160"/>
                <a:ext cx="4860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82" h="122">
                    <a:moveTo>
                      <a:pt x="82" y="122"/>
                    </a:moveTo>
                    <a:lnTo>
                      <a:pt x="36" y="22"/>
                    </a:lnTo>
                    <a:lnTo>
                      <a:pt x="0" y="0"/>
                    </a:lnTo>
                    <a:lnTo>
                      <a:pt x="82" y="122"/>
                    </a:lnTo>
                    <a:lnTo>
                      <a:pt x="82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255800" y="3782160"/>
                <a:ext cx="97200" cy="16020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0"/>
                    </a:moveTo>
                    <a:lnTo>
                      <a:pt x="8" y="5"/>
                    </a:lnTo>
                    <a:lnTo>
                      <a:pt x="18" y="2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245360" y="377028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flipV="1">
                <a:off x="7245000" y="37702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24536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07200" y="3709800"/>
                <a:ext cx="48600" cy="60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41" y="46"/>
                    </a:moveTo>
                    <a:lnTo>
                      <a:pt x="32" y="46"/>
                    </a:ln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245000" y="37702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flipV="1">
                <a:off x="7206840" y="3715920"/>
                <a:ext cx="378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255800" y="377028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1"/>
                    </a:moveTo>
                    <a:lnTo>
                      <a:pt x="36" y="3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3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flipV="1">
                <a:off x="7255800" y="3782160"/>
                <a:ext cx="4248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87840" y="378216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250040" y="3709800"/>
                <a:ext cx="37800" cy="7200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5" y="4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flipV="1">
                <a:off x="7255800" y="377028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181280" y="3603600"/>
                <a:ext cx="68760" cy="11268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22" y="86"/>
                    </a:moveTo>
                    <a:lnTo>
                      <a:pt x="22" y="86"/>
                    </a:lnTo>
                    <a:lnTo>
                      <a:pt x="58" y="8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22" y="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7207200" y="370980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718092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6591600" y="2937600"/>
              <a:ext cx="948600" cy="1313280"/>
              <a:chOff x="6591600" y="2937600"/>
              <a:chExt cx="948600" cy="13132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181280" y="3603600"/>
                <a:ext cx="2592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154280" y="3490200"/>
                <a:ext cx="48600" cy="11304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86"/>
                    </a:moveTo>
                    <a:lnTo>
                      <a:pt x="41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181280" y="36036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154280" y="3490200"/>
                <a:ext cx="27000" cy="11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202880" y="3603600"/>
                <a:ext cx="47160" cy="10620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40" y="81"/>
                    </a:moveTo>
                    <a:lnTo>
                      <a:pt x="40" y="81"/>
                    </a:lnTo>
                    <a:lnTo>
                      <a:pt x="18" y="4"/>
                    </a:lnTo>
                    <a:lnTo>
                      <a:pt x="0" y="0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7224120" y="360828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154280" y="3490200"/>
                <a:ext cx="69840" cy="118080"/>
              </a:xfrm>
              <a:custGeom>
                <a:avLst/>
                <a:gdLst/>
                <a:ahLst/>
                <a:rect l="l" t="t" r="r" b="b"/>
                <a:pathLst>
                  <a:path w="59" h="90">
                    <a:moveTo>
                      <a:pt x="41" y="86"/>
                    </a:moveTo>
                    <a:lnTo>
                      <a:pt x="59" y="90"/>
                    </a:lnTo>
                    <a:lnTo>
                      <a:pt x="3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1" y="8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202880" y="3603600"/>
                <a:ext cx="208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flipV="1">
                <a:off x="7196400" y="350748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143480" y="3424680"/>
                <a:ext cx="53280" cy="8280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5" y="63"/>
                    </a:lnTo>
                    <a:lnTo>
                      <a:pt x="9" y="50"/>
                    </a:lnTo>
                    <a:lnTo>
                      <a:pt x="0" y="0"/>
                    </a:lnTo>
                    <a:lnTo>
                      <a:pt x="23" y="5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flipV="1">
                <a:off x="7154280" y="3489840"/>
                <a:ext cx="4248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flipV="1">
                <a:off x="7143120" y="3424680"/>
                <a:ext cx="104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105680" y="3246120"/>
                <a:ext cx="65160" cy="185040"/>
              </a:xfrm>
              <a:custGeom>
                <a:avLst/>
                <a:gdLst/>
                <a:ahLst/>
                <a:rect l="l" t="t" r="r" b="b"/>
                <a:pathLst>
                  <a:path w="55" h="141">
                    <a:moveTo>
                      <a:pt x="55" y="141"/>
                    </a:moveTo>
                    <a:lnTo>
                      <a:pt x="32" y="13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7143480" y="342468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105320" y="3246120"/>
                <a:ext cx="3780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4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>
                <a:off x="7105680" y="324612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flipV="1">
                <a:off x="7101000" y="3204720"/>
                <a:ext cx="432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170840" y="3431160"/>
                <a:ext cx="25920" cy="759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22" y="58"/>
                    </a:moveTo>
                    <a:lnTo>
                      <a:pt x="22" y="5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111440" y="3246120"/>
                <a:ext cx="59040" cy="19008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50" y="141"/>
                    </a:moveTo>
                    <a:lnTo>
                      <a:pt x="50" y="145"/>
                    </a:lnTo>
                    <a:lnTo>
                      <a:pt x="27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4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170840" y="34311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flipV="1">
                <a:off x="7143480" y="3370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01000" y="3205080"/>
                <a:ext cx="10440" cy="40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31"/>
                    </a:moveTo>
                    <a:lnTo>
                      <a:pt x="9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111440" y="3246120"/>
                <a:ext cx="10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111440" y="324612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7" y="9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>
                <a:off x="7111440" y="324612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1144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68600" y="3062160"/>
                <a:ext cx="47520" cy="19008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36" y="140"/>
                    </a:lnTo>
                    <a:lnTo>
                      <a:pt x="27" y="10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flipV="1">
                <a:off x="7111080" y="324612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flipV="1">
                <a:off x="7100640" y="3204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flipV="1">
                <a:off x="7068240" y="3061800"/>
                <a:ext cx="32040" cy="142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6860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41600" y="2937600"/>
                <a:ext cx="31680" cy="124560"/>
              </a:xfrm>
              <a:custGeom>
                <a:avLst/>
                <a:gdLst/>
                <a:ahLst/>
                <a:rect l="l" t="t" r="r" b="b"/>
                <a:pathLst>
                  <a:path w="27" h="95">
                    <a:moveTo>
                      <a:pt x="27" y="95"/>
                    </a:moveTo>
                    <a:lnTo>
                      <a:pt x="23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7068240" y="3062160"/>
                <a:ext cx="4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flipV="1">
                <a:off x="7041240" y="2937600"/>
                <a:ext cx="2700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16480" y="3252600"/>
                <a:ext cx="27000" cy="118080"/>
              </a:xfrm>
              <a:custGeom>
                <a:avLst/>
                <a:gdLst/>
                <a:ahLst/>
                <a:rect l="l" t="t" r="r" b="b"/>
                <a:pathLst>
                  <a:path w="23" h="90">
                    <a:moveTo>
                      <a:pt x="23" y="90"/>
                    </a:moveTo>
                    <a:lnTo>
                      <a:pt x="23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 flipV="1">
                <a:off x="711612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73640" y="3062160"/>
                <a:ext cx="42480" cy="190080"/>
              </a:xfrm>
              <a:custGeom>
                <a:avLst/>
                <a:gdLst/>
                <a:ahLst/>
                <a:rect l="l" t="t" r="r" b="b"/>
                <a:pathLst>
                  <a:path w="36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14" y="6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16480" y="32526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flipV="1">
                <a:off x="7090200" y="315144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flipV="1"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41600" y="2937600"/>
                <a:ext cx="31680" cy="12960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27" y="95"/>
                    </a:moveTo>
                    <a:lnTo>
                      <a:pt x="27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073640" y="3062160"/>
                <a:ext cx="10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flipV="1"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988320" y="3067200"/>
                <a:ext cx="101520" cy="8424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6" y="64"/>
                    </a:move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6" y="64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988320" y="306720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073640" y="3067200"/>
                <a:ext cx="1656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88320" y="2937600"/>
                <a:ext cx="84960" cy="129600"/>
              </a:xfrm>
              <a:custGeom>
                <a:avLst/>
                <a:gdLst/>
                <a:ahLst/>
                <a:rect l="l" t="t" r="r" b="b"/>
                <a:pathLst>
                  <a:path w="72" h="99">
                    <a:moveTo>
                      <a:pt x="72" y="99"/>
                    </a:moveTo>
                    <a:lnTo>
                      <a:pt x="0" y="9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72" y="99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>
                <a:off x="6988320" y="3067200"/>
                <a:ext cx="84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6988320" y="2937600"/>
                <a:ext cx="5292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41600" y="2937600"/>
                <a:ext cx="31680" cy="12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30800" y="3264480"/>
                <a:ext cx="10440" cy="23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8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703584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703044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030800" y="326448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988320" y="306720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36" y="150"/>
                    </a:moveTo>
                    <a:lnTo>
                      <a:pt x="45" y="150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30800" y="326448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7041600" y="315108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988320" y="306720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933960" y="3264480"/>
                <a:ext cx="48600" cy="892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37" y="68"/>
                    </a:moveTo>
                    <a:lnTo>
                      <a:pt x="37" y="68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693396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39720" y="3067200"/>
                <a:ext cx="4860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36" y="150"/>
                    </a:moveTo>
                    <a:lnTo>
                      <a:pt x="0" y="15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693972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6939720" y="3066840"/>
                <a:ext cx="486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977880" y="32644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68"/>
                    </a:moveTo>
                    <a:lnTo>
                      <a:pt x="0" y="68"/>
                    </a:lnTo>
                    <a:lnTo>
                      <a:pt x="49" y="18"/>
                    </a:lnTo>
                    <a:lnTo>
                      <a:pt x="45" y="0"/>
                    </a:lnTo>
                    <a:lnTo>
                      <a:pt x="4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6977880" y="328788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flipV="1">
                <a:off x="7030440" y="3264120"/>
                <a:ext cx="4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982560" y="3067200"/>
                <a:ext cx="48240" cy="196920"/>
              </a:xfrm>
              <a:custGeom>
                <a:avLst/>
                <a:gdLst/>
                <a:ahLst/>
                <a:rect l="l" t="t" r="r" b="b"/>
                <a:pathLst>
                  <a:path w="41" h="150">
                    <a:moveTo>
                      <a:pt x="0" y="150"/>
                    </a:moveTo>
                    <a:lnTo>
                      <a:pt x="41" y="15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982560" y="326448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flipV="1">
                <a:off x="6987960" y="3066840"/>
                <a:ext cx="4212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880320" y="346032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36" h="91">
                    <a:moveTo>
                      <a:pt x="0" y="91"/>
                    </a:moveTo>
                    <a:lnTo>
                      <a:pt x="0" y="91"/>
                    </a:lnTo>
                    <a:lnTo>
                      <a:pt x="36" y="55"/>
                    </a:lnTo>
                    <a:lnTo>
                      <a:pt x="36" y="5"/>
                    </a:lnTo>
                    <a:lnTo>
                      <a:pt x="18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flipV="1"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6879960" y="3460320"/>
                <a:ext cx="2124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901920" y="3287880"/>
                <a:ext cx="31680" cy="178560"/>
              </a:xfrm>
              <a:custGeom>
                <a:avLst/>
                <a:gdLst/>
                <a:ahLst/>
                <a:rect l="l" t="t" r="r" b="b"/>
                <a:pathLst>
                  <a:path w="27" h="136">
                    <a:moveTo>
                      <a:pt x="0" y="131"/>
                    </a:moveTo>
                    <a:lnTo>
                      <a:pt x="18" y="13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901920" y="346032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6901920" y="3287880"/>
                <a:ext cx="3168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923160" y="3466800"/>
                <a:ext cx="16560" cy="6552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50"/>
                    </a:moveTo>
                    <a:lnTo>
                      <a:pt x="0" y="5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92316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923160" y="3287880"/>
                <a:ext cx="5436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4" y="136"/>
                    </a:lnTo>
                    <a:lnTo>
                      <a:pt x="46" y="5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923160" y="346680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6933600" y="3287880"/>
                <a:ext cx="43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821280" y="3657240"/>
                <a:ext cx="37800" cy="7596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58"/>
                    </a:moveTo>
                    <a:lnTo>
                      <a:pt x="0" y="58"/>
                    </a:lnTo>
                    <a:lnTo>
                      <a:pt x="27" y="0"/>
                    </a:lnTo>
                    <a:lnTo>
                      <a:pt x="32" y="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6821280" y="3656880"/>
                <a:ext cx="31680" cy="75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853320" y="35323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" y="99"/>
                    </a:moveTo>
                    <a:lnTo>
                      <a:pt x="0" y="95"/>
                    </a:lnTo>
                    <a:lnTo>
                      <a:pt x="23" y="36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flipV="1">
                <a:off x="6853320" y="36572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6853320" y="3579480"/>
                <a:ext cx="2700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6880320" y="3531960"/>
                <a:ext cx="4248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821280" y="3662640"/>
                <a:ext cx="64800" cy="8928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0" y="54"/>
                    </a:lnTo>
                    <a:lnTo>
                      <a:pt x="32" y="0"/>
                    </a:lnTo>
                    <a:lnTo>
                      <a:pt x="55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85908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686376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859080" y="3532320"/>
                <a:ext cx="63720" cy="1364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23" y="104"/>
                    </a:moveTo>
                    <a:lnTo>
                      <a:pt x="0" y="99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23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flipV="1">
                <a:off x="6858720" y="3662640"/>
                <a:ext cx="270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688644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768000" y="3859560"/>
                <a:ext cx="42480" cy="5904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36" y="45"/>
                    </a:lnTo>
                    <a:lnTo>
                      <a:pt x="0" y="31"/>
                    </a:lnTo>
                    <a:lnTo>
                      <a:pt x="9" y="0"/>
                    </a:lnTo>
                    <a:lnTo>
                      <a:pt x="36" y="4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6768000" y="389988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6768000" y="385920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778800" y="3733560"/>
                <a:ext cx="42480" cy="13104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27" y="100"/>
                    </a:moveTo>
                    <a:lnTo>
                      <a:pt x="0" y="9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6778800" y="385956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V="1">
                <a:off x="6778800" y="3733560"/>
                <a:ext cx="42480" cy="126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810480" y="3864600"/>
                <a:ext cx="16560" cy="5364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41"/>
                    </a:moveTo>
                    <a:lnTo>
                      <a:pt x="0" y="41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flipV="1"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810480" y="3733560"/>
                <a:ext cx="53280" cy="1378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100"/>
                    </a:moveTo>
                    <a:lnTo>
                      <a:pt x="14" y="105"/>
                    </a:lnTo>
                    <a:lnTo>
                      <a:pt x="4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810480" y="38646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V="1">
                <a:off x="682740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6821280" y="3733200"/>
                <a:ext cx="424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86" h="118">
                    <a:moveTo>
                      <a:pt x="0" y="118"/>
                    </a:moveTo>
                    <a:lnTo>
                      <a:pt x="86" y="14"/>
                    </a:lnTo>
                    <a:lnTo>
                      <a:pt x="50" y="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08960" y="3900240"/>
                <a:ext cx="101520" cy="1548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9" y="3"/>
                    </a:moveTo>
                    <a:lnTo>
                      <a:pt x="11" y="0"/>
                    </a:lnTo>
                    <a:lnTo>
                      <a:pt x="0" y="2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719400" y="406692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27" y="14"/>
                    </a:moveTo>
                    <a:lnTo>
                      <a:pt x="27" y="14"/>
                    </a:lnTo>
                    <a:lnTo>
                      <a:pt x="0" y="0"/>
                    </a:lnTo>
                    <a:lnTo>
                      <a:pt x="32" y="9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719400" y="40669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6751440" y="4078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708960" y="3918600"/>
                <a:ext cx="101520" cy="160200"/>
              </a:xfrm>
              <a:custGeom>
                <a:avLst/>
                <a:gdLst/>
                <a:ahLst/>
                <a:rect l="l" t="t" r="r" b="b"/>
                <a:pathLst>
                  <a:path w="86" h="122">
                    <a:moveTo>
                      <a:pt x="41" y="122"/>
                    </a:moveTo>
                    <a:lnTo>
                      <a:pt x="9" y="113"/>
                    </a:lnTo>
                    <a:lnTo>
                      <a:pt x="0" y="10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41" y="1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6719040" y="406656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649560" y="406044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7" y="95"/>
                    </a:moveTo>
                    <a:lnTo>
                      <a:pt x="37" y="95"/>
                    </a:lnTo>
                    <a:lnTo>
                      <a:pt x="0" y="7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6649560" y="4161240"/>
                <a:ext cx="43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649560" y="4060080"/>
                <a:ext cx="5904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708960" y="4055040"/>
                <a:ext cx="720" cy="5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708960" y="40604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6708960" y="40550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93480" y="4060440"/>
                <a:ext cx="57960" cy="124560"/>
              </a:xfrm>
              <a:custGeom>
                <a:avLst/>
                <a:gdLst/>
                <a:ahLst/>
                <a:rect l="l" t="t" r="r" b="b"/>
                <a:pathLst>
                  <a:path w="49" h="95">
                    <a:moveTo>
                      <a:pt x="0" y="95"/>
                    </a:moveTo>
                    <a:lnTo>
                      <a:pt x="0" y="95"/>
                    </a:lnTo>
                    <a:lnTo>
                      <a:pt x="49" y="19"/>
                    </a:lnTo>
                    <a:lnTo>
                      <a:pt x="22" y="5"/>
                    </a:lnTo>
                    <a:lnTo>
                      <a:pt x="13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669348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6719400" y="4066560"/>
                <a:ext cx="3168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 flipV="1">
                <a:off x="670860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708960" y="40550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708960" y="4060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flipV="1">
                <a:off x="670860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91600" y="4161600"/>
                <a:ext cx="101880" cy="8928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49" y="0"/>
                    </a:moveTo>
                    <a:lnTo>
                      <a:pt x="0" y="50"/>
                    </a:lnTo>
                    <a:lnTo>
                      <a:pt x="36" y="68"/>
                    </a:lnTo>
                    <a:lnTo>
                      <a:pt x="86" y="1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449120" y="4085640"/>
                <a:ext cx="91080" cy="16920"/>
              </a:xfrm>
              <a:custGeom>
                <a:avLst/>
                <a:gdLst/>
                <a:ahLst/>
                <a:rect l="l" t="t" r="r" b="b"/>
                <a:pathLst>
                  <a:path w="77" h="13">
                    <a:moveTo>
                      <a:pt x="41" y="0"/>
                    </a:moveTo>
                    <a:lnTo>
                      <a:pt x="0" y="0"/>
                    </a:lnTo>
                    <a:lnTo>
                      <a:pt x="36" y="13"/>
                    </a:lnTo>
                    <a:lnTo>
                      <a:pt x="77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400520" y="4060440"/>
                <a:ext cx="91080" cy="4176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41" y="19"/>
                    </a:moveTo>
                    <a:lnTo>
                      <a:pt x="0" y="0"/>
                    </a:lnTo>
                    <a:lnTo>
                      <a:pt x="37" y="28"/>
                    </a:lnTo>
                    <a:lnTo>
                      <a:pt x="77" y="32"/>
                    </a:lnTo>
                    <a:lnTo>
                      <a:pt x="41" y="1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40" y="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7400160" y="4060440"/>
                <a:ext cx="43560" cy="36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7353000" y="3942360"/>
                <a:ext cx="4716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3360" y="394236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3360" y="3942360"/>
                <a:ext cx="90720" cy="15516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77" y="118"/>
                    </a:moveTo>
                    <a:lnTo>
                      <a:pt x="77" y="118"/>
                    </a:lnTo>
                    <a:lnTo>
                      <a:pt x="36" y="7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7" y="1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flipV="1">
                <a:off x="7395840" y="4043160"/>
                <a:ext cx="4824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3360" y="394236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3360" y="3947400"/>
                <a:ext cx="42480" cy="9576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36" y="73"/>
                    </a:moveTo>
                    <a:lnTo>
                      <a:pt x="36" y="73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>
                <a:off x="7353360" y="3947400"/>
                <a:ext cx="4248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3360" y="394740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298640" y="3810960"/>
                <a:ext cx="59040" cy="14832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46" y="104"/>
                    </a:lnTo>
                    <a:lnTo>
                      <a:pt x="46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 flipV="1">
                <a:off x="7353360" y="3947040"/>
                <a:ext cx="43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7353360" y="394236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7298280" y="3810960"/>
                <a:ext cx="5436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353360" y="395964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6" y="64"/>
                    </a:moveTo>
                    <a:lnTo>
                      <a:pt x="36" y="64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36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 flipV="1">
                <a:off x="7353360" y="396576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298640" y="3810960"/>
                <a:ext cx="59040" cy="155160"/>
              </a:xfrm>
              <a:custGeom>
                <a:avLst/>
                <a:gdLst/>
                <a:ahLst/>
                <a:rect l="l" t="t" r="r" b="b"/>
                <a:pathLst>
                  <a:path w="50" h="118">
                    <a:moveTo>
                      <a:pt x="50" y="113"/>
                    </a:moveTo>
                    <a:lnTo>
                      <a:pt x="46" y="118"/>
                    </a:lnTo>
                    <a:lnTo>
                      <a:pt x="41" y="10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H="1">
                <a:off x="7353360" y="3959640"/>
                <a:ext cx="43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7347240" y="395388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87840" y="378180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9" y="22"/>
                    </a:moveTo>
                    <a:lnTo>
                      <a:pt x="9" y="22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728748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287840" y="3781800"/>
                <a:ext cx="104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250040" y="3709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2" y="55"/>
                    </a:moveTo>
                    <a:lnTo>
                      <a:pt x="41" y="59"/>
                    </a:lnTo>
                    <a:lnTo>
                      <a:pt x="3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287840" y="37818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 flipV="1">
                <a:off x="7249680" y="370944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50040" y="3709800"/>
                <a:ext cx="3780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98640" y="3787200"/>
                <a:ext cx="48600" cy="166680"/>
              </a:xfrm>
              <a:custGeom>
                <a:avLst/>
                <a:gdLst/>
                <a:ahLst/>
                <a:rect l="l" t="t" r="r" b="b"/>
                <a:pathLst>
                  <a:path w="41" h="127">
                    <a:moveTo>
                      <a:pt x="41" y="127"/>
                    </a:moveTo>
                    <a:lnTo>
                      <a:pt x="41" y="1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41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 flipV="1">
                <a:off x="7298280" y="3810960"/>
                <a:ext cx="4860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98640" y="37872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304760" y="379908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93960" y="376380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7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flipV="1">
                <a:off x="7298640" y="37868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9396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24120" y="3608640"/>
                <a:ext cx="25920" cy="10116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77"/>
                    </a:moveTo>
                    <a:lnTo>
                      <a:pt x="22" y="7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22" y="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 flipV="1">
                <a:off x="7223760" y="360828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24120" y="3608640"/>
                <a:ext cx="259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196760" y="350748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23" y="77"/>
                    </a:moveTo>
                    <a:lnTo>
                      <a:pt x="41" y="86"/>
                    </a:lnTo>
                    <a:lnTo>
                      <a:pt x="41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6634080" y="3151440"/>
              <a:ext cx="954360" cy="1111320"/>
              <a:chOff x="6634080" y="3151440"/>
              <a:chExt cx="954360" cy="1111320"/>
            </a:xfrm>
          </p:grpSpPr>
          <p:sp>
            <p:nvSpPr>
              <p:cNvPr id="2450" name=""/>
              <p:cNvSpPr/>
              <p:nvPr/>
            </p:nvSpPr>
            <p:spPr>
              <a:xfrm>
                <a:off x="7223760" y="3608640"/>
                <a:ext cx="212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196760" y="350784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45360" y="3620520"/>
                <a:ext cx="48240" cy="143280"/>
              </a:xfrm>
              <a:custGeom>
                <a:avLst/>
                <a:gdLst/>
                <a:ahLst/>
                <a:rect l="l" t="t" r="r" b="b"/>
                <a:pathLst>
                  <a:path w="41" h="109">
                    <a:moveTo>
                      <a:pt x="41" y="109"/>
                    </a:moveTo>
                    <a:lnTo>
                      <a:pt x="41" y="109"/>
                    </a:lnTo>
                    <a:lnTo>
                      <a:pt x="4" y="6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41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flipV="1">
                <a:off x="7249680" y="3709800"/>
                <a:ext cx="435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4536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45360" y="3561480"/>
                <a:ext cx="16200" cy="59040"/>
              </a:xfrm>
              <a:custGeom>
                <a:avLst/>
                <a:gdLst/>
                <a:ahLst/>
                <a:rect l="l" t="t" r="r" b="b"/>
                <a:pathLst>
                  <a:path w="14" h="45">
                    <a:moveTo>
                      <a:pt x="14" y="45"/>
                    </a:move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>
                <a:off x="7245000" y="3620520"/>
                <a:ext cx="162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170840" y="3436560"/>
                <a:ext cx="74520" cy="124560"/>
              </a:xfrm>
              <a:custGeom>
                <a:avLst/>
                <a:gdLst/>
                <a:ahLst/>
                <a:rect l="l" t="t" r="r" b="b"/>
                <a:pathLst>
                  <a:path w="63" h="95">
                    <a:moveTo>
                      <a:pt x="63" y="95"/>
                    </a:moveTo>
                    <a:lnTo>
                      <a:pt x="63" y="95"/>
                    </a:lnTo>
                    <a:lnTo>
                      <a:pt x="22" y="5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63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7196400" y="3507840"/>
                <a:ext cx="4860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 flipV="1">
                <a:off x="7170840" y="3436200"/>
                <a:ext cx="2592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170840" y="343656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flipV="1">
                <a:off x="7170480" y="3436200"/>
                <a:ext cx="10440" cy="6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7143120" y="337104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170840" y="3443400"/>
                <a:ext cx="74520" cy="117720"/>
              </a:xfrm>
              <a:custGeom>
                <a:avLst/>
                <a:gdLst/>
                <a:ahLst/>
                <a:rect l="l" t="t" r="r" b="b"/>
                <a:pathLst>
                  <a:path w="63" h="90">
                    <a:moveTo>
                      <a:pt x="63" y="90"/>
                    </a:moveTo>
                    <a:lnTo>
                      <a:pt x="63" y="90"/>
                    </a:lnTo>
                    <a:lnTo>
                      <a:pt x="18" y="4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63" y="9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7192080" y="3507840"/>
                <a:ext cx="532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7084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43120" y="3371040"/>
                <a:ext cx="37800" cy="723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32" y="55"/>
                    </a:moveTo>
                    <a:lnTo>
                      <a:pt x="23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7170480" y="34434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70840" y="3443400"/>
                <a:ext cx="20880" cy="6408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18" y="49"/>
                    </a:moveTo>
                    <a:lnTo>
                      <a:pt x="18" y="49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7170840" y="3443400"/>
                <a:ext cx="208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16120" y="3252600"/>
                <a:ext cx="59040" cy="195480"/>
              </a:xfrm>
              <a:custGeom>
                <a:avLst/>
                <a:gdLst/>
                <a:ahLst/>
                <a:rect l="l" t="t" r="r" b="b"/>
                <a:pathLst>
                  <a:path w="50" h="149">
                    <a:moveTo>
                      <a:pt x="50" y="149"/>
                    </a:moveTo>
                    <a:lnTo>
                      <a:pt x="46" y="145"/>
                    </a:lnTo>
                    <a:lnTo>
                      <a:pt x="23" y="9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0" y="14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7170840" y="3443400"/>
                <a:ext cx="43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7143120" y="3370680"/>
                <a:ext cx="2736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flipV="1">
                <a:off x="7115760" y="3252600"/>
                <a:ext cx="2700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090200" y="3151800"/>
                <a:ext cx="31680" cy="10620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27" y="81"/>
                    </a:moveTo>
                    <a:lnTo>
                      <a:pt x="22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flipV="1">
                <a:off x="7116120" y="32526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 flipV="1">
                <a:off x="7090200" y="3151800"/>
                <a:ext cx="2592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164720" y="344844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5"/>
                    </a:moveTo>
                    <a:lnTo>
                      <a:pt x="23" y="45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716472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11440" y="3258000"/>
                <a:ext cx="63720" cy="1969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54" y="145"/>
                    </a:moveTo>
                    <a:lnTo>
                      <a:pt x="45" y="150"/>
                    </a:lnTo>
                    <a:lnTo>
                      <a:pt x="18" y="100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7164360" y="344844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1144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0200" y="3151800"/>
                <a:ext cx="31680" cy="11268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1"/>
                    </a:moveTo>
                    <a:lnTo>
                      <a:pt x="18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7111080" y="325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35480" y="326448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7" y="145"/>
                    </a:moveTo>
                    <a:lnTo>
                      <a:pt x="37" y="145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41" y="0"/>
                    </a:lnTo>
                    <a:lnTo>
                      <a:pt x="37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7035480" y="3264120"/>
                <a:ext cx="576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041600" y="3151800"/>
                <a:ext cx="48600" cy="112680"/>
              </a:xfrm>
              <a:custGeom>
                <a:avLst/>
                <a:gdLst/>
                <a:ahLst/>
                <a:rect l="l" t="t" r="r" b="b"/>
                <a:pathLst>
                  <a:path w="41" h="86">
                    <a:moveTo>
                      <a:pt x="36" y="86"/>
                    </a:moveTo>
                    <a:lnTo>
                      <a:pt x="0" y="86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7041600" y="326448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7041600" y="3151440"/>
                <a:ext cx="486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079400" y="3264480"/>
                <a:ext cx="53280" cy="190080"/>
              </a:xfrm>
              <a:custGeom>
                <a:avLst/>
                <a:gdLst/>
                <a:ahLst/>
                <a:rect l="l" t="t" r="r" b="b"/>
                <a:pathLst>
                  <a:path w="45" h="145">
                    <a:moveTo>
                      <a:pt x="0" y="145"/>
                    </a:moveTo>
                    <a:lnTo>
                      <a:pt x="0" y="145"/>
                    </a:lnTo>
                    <a:lnTo>
                      <a:pt x="45" y="95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 flipV="1">
                <a:off x="7111080" y="3264480"/>
                <a:ext cx="2124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708372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84080" y="3151800"/>
                <a:ext cx="27000" cy="112680"/>
              </a:xfrm>
              <a:custGeom>
                <a:avLst/>
                <a:gdLst/>
                <a:ahLst/>
                <a:rect l="l" t="t" r="r" b="b"/>
                <a:pathLst>
                  <a:path w="23" h="86">
                    <a:moveTo>
                      <a:pt x="0" y="86"/>
                    </a:moveTo>
                    <a:lnTo>
                      <a:pt x="23" y="8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084080" y="3264480"/>
                <a:ext cx="27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7090200" y="3151440"/>
                <a:ext cx="2088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014240" y="3472200"/>
                <a:ext cx="10440" cy="2988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1424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977520" y="3288240"/>
                <a:ext cx="57960" cy="183960"/>
              </a:xfrm>
              <a:custGeom>
                <a:avLst/>
                <a:gdLst/>
                <a:ahLst/>
                <a:rect l="l" t="t" r="r" b="b"/>
                <a:pathLst>
                  <a:path w="49" h="140">
                    <a:moveTo>
                      <a:pt x="40" y="140"/>
                    </a:moveTo>
                    <a:lnTo>
                      <a:pt x="31" y="140"/>
                    </a:lnTo>
                    <a:lnTo>
                      <a:pt x="0" y="5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7013880" y="347220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6977520" y="3288240"/>
                <a:ext cx="579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24680" y="3466800"/>
                <a:ext cx="37800" cy="3528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702468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>
                <a:off x="702432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24680" y="3288240"/>
                <a:ext cx="54360" cy="183960"/>
              </a:xfrm>
              <a:custGeom>
                <a:avLst/>
                <a:gdLst/>
                <a:ahLst/>
                <a:rect l="l" t="t" r="r" b="b"/>
                <a:pathLst>
                  <a:path w="46" h="140">
                    <a:moveTo>
                      <a:pt x="0" y="140"/>
                    </a:moveTo>
                    <a:lnTo>
                      <a:pt x="32" y="136"/>
                    </a:lnTo>
                    <a:lnTo>
                      <a:pt x="46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7024680" y="346680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H="1" flipV="1">
                <a:off x="7035120" y="3287880"/>
                <a:ext cx="435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922800" y="3466800"/>
                <a:ext cx="48600" cy="190080"/>
              </a:xfrm>
              <a:custGeom>
                <a:avLst/>
                <a:gdLst/>
                <a:ahLst/>
                <a:rect l="l" t="t" r="r" b="b"/>
                <a:pathLst>
                  <a:path w="41" h="145">
                    <a:moveTo>
                      <a:pt x="36" y="145"/>
                    </a:moveTo>
                    <a:lnTo>
                      <a:pt x="36" y="145"/>
                    </a:lnTo>
                    <a:lnTo>
                      <a:pt x="0" y="50"/>
                    </a:lnTo>
                    <a:lnTo>
                      <a:pt x="14" y="0"/>
                    </a:lnTo>
                    <a:lnTo>
                      <a:pt x="41" y="4"/>
                    </a:lnTo>
                    <a:lnTo>
                      <a:pt x="36" y="1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6922800" y="3466800"/>
                <a:ext cx="165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939720" y="3353760"/>
                <a:ext cx="37800" cy="118080"/>
              </a:xfrm>
              <a:custGeom>
                <a:avLst/>
                <a:gdLst/>
                <a:ahLst/>
                <a:rect l="l" t="t" r="r" b="b"/>
                <a:pathLst>
                  <a:path w="32" h="90">
                    <a:moveTo>
                      <a:pt x="27" y="90"/>
                    </a:moveTo>
                    <a:lnTo>
                      <a:pt x="0" y="86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7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 flipV="1">
                <a:off x="6939720" y="346680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6939720" y="3353400"/>
                <a:ext cx="37800" cy="112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965640" y="3472200"/>
                <a:ext cx="59040" cy="184680"/>
              </a:xfrm>
              <a:custGeom>
                <a:avLst/>
                <a:gdLst/>
                <a:ahLst/>
                <a:rect l="l" t="t" r="r" b="b"/>
                <a:pathLst>
                  <a:path w="50" h="141">
                    <a:moveTo>
                      <a:pt x="0" y="141"/>
                    </a:moveTo>
                    <a:lnTo>
                      <a:pt x="0" y="141"/>
                    </a:lnTo>
                    <a:lnTo>
                      <a:pt x="50" y="23"/>
                    </a:lnTo>
                    <a:lnTo>
                      <a:pt x="41" y="0"/>
                    </a:lnTo>
                    <a:lnTo>
                      <a:pt x="5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6965640" y="350244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 flipV="1">
                <a:off x="7013880" y="3471840"/>
                <a:ext cx="104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H="1"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971760" y="3353760"/>
                <a:ext cx="42480" cy="1180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0" y="90"/>
                    </a:moveTo>
                    <a:lnTo>
                      <a:pt x="36" y="9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971760" y="34722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H="1" flipV="1">
                <a:off x="6977520" y="3353760"/>
                <a:ext cx="36720" cy="118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863760" y="3669120"/>
                <a:ext cx="48240" cy="82800"/>
              </a:xfrm>
              <a:custGeom>
                <a:avLst/>
                <a:gdLst/>
                <a:ahLst/>
                <a:rect l="l" t="t" r="r" b="b"/>
                <a:pathLst>
                  <a:path w="41" h="63">
                    <a:moveTo>
                      <a:pt x="0" y="63"/>
                    </a:moveTo>
                    <a:lnTo>
                      <a:pt x="0" y="63"/>
                    </a:lnTo>
                    <a:lnTo>
                      <a:pt x="37" y="27"/>
                    </a:lnTo>
                    <a:lnTo>
                      <a:pt x="41" y="9"/>
                    </a:lnTo>
                    <a:lnTo>
                      <a:pt x="19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 flipV="1">
                <a:off x="6886080" y="366876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6863400" y="3669120"/>
                <a:ext cx="21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886080" y="3532320"/>
                <a:ext cx="36720" cy="148680"/>
              </a:xfrm>
              <a:custGeom>
                <a:avLst/>
                <a:gdLst/>
                <a:ahLst/>
                <a:rect l="l" t="t" r="r" b="b"/>
                <a:pathLst>
                  <a:path w="31" h="113">
                    <a:moveTo>
                      <a:pt x="0" y="104"/>
                    </a:moveTo>
                    <a:lnTo>
                      <a:pt x="22" y="113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886080" y="3669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>
                <a:off x="6886080" y="3532320"/>
                <a:ext cx="36720" cy="13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907680" y="368100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912360" y="3532320"/>
                <a:ext cx="53280" cy="14868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0" y="113"/>
                    </a:moveTo>
                    <a:lnTo>
                      <a:pt x="23" y="113"/>
                    </a:lnTo>
                    <a:lnTo>
                      <a:pt x="45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912360" y="3681000"/>
                <a:ext cx="273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6939720" y="365724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6922800" y="3532320"/>
                <a:ext cx="424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810480" y="3871440"/>
                <a:ext cx="16560" cy="4716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0" y="36"/>
                    </a:moveTo>
                    <a:lnTo>
                      <a:pt x="0" y="3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6810480" y="3871080"/>
                <a:ext cx="16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827040" y="3704760"/>
                <a:ext cx="80280" cy="172080"/>
              </a:xfrm>
              <a:custGeom>
                <a:avLst/>
                <a:gdLst/>
                <a:ahLst/>
                <a:rect l="l" t="t" r="r" b="b"/>
                <a:pathLst>
                  <a:path w="68" h="131">
                    <a:moveTo>
                      <a:pt x="0" y="131"/>
                    </a:moveTo>
                    <a:lnTo>
                      <a:pt x="0" y="127"/>
                    </a:lnTo>
                    <a:lnTo>
                      <a:pt x="31" y="36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6827040" y="387144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6827040" y="3751560"/>
                <a:ext cx="3672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6863760" y="3704400"/>
                <a:ext cx="435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10480" y="3876840"/>
                <a:ext cx="48600" cy="41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0" y="32"/>
                    </a:lnTo>
                    <a:lnTo>
                      <a:pt x="36" y="27"/>
                    </a:lnTo>
                    <a:lnTo>
                      <a:pt x="41" y="9"/>
                    </a:lnTo>
                    <a:lnTo>
                      <a:pt x="1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6852960" y="388836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H="1" flipV="1"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827040" y="3704760"/>
                <a:ext cx="80280" cy="183600"/>
              </a:xfrm>
              <a:custGeom>
                <a:avLst/>
                <a:gdLst/>
                <a:ahLst/>
                <a:rect l="l" t="t" r="r" b="b"/>
                <a:pathLst>
                  <a:path w="68" h="140">
                    <a:moveTo>
                      <a:pt x="0" y="131"/>
                    </a:moveTo>
                    <a:lnTo>
                      <a:pt x="27" y="1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827040" y="3876840"/>
                <a:ext cx="316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859080" y="370476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751440" y="40791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751440" y="40791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757200" y="3912480"/>
                <a:ext cx="95760" cy="166680"/>
              </a:xfrm>
              <a:custGeom>
                <a:avLst/>
                <a:gdLst/>
                <a:ahLst/>
                <a:rect l="l" t="t" r="r" b="b"/>
                <a:pathLst>
                  <a:path w="81" h="127">
                    <a:moveTo>
                      <a:pt x="0" y="127"/>
                    </a:moveTo>
                    <a:lnTo>
                      <a:pt x="0" y="127"/>
                    </a:lnTo>
                    <a:lnTo>
                      <a:pt x="4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757200" y="407916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757200" y="3918600"/>
                <a:ext cx="52920" cy="160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6810480" y="39124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751440" y="407916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0" y="5"/>
                    </a:moveTo>
                    <a:lnTo>
                      <a:pt x="0" y="5"/>
                    </a:lnTo>
                    <a:lnTo>
                      <a:pt x="32" y="9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 flipV="1">
                <a:off x="6757200" y="407880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757200" y="3912480"/>
                <a:ext cx="95760" cy="178560"/>
              </a:xfrm>
              <a:custGeom>
                <a:avLst/>
                <a:gdLst/>
                <a:ahLst/>
                <a:rect l="l" t="t" r="r" b="b"/>
                <a:pathLst>
                  <a:path w="81" h="136">
                    <a:moveTo>
                      <a:pt x="0" y="127"/>
                    </a:moveTo>
                    <a:lnTo>
                      <a:pt x="27" y="136"/>
                    </a:lnTo>
                    <a:lnTo>
                      <a:pt x="32" y="136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757200" y="40791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6795000" y="3912480"/>
                <a:ext cx="57960" cy="17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93120" y="4085640"/>
                <a:ext cx="101520" cy="99720"/>
              </a:xfrm>
              <a:custGeom>
                <a:avLst/>
                <a:gdLst/>
                <a:ahLst/>
                <a:rect l="l" t="t" r="r" b="b"/>
                <a:pathLst>
                  <a:path w="86" h="76">
                    <a:moveTo>
                      <a:pt x="0" y="76"/>
                    </a:moveTo>
                    <a:lnTo>
                      <a:pt x="0" y="76"/>
                    </a:lnTo>
                    <a:lnTo>
                      <a:pt x="49" y="0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6693120" y="4085280"/>
                <a:ext cx="57960" cy="99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751440" y="40856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789240" y="409104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789240" y="4091040"/>
                <a:ext cx="57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93120" y="4091040"/>
                <a:ext cx="101520" cy="10080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0" y="72"/>
                    </a:moveTo>
                    <a:lnTo>
                      <a:pt x="0" y="72"/>
                    </a:lnTo>
                    <a:lnTo>
                      <a:pt x="36" y="77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93120" y="4185360"/>
                <a:ext cx="421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735600" y="409104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795000" y="409104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34080" y="418536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50" y="0"/>
                    </a:moveTo>
                    <a:lnTo>
                      <a:pt x="0" y="50"/>
                    </a:lnTo>
                    <a:lnTo>
                      <a:pt x="36" y="59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491600" y="4097520"/>
                <a:ext cx="96840" cy="28800"/>
              </a:xfrm>
              <a:custGeom>
                <a:avLst/>
                <a:gdLst/>
                <a:ahLst/>
                <a:rect l="l" t="t" r="r" b="b"/>
                <a:pathLst>
                  <a:path w="82" h="22">
                    <a:moveTo>
                      <a:pt x="41" y="0"/>
                    </a:moveTo>
                    <a:lnTo>
                      <a:pt x="0" y="4"/>
                    </a:lnTo>
                    <a:lnTo>
                      <a:pt x="41" y="22"/>
                    </a:lnTo>
                    <a:lnTo>
                      <a:pt x="82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444080" y="4097520"/>
                <a:ext cx="96120" cy="28800"/>
              </a:xfrm>
              <a:custGeom>
                <a:avLst/>
                <a:gdLst/>
                <a:ahLst/>
                <a:rect l="l" t="t" r="r" b="b"/>
                <a:pathLst>
                  <a:path w="81" h="22">
                    <a:moveTo>
                      <a:pt x="40" y="4"/>
                    </a:moveTo>
                    <a:lnTo>
                      <a:pt x="0" y="0"/>
                    </a:lnTo>
                    <a:lnTo>
                      <a:pt x="40" y="22"/>
                    </a:lnTo>
                    <a:lnTo>
                      <a:pt x="81" y="22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395840" y="4043880"/>
                <a:ext cx="95760" cy="8280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41" y="41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1" y="63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353000" y="3966120"/>
                <a:ext cx="42480" cy="77400"/>
              </a:xfrm>
              <a:custGeom>
                <a:avLst/>
                <a:gdLst/>
                <a:ahLst/>
                <a:rect l="l" t="t" r="r" b="b"/>
                <a:pathLst>
                  <a:path w="36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31" y="18"/>
                    </a:lnTo>
                    <a:lnTo>
                      <a:pt x="22" y="9"/>
                    </a:lnTo>
                    <a:lnTo>
                      <a:pt x="0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H="1" flipV="1"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353000" y="396612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347240" y="395424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9"/>
                    </a:moveTo>
                    <a:lnTo>
                      <a:pt x="27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353000" y="396612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347240" y="39542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5" y="41"/>
                    </a:lnTo>
                    <a:lnTo>
                      <a:pt x="0" y="0"/>
                    </a:lnTo>
                    <a:lnTo>
                      <a:pt x="46" y="77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390080" y="3989880"/>
                <a:ext cx="54000" cy="10116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7"/>
                    </a:lnTo>
                    <a:lnTo>
                      <a:pt x="1" y="9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04400" y="3799440"/>
                <a:ext cx="42480" cy="154800"/>
              </a:xfrm>
              <a:custGeom>
                <a:avLst/>
                <a:gdLst/>
                <a:ahLst/>
                <a:rect l="l" t="t" r="r" b="b"/>
                <a:pathLst>
                  <a:path w="36" h="118">
                    <a:moveTo>
                      <a:pt x="36" y="118"/>
                    </a:moveTo>
                    <a:lnTo>
                      <a:pt x="36" y="118"/>
                    </a:lnTo>
                    <a:lnTo>
                      <a:pt x="0" y="0"/>
                    </a:lnTo>
                    <a:lnTo>
                      <a:pt x="31" y="5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H="1" flipV="1">
                <a:off x="7304400" y="3799440"/>
                <a:ext cx="4248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293600" y="375840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40" y="36"/>
                    </a:moveTo>
                    <a:lnTo>
                      <a:pt x="9" y="31"/>
                    </a:lnTo>
                    <a:lnTo>
                      <a:pt x="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 flipV="1">
                <a:off x="7304400" y="3799440"/>
                <a:ext cx="36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 flipV="1">
                <a:off x="7293240" y="37638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379280" y="397800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7378920" y="39776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37928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390080" y="398448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341120" y="3805920"/>
                <a:ext cx="48600" cy="178200"/>
              </a:xfrm>
              <a:custGeom>
                <a:avLst/>
                <a:gdLst/>
                <a:ahLst/>
                <a:rect l="l" t="t" r="r" b="b"/>
                <a:pathLst>
                  <a:path w="41" h="136">
                    <a:moveTo>
                      <a:pt x="41" y="136"/>
                    </a:moveTo>
                    <a:lnTo>
                      <a:pt x="32" y="131"/>
                    </a:lnTo>
                    <a:lnTo>
                      <a:pt x="5" y="11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 flipV="1">
                <a:off x="7378920" y="397800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 flipV="1">
                <a:off x="7347240" y="395388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353000" y="381096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341120" y="3758400"/>
                <a:ext cx="11520" cy="5220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10" y="4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7341120" y="3805920"/>
                <a:ext cx="11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341120" y="375840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261920" y="3620520"/>
                <a:ext cx="79200" cy="143280"/>
              </a:xfrm>
              <a:custGeom>
                <a:avLst/>
                <a:gdLst/>
                <a:ahLst/>
                <a:rect l="l" t="t" r="r" b="b"/>
                <a:pathLst>
                  <a:path w="67" h="109">
                    <a:moveTo>
                      <a:pt x="27" y="109"/>
                    </a:moveTo>
                    <a:lnTo>
                      <a:pt x="27" y="109"/>
                    </a:lnTo>
                    <a:lnTo>
                      <a:pt x="67" y="10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27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7293600" y="3758400"/>
                <a:ext cx="475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 flipV="1">
                <a:off x="726156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261920" y="3620520"/>
                <a:ext cx="31680" cy="14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245360" y="3561480"/>
                <a:ext cx="31680" cy="655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14" y="45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261920" y="3620520"/>
                <a:ext cx="15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245360" y="3561480"/>
                <a:ext cx="162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277400" y="3627000"/>
                <a:ext cx="63720" cy="131040"/>
              </a:xfrm>
              <a:custGeom>
                <a:avLst/>
                <a:gdLst/>
                <a:ahLst/>
                <a:rect l="l" t="t" r="r" b="b"/>
                <a:pathLst>
                  <a:path w="54" h="100">
                    <a:moveTo>
                      <a:pt x="54" y="100"/>
                    </a:moveTo>
                    <a:lnTo>
                      <a:pt x="54" y="100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54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7298640" y="363888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7277400" y="362664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245360" y="3561480"/>
                <a:ext cx="52920" cy="7776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27" y="50"/>
                    </a:moveTo>
                    <a:lnTo>
                      <a:pt x="45" y="59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277400" y="362700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 flipV="1">
                <a:off x="7245000" y="3561120"/>
                <a:ext cx="4212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192080" y="3507840"/>
                <a:ext cx="95760" cy="1008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45" y="41"/>
                    </a:moveTo>
                    <a:lnTo>
                      <a:pt x="0" y="0"/>
                    </a:lnTo>
                    <a:lnTo>
                      <a:pt x="36" y="59"/>
                    </a:lnTo>
                    <a:lnTo>
                      <a:pt x="81" y="77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cc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164720" y="3454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9" y="99"/>
                    </a:moveTo>
                    <a:lnTo>
                      <a:pt x="59" y="99"/>
                    </a:lnTo>
                    <a:lnTo>
                      <a:pt x="23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9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 flipV="1">
                <a:off x="7192080" y="350748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7164360" y="3454920"/>
                <a:ext cx="2700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132680" y="3389400"/>
                <a:ext cx="37800" cy="6552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32" y="50"/>
                    </a:moveTo>
                    <a:lnTo>
                      <a:pt x="27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7164720" y="345492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7132680" y="3389400"/>
                <a:ext cx="316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53920" y="345492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68" y="99"/>
                    </a:moveTo>
                    <a:lnTo>
                      <a:pt x="68" y="99"/>
                    </a:lnTo>
                    <a:lnTo>
                      <a:pt x="23" y="81"/>
                    </a:lnTo>
                    <a:lnTo>
                      <a:pt x="0" y="4"/>
                    </a:lnTo>
                    <a:lnTo>
                      <a:pt x="14" y="0"/>
                    </a:lnTo>
                    <a:lnTo>
                      <a:pt x="68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6676920" y="3389400"/>
              <a:ext cx="960120" cy="885240"/>
              <a:chOff x="6676920" y="3389400"/>
              <a:chExt cx="960120" cy="885240"/>
            </a:xfrm>
          </p:grpSpPr>
          <p:sp>
            <p:nvSpPr>
              <p:cNvPr id="2651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715356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132680" y="3389400"/>
                <a:ext cx="37800" cy="7056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50"/>
                    </a:moveTo>
                    <a:lnTo>
                      <a:pt x="18" y="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7153920" y="3454920"/>
                <a:ext cx="165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084080" y="3466800"/>
                <a:ext cx="48600" cy="7740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6" y="59"/>
                    </a:moveTo>
                    <a:lnTo>
                      <a:pt x="36" y="5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7084080" y="346644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08408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079400" y="3389400"/>
                <a:ext cx="53280" cy="7740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45" y="59"/>
                    </a:moveTo>
                    <a:lnTo>
                      <a:pt x="4" y="59"/>
                    </a:lnTo>
                    <a:lnTo>
                      <a:pt x="0" y="5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7083720" y="34668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79040" y="345456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7079400" y="3389400"/>
                <a:ext cx="532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126920" y="3459960"/>
                <a:ext cx="54000" cy="100800"/>
              </a:xfrm>
              <a:custGeom>
                <a:avLst/>
                <a:gdLst/>
                <a:ahLst/>
                <a:rect l="l" t="t" r="r" b="b"/>
                <a:pathLst>
                  <a:path w="46" h="77">
                    <a:moveTo>
                      <a:pt x="46" y="77"/>
                    </a:moveTo>
                    <a:lnTo>
                      <a:pt x="46" y="77"/>
                    </a:lnTo>
                    <a:lnTo>
                      <a:pt x="0" y="64"/>
                    </a:lnTo>
                    <a:lnTo>
                      <a:pt x="5" y="5"/>
                    </a:lnTo>
                    <a:lnTo>
                      <a:pt x="23" y="0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153920" y="3459960"/>
                <a:ext cx="2700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32680" y="3389400"/>
                <a:ext cx="20880" cy="7740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8" y="54"/>
                    </a:move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32680" y="3459960"/>
                <a:ext cx="208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132680" y="3389400"/>
                <a:ext cx="20880" cy="70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25040" y="3466800"/>
                <a:ext cx="10188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86" y="59"/>
                    </a:lnTo>
                    <a:lnTo>
                      <a:pt x="0" y="27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7025040" y="3466800"/>
                <a:ext cx="3780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6284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084080" y="3466800"/>
                <a:ext cx="4248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62840" y="345492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8" y="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7062480" y="3466800"/>
                <a:ext cx="21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7062840" y="3454560"/>
                <a:ext cx="165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79400" y="345492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37" y="95"/>
                    </a:moveTo>
                    <a:lnTo>
                      <a:pt x="86" y="32"/>
                    </a:lnTo>
                    <a:lnTo>
                      <a:pt x="0" y="0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025040" y="350208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8" y="21"/>
                    </a:lnTo>
                    <a:lnTo>
                      <a:pt x="19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982560" y="3681000"/>
                <a:ext cx="31680" cy="40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31"/>
                    </a:moveTo>
                    <a:lnTo>
                      <a:pt x="27" y="3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965640" y="350208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14" y="136"/>
                    </a:lnTo>
                    <a:lnTo>
                      <a:pt x="0" y="11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6982560" y="368100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6965640" y="3502080"/>
                <a:ext cx="59040" cy="15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014240" y="368100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0" y="31"/>
                    </a:moveTo>
                    <a:lnTo>
                      <a:pt x="0" y="3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H="1"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014240" y="3502080"/>
                <a:ext cx="54000" cy="178560"/>
              </a:xfrm>
              <a:custGeom>
                <a:avLst/>
                <a:gdLst/>
                <a:ahLst/>
                <a:rect l="l" t="t" r="r" b="b"/>
                <a:pathLst>
                  <a:path w="46" h="136">
                    <a:moveTo>
                      <a:pt x="0" y="136"/>
                    </a:moveTo>
                    <a:lnTo>
                      <a:pt x="18" y="136"/>
                    </a:lnTo>
                    <a:lnTo>
                      <a:pt x="46" y="9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014240" y="3681000"/>
                <a:ext cx="20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 flipV="1">
                <a:off x="7024680" y="3502080"/>
                <a:ext cx="435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907680" y="3681000"/>
                <a:ext cx="106560" cy="40320"/>
              </a:xfrm>
              <a:custGeom>
                <a:avLst/>
                <a:gdLst/>
                <a:ahLst/>
                <a:rect l="l" t="t" r="r" b="b"/>
                <a:pathLst>
                  <a:path w="90" h="31">
                    <a:moveTo>
                      <a:pt x="90" y="31"/>
                    </a:moveTo>
                    <a:lnTo>
                      <a:pt x="90" y="31"/>
                    </a:lnTo>
                    <a:lnTo>
                      <a:pt x="0" y="18"/>
                    </a:lnTo>
                    <a:lnTo>
                      <a:pt x="27" y="0"/>
                    </a:lnTo>
                    <a:lnTo>
                      <a:pt x="63" y="0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6907680" y="368064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982560" y="3681000"/>
                <a:ext cx="316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939720" y="365688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>
                <a:off x="6939720" y="3681000"/>
                <a:ext cx="424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39720" y="3656880"/>
                <a:ext cx="2592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965640" y="3656880"/>
                <a:ext cx="165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90" h="127">
                    <a:moveTo>
                      <a:pt x="40" y="127"/>
                    </a:moveTo>
                    <a:lnTo>
                      <a:pt x="90" y="13"/>
                    </a:lnTo>
                    <a:lnTo>
                      <a:pt x="0" y="0"/>
                    </a:lnTo>
                    <a:lnTo>
                      <a:pt x="40" y="127"/>
                    </a:lnTo>
                    <a:lnTo>
                      <a:pt x="40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07680" y="3704400"/>
                <a:ext cx="106560" cy="1666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9" y="28"/>
                    </a:lnTo>
                    <a:lnTo>
                      <a:pt x="20" y="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853320" y="3888000"/>
                <a:ext cx="43560" cy="421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7" y="32"/>
                    </a:moveTo>
                    <a:lnTo>
                      <a:pt x="37" y="32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37" y="9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 flipV="1">
                <a:off x="6852960" y="3911760"/>
                <a:ext cx="43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V="1">
                <a:off x="6853320" y="3888000"/>
                <a:ext cx="576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859080" y="388800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859080" y="3704400"/>
                <a:ext cx="48600" cy="195480"/>
              </a:xfrm>
              <a:custGeom>
                <a:avLst/>
                <a:gdLst/>
                <a:ahLst/>
                <a:rect l="l" t="t" r="r" b="b"/>
                <a:pathLst>
                  <a:path w="41" h="149">
                    <a:moveTo>
                      <a:pt x="32" y="149"/>
                    </a:moveTo>
                    <a:lnTo>
                      <a:pt x="0" y="14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2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H="1" flipV="1">
                <a:off x="6858720" y="38876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V="1">
                <a:off x="6859080" y="3704400"/>
                <a:ext cx="48600" cy="183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896880" y="389484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0" y="27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>
                <a:off x="689688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896880" y="3704400"/>
                <a:ext cx="57960" cy="195480"/>
              </a:xfrm>
              <a:custGeom>
                <a:avLst/>
                <a:gdLst/>
                <a:ahLst/>
                <a:rect l="l" t="t" r="r" b="b"/>
                <a:pathLst>
                  <a:path w="49" h="149">
                    <a:moveTo>
                      <a:pt x="0" y="149"/>
                    </a:moveTo>
                    <a:lnTo>
                      <a:pt x="27" y="145"/>
                    </a:lnTo>
                    <a:lnTo>
                      <a:pt x="49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6896880" y="389484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 flipV="1">
                <a:off x="6907320" y="3704040"/>
                <a:ext cx="4716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795360" y="3912120"/>
                <a:ext cx="101520" cy="18504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49" y="0"/>
                    </a:moveTo>
                    <a:lnTo>
                      <a:pt x="0" y="136"/>
                    </a:lnTo>
                    <a:lnTo>
                      <a:pt x="36" y="141"/>
                    </a:lnTo>
                    <a:lnTo>
                      <a:pt x="86" y="1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735960" y="4090680"/>
                <a:ext cx="59040" cy="10728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0" y="77"/>
                    </a:moveTo>
                    <a:lnTo>
                      <a:pt x="0" y="77"/>
                    </a:lnTo>
                    <a:lnTo>
                      <a:pt x="36" y="8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735960" y="419184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6735960" y="4090680"/>
                <a:ext cx="59040" cy="10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795360" y="40906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778440" y="4090680"/>
                <a:ext cx="53280" cy="107280"/>
              </a:xfrm>
              <a:custGeom>
                <a:avLst/>
                <a:gdLst/>
                <a:ahLst/>
                <a:rect l="l" t="t" r="r" b="b"/>
                <a:pathLst>
                  <a:path w="45" h="82">
                    <a:moveTo>
                      <a:pt x="0" y="82"/>
                    </a:moveTo>
                    <a:lnTo>
                      <a:pt x="0" y="82"/>
                    </a:lnTo>
                    <a:lnTo>
                      <a:pt x="14" y="0"/>
                    </a:lnTo>
                    <a:lnTo>
                      <a:pt x="45" y="14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677844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795360" y="409068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1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 flipV="1">
                <a:off x="6795360" y="4090680"/>
                <a:ext cx="3672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795360" y="409068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676920" y="4191840"/>
                <a:ext cx="101520" cy="8280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50" y="0"/>
                    </a:moveTo>
                    <a:lnTo>
                      <a:pt x="0" y="54"/>
                    </a:lnTo>
                    <a:lnTo>
                      <a:pt x="36" y="63"/>
                    </a:lnTo>
                    <a:lnTo>
                      <a:pt x="86" y="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540200" y="4114440"/>
                <a:ext cx="96840" cy="2340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491600" y="4126320"/>
                <a:ext cx="96840" cy="1800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41" y="0"/>
                    </a:moveTo>
                    <a:lnTo>
                      <a:pt x="0" y="0"/>
                    </a:lnTo>
                    <a:lnTo>
                      <a:pt x="36" y="14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444080" y="4090680"/>
                <a:ext cx="90000" cy="5328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40" y="27"/>
                    </a:moveTo>
                    <a:lnTo>
                      <a:pt x="0" y="0"/>
                    </a:lnTo>
                    <a:lnTo>
                      <a:pt x="36" y="27"/>
                    </a:lnTo>
                    <a:lnTo>
                      <a:pt x="76" y="41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390080" y="398952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46" y="77"/>
                    </a:moveTo>
                    <a:lnTo>
                      <a:pt x="0" y="0"/>
                    </a:lnTo>
                    <a:lnTo>
                      <a:pt x="41" y="36"/>
                    </a:lnTo>
                    <a:lnTo>
                      <a:pt x="82" y="104"/>
                    </a:lnTo>
                    <a:lnTo>
                      <a:pt x="46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390080" y="398412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40"/>
                    </a:moveTo>
                    <a:lnTo>
                      <a:pt x="41" y="4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 flipV="1">
                <a:off x="7390080" y="3989160"/>
                <a:ext cx="4824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V="1">
                <a:off x="7390080" y="3984120"/>
                <a:ext cx="7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390080" y="39841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353000" y="3810600"/>
                <a:ext cx="68760" cy="185040"/>
              </a:xfrm>
              <a:custGeom>
                <a:avLst/>
                <a:gdLst/>
                <a:ahLst/>
                <a:rect l="l" t="t" r="r" b="b"/>
                <a:pathLst>
                  <a:path w="58" h="141">
                    <a:moveTo>
                      <a:pt x="58" y="141"/>
                    </a:moveTo>
                    <a:lnTo>
                      <a:pt x="31" y="13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7390080" y="39837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 flipV="1">
                <a:off x="7353000" y="3810240"/>
                <a:ext cx="36720" cy="173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341120" y="3758400"/>
                <a:ext cx="16200" cy="522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4" y="40"/>
                    </a:moveTo>
                    <a:lnTo>
                      <a:pt x="10" y="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7353000" y="3810600"/>
                <a:ext cx="43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 flipV="1">
                <a:off x="7341120" y="3758040"/>
                <a:ext cx="1152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421760" y="3996000"/>
                <a:ext cx="16200" cy="406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H="1" flipV="1">
                <a:off x="742752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357680" y="381060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59" h="145">
                    <a:moveTo>
                      <a:pt x="54" y="141"/>
                    </a:moveTo>
                    <a:lnTo>
                      <a:pt x="59" y="145"/>
                    </a:lnTo>
                    <a:lnTo>
                      <a:pt x="27" y="14"/>
                    </a:lnTo>
                    <a:lnTo>
                      <a:pt x="23" y="9"/>
                    </a:lnTo>
                    <a:lnTo>
                      <a:pt x="0" y="0"/>
                    </a:lnTo>
                    <a:lnTo>
                      <a:pt x="54" y="14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421760" y="399600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 flipV="1">
                <a:off x="738972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7357680" y="381024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341120" y="3758400"/>
                <a:ext cx="43560" cy="6408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14" y="40"/>
                    </a:moveTo>
                    <a:lnTo>
                      <a:pt x="37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357680" y="3810600"/>
                <a:ext cx="27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6" y="9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7340760" y="3758400"/>
                <a:ext cx="4356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7298640" y="3638520"/>
                <a:ext cx="4248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385040" y="382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298640" y="3638880"/>
                <a:ext cx="8640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73" y="140"/>
                    </a:moveTo>
                    <a:lnTo>
                      <a:pt x="73" y="140"/>
                    </a:lnTo>
                    <a:lnTo>
                      <a:pt x="32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385040" y="38224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flipV="1">
                <a:off x="7298280" y="363852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287840" y="360864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23"/>
                    </a:moveTo>
                    <a:lnTo>
                      <a:pt x="9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298640" y="3638880"/>
                <a:ext cx="7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728748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266600" y="3645360"/>
                <a:ext cx="20880" cy="4032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4" y="31"/>
                    </a:moveTo>
                    <a:lnTo>
                      <a:pt x="14" y="3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234560" y="3584880"/>
                <a:ext cx="52920" cy="7200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27" y="55"/>
                    </a:moveTo>
                    <a:lnTo>
                      <a:pt x="45" y="46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7266600" y="3645360"/>
                <a:ext cx="208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flipV="1">
                <a:off x="7234200" y="3584520"/>
                <a:ext cx="52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283160" y="3638880"/>
                <a:ext cx="52920" cy="8892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5" y="68"/>
                    </a:moveTo>
                    <a:lnTo>
                      <a:pt x="45" y="68"/>
                    </a:lnTo>
                    <a:lnTo>
                      <a:pt x="0" y="36"/>
                    </a:lnTo>
                    <a:lnTo>
                      <a:pt x="4" y="5"/>
                    </a:lnTo>
                    <a:lnTo>
                      <a:pt x="13" y="0"/>
                    </a:lnTo>
                    <a:lnTo>
                      <a:pt x="45" y="6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7282800" y="3686040"/>
                <a:ext cx="529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728784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298640" y="3638880"/>
                <a:ext cx="378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287840" y="3608640"/>
                <a:ext cx="10440" cy="367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23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H="1">
                <a:off x="7287480" y="36388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287840" y="3608640"/>
                <a:ext cx="10440" cy="30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255800" y="3656880"/>
                <a:ext cx="27360" cy="28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22"/>
                    </a:moveTo>
                    <a:lnTo>
                      <a:pt x="23" y="2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3" y="2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 flipV="1">
                <a:off x="7266600" y="365688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>
                <a:off x="725544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181280" y="3561120"/>
                <a:ext cx="85320" cy="9576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63" y="73"/>
                    </a:moveTo>
                    <a:lnTo>
                      <a:pt x="72" y="73"/>
                    </a:lnTo>
                    <a:lnTo>
                      <a:pt x="45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7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255800" y="365688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7234560" y="3584880"/>
                <a:ext cx="31680" cy="72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 flipV="1">
                <a:off x="7181280" y="3561120"/>
                <a:ext cx="532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218000" y="3656880"/>
                <a:ext cx="65160" cy="4068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9" y="31"/>
                    </a:moveTo>
                    <a:lnTo>
                      <a:pt x="9" y="31"/>
                    </a:lnTo>
                    <a:lnTo>
                      <a:pt x="55" y="22"/>
                    </a:lnTo>
                    <a:lnTo>
                      <a:pt x="32" y="0"/>
                    </a:lnTo>
                    <a:lnTo>
                      <a:pt x="0" y="4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7228800" y="3685680"/>
                <a:ext cx="543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>
                <a:off x="721764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21800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181280" y="3561120"/>
                <a:ext cx="74520" cy="101160"/>
              </a:xfrm>
              <a:custGeom>
                <a:avLst/>
                <a:gdLst/>
                <a:ahLst/>
                <a:rect l="l" t="t" r="r" b="b"/>
                <a:pathLst>
                  <a:path w="63" h="77">
                    <a:moveTo>
                      <a:pt x="31" y="77"/>
                    </a:moveTo>
                    <a:lnTo>
                      <a:pt x="63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7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7218000" y="365688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181280" y="356112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207200" y="3662280"/>
                <a:ext cx="21240" cy="352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7"/>
                    </a:moveTo>
                    <a:lnTo>
                      <a:pt x="18" y="2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7217640" y="366228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720684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6920" y="3544200"/>
                <a:ext cx="90720" cy="12456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68" y="95"/>
                    </a:moveTo>
                    <a:lnTo>
                      <a:pt x="77" y="90"/>
                    </a:lnTo>
                    <a:lnTo>
                      <a:pt x="4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95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7207200" y="3662280"/>
                <a:ext cx="104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H="1" flipV="1">
                <a:off x="7181280" y="3560760"/>
                <a:ext cx="3672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 flipV="1">
                <a:off x="7126920" y="3543840"/>
                <a:ext cx="540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153920" y="3668760"/>
                <a:ext cx="74520" cy="828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14" y="63"/>
                    </a:moveTo>
                    <a:lnTo>
                      <a:pt x="14" y="63"/>
                    </a:lnTo>
                    <a:lnTo>
                      <a:pt x="63" y="22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7170840" y="3697560"/>
                <a:ext cx="579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>
                <a:off x="715356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153920" y="367416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126920" y="3544200"/>
                <a:ext cx="80280" cy="129960"/>
              </a:xfrm>
              <a:custGeom>
                <a:avLst/>
                <a:gdLst/>
                <a:ahLst/>
                <a:rect l="l" t="t" r="r" b="b"/>
                <a:pathLst>
                  <a:path w="68" h="99">
                    <a:moveTo>
                      <a:pt x="23" y="99"/>
                    </a:moveTo>
                    <a:lnTo>
                      <a:pt x="68" y="9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7153920" y="366876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126920" y="354420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084080" y="3674160"/>
                <a:ext cx="37800" cy="131040"/>
              </a:xfrm>
              <a:custGeom>
                <a:avLst/>
                <a:gdLst/>
                <a:ahLst/>
                <a:rect l="l" t="t" r="r" b="b"/>
                <a:pathLst>
                  <a:path w="32" h="100">
                    <a:moveTo>
                      <a:pt x="27" y="100"/>
                    </a:moveTo>
                    <a:lnTo>
                      <a:pt x="27" y="100"/>
                    </a:lnTo>
                    <a:lnTo>
                      <a:pt x="0" y="5"/>
                    </a:lnTo>
                    <a:lnTo>
                      <a:pt x="32" y="0"/>
                    </a:lnTo>
                    <a:lnTo>
                      <a:pt x="27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708408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068600" y="3544200"/>
                <a:ext cx="57960" cy="136440"/>
              </a:xfrm>
              <a:custGeom>
                <a:avLst/>
                <a:gdLst/>
                <a:ahLst/>
                <a:rect l="l" t="t" r="r" b="b"/>
                <a:pathLst>
                  <a:path w="49" h="104">
                    <a:moveTo>
                      <a:pt x="45" y="99"/>
                    </a:moveTo>
                    <a:lnTo>
                      <a:pt x="13" y="104"/>
                    </a:lnTo>
                    <a:lnTo>
                      <a:pt x="0" y="6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7083720" y="3674160"/>
                <a:ext cx="378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 flipV="1">
                <a:off x="7068240" y="362664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7068600" y="3544200"/>
                <a:ext cx="5796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116120" y="3674160"/>
                <a:ext cx="54360" cy="131040"/>
              </a:xfrm>
              <a:custGeom>
                <a:avLst/>
                <a:gdLst/>
                <a:ahLst/>
                <a:rect l="l" t="t" r="r" b="b"/>
                <a:pathLst>
                  <a:path w="46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46" y="59"/>
                    </a:lnTo>
                    <a:lnTo>
                      <a:pt x="32" y="0"/>
                    </a:lnTo>
                    <a:lnTo>
                      <a:pt x="5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7116120" y="3751560"/>
                <a:ext cx="543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 flipV="1">
                <a:off x="7153920" y="3673800"/>
                <a:ext cx="1656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H="1"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22240" y="3544200"/>
                <a:ext cx="31680" cy="129960"/>
              </a:xfrm>
              <a:custGeom>
                <a:avLst/>
                <a:gdLst/>
                <a:ahLst/>
                <a:rect l="l" t="t" r="r" b="b"/>
                <a:pathLst>
                  <a:path w="27" h="99">
                    <a:moveTo>
                      <a:pt x="0" y="99"/>
                    </a:moveTo>
                    <a:lnTo>
                      <a:pt x="27" y="9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122240" y="367416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 flipV="1">
                <a:off x="7126560" y="3543840"/>
                <a:ext cx="2700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014240" y="3681000"/>
                <a:ext cx="10152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86" y="95"/>
                    </a:moveTo>
                    <a:lnTo>
                      <a:pt x="86" y="95"/>
                    </a:lnTo>
                    <a:lnTo>
                      <a:pt x="0" y="31"/>
                    </a:lnTo>
                    <a:lnTo>
                      <a:pt x="18" y="0"/>
                    </a:lnTo>
                    <a:lnTo>
                      <a:pt x="59" y="0"/>
                    </a:lnTo>
                    <a:lnTo>
                      <a:pt x="86" y="9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7014240" y="3681000"/>
                <a:ext cx="20880" cy="40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3548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084080" y="3681000"/>
                <a:ext cx="3168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035480" y="3627000"/>
                <a:ext cx="48600" cy="536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4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7035120" y="3681000"/>
                <a:ext cx="486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7035480" y="3626640"/>
                <a:ext cx="3276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068600" y="3627000"/>
                <a:ext cx="15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056720" y="388800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7056720" y="388764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705672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056720" y="388800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6719760" y="3686040"/>
              <a:ext cx="1009080" cy="636840"/>
              <a:chOff x="6719760" y="3686040"/>
              <a:chExt cx="1009080" cy="636840"/>
            </a:xfrm>
          </p:grpSpPr>
          <p:sp>
            <p:nvSpPr>
              <p:cNvPr id="2852" name=""/>
              <p:cNvSpPr/>
              <p:nvPr/>
            </p:nvSpPr>
            <p:spPr>
              <a:xfrm>
                <a:off x="7014600" y="372132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86" h="127">
                    <a:moveTo>
                      <a:pt x="36" y="127"/>
                    </a:moveTo>
                    <a:lnTo>
                      <a:pt x="41" y="127"/>
                    </a:lnTo>
                    <a:lnTo>
                      <a:pt x="86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12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057080" y="388800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7062840" y="380520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14600" y="372132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966000" y="3894840"/>
                <a:ext cx="37800" cy="59040"/>
              </a:xfrm>
              <a:custGeom>
                <a:avLst/>
                <a:gdLst/>
                <a:ahLst/>
                <a:rect l="l" t="t" r="r" b="b"/>
                <a:pathLst>
                  <a:path w="32" h="45">
                    <a:moveTo>
                      <a:pt x="32" y="45"/>
                    </a:moveTo>
                    <a:lnTo>
                      <a:pt x="32" y="45"/>
                    </a:lnTo>
                    <a:lnTo>
                      <a:pt x="0" y="0"/>
                    </a:lnTo>
                    <a:lnTo>
                      <a:pt x="32" y="4"/>
                    </a:lnTo>
                    <a:lnTo>
                      <a:pt x="32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96600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955200" y="3721320"/>
                <a:ext cx="59040" cy="178560"/>
              </a:xfrm>
              <a:custGeom>
                <a:avLst/>
                <a:gdLst/>
                <a:ahLst/>
                <a:rect l="l" t="t" r="r" b="b"/>
                <a:pathLst>
                  <a:path w="50" h="136">
                    <a:moveTo>
                      <a:pt x="41" y="136"/>
                    </a:moveTo>
                    <a:lnTo>
                      <a:pt x="9" y="132"/>
                    </a:lnTo>
                    <a:lnTo>
                      <a:pt x="0" y="11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1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 flipV="1">
                <a:off x="6965640" y="3894840"/>
                <a:ext cx="378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6955200" y="3721320"/>
                <a:ext cx="59040" cy="14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003800" y="388800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50"/>
                    </a:moveTo>
                    <a:lnTo>
                      <a:pt x="0" y="50"/>
                    </a:lnTo>
                    <a:lnTo>
                      <a:pt x="45" y="9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7003800" y="3899880"/>
                <a:ext cx="5292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7057080" y="3887640"/>
                <a:ext cx="10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7003440" y="388800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003800" y="3721320"/>
                <a:ext cx="52920" cy="178560"/>
              </a:xfrm>
              <a:custGeom>
                <a:avLst/>
                <a:gdLst/>
                <a:ahLst/>
                <a:rect l="l" t="t" r="r" b="b"/>
                <a:pathLst>
                  <a:path w="45" h="136">
                    <a:moveTo>
                      <a:pt x="0" y="136"/>
                    </a:moveTo>
                    <a:lnTo>
                      <a:pt x="45" y="12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7003800" y="3887640"/>
                <a:ext cx="52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7014240" y="3720960"/>
                <a:ext cx="42120" cy="166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897240" y="3894840"/>
                <a:ext cx="53280" cy="89280"/>
              </a:xfrm>
              <a:custGeom>
                <a:avLst/>
                <a:gdLst/>
                <a:ahLst/>
                <a:rect l="l" t="t" r="r" b="b"/>
                <a:pathLst>
                  <a:path w="45" h="68">
                    <a:moveTo>
                      <a:pt x="40" y="68"/>
                    </a:moveTo>
                    <a:lnTo>
                      <a:pt x="40" y="68"/>
                    </a:lnTo>
                    <a:lnTo>
                      <a:pt x="0" y="27"/>
                    </a:lnTo>
                    <a:lnTo>
                      <a:pt x="27" y="0"/>
                    </a:lnTo>
                    <a:lnTo>
                      <a:pt x="45" y="0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 flipV="1">
                <a:off x="6896880" y="3930480"/>
                <a:ext cx="4716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897240" y="3894480"/>
                <a:ext cx="31680" cy="35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92892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928920" y="3871080"/>
                <a:ext cx="25920" cy="23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18"/>
                    </a:moveTo>
                    <a:lnTo>
                      <a:pt x="0" y="1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6928560" y="3894840"/>
                <a:ext cx="21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928920" y="387072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944400" y="3894840"/>
                <a:ext cx="59040" cy="8928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68"/>
                    </a:moveTo>
                    <a:lnTo>
                      <a:pt x="0" y="68"/>
                    </a:lnTo>
                    <a:lnTo>
                      <a:pt x="50" y="45"/>
                    </a:lnTo>
                    <a:lnTo>
                      <a:pt x="18" y="0"/>
                    </a:lnTo>
                    <a:lnTo>
                      <a:pt x="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944400" y="3953520"/>
                <a:ext cx="5904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 flipV="1">
                <a:off x="6965640" y="3894840"/>
                <a:ext cx="378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950520" y="387108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18"/>
                    </a:moveTo>
                    <a:lnTo>
                      <a:pt x="13" y="1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950520" y="3894840"/>
                <a:ext cx="15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 flipV="1">
                <a:off x="6954840" y="3870720"/>
                <a:ext cx="1044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838200" y="3930480"/>
                <a:ext cx="106200" cy="183600"/>
              </a:xfrm>
              <a:custGeom>
                <a:avLst/>
                <a:gdLst/>
                <a:ahLst/>
                <a:rect l="l" t="t" r="r" b="b"/>
                <a:pathLst>
                  <a:path w="90" h="140">
                    <a:moveTo>
                      <a:pt x="50" y="0"/>
                    </a:moveTo>
                    <a:lnTo>
                      <a:pt x="0" y="127"/>
                    </a:lnTo>
                    <a:lnTo>
                      <a:pt x="41" y="140"/>
                    </a:lnTo>
                    <a:lnTo>
                      <a:pt x="90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78800" y="4109040"/>
                <a:ext cx="59040" cy="106200"/>
              </a:xfrm>
              <a:custGeom>
                <a:avLst/>
                <a:gdLst/>
                <a:ahLst/>
                <a:rect l="l" t="t" r="r" b="b"/>
                <a:pathLst>
                  <a:path w="50" h="81">
                    <a:moveTo>
                      <a:pt x="0" y="68"/>
                    </a:moveTo>
                    <a:lnTo>
                      <a:pt x="0" y="68"/>
                    </a:lnTo>
                    <a:lnTo>
                      <a:pt x="41" y="81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78800" y="4198320"/>
                <a:ext cx="4860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6778800" y="4109040"/>
                <a:ext cx="532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832080" y="409716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9"/>
                    </a:moveTo>
                    <a:lnTo>
                      <a:pt x="5" y="1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832080" y="4109040"/>
                <a:ext cx="57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6832080" y="409716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827400" y="4114440"/>
                <a:ext cx="48600" cy="100800"/>
              </a:xfrm>
              <a:custGeom>
                <a:avLst/>
                <a:gdLst/>
                <a:ahLst/>
                <a:rect l="l" t="t" r="r" b="b"/>
                <a:pathLst>
                  <a:path w="41" h="77">
                    <a:moveTo>
                      <a:pt x="0" y="77"/>
                    </a:moveTo>
                    <a:lnTo>
                      <a:pt x="0" y="77"/>
                    </a:lnTo>
                    <a:lnTo>
                      <a:pt x="9" y="0"/>
                    </a:lnTo>
                    <a:lnTo>
                      <a:pt x="41" y="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838200" y="411444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6827040" y="412632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838200" y="4097160"/>
                <a:ext cx="48240" cy="2880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32" y="22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 flipV="1">
                <a:off x="6837840" y="4114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838200" y="4097160"/>
                <a:ext cx="48240" cy="1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6875640" y="41144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9760" y="419832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50" y="0"/>
                    </a:moveTo>
                    <a:lnTo>
                      <a:pt x="0" y="58"/>
                    </a:lnTo>
                    <a:lnTo>
                      <a:pt x="36" y="63"/>
                    </a:lnTo>
                    <a:lnTo>
                      <a:pt x="91" y="1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88800" y="4126320"/>
                <a:ext cx="91080" cy="2988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41" y="0"/>
                    </a:moveTo>
                    <a:lnTo>
                      <a:pt x="0" y="9"/>
                    </a:lnTo>
                    <a:lnTo>
                      <a:pt x="36" y="23"/>
                    </a:lnTo>
                    <a:lnTo>
                      <a:pt x="77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4440" y="4137840"/>
                <a:ext cx="9684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6" y="0"/>
                    </a:moveTo>
                    <a:lnTo>
                      <a:pt x="0" y="5"/>
                    </a:lnTo>
                    <a:lnTo>
                      <a:pt x="41" y="18"/>
                    </a:lnTo>
                    <a:lnTo>
                      <a:pt x="82" y="1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486920" y="4126320"/>
                <a:ext cx="95760" cy="3528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40" y="14"/>
                    </a:moveTo>
                    <a:lnTo>
                      <a:pt x="0" y="0"/>
                    </a:lnTo>
                    <a:lnTo>
                      <a:pt x="40" y="9"/>
                    </a:lnTo>
                    <a:lnTo>
                      <a:pt x="81" y="27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438320" y="4024800"/>
                <a:ext cx="96120" cy="11268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41" y="77"/>
                    </a:moveTo>
                    <a:lnTo>
                      <a:pt x="0" y="9"/>
                    </a:lnTo>
                    <a:lnTo>
                      <a:pt x="41" y="0"/>
                    </a:lnTo>
                    <a:lnTo>
                      <a:pt x="81" y="86"/>
                    </a:lnTo>
                    <a:lnTo>
                      <a:pt x="41" y="7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427880" y="4001400"/>
                <a:ext cx="59040" cy="35280"/>
              </a:xfrm>
              <a:custGeom>
                <a:avLst/>
                <a:gdLst/>
                <a:ahLst/>
                <a:rect l="l" t="t" r="r" b="b"/>
                <a:pathLst>
                  <a:path w="50" h="27">
                    <a:moveTo>
                      <a:pt x="9" y="27"/>
                    </a:moveTo>
                    <a:lnTo>
                      <a:pt x="9" y="27"/>
                    </a:lnTo>
                    <a:lnTo>
                      <a:pt x="50" y="18"/>
                    </a:lnTo>
                    <a:lnTo>
                      <a:pt x="41" y="9"/>
                    </a:lnTo>
                    <a:lnTo>
                      <a:pt x="0" y="0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7438320" y="4024440"/>
                <a:ext cx="486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 flipV="1"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427880" y="4001400"/>
                <a:ext cx="1044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390080" y="3829320"/>
                <a:ext cx="86040" cy="18360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32" y="131"/>
                    </a:moveTo>
                    <a:lnTo>
                      <a:pt x="73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427880" y="4001400"/>
                <a:ext cx="482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390080" y="3829320"/>
                <a:ext cx="37800" cy="172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476120" y="401292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747576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390080" y="3829320"/>
                <a:ext cx="90720" cy="18360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73" y="140"/>
                    </a:moveTo>
                    <a:lnTo>
                      <a:pt x="77" y="140"/>
                    </a:lnTo>
                    <a:lnTo>
                      <a:pt x="36" y="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76120" y="401292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385040" y="3822480"/>
                <a:ext cx="47160" cy="48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37"/>
                    </a:moveTo>
                    <a:lnTo>
                      <a:pt x="40" y="37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 flipV="1">
                <a:off x="7389720" y="3829320"/>
                <a:ext cx="421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 flipV="1">
                <a:off x="7384680" y="382248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385040" y="382248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336440" y="3727800"/>
                <a:ext cx="74520" cy="1065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81"/>
                    </a:moveTo>
                    <a:lnTo>
                      <a:pt x="41" y="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 flipV="1">
                <a:off x="7385040" y="382212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 flipV="1">
                <a:off x="7336080" y="3727440"/>
                <a:ext cx="48600" cy="94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11320" y="383436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28"/>
                    </a:moveTo>
                    <a:lnTo>
                      <a:pt x="18" y="28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336440" y="3727800"/>
                <a:ext cx="80280" cy="113040"/>
              </a:xfrm>
              <a:custGeom>
                <a:avLst/>
                <a:gdLst/>
                <a:ahLst/>
                <a:rect l="l" t="t" r="r" b="b"/>
                <a:pathLst>
                  <a:path w="68" h="86">
                    <a:moveTo>
                      <a:pt x="63" y="81"/>
                    </a:moveTo>
                    <a:lnTo>
                      <a:pt x="68" y="86"/>
                    </a:lnTo>
                    <a:lnTo>
                      <a:pt x="41" y="4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3" y="8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11320" y="38343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 flipV="1">
                <a:off x="7336080" y="3727800"/>
                <a:ext cx="48600" cy="5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283520" y="368604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86" h="77">
                    <a:moveTo>
                      <a:pt x="45" y="32"/>
                    </a:moveTo>
                    <a:lnTo>
                      <a:pt x="0" y="0"/>
                    </a:lnTo>
                    <a:lnTo>
                      <a:pt x="40" y="41"/>
                    </a:lnTo>
                    <a:lnTo>
                      <a:pt x="86" y="77"/>
                    </a:lnTo>
                    <a:lnTo>
                      <a:pt x="45" y="32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228800" y="3686040"/>
                <a:ext cx="101520" cy="65520"/>
              </a:xfrm>
              <a:custGeom>
                <a:avLst/>
                <a:gdLst/>
                <a:ahLst/>
                <a:rect l="l" t="t" r="r" b="b"/>
                <a:pathLst>
                  <a:path w="86" h="50">
                    <a:moveTo>
                      <a:pt x="46" y="0"/>
                    </a:moveTo>
                    <a:lnTo>
                      <a:pt x="0" y="9"/>
                    </a:lnTo>
                    <a:lnTo>
                      <a:pt x="37" y="50"/>
                    </a:lnTo>
                    <a:lnTo>
                      <a:pt x="86" y="4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70840" y="3697920"/>
                <a:ext cx="101520" cy="53640"/>
              </a:xfrm>
              <a:custGeom>
                <a:avLst/>
                <a:gdLst/>
                <a:ahLst/>
                <a:rect l="l" t="t" r="r" b="b"/>
                <a:pathLst>
                  <a:path w="86" h="41">
                    <a:moveTo>
                      <a:pt x="49" y="0"/>
                    </a:moveTo>
                    <a:lnTo>
                      <a:pt x="0" y="41"/>
                    </a:lnTo>
                    <a:lnTo>
                      <a:pt x="40" y="37"/>
                    </a:lnTo>
                    <a:lnTo>
                      <a:pt x="86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16480" y="3746160"/>
                <a:ext cx="101520" cy="14148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46" y="4"/>
                    </a:moveTo>
                    <a:lnTo>
                      <a:pt x="0" y="45"/>
                    </a:lnTo>
                    <a:lnTo>
                      <a:pt x="41" y="108"/>
                    </a:lnTo>
                    <a:lnTo>
                      <a:pt x="8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ffffcc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057080" y="3888000"/>
                <a:ext cx="65160" cy="11880"/>
              </a:xfrm>
              <a:custGeom>
                <a:avLst/>
                <a:gdLst/>
                <a:ahLst/>
                <a:rect l="l" t="t" r="r" b="b"/>
                <a:pathLst>
                  <a:path w="55" h="9">
                    <a:moveTo>
                      <a:pt x="0" y="9"/>
                    </a:moveTo>
                    <a:lnTo>
                      <a:pt x="0" y="9"/>
                    </a:lnTo>
                    <a:lnTo>
                      <a:pt x="55" y="5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 flipV="1"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7057080" y="388800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062840" y="3805560"/>
                <a:ext cx="101880" cy="8892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3"/>
                    </a:moveTo>
                    <a:lnTo>
                      <a:pt x="50" y="68"/>
                    </a:lnTo>
                    <a:lnTo>
                      <a:pt x="86" y="63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062840" y="3888000"/>
                <a:ext cx="590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 flipV="1">
                <a:off x="7116120" y="3805200"/>
                <a:ext cx="4860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7062840" y="3805560"/>
                <a:ext cx="53280" cy="82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057080" y="3894840"/>
                <a:ext cx="102960" cy="12456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"/>
                    </a:lnTo>
                    <a:lnTo>
                      <a:pt x="55" y="0"/>
                    </a:lnTo>
                    <a:lnTo>
                      <a:pt x="87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 flipV="1">
                <a:off x="7056720" y="3899880"/>
                <a:ext cx="48600" cy="11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12224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710532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122240" y="388800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6" h="5">
                    <a:moveTo>
                      <a:pt x="32" y="5"/>
                    </a:moveTo>
                    <a:lnTo>
                      <a:pt x="0" y="5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7121880" y="3894840"/>
                <a:ext cx="37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715968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003800" y="3900240"/>
                <a:ext cx="101520" cy="196920"/>
              </a:xfrm>
              <a:custGeom>
                <a:avLst/>
                <a:gdLst/>
                <a:ahLst/>
                <a:rect l="l" t="t" r="r" b="b"/>
                <a:pathLst>
                  <a:path w="86" h="150">
                    <a:moveTo>
                      <a:pt x="45" y="0"/>
                    </a:moveTo>
                    <a:lnTo>
                      <a:pt x="0" y="41"/>
                    </a:lnTo>
                    <a:lnTo>
                      <a:pt x="36" y="150"/>
                    </a:lnTo>
                    <a:lnTo>
                      <a:pt x="86" y="9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86" y="109"/>
                    </a:moveTo>
                    <a:lnTo>
                      <a:pt x="0" y="23"/>
                    </a:lnTo>
                    <a:lnTo>
                      <a:pt x="50" y="0"/>
                    </a:lnTo>
                    <a:lnTo>
                      <a:pt x="86" y="109"/>
                    </a:lnTo>
                    <a:lnTo>
                      <a:pt x="86" y="10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944400" y="3953880"/>
                <a:ext cx="101880" cy="143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24"/>
                    </a:moveTo>
                    <a:lnTo>
                      <a:pt x="11" y="0"/>
                    </a:lnTo>
                    <a:lnTo>
                      <a:pt x="0" y="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82560" y="41209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5" y="18"/>
                    </a:moveTo>
                    <a:lnTo>
                      <a:pt x="5" y="18"/>
                    </a:lnTo>
                    <a:lnTo>
                      <a:pt x="27" y="0"/>
                    </a:lnTo>
                    <a:lnTo>
                      <a:pt x="0" y="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944400" y="3984120"/>
                <a:ext cx="101880" cy="141840"/>
              </a:xfrm>
              <a:custGeom>
                <a:avLst/>
                <a:gdLst/>
                <a:ahLst/>
                <a:rect l="l" t="t" r="r" b="b"/>
                <a:pathLst>
                  <a:path w="86" h="108">
                    <a:moveTo>
                      <a:pt x="32" y="108"/>
                    </a:moveTo>
                    <a:lnTo>
                      <a:pt x="59" y="104"/>
                    </a:lnTo>
                    <a:lnTo>
                      <a:pt x="86" y="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" y="10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6982560" y="4120920"/>
                <a:ext cx="316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94440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891120" y="4126320"/>
                <a:ext cx="42480" cy="8388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32" y="64"/>
                    </a:moveTo>
                    <a:lnTo>
                      <a:pt x="32" y="64"/>
                    </a:lnTo>
                    <a:lnTo>
                      <a:pt x="0" y="0"/>
                    </a:lnTo>
                    <a:lnTo>
                      <a:pt x="36" y="5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886440" y="3984120"/>
                <a:ext cx="57960" cy="14832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113"/>
                    </a:moveTo>
                    <a:lnTo>
                      <a:pt x="4" y="108"/>
                    </a:lnTo>
                    <a:lnTo>
                      <a:pt x="0" y="9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 flipV="1">
                <a:off x="6891120" y="4126320"/>
                <a:ext cx="424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6886440" y="3983760"/>
                <a:ext cx="5796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928920" y="4126320"/>
                <a:ext cx="59040" cy="8388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0" y="64"/>
                    </a:moveTo>
                    <a:lnTo>
                      <a:pt x="0" y="64"/>
                    </a:lnTo>
                    <a:lnTo>
                      <a:pt x="50" y="14"/>
                    </a:lnTo>
                    <a:lnTo>
                      <a:pt x="45" y="0"/>
                    </a:lnTo>
                    <a:lnTo>
                      <a:pt x="4" y="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6928920" y="4144320"/>
                <a:ext cx="590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 flipV="1">
                <a:off x="6982560" y="4126320"/>
                <a:ext cx="576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693360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933960" y="39841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0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6933960" y="4126320"/>
                <a:ext cx="486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 flipV="1">
                <a:off x="6944040" y="3984120"/>
                <a:ext cx="37800" cy="141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827400" y="4126320"/>
                <a:ext cx="52920" cy="14292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36" y="109"/>
                    </a:moveTo>
                    <a:lnTo>
                      <a:pt x="36" y="109"/>
                    </a:lnTo>
                    <a:lnTo>
                      <a:pt x="0" y="68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36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 flipV="1">
                <a:off x="6827400" y="4214880"/>
                <a:ext cx="424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6827400" y="4125960"/>
                <a:ext cx="4860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87600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6876000" y="4126320"/>
                <a:ext cx="43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876000" y="41140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869880" y="4126320"/>
                <a:ext cx="59040" cy="142920"/>
              </a:xfrm>
              <a:custGeom>
                <a:avLst/>
                <a:gdLst/>
                <a:ahLst/>
                <a:rect l="l" t="t" r="r" b="b"/>
                <a:pathLst>
                  <a:path w="50" h="109">
                    <a:moveTo>
                      <a:pt x="0" y="109"/>
                    </a:moveTo>
                    <a:lnTo>
                      <a:pt x="0" y="109"/>
                    </a:lnTo>
                    <a:lnTo>
                      <a:pt x="50" y="64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6869880" y="4209840"/>
                <a:ext cx="5904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 flipV="1">
                <a:off x="6890760" y="4125960"/>
                <a:ext cx="37800" cy="83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687996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80320" y="411444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80320" y="41263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 flipV="1">
                <a:off x="6886080" y="4114080"/>
                <a:ext cx="4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61880" y="421524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5" y="0"/>
                    </a:moveTo>
                    <a:lnTo>
                      <a:pt x="0" y="50"/>
                    </a:lnTo>
                    <a:lnTo>
                      <a:pt x="41" y="82"/>
                    </a:lnTo>
                    <a:lnTo>
                      <a:pt x="91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631640" y="4144320"/>
                <a:ext cx="97200" cy="2376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41" y="0"/>
                    </a:moveTo>
                    <a:lnTo>
                      <a:pt x="0" y="9"/>
                    </a:lnTo>
                    <a:lnTo>
                      <a:pt x="41" y="18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583040" y="4156200"/>
                <a:ext cx="97200" cy="1692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41" y="0"/>
                    </a:moveTo>
                    <a:lnTo>
                      <a:pt x="0" y="4"/>
                    </a:lnTo>
                    <a:lnTo>
                      <a:pt x="41" y="13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534440" y="4137840"/>
                <a:ext cx="96840" cy="35280"/>
              </a:xfrm>
              <a:custGeom>
                <a:avLst/>
                <a:gdLst/>
                <a:ahLst/>
                <a:rect l="l" t="t" r="r" b="b"/>
                <a:pathLst>
                  <a:path w="82" h="27">
                    <a:moveTo>
                      <a:pt x="41" y="18"/>
                    </a:moveTo>
                    <a:lnTo>
                      <a:pt x="0" y="0"/>
                    </a:lnTo>
                    <a:lnTo>
                      <a:pt x="41" y="18"/>
                    </a:lnTo>
                    <a:lnTo>
                      <a:pt x="82" y="27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486920" y="4024800"/>
                <a:ext cx="95760" cy="13644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40" y="86"/>
                    </a:moveTo>
                    <a:lnTo>
                      <a:pt x="0" y="0"/>
                    </a:lnTo>
                    <a:lnTo>
                      <a:pt x="40" y="32"/>
                    </a:lnTo>
                    <a:lnTo>
                      <a:pt x="81" y="104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481160" y="401292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5" y="41"/>
                    </a:moveTo>
                    <a:lnTo>
                      <a:pt x="45" y="41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27" y="9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 flipV="1">
                <a:off x="7486920" y="4024800"/>
                <a:ext cx="4752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 flipV="1">
                <a:off x="7481160" y="4012560"/>
                <a:ext cx="57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481160" y="401292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432560" y="3871080"/>
                <a:ext cx="80280" cy="153720"/>
              </a:xfrm>
              <a:custGeom>
                <a:avLst/>
                <a:gdLst/>
                <a:ahLst/>
                <a:rect l="l" t="t" r="r" b="b"/>
                <a:pathLst>
                  <a:path w="68" h="117">
                    <a:moveTo>
                      <a:pt x="68" y="117"/>
                    </a:moveTo>
                    <a:lnTo>
                      <a:pt x="41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 flipV="1">
                <a:off x="7481160" y="401256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 flipV="1">
                <a:off x="7432200" y="3870720"/>
                <a:ext cx="4860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13200" y="40248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8" y="32"/>
                    </a:moveTo>
                    <a:lnTo>
                      <a:pt x="18" y="32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 flipV="1">
                <a:off x="7518600" y="403128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 flipV="1"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432560" y="3871080"/>
                <a:ext cx="86400" cy="160200"/>
              </a:xfrm>
              <a:custGeom>
                <a:avLst/>
                <a:gdLst/>
                <a:ahLst/>
                <a:rect l="l" t="t" r="r" b="b"/>
                <a:pathLst>
                  <a:path w="73" h="122">
                    <a:moveTo>
                      <a:pt x="68" y="117"/>
                    </a:moveTo>
                    <a:lnTo>
                      <a:pt x="73" y="122"/>
                    </a:lnTo>
                    <a:lnTo>
                      <a:pt x="41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11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13200" y="402480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417080" y="3841200"/>
                <a:ext cx="63720" cy="943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72"/>
                    </a:moveTo>
                    <a:lnTo>
                      <a:pt x="54" y="72"/>
                    </a:lnTo>
                    <a:lnTo>
                      <a:pt x="13" y="2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 flipV="1">
                <a:off x="7432200" y="3871080"/>
                <a:ext cx="4860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 flipV="1">
                <a:off x="7417080" y="3840840"/>
                <a:ext cx="1512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1708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385040" y="3787200"/>
                <a:ext cx="42480" cy="586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6" y="45"/>
                    </a:moveTo>
                    <a:lnTo>
                      <a:pt x="27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 flipV="1">
                <a:off x="7416720" y="3841200"/>
                <a:ext cx="1044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 flipV="1">
                <a:off x="7385040" y="3786840"/>
                <a:ext cx="3168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406280" y="3846240"/>
                <a:ext cx="74520" cy="89280"/>
              </a:xfrm>
              <a:custGeom>
                <a:avLst/>
                <a:gdLst/>
                <a:ahLst/>
                <a:rect l="l" t="t" r="r" b="b"/>
                <a:pathLst>
                  <a:path w="63" h="68">
                    <a:moveTo>
                      <a:pt x="63" y="68"/>
                    </a:moveTo>
                    <a:lnTo>
                      <a:pt x="63" y="68"/>
                    </a:lnTo>
                    <a:lnTo>
                      <a:pt x="18" y="68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63" y="6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7427520" y="3935520"/>
                <a:ext cx="52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40628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385040" y="3787200"/>
                <a:ext cx="42480" cy="6552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45"/>
                    </a:moveTo>
                    <a:lnTo>
                      <a:pt x="18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4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7405920" y="3846240"/>
                <a:ext cx="2124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90080" y="3852720"/>
                <a:ext cx="37800" cy="8280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32" y="63"/>
                    </a:moveTo>
                    <a:lnTo>
                      <a:pt x="32" y="63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 flipV="1">
                <a:off x="7405920" y="3852720"/>
                <a:ext cx="2124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738972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330680" y="3739680"/>
                <a:ext cx="75600" cy="119160"/>
              </a:xfrm>
              <a:custGeom>
                <a:avLst/>
                <a:gdLst/>
                <a:ahLst/>
                <a:rect l="l" t="t" r="r" b="b"/>
                <a:pathLst>
                  <a:path w="64" h="91">
                    <a:moveTo>
                      <a:pt x="50" y="91"/>
                    </a:moveTo>
                    <a:lnTo>
                      <a:pt x="64" y="86"/>
                    </a:lnTo>
                    <a:lnTo>
                      <a:pt x="46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7390080" y="3852720"/>
                <a:ext cx="1620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 flipV="1">
                <a:off x="7385040" y="378720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 flipV="1">
                <a:off x="7330320" y="3739320"/>
                <a:ext cx="54360" cy="47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363800" y="3859200"/>
                <a:ext cx="63720" cy="759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58"/>
                    </a:moveTo>
                    <a:lnTo>
                      <a:pt x="54" y="58"/>
                    </a:lnTo>
                    <a:lnTo>
                      <a:pt x="9" y="40"/>
                    </a:lnTo>
                    <a:lnTo>
                      <a:pt x="0" y="9"/>
                    </a:lnTo>
                    <a:lnTo>
                      <a:pt x="22" y="0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 flipV="1">
                <a:off x="7374600" y="3911760"/>
                <a:ext cx="532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 flipV="1">
                <a:off x="7363440" y="387072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7363800" y="385884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330680" y="3739680"/>
                <a:ext cx="59040" cy="131040"/>
              </a:xfrm>
              <a:custGeom>
                <a:avLst/>
                <a:gdLst/>
                <a:ahLst/>
                <a:rect l="l" t="t" r="r" b="b"/>
                <a:pathLst>
                  <a:path w="50" h="100">
                    <a:moveTo>
                      <a:pt x="50" y="91"/>
                    </a:moveTo>
                    <a:lnTo>
                      <a:pt x="28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9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7363800" y="3859200"/>
                <a:ext cx="2592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 flipV="1"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315200" y="3882960"/>
                <a:ext cx="10440" cy="352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27"/>
                    </a:moveTo>
                    <a:lnTo>
                      <a:pt x="4" y="27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3152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272720" y="3739680"/>
                <a:ext cx="57960" cy="143280"/>
              </a:xfrm>
              <a:custGeom>
                <a:avLst/>
                <a:gdLst/>
                <a:ahLst/>
                <a:rect l="l" t="t" r="r" b="b"/>
                <a:pathLst>
                  <a:path w="49" h="109">
                    <a:moveTo>
                      <a:pt x="45" y="109"/>
                    </a:moveTo>
                    <a:lnTo>
                      <a:pt x="36" y="109"/>
                    </a:lnTo>
                    <a:lnTo>
                      <a:pt x="0" y="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5" y="10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731484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7272720" y="3739320"/>
                <a:ext cx="5796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319880" y="3871080"/>
                <a:ext cx="54360" cy="4716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46" y="31"/>
                    </a:moveTo>
                    <a:lnTo>
                      <a:pt x="46" y="31"/>
                    </a:lnTo>
                    <a:lnTo>
                      <a:pt x="0" y="36"/>
                    </a:lnTo>
                    <a:lnTo>
                      <a:pt x="5" y="9"/>
                    </a:lnTo>
                    <a:lnTo>
                      <a:pt x="37" y="0"/>
                    </a:lnTo>
                    <a:lnTo>
                      <a:pt x="46" y="31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7319520" y="3912120"/>
                <a:ext cx="54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7326000" y="387072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363800" y="3871080"/>
                <a:ext cx="10440" cy="40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326000" y="3739680"/>
                <a:ext cx="37800" cy="143280"/>
              </a:xfrm>
              <a:custGeom>
                <a:avLst/>
                <a:gdLst/>
                <a:ahLst/>
                <a:rect l="l" t="t" r="r" b="b"/>
                <a:pathLst>
                  <a:path w="32" h="109">
                    <a:moveTo>
                      <a:pt x="32" y="100"/>
                    </a:moveTo>
                    <a:lnTo>
                      <a:pt x="0" y="10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2" y="10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7325640" y="3871080"/>
                <a:ext cx="3780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330680" y="3739680"/>
                <a:ext cx="3312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304760" y="3882960"/>
                <a:ext cx="15120" cy="352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27"/>
                    </a:moveTo>
                    <a:lnTo>
                      <a:pt x="13" y="2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 flipV="1">
                <a:off x="7315200" y="3882960"/>
                <a:ext cx="432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6810840" y="3746160"/>
              <a:ext cx="1019880" cy="653040"/>
              <a:chOff x="6810840" y="3746160"/>
              <a:chExt cx="1019880" cy="653040"/>
            </a:xfrm>
          </p:grpSpPr>
          <p:sp>
            <p:nvSpPr>
              <p:cNvPr id="3053" name=""/>
              <p:cNvSpPr/>
              <p:nvPr/>
            </p:nvSpPr>
            <p:spPr>
              <a:xfrm flipH="1">
                <a:off x="730440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218000" y="3746520"/>
                <a:ext cx="97200" cy="13644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73" y="104"/>
                    </a:moveTo>
                    <a:lnTo>
                      <a:pt x="82" y="104"/>
                    </a:lnTo>
                    <a:lnTo>
                      <a:pt x="4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304760" y="388296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 flipV="1">
                <a:off x="7272720" y="3751560"/>
                <a:ext cx="42480" cy="13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 flipV="1">
                <a:off x="7217640" y="374652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261920" y="3882960"/>
                <a:ext cx="57960" cy="3528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49" y="27"/>
                    </a:moveTo>
                    <a:lnTo>
                      <a:pt x="49" y="27"/>
                    </a:lnTo>
                    <a:lnTo>
                      <a:pt x="4" y="27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49" y="2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7266600" y="3918600"/>
                <a:ext cx="52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218000" y="3746520"/>
                <a:ext cx="86400" cy="148320"/>
              </a:xfrm>
              <a:custGeom>
                <a:avLst/>
                <a:gdLst/>
                <a:ahLst/>
                <a:rect l="l" t="t" r="r" b="b"/>
                <a:pathLst>
                  <a:path w="73" h="113">
                    <a:moveTo>
                      <a:pt x="73" y="104"/>
                    </a:moveTo>
                    <a:lnTo>
                      <a:pt x="37" y="1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3" y="10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7261920" y="3882960"/>
                <a:ext cx="4248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165080" y="3894840"/>
                <a:ext cx="48240" cy="12996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36" y="99"/>
                    </a:moveTo>
                    <a:lnTo>
                      <a:pt x="36" y="9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6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165080" y="3746520"/>
                <a:ext cx="52920" cy="148320"/>
              </a:xfrm>
              <a:custGeom>
                <a:avLst/>
                <a:gdLst/>
                <a:ahLst/>
                <a:rect l="l" t="t" r="r" b="b"/>
                <a:pathLst>
                  <a:path w="45" h="113">
                    <a:moveTo>
                      <a:pt x="41" y="113"/>
                    </a:moveTo>
                    <a:lnTo>
                      <a:pt x="0" y="113"/>
                    </a:lnTo>
                    <a:lnTo>
                      <a:pt x="0" y="108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7165080" y="3894840"/>
                <a:ext cx="48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7165080" y="3746160"/>
                <a:ext cx="52920" cy="14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207560" y="3894840"/>
                <a:ext cx="59040" cy="129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0" y="99"/>
                    </a:moveTo>
                    <a:lnTo>
                      <a:pt x="0" y="99"/>
                    </a:lnTo>
                    <a:lnTo>
                      <a:pt x="50" y="18"/>
                    </a:lnTo>
                    <a:lnTo>
                      <a:pt x="46" y="0"/>
                    </a:lnTo>
                    <a:lnTo>
                      <a:pt x="5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7207560" y="3918240"/>
                <a:ext cx="59040" cy="106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 flipV="1">
                <a:off x="7261560" y="3894840"/>
                <a:ext cx="468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721296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213320" y="3746520"/>
                <a:ext cx="48600" cy="148320"/>
              </a:xfrm>
              <a:custGeom>
                <a:avLst/>
                <a:gdLst/>
                <a:ahLst/>
                <a:rect l="l" t="t" r="r" b="b"/>
                <a:pathLst>
                  <a:path w="41" h="113">
                    <a:moveTo>
                      <a:pt x="0" y="113"/>
                    </a:moveTo>
                    <a:lnTo>
                      <a:pt x="41" y="11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213320" y="3894840"/>
                <a:ext cx="4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 flipV="1">
                <a:off x="7217640" y="3746520"/>
                <a:ext cx="43560" cy="148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105680" y="3894840"/>
                <a:ext cx="59040" cy="20736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41" y="158"/>
                    </a:moveTo>
                    <a:lnTo>
                      <a:pt x="41" y="158"/>
                    </a:lnTo>
                    <a:lnTo>
                      <a:pt x="0" y="95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 flipV="1">
                <a:off x="7105320" y="4019400"/>
                <a:ext cx="48600" cy="82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7105680" y="3894840"/>
                <a:ext cx="54360" cy="124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16004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160040" y="3888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7159680" y="3894840"/>
                <a:ext cx="4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7160040" y="3888000"/>
                <a:ext cx="468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154280" y="3894840"/>
                <a:ext cx="52920" cy="207360"/>
              </a:xfrm>
              <a:custGeom>
                <a:avLst/>
                <a:gdLst/>
                <a:ahLst/>
                <a:rect l="l" t="t" r="r" b="b"/>
                <a:pathLst>
                  <a:path w="45" h="158">
                    <a:moveTo>
                      <a:pt x="0" y="158"/>
                    </a:moveTo>
                    <a:lnTo>
                      <a:pt x="0" y="158"/>
                    </a:lnTo>
                    <a:lnTo>
                      <a:pt x="45" y="9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7154280" y="4024440"/>
                <a:ext cx="52920" cy="77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 flipV="1">
                <a:off x="7164720" y="3894480"/>
                <a:ext cx="42120" cy="129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165080" y="3888000"/>
                <a:ext cx="7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65080" y="3894840"/>
                <a:ext cx="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7165080" y="3888000"/>
                <a:ext cx="72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91" y="63"/>
                    </a:moveTo>
                    <a:lnTo>
                      <a:pt x="0" y="59"/>
                    </a:lnTo>
                    <a:lnTo>
                      <a:pt x="50" y="0"/>
                    </a:lnTo>
                    <a:lnTo>
                      <a:pt x="91" y="63"/>
                    </a:ln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046640" y="4019400"/>
                <a:ext cx="107640" cy="828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4"/>
                    </a:moveTo>
                    <a:lnTo>
                      <a:pt x="11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062840" y="4120920"/>
                <a:ext cx="74520" cy="6408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27" y="49"/>
                    </a:moveTo>
                    <a:lnTo>
                      <a:pt x="27" y="4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27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706248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046640" y="4097160"/>
                <a:ext cx="107640" cy="23400"/>
              </a:xfrm>
              <a:custGeom>
                <a:avLst/>
                <a:gdLst/>
                <a:ahLst/>
                <a:rect l="l" t="t" r="r" b="b"/>
                <a:pathLst>
                  <a:path w="91" h="18">
                    <a:moveTo>
                      <a:pt x="14" y="18"/>
                    </a:moveTo>
                    <a:lnTo>
                      <a:pt x="77" y="18"/>
                    </a:lnTo>
                    <a:lnTo>
                      <a:pt x="91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062840" y="4120920"/>
                <a:ext cx="745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988320" y="4120920"/>
                <a:ext cx="106200" cy="64080"/>
              </a:xfrm>
              <a:custGeom>
                <a:avLst/>
                <a:gdLst/>
                <a:ahLst/>
                <a:rect l="l" t="t" r="r" b="b"/>
                <a:pathLst>
                  <a:path w="90" h="49">
                    <a:moveTo>
                      <a:pt x="90" y="49"/>
                    </a:moveTo>
                    <a:lnTo>
                      <a:pt x="90" y="49"/>
                    </a:lnTo>
                    <a:lnTo>
                      <a:pt x="0" y="18"/>
                    </a:lnTo>
                    <a:lnTo>
                      <a:pt x="22" y="0"/>
                    </a:lnTo>
                    <a:lnTo>
                      <a:pt x="63" y="0"/>
                    </a:lnTo>
                    <a:lnTo>
                      <a:pt x="90" y="4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988320" y="4120560"/>
                <a:ext cx="2592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062840" y="4120920"/>
                <a:ext cx="316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014600" y="4097160"/>
                <a:ext cx="48240" cy="2340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1" y="18"/>
                    </a:moveTo>
                    <a:lnTo>
                      <a:pt x="0" y="18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7014600" y="4120920"/>
                <a:ext cx="48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7014600" y="4096800"/>
                <a:ext cx="3168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046640" y="4097160"/>
                <a:ext cx="162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40" y="72"/>
                    </a:moveTo>
                    <a:lnTo>
                      <a:pt x="90" y="31"/>
                    </a:lnTo>
                    <a:lnTo>
                      <a:pt x="0" y="0"/>
                    </a:lnTo>
                    <a:lnTo>
                      <a:pt x="40" y="72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988320" y="4144320"/>
                <a:ext cx="106200" cy="946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9" y="16"/>
                    </a:lnTo>
                    <a:lnTo>
                      <a:pt x="20" y="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29280" y="4144320"/>
                <a:ext cx="106560" cy="141840"/>
              </a:xfrm>
              <a:custGeom>
                <a:avLst/>
                <a:gdLst/>
                <a:ahLst/>
                <a:rect l="l" t="t" r="r" b="b"/>
                <a:pathLst>
                  <a:path w="90" h="108">
                    <a:moveTo>
                      <a:pt x="50" y="0"/>
                    </a:moveTo>
                    <a:lnTo>
                      <a:pt x="0" y="50"/>
                    </a:lnTo>
                    <a:lnTo>
                      <a:pt x="41" y="108"/>
                    </a:lnTo>
                    <a:lnTo>
                      <a:pt x="90" y="7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69880" y="4210200"/>
                <a:ext cx="107640" cy="11808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50" y="0"/>
                    </a:moveTo>
                    <a:lnTo>
                      <a:pt x="0" y="45"/>
                    </a:lnTo>
                    <a:lnTo>
                      <a:pt x="41" y="90"/>
                    </a:lnTo>
                    <a:lnTo>
                      <a:pt x="91" y="5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810840" y="4269240"/>
                <a:ext cx="107640" cy="946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50" y="0"/>
                    </a:moveTo>
                    <a:lnTo>
                      <a:pt x="0" y="41"/>
                    </a:lnTo>
                    <a:lnTo>
                      <a:pt x="36" y="72"/>
                    </a:lnTo>
                    <a:lnTo>
                      <a:pt x="91" y="45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680240" y="415620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41" y="0"/>
                    </a:moveTo>
                    <a:lnTo>
                      <a:pt x="0" y="9"/>
                    </a:lnTo>
                    <a:lnTo>
                      <a:pt x="45" y="22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631640" y="4168080"/>
                <a:ext cx="101520" cy="23400"/>
              </a:xfrm>
              <a:custGeom>
                <a:avLst/>
                <a:gdLst/>
                <a:ahLst/>
                <a:rect l="l" t="t" r="r" b="b"/>
                <a:pathLst>
                  <a:path w="86" h="18">
                    <a:moveTo>
                      <a:pt x="41" y="0"/>
                    </a:moveTo>
                    <a:lnTo>
                      <a:pt x="0" y="4"/>
                    </a:lnTo>
                    <a:lnTo>
                      <a:pt x="41" y="18"/>
                    </a:lnTo>
                    <a:lnTo>
                      <a:pt x="86" y="1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583040" y="4161600"/>
                <a:ext cx="97200" cy="298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41" y="9"/>
                    </a:moveTo>
                    <a:lnTo>
                      <a:pt x="0" y="0"/>
                    </a:lnTo>
                    <a:lnTo>
                      <a:pt x="41" y="5"/>
                    </a:lnTo>
                    <a:lnTo>
                      <a:pt x="82" y="23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534440" y="4066920"/>
                <a:ext cx="96840" cy="101160"/>
              </a:xfrm>
              <a:custGeom>
                <a:avLst/>
                <a:gdLst/>
                <a:ahLst/>
                <a:rect l="l" t="t" r="r" b="b"/>
                <a:pathLst>
                  <a:path w="82" h="77">
                    <a:moveTo>
                      <a:pt x="41" y="72"/>
                    </a:moveTo>
                    <a:lnTo>
                      <a:pt x="0" y="0"/>
                    </a:lnTo>
                    <a:lnTo>
                      <a:pt x="41" y="50"/>
                    </a:lnTo>
                    <a:lnTo>
                      <a:pt x="82" y="77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18960" y="4031640"/>
                <a:ext cx="63720" cy="101160"/>
              </a:xfrm>
              <a:custGeom>
                <a:avLst/>
                <a:gdLst/>
                <a:ahLst/>
                <a:rect l="l" t="t" r="r" b="b"/>
                <a:pathLst>
                  <a:path w="54" h="77">
                    <a:moveTo>
                      <a:pt x="54" y="77"/>
                    </a:moveTo>
                    <a:lnTo>
                      <a:pt x="54" y="77"/>
                    </a:lnTo>
                    <a:lnTo>
                      <a:pt x="13" y="27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54" y="77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 flipV="1">
                <a:off x="7534440" y="4066920"/>
                <a:ext cx="4824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7518600" y="4031640"/>
                <a:ext cx="15480" cy="35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51896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81160" y="3935520"/>
                <a:ext cx="53280" cy="101160"/>
              </a:xfrm>
              <a:custGeom>
                <a:avLst/>
                <a:gdLst/>
                <a:ahLst/>
                <a:rect l="l" t="t" r="r" b="b"/>
                <a:pathLst>
                  <a:path w="45" h="77">
                    <a:moveTo>
                      <a:pt x="45" y="77"/>
                    </a:moveTo>
                    <a:lnTo>
                      <a:pt x="32" y="7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 flipV="1">
                <a:off x="7518600" y="4031640"/>
                <a:ext cx="154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 flipV="1">
                <a:off x="7480800" y="3935520"/>
                <a:ext cx="37800" cy="9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534440" y="4036680"/>
                <a:ext cx="48240" cy="9576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1" y="73"/>
                    </a:moveTo>
                    <a:lnTo>
                      <a:pt x="41" y="73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41" y="7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 flipV="1"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81160" y="3935520"/>
                <a:ext cx="59040" cy="11268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45" y="77"/>
                    </a:moveTo>
                    <a:lnTo>
                      <a:pt x="50" y="86"/>
                    </a:lnTo>
                    <a:lnTo>
                      <a:pt x="41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77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534440" y="4036680"/>
                <a:ext cx="576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 flipV="1">
                <a:off x="7480800" y="3935160"/>
                <a:ext cx="48600" cy="101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27880" y="3935520"/>
                <a:ext cx="101520" cy="1191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45" y="0"/>
                    </a:moveTo>
                    <a:lnTo>
                      <a:pt x="0" y="0"/>
                    </a:lnTo>
                    <a:lnTo>
                      <a:pt x="41" y="91"/>
                    </a:lnTo>
                    <a:lnTo>
                      <a:pt x="86" y="7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374600" y="3912120"/>
                <a:ext cx="101520" cy="142920"/>
              </a:xfrm>
              <a:custGeom>
                <a:avLst/>
                <a:gdLst/>
                <a:ahLst/>
                <a:rect l="l" t="t" r="r" b="b"/>
                <a:pathLst>
                  <a:path w="86" h="109">
                    <a:moveTo>
                      <a:pt x="45" y="18"/>
                    </a:moveTo>
                    <a:lnTo>
                      <a:pt x="0" y="0"/>
                    </a:lnTo>
                    <a:lnTo>
                      <a:pt x="40" y="91"/>
                    </a:lnTo>
                    <a:lnTo>
                      <a:pt x="86" y="109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319880" y="391212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86" h="95">
                    <a:moveTo>
                      <a:pt x="46" y="0"/>
                    </a:moveTo>
                    <a:lnTo>
                      <a:pt x="0" y="5"/>
                    </a:lnTo>
                    <a:lnTo>
                      <a:pt x="41" y="95"/>
                    </a:lnTo>
                    <a:lnTo>
                      <a:pt x="86" y="9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266960" y="3918600"/>
                <a:ext cx="101520" cy="12960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45" y="0"/>
                    </a:moveTo>
                    <a:lnTo>
                      <a:pt x="0" y="0"/>
                    </a:lnTo>
                    <a:lnTo>
                      <a:pt x="41" y="99"/>
                    </a:lnTo>
                    <a:lnTo>
                      <a:pt x="86" y="9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207560" y="3918600"/>
                <a:ext cx="107640" cy="178560"/>
              </a:xfrm>
              <a:custGeom>
                <a:avLst/>
                <a:gdLst/>
                <a:ahLst/>
                <a:rect l="l" t="t" r="r" b="b"/>
                <a:pathLst>
                  <a:path w="91" h="136">
                    <a:moveTo>
                      <a:pt x="50" y="0"/>
                    </a:moveTo>
                    <a:lnTo>
                      <a:pt x="0" y="81"/>
                    </a:lnTo>
                    <a:lnTo>
                      <a:pt x="41" y="136"/>
                    </a:lnTo>
                    <a:lnTo>
                      <a:pt x="91" y="9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0" y="59"/>
                    </a:moveTo>
                    <a:lnTo>
                      <a:pt x="86" y="55"/>
                    </a:lnTo>
                    <a:lnTo>
                      <a:pt x="45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154280" y="4024800"/>
                <a:ext cx="101520" cy="774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12"/>
                    </a:moveTo>
                    <a:lnTo>
                      <a:pt x="10" y="0"/>
                    </a:lnTo>
                    <a:lnTo>
                      <a:pt x="0" y="1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165080" y="4120920"/>
                <a:ext cx="74160" cy="52200"/>
              </a:xfrm>
              <a:custGeom>
                <a:avLst/>
                <a:gdLst/>
                <a:ahLst/>
                <a:rect l="l" t="t" r="r" b="b"/>
                <a:pathLst>
                  <a:path w="63" h="40">
                    <a:moveTo>
                      <a:pt x="32" y="40"/>
                    </a:moveTo>
                    <a:lnTo>
                      <a:pt x="32" y="40"/>
                    </a:lnTo>
                    <a:lnTo>
                      <a:pt x="0" y="0"/>
                    </a:lnTo>
                    <a:lnTo>
                      <a:pt x="63" y="4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7202520" y="4126320"/>
                <a:ext cx="36360" cy="46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154280" y="4097160"/>
                <a:ext cx="101520" cy="2880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72" y="22"/>
                    </a:moveTo>
                    <a:lnTo>
                      <a:pt x="9" y="18"/>
                    </a:lnTo>
                    <a:lnTo>
                      <a:pt x="0" y="4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H="1" flipV="1">
                <a:off x="7165080" y="4120920"/>
                <a:ext cx="741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7239240" y="4097160"/>
                <a:ext cx="1656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0948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41" y="95"/>
                    </a:moveTo>
                    <a:lnTo>
                      <a:pt x="41" y="95"/>
                    </a:lnTo>
                    <a:lnTo>
                      <a:pt x="0" y="49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41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 flipV="1">
                <a:off x="7094520" y="4185360"/>
                <a:ext cx="48600" cy="60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7094880" y="4120920"/>
                <a:ext cx="42480" cy="64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137720" y="410256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H="1">
                <a:off x="7137720" y="4120920"/>
                <a:ext cx="16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7137720" y="4102200"/>
                <a:ext cx="1656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143480" y="4120920"/>
                <a:ext cx="59040" cy="12456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0" y="95"/>
                    </a:moveTo>
                    <a:lnTo>
                      <a:pt x="0" y="95"/>
                    </a:lnTo>
                    <a:lnTo>
                      <a:pt x="50" y="4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7143480" y="4172760"/>
                <a:ext cx="59040" cy="72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 flipV="1">
                <a:off x="7164720" y="4120560"/>
                <a:ext cx="378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715392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154280" y="4102560"/>
                <a:ext cx="10440" cy="183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154280" y="4120920"/>
                <a:ext cx="104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 flipV="1">
                <a:off x="7153920" y="4102200"/>
                <a:ext cx="10440" cy="18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35840" y="4185360"/>
                <a:ext cx="107640" cy="107640"/>
              </a:xfrm>
              <a:custGeom>
                <a:avLst/>
                <a:gdLst/>
                <a:ahLst/>
                <a:rect l="l" t="t" r="r" b="b"/>
                <a:pathLst>
                  <a:path w="91" h="82">
                    <a:moveTo>
                      <a:pt x="50" y="0"/>
                    </a:moveTo>
                    <a:lnTo>
                      <a:pt x="0" y="41"/>
                    </a:lnTo>
                    <a:lnTo>
                      <a:pt x="41" y="82"/>
                    </a:lnTo>
                    <a:lnTo>
                      <a:pt x="91" y="4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977880" y="4239000"/>
                <a:ext cx="106560" cy="95760"/>
              </a:xfrm>
              <a:custGeom>
                <a:avLst/>
                <a:gdLst/>
                <a:ahLst/>
                <a:rect l="l" t="t" r="r" b="b"/>
                <a:pathLst>
                  <a:path w="90" h="73">
                    <a:moveTo>
                      <a:pt x="49" y="0"/>
                    </a:moveTo>
                    <a:lnTo>
                      <a:pt x="0" y="36"/>
                    </a:lnTo>
                    <a:lnTo>
                      <a:pt x="40" y="73"/>
                    </a:lnTo>
                    <a:lnTo>
                      <a:pt x="90" y="4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918480" y="4286520"/>
                <a:ext cx="106560" cy="83880"/>
              </a:xfrm>
              <a:custGeom>
                <a:avLst/>
                <a:gdLst/>
                <a:ahLst/>
                <a:rect l="l" t="t" r="r" b="b"/>
                <a:pathLst>
                  <a:path w="90" h="64">
                    <a:moveTo>
                      <a:pt x="50" y="0"/>
                    </a:moveTo>
                    <a:lnTo>
                      <a:pt x="0" y="32"/>
                    </a:lnTo>
                    <a:lnTo>
                      <a:pt x="40" y="64"/>
                    </a:lnTo>
                    <a:lnTo>
                      <a:pt x="90" y="37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853320" y="4328640"/>
                <a:ext cx="112320" cy="7056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55" y="0"/>
                    </a:moveTo>
                    <a:lnTo>
                      <a:pt x="0" y="27"/>
                    </a:lnTo>
                    <a:lnTo>
                      <a:pt x="41" y="54"/>
                    </a:lnTo>
                    <a:lnTo>
                      <a:pt x="9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733520" y="4173120"/>
                <a:ext cx="97200" cy="248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41" y="0"/>
                    </a:moveTo>
                    <a:lnTo>
                      <a:pt x="0" y="9"/>
                    </a:lnTo>
                    <a:lnTo>
                      <a:pt x="41" y="19"/>
                    </a:lnTo>
                    <a:lnTo>
                      <a:pt x="82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680240" y="4185360"/>
                <a:ext cx="101520" cy="248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45" y="0"/>
                    </a:moveTo>
                    <a:lnTo>
                      <a:pt x="0" y="5"/>
                    </a:lnTo>
                    <a:lnTo>
                      <a:pt x="45" y="19"/>
                    </a:lnTo>
                    <a:lnTo>
                      <a:pt x="86" y="1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631640" y="4168080"/>
                <a:ext cx="101520" cy="4176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41" y="18"/>
                    </a:moveTo>
                    <a:lnTo>
                      <a:pt x="0" y="0"/>
                    </a:lnTo>
                    <a:lnTo>
                      <a:pt x="41" y="27"/>
                    </a:lnTo>
                    <a:lnTo>
                      <a:pt x="86" y="32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583040" y="4132800"/>
                <a:ext cx="97200" cy="7056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41" y="27"/>
                    </a:moveTo>
                    <a:lnTo>
                      <a:pt x="0" y="0"/>
                    </a:lnTo>
                    <a:lnTo>
                      <a:pt x="41" y="40"/>
                    </a:lnTo>
                    <a:lnTo>
                      <a:pt x="82" y="54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99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540560" y="4048560"/>
                <a:ext cx="90720" cy="136440"/>
              </a:xfrm>
              <a:custGeom>
                <a:avLst/>
                <a:gdLst/>
                <a:ahLst/>
                <a:rect l="l" t="t" r="r" b="b"/>
                <a:pathLst>
                  <a:path w="77" h="104">
                    <a:moveTo>
                      <a:pt x="77" y="104"/>
                    </a:moveTo>
                    <a:lnTo>
                      <a:pt x="77" y="104"/>
                    </a:lnTo>
                    <a:lnTo>
                      <a:pt x="36" y="64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7" y="10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H="1" flipV="1">
                <a:off x="7582680" y="4132440"/>
                <a:ext cx="48600" cy="52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7540200" y="4048560"/>
                <a:ext cx="421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 flipV="1">
                <a:off x="7540560" y="4048560"/>
                <a:ext cx="57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 flipV="1">
                <a:off x="7529400" y="4036680"/>
                <a:ext cx="1044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540560" y="4055040"/>
                <a:ext cx="90720" cy="129960"/>
              </a:xfrm>
              <a:custGeom>
                <a:avLst/>
                <a:gdLst/>
                <a:ahLst/>
                <a:rect l="l" t="t" r="r" b="b"/>
                <a:pathLst>
                  <a:path w="77" h="99">
                    <a:moveTo>
                      <a:pt x="77" y="99"/>
                    </a:moveTo>
                    <a:lnTo>
                      <a:pt x="77" y="99"/>
                    </a:lnTo>
                    <a:lnTo>
                      <a:pt x="32" y="5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7" y="9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 flipV="1">
                <a:off x="7578000" y="4125960"/>
                <a:ext cx="529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H="1" flipV="1">
                <a:off x="7540200" y="405468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529760" y="403668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9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H="1">
                <a:off x="7540560" y="4055040"/>
                <a:ext cx="57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752940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497720" y="4055040"/>
                <a:ext cx="80280" cy="7092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68" y="54"/>
                    </a:moveTo>
                    <a:lnTo>
                      <a:pt x="68" y="54"/>
                    </a:lnTo>
                    <a:lnTo>
                      <a:pt x="0" y="9"/>
                    </a:lnTo>
                    <a:lnTo>
                      <a:pt x="36" y="0"/>
                    </a:lnTo>
                    <a:lnTo>
                      <a:pt x="68" y="5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497720" y="405468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540560" y="4055040"/>
                <a:ext cx="37800" cy="70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476480" y="4036680"/>
                <a:ext cx="64080" cy="298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14"/>
                    </a:moveTo>
                    <a:lnTo>
                      <a:pt x="18" y="23"/>
                    </a:lnTo>
                    <a:lnTo>
                      <a:pt x="0" y="1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H="1">
                <a:off x="7497720" y="4055040"/>
                <a:ext cx="424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7476480" y="4036680"/>
                <a:ext cx="5328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529760" y="4036680"/>
                <a:ext cx="10440" cy="1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486920" y="4066920"/>
                <a:ext cx="91080" cy="89280"/>
              </a:xfrm>
              <a:custGeom>
                <a:avLst/>
                <a:gdLst/>
                <a:ahLst/>
                <a:rect l="l" t="t" r="r" b="b"/>
                <a:pathLst>
                  <a:path w="77" h="68">
                    <a:moveTo>
                      <a:pt x="36" y="68"/>
                    </a:moveTo>
                    <a:lnTo>
                      <a:pt x="36" y="68"/>
                    </a:lnTo>
                    <a:lnTo>
                      <a:pt x="77" y="4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7529760" y="4125960"/>
                <a:ext cx="48600" cy="29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748656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476480" y="4055040"/>
                <a:ext cx="21240" cy="11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486920" y="4066920"/>
                <a:ext cx="1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476480" y="405504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465680" y="4066920"/>
                <a:ext cx="63720" cy="8928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54" y="68"/>
                    </a:moveTo>
                    <a:lnTo>
                      <a:pt x="54" y="68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54" y="6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H="1" flipV="1">
                <a:off x="7486920" y="4066920"/>
                <a:ext cx="42480" cy="89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H="1">
                <a:off x="7465680" y="406692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422120" y="4031640"/>
                <a:ext cx="64800" cy="4716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37" y="36"/>
                    </a:moveTo>
                    <a:lnTo>
                      <a:pt x="55" y="27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7465680" y="4066560"/>
                <a:ext cx="208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 flipV="1">
                <a:off x="7476120" y="4054680"/>
                <a:ext cx="1044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 flipV="1">
                <a:off x="7422120" y="4031280"/>
                <a:ext cx="54000" cy="23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407880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59"/>
                    </a:moveTo>
                    <a:lnTo>
                      <a:pt x="68" y="59"/>
                    </a:lnTo>
                    <a:lnTo>
                      <a:pt x="23" y="50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6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 flipV="1">
                <a:off x="7476480" y="4143960"/>
                <a:ext cx="532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422120" y="4031640"/>
                <a:ext cx="43560" cy="5364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37" y="36"/>
                    </a:moveTo>
                    <a:lnTo>
                      <a:pt x="23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H="1">
                <a:off x="7449120" y="4078800"/>
                <a:ext cx="1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422120" y="4085280"/>
                <a:ext cx="5400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 flipV="1">
                <a:off x="7448760" y="4084920"/>
                <a:ext cx="2700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742176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68480" y="4031640"/>
                <a:ext cx="80280" cy="590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45" y="45"/>
                    </a:moveTo>
                    <a:lnTo>
                      <a:pt x="68" y="41"/>
                    </a:lnTo>
                    <a:lnTo>
                      <a:pt x="4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5" y="4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7422120" y="408528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H="1" flipV="1">
                <a:off x="7421760" y="4031280"/>
                <a:ext cx="27000" cy="5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7368480" y="4031640"/>
                <a:ext cx="5328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95840" y="4090680"/>
                <a:ext cx="80280" cy="7740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18" y="59"/>
                    </a:moveTo>
                    <a:lnTo>
                      <a:pt x="18" y="59"/>
                    </a:lnTo>
                    <a:lnTo>
                      <a:pt x="68" y="4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7417080" y="4144320"/>
                <a:ext cx="59040" cy="2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68480" y="403668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23" y="50"/>
                    </a:moveTo>
                    <a:lnTo>
                      <a:pt x="45" y="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7395840" y="4090680"/>
                <a:ext cx="25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68480" y="4102560"/>
                <a:ext cx="48600" cy="6552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41" y="50"/>
                    </a:moveTo>
                    <a:lnTo>
                      <a:pt x="41" y="50"/>
                    </a:lnTo>
                    <a:lnTo>
                      <a:pt x="23" y="0"/>
                    </a:lnTo>
                    <a:lnTo>
                      <a:pt x="0" y="5"/>
                    </a:lnTo>
                    <a:lnTo>
                      <a:pt x="41" y="5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H="1" flipV="1">
                <a:off x="7395840" y="4102560"/>
                <a:ext cx="2088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H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15560" y="4036680"/>
                <a:ext cx="80280" cy="7200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45" y="55"/>
                    </a:moveTo>
                    <a:lnTo>
                      <a:pt x="68" y="50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5" y="5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7368480" y="4102560"/>
                <a:ext cx="273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7368480" y="4036680"/>
                <a:ext cx="2736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7315200" y="4036680"/>
                <a:ext cx="52920" cy="11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341480" y="4109040"/>
                <a:ext cx="75600" cy="6408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64" y="45"/>
                    </a:moveTo>
                    <a:lnTo>
                      <a:pt x="64" y="45"/>
                    </a:lnTo>
                    <a:lnTo>
                      <a:pt x="19" y="49"/>
                    </a:lnTo>
                    <a:lnTo>
                      <a:pt x="0" y="4"/>
                    </a:lnTo>
                    <a:lnTo>
                      <a:pt x="23" y="0"/>
                    </a:lnTo>
                    <a:lnTo>
                      <a:pt x="64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H="1">
                <a:off x="7363800" y="4168080"/>
                <a:ext cx="5292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H="1" flipV="1">
                <a:off x="7341480" y="411408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 flipV="1">
                <a:off x="734148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315560" y="4048560"/>
                <a:ext cx="52920" cy="65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46"/>
                    </a:moveTo>
                    <a:lnTo>
                      <a:pt x="22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7341120" y="4109040"/>
                <a:ext cx="270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7315560" y="4048560"/>
                <a:ext cx="25920" cy="6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277400" y="4126320"/>
                <a:ext cx="31680" cy="4176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32"/>
                    </a:moveTo>
                    <a:lnTo>
                      <a:pt x="27" y="3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 flipV="1">
                <a:off x="7277400" y="4126320"/>
                <a:ext cx="31680" cy="4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256160" y="4048560"/>
                <a:ext cx="59040" cy="7776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45" y="59"/>
                    </a:moveTo>
                    <a:lnTo>
                      <a:pt x="18" y="59"/>
                    </a:lnTo>
                    <a:lnTo>
                      <a:pt x="0" y="37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5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7277400" y="4126320"/>
                <a:ext cx="316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 flipV="1">
                <a:off x="7255800" y="4097160"/>
                <a:ext cx="21240" cy="2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7256160" y="4048200"/>
                <a:ext cx="59040" cy="48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309440" y="4114440"/>
                <a:ext cx="54360" cy="586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lnTo>
                      <a:pt x="46" y="45"/>
                    </a:lnTo>
                    <a:lnTo>
                      <a:pt x="0" y="41"/>
                    </a:lnTo>
                    <a:lnTo>
                      <a:pt x="0" y="9"/>
                    </a:lnTo>
                    <a:lnTo>
                      <a:pt x="27" y="0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 flipV="1">
                <a:off x="7309080" y="4168080"/>
                <a:ext cx="5436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 flipV="1">
                <a:off x="7309440" y="4114080"/>
                <a:ext cx="31680" cy="11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341480" y="4114440"/>
                <a:ext cx="22320" cy="5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309440" y="404856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27" y="50"/>
                    </a:moveTo>
                    <a:lnTo>
                      <a:pt x="0" y="5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3" name=""/>
            <p:cNvSpPr/>
            <p:nvPr/>
          </p:nvSpPr>
          <p:spPr>
            <a:xfrm flipH="1">
              <a:off x="7309440" y="4114800"/>
              <a:ext cx="31680" cy="11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315560" y="4048920"/>
              <a:ext cx="2592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202880" y="4126680"/>
              <a:ext cx="52920" cy="11268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40" y="86"/>
                  </a:moveTo>
                  <a:lnTo>
                    <a:pt x="40" y="86"/>
                  </a:lnTo>
                  <a:lnTo>
                    <a:pt x="0" y="36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 flipV="1">
              <a:off x="7202520" y="4173480"/>
              <a:ext cx="47160" cy="6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7202880" y="4126680"/>
              <a:ext cx="36360" cy="4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239600" y="4097520"/>
              <a:ext cx="16560" cy="288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2"/>
                  </a:moveTo>
                  <a:lnTo>
                    <a:pt x="0" y="2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7239600" y="4126680"/>
              <a:ext cx="16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7239600" y="4097520"/>
              <a:ext cx="1656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250040" y="4126680"/>
              <a:ext cx="59040" cy="11268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0" y="86"/>
                  </a:moveTo>
                  <a:lnTo>
                    <a:pt x="0" y="86"/>
                  </a:lnTo>
                  <a:lnTo>
                    <a:pt x="50" y="32"/>
                  </a:lnTo>
                  <a:lnTo>
                    <a:pt x="23" y="0"/>
                  </a:lnTo>
                  <a:lnTo>
                    <a:pt x="5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7250040" y="4168440"/>
              <a:ext cx="59040" cy="7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 flipV="1">
              <a:off x="7277760" y="4126680"/>
              <a:ext cx="31680" cy="41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725580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56160" y="4097520"/>
              <a:ext cx="21240" cy="288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22"/>
                  </a:moveTo>
                  <a:lnTo>
                    <a:pt x="18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256160" y="4126680"/>
              <a:ext cx="212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 flipV="1">
              <a:off x="7255800" y="4097520"/>
              <a:ext cx="21240" cy="2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143480" y="4173480"/>
              <a:ext cx="106560" cy="12456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0" y="0"/>
                  </a:moveTo>
                  <a:lnTo>
                    <a:pt x="0" y="55"/>
                  </a:lnTo>
                  <a:lnTo>
                    <a:pt x="41" y="95"/>
                  </a:lnTo>
                  <a:lnTo>
                    <a:pt x="9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084440" y="4246200"/>
              <a:ext cx="107640" cy="9432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50" y="0"/>
                  </a:moveTo>
                  <a:lnTo>
                    <a:pt x="0" y="36"/>
                  </a:lnTo>
                  <a:lnTo>
                    <a:pt x="41" y="72"/>
                  </a:lnTo>
                  <a:lnTo>
                    <a:pt x="91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025040" y="4293360"/>
              <a:ext cx="107640" cy="8244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50" y="0"/>
                  </a:moveTo>
                  <a:lnTo>
                    <a:pt x="0" y="32"/>
                  </a:lnTo>
                  <a:lnTo>
                    <a:pt x="41" y="63"/>
                  </a:lnTo>
                  <a:lnTo>
                    <a:pt x="91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966000" y="4335480"/>
              <a:ext cx="107640" cy="6408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50" y="0"/>
                  </a:moveTo>
                  <a:lnTo>
                    <a:pt x="0" y="27"/>
                  </a:lnTo>
                  <a:lnTo>
                    <a:pt x="41" y="49"/>
                  </a:lnTo>
                  <a:lnTo>
                    <a:pt x="91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901920" y="437076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4" y="0"/>
                  </a:moveTo>
                  <a:lnTo>
                    <a:pt x="0" y="22"/>
                  </a:lnTo>
                  <a:lnTo>
                    <a:pt x="41" y="41"/>
                  </a:lnTo>
                  <a:lnTo>
                    <a:pt x="95" y="2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782120" y="4185720"/>
              <a:ext cx="95760" cy="29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41" y="0"/>
                  </a:moveTo>
                  <a:lnTo>
                    <a:pt x="0" y="10"/>
                  </a:lnTo>
                  <a:lnTo>
                    <a:pt x="41" y="23"/>
                  </a:lnTo>
                  <a:lnTo>
                    <a:pt x="81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733520" y="4198680"/>
              <a:ext cx="97200" cy="2880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41" y="0"/>
                  </a:moveTo>
                  <a:lnTo>
                    <a:pt x="0" y="9"/>
                  </a:lnTo>
                  <a:lnTo>
                    <a:pt x="41" y="22"/>
                  </a:lnTo>
                  <a:lnTo>
                    <a:pt x="82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680240" y="4204080"/>
              <a:ext cx="101520" cy="2340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45" y="5"/>
                  </a:moveTo>
                  <a:lnTo>
                    <a:pt x="0" y="0"/>
                  </a:lnTo>
                  <a:lnTo>
                    <a:pt x="45" y="18"/>
                  </a:lnTo>
                  <a:lnTo>
                    <a:pt x="86" y="18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631640" y="4185720"/>
              <a:ext cx="101520" cy="41760"/>
            </a:xfrm>
            <a:custGeom>
              <a:avLst/>
              <a:gdLst/>
              <a:ahLst/>
              <a:rect l="l" t="t" r="r" b="b"/>
              <a:pathLst>
                <a:path w="86" h="32">
                  <a:moveTo>
                    <a:pt x="41" y="14"/>
                  </a:moveTo>
                  <a:lnTo>
                    <a:pt x="0" y="0"/>
                  </a:lnTo>
                  <a:lnTo>
                    <a:pt x="41" y="10"/>
                  </a:lnTo>
                  <a:lnTo>
                    <a:pt x="86" y="32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578360" y="4126680"/>
              <a:ext cx="101520" cy="7200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45" y="45"/>
                  </a:moveTo>
                  <a:lnTo>
                    <a:pt x="0" y="0"/>
                  </a:lnTo>
                  <a:lnTo>
                    <a:pt x="45" y="55"/>
                  </a:lnTo>
                  <a:lnTo>
                    <a:pt x="86" y="5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529760" y="4126680"/>
              <a:ext cx="101520" cy="889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41" y="0"/>
                  </a:moveTo>
                  <a:lnTo>
                    <a:pt x="0" y="23"/>
                  </a:lnTo>
                  <a:lnTo>
                    <a:pt x="41" y="68"/>
                  </a:lnTo>
                  <a:lnTo>
                    <a:pt x="86" y="5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76480" y="4144680"/>
              <a:ext cx="101880" cy="7740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45" y="9"/>
                  </a:moveTo>
                  <a:lnTo>
                    <a:pt x="0" y="0"/>
                  </a:lnTo>
                  <a:lnTo>
                    <a:pt x="40" y="59"/>
                  </a:lnTo>
                  <a:lnTo>
                    <a:pt x="86" y="54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17440" y="4144680"/>
              <a:ext cx="106560" cy="10116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50" y="0"/>
                  </a:moveTo>
                  <a:lnTo>
                    <a:pt x="0" y="18"/>
                  </a:lnTo>
                  <a:lnTo>
                    <a:pt x="45" y="77"/>
                  </a:lnTo>
                  <a:lnTo>
                    <a:pt x="90" y="5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364160" y="4168440"/>
              <a:ext cx="106200" cy="9432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45" y="0"/>
                  </a:moveTo>
                  <a:lnTo>
                    <a:pt x="0" y="4"/>
                  </a:lnTo>
                  <a:lnTo>
                    <a:pt x="40" y="72"/>
                  </a:lnTo>
                  <a:lnTo>
                    <a:pt x="90" y="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309440" y="4168440"/>
              <a:ext cx="101520" cy="1008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46" y="4"/>
                  </a:moveTo>
                  <a:lnTo>
                    <a:pt x="0" y="0"/>
                  </a:lnTo>
                  <a:lnTo>
                    <a:pt x="41" y="77"/>
                  </a:lnTo>
                  <a:lnTo>
                    <a:pt x="86" y="72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50040" y="4168440"/>
              <a:ext cx="107640" cy="14292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50" y="0"/>
                  </a:moveTo>
                  <a:lnTo>
                    <a:pt x="0" y="54"/>
                  </a:lnTo>
                  <a:lnTo>
                    <a:pt x="41" y="109"/>
                  </a:lnTo>
                  <a:lnTo>
                    <a:pt x="91" y="7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192080" y="4239360"/>
              <a:ext cx="106560" cy="10080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49" y="0"/>
                  </a:moveTo>
                  <a:lnTo>
                    <a:pt x="0" y="45"/>
                  </a:lnTo>
                  <a:lnTo>
                    <a:pt x="40" y="77"/>
                  </a:lnTo>
                  <a:lnTo>
                    <a:pt x="90" y="5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133040" y="4298400"/>
              <a:ext cx="106200" cy="7740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50" y="0"/>
                  </a:moveTo>
                  <a:lnTo>
                    <a:pt x="0" y="32"/>
                  </a:lnTo>
                  <a:lnTo>
                    <a:pt x="41" y="59"/>
                  </a:lnTo>
                  <a:lnTo>
                    <a:pt x="90" y="3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073640" y="4340520"/>
              <a:ext cx="107640" cy="5904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50" y="0"/>
                  </a:moveTo>
                  <a:lnTo>
                    <a:pt x="0" y="27"/>
                  </a:lnTo>
                  <a:lnTo>
                    <a:pt x="41" y="45"/>
                  </a:lnTo>
                  <a:lnTo>
                    <a:pt x="91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014600" y="4375800"/>
              <a:ext cx="107640" cy="4860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50" y="0"/>
                  </a:moveTo>
                  <a:lnTo>
                    <a:pt x="0" y="18"/>
                  </a:lnTo>
                  <a:lnTo>
                    <a:pt x="41" y="37"/>
                  </a:lnTo>
                  <a:lnTo>
                    <a:pt x="91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950520" y="4399920"/>
              <a:ext cx="11196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4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30720" y="4204080"/>
              <a:ext cx="101520" cy="2988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0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782120" y="4215600"/>
              <a:ext cx="10152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9"/>
                  </a:lnTo>
                  <a:lnTo>
                    <a:pt x="45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733520" y="4227480"/>
              <a:ext cx="10188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41" y="0"/>
                  </a:moveTo>
                  <a:lnTo>
                    <a:pt x="0" y="0"/>
                  </a:lnTo>
                  <a:lnTo>
                    <a:pt x="41" y="23"/>
                  </a:lnTo>
                  <a:lnTo>
                    <a:pt x="86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680240" y="4198680"/>
              <a:ext cx="101520" cy="5904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45" y="22"/>
                  </a:moveTo>
                  <a:lnTo>
                    <a:pt x="0" y="0"/>
                  </a:lnTo>
                  <a:lnTo>
                    <a:pt x="45" y="45"/>
                  </a:lnTo>
                  <a:lnTo>
                    <a:pt x="86" y="45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631640" y="4198680"/>
              <a:ext cx="101520" cy="640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1" y="0"/>
                  </a:moveTo>
                  <a:lnTo>
                    <a:pt x="0" y="0"/>
                  </a:lnTo>
                  <a:lnTo>
                    <a:pt x="41" y="49"/>
                  </a:lnTo>
                  <a:lnTo>
                    <a:pt x="86" y="4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578360" y="4198680"/>
              <a:ext cx="101520" cy="7596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45" y="0"/>
                  </a:moveTo>
                  <a:lnTo>
                    <a:pt x="0" y="13"/>
                  </a:lnTo>
                  <a:lnTo>
                    <a:pt x="40" y="58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524000" y="4215600"/>
              <a:ext cx="101520" cy="7092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46" y="0"/>
                  </a:moveTo>
                  <a:lnTo>
                    <a:pt x="0" y="5"/>
                  </a:lnTo>
                  <a:lnTo>
                    <a:pt x="41" y="54"/>
                  </a:lnTo>
                  <a:lnTo>
                    <a:pt x="86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0360" y="4222080"/>
              <a:ext cx="101880" cy="8280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45" y="0"/>
                  </a:moveTo>
                  <a:lnTo>
                    <a:pt x="0" y="18"/>
                  </a:lnTo>
                  <a:lnTo>
                    <a:pt x="41" y="63"/>
                  </a:lnTo>
                  <a:lnTo>
                    <a:pt x="86" y="4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11320" y="4246200"/>
              <a:ext cx="107640" cy="7740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50" y="0"/>
                  </a:moveTo>
                  <a:lnTo>
                    <a:pt x="0" y="13"/>
                  </a:lnTo>
                  <a:lnTo>
                    <a:pt x="46" y="59"/>
                  </a:lnTo>
                  <a:lnTo>
                    <a:pt x="91" y="4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358040" y="4263120"/>
              <a:ext cx="107640" cy="723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45" y="0"/>
                  </a:moveTo>
                  <a:lnTo>
                    <a:pt x="0" y="5"/>
                  </a:lnTo>
                  <a:lnTo>
                    <a:pt x="41" y="55"/>
                  </a:lnTo>
                  <a:lnTo>
                    <a:pt x="91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298640" y="4269600"/>
              <a:ext cx="107640" cy="8928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50" y="0"/>
                  </a:moveTo>
                  <a:lnTo>
                    <a:pt x="0" y="32"/>
                  </a:lnTo>
                  <a:lnTo>
                    <a:pt x="46" y="68"/>
                  </a:lnTo>
                  <a:lnTo>
                    <a:pt x="91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239600" y="4311720"/>
              <a:ext cx="113760" cy="7056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50" y="0"/>
                  </a:moveTo>
                  <a:lnTo>
                    <a:pt x="0" y="22"/>
                  </a:lnTo>
                  <a:lnTo>
                    <a:pt x="46" y="54"/>
                  </a:lnTo>
                  <a:lnTo>
                    <a:pt x="96" y="3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181280" y="4340520"/>
              <a:ext cx="112320" cy="655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49" y="0"/>
                  </a:moveTo>
                  <a:lnTo>
                    <a:pt x="0" y="27"/>
                  </a:lnTo>
                  <a:lnTo>
                    <a:pt x="45" y="50"/>
                  </a:lnTo>
                  <a:lnTo>
                    <a:pt x="95" y="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122240" y="4375800"/>
              <a:ext cx="112320" cy="53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50" y="0"/>
                  </a:moveTo>
                  <a:lnTo>
                    <a:pt x="0" y="18"/>
                  </a:lnTo>
                  <a:lnTo>
                    <a:pt x="45" y="41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62840" y="4399920"/>
              <a:ext cx="112320" cy="4824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50" y="0"/>
                  </a:moveTo>
                  <a:lnTo>
                    <a:pt x="0" y="19"/>
                  </a:lnTo>
                  <a:lnTo>
                    <a:pt x="41" y="37"/>
                  </a:lnTo>
                  <a:lnTo>
                    <a:pt x="95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999120" y="4424760"/>
              <a:ext cx="112320" cy="4680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4" y="0"/>
                  </a:moveTo>
                  <a:lnTo>
                    <a:pt x="0" y="18"/>
                  </a:lnTo>
                  <a:lnTo>
                    <a:pt x="45" y="36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884000" y="4222080"/>
              <a:ext cx="101880" cy="2916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835400" y="4233960"/>
              <a:ext cx="10152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782120" y="4246200"/>
              <a:ext cx="106560" cy="2880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45" y="0"/>
                  </a:moveTo>
                  <a:lnTo>
                    <a:pt x="0" y="9"/>
                  </a:lnTo>
                  <a:lnTo>
                    <a:pt x="45" y="22"/>
                  </a:lnTo>
                  <a:lnTo>
                    <a:pt x="90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733520" y="4258080"/>
              <a:ext cx="101880" cy="2880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41" y="0"/>
                  </a:moveTo>
                  <a:lnTo>
                    <a:pt x="0" y="0"/>
                  </a:lnTo>
                  <a:lnTo>
                    <a:pt x="45" y="22"/>
                  </a:lnTo>
                  <a:lnTo>
                    <a:pt x="86" y="1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680240" y="4258080"/>
              <a:ext cx="106560" cy="40320"/>
            </a:xfrm>
            <a:custGeom>
              <a:avLst/>
              <a:gdLst/>
              <a:ahLst/>
              <a:rect l="l" t="t" r="r" b="b"/>
              <a:pathLst>
                <a:path w="90" h="31">
                  <a:moveTo>
                    <a:pt x="45" y="0"/>
                  </a:moveTo>
                  <a:lnTo>
                    <a:pt x="0" y="4"/>
                  </a:lnTo>
                  <a:lnTo>
                    <a:pt x="45" y="31"/>
                  </a:lnTo>
                  <a:lnTo>
                    <a:pt x="90" y="2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625880" y="426312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6" y="0"/>
                  </a:moveTo>
                  <a:lnTo>
                    <a:pt x="0" y="9"/>
                  </a:lnTo>
                  <a:lnTo>
                    <a:pt x="46" y="41"/>
                  </a:lnTo>
                  <a:lnTo>
                    <a:pt x="91" y="2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72600" y="4275000"/>
              <a:ext cx="107640" cy="53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45" y="0"/>
                  </a:moveTo>
                  <a:lnTo>
                    <a:pt x="0" y="9"/>
                  </a:lnTo>
                  <a:lnTo>
                    <a:pt x="45" y="41"/>
                  </a:lnTo>
                  <a:lnTo>
                    <a:pt x="91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18960" y="4286880"/>
              <a:ext cx="106560" cy="601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45" y="0"/>
                  </a:moveTo>
                  <a:lnTo>
                    <a:pt x="0" y="14"/>
                  </a:lnTo>
                  <a:lnTo>
                    <a:pt x="45" y="46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466040" y="4304880"/>
              <a:ext cx="106560" cy="590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4"/>
                  </a:lnTo>
                  <a:lnTo>
                    <a:pt x="45" y="45"/>
                  </a:lnTo>
                  <a:lnTo>
                    <a:pt x="90" y="3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406640" y="4323600"/>
              <a:ext cx="112320" cy="5220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50" y="0"/>
                  </a:moveTo>
                  <a:lnTo>
                    <a:pt x="0" y="9"/>
                  </a:lnTo>
                  <a:lnTo>
                    <a:pt x="45" y="40"/>
                  </a:lnTo>
                  <a:lnTo>
                    <a:pt x="95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353360" y="4335480"/>
              <a:ext cx="106560" cy="586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45" y="0"/>
                  </a:moveTo>
                  <a:lnTo>
                    <a:pt x="0" y="18"/>
                  </a:lnTo>
                  <a:lnTo>
                    <a:pt x="40" y="45"/>
                  </a:lnTo>
                  <a:lnTo>
                    <a:pt x="90" y="3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93960" y="4358880"/>
              <a:ext cx="106560" cy="5220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50" y="0"/>
                  </a:moveTo>
                  <a:lnTo>
                    <a:pt x="0" y="18"/>
                  </a:lnTo>
                  <a:lnTo>
                    <a:pt x="40" y="40"/>
                  </a:lnTo>
                  <a:lnTo>
                    <a:pt x="90" y="2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234920" y="4382640"/>
              <a:ext cx="106560" cy="5364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50" y="0"/>
                  </a:moveTo>
                  <a:lnTo>
                    <a:pt x="0" y="18"/>
                  </a:lnTo>
                  <a:lnTo>
                    <a:pt x="41" y="41"/>
                  </a:lnTo>
                  <a:lnTo>
                    <a:pt x="90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175520" y="4406400"/>
              <a:ext cx="107640" cy="471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1" y="2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111440" y="4429800"/>
              <a:ext cx="112320" cy="41760"/>
            </a:xfrm>
            <a:custGeom>
              <a:avLst/>
              <a:gdLst/>
              <a:ahLst/>
              <a:rect l="l" t="t" r="r" b="b"/>
              <a:pathLst>
                <a:path w="95" h="32">
                  <a:moveTo>
                    <a:pt x="54" y="0"/>
                  </a:moveTo>
                  <a:lnTo>
                    <a:pt x="0" y="14"/>
                  </a:lnTo>
                  <a:lnTo>
                    <a:pt x="45" y="32"/>
                  </a:lnTo>
                  <a:lnTo>
                    <a:pt x="95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52400" y="4448160"/>
              <a:ext cx="112320" cy="4716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50" y="0"/>
                  </a:moveTo>
                  <a:lnTo>
                    <a:pt x="0" y="18"/>
                  </a:lnTo>
                  <a:lnTo>
                    <a:pt x="41" y="36"/>
                  </a:lnTo>
                  <a:lnTo>
                    <a:pt x="95" y="1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8007120" y="2889720"/>
              <a:ext cx="31680" cy="133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007120" y="42274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013240" y="40438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017920" y="38595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024040" y="366912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028360" y="347220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028360" y="3281760"/>
              <a:ext cx="2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034480" y="3085920"/>
              <a:ext cx="21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039160" y="2890080"/>
              <a:ext cx="20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045280" y="416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049960" y="3978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055720" y="3794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060400" y="3604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63640" y="340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63640" y="3219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70120" y="30204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4800" y="2824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233200" y="3502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295840" y="35064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g/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66840" y="348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363000" y="251568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centraciones con Están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684040" y="3252600"/>
              <a:ext cx="353880" cy="109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722200" y="3312000"/>
              <a:ext cx="48240" cy="5328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96000" y="32832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30-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722200" y="3466800"/>
              <a:ext cx="48240" cy="5220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796000" y="34365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5-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22200" y="3620520"/>
              <a:ext cx="48240" cy="5364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796000" y="35917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20-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722200" y="3775680"/>
              <a:ext cx="48240" cy="536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796000" y="3746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5-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722200" y="3935880"/>
              <a:ext cx="48240" cy="53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796000" y="39070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0-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722200" y="4091040"/>
              <a:ext cx="48240" cy="53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796720" y="4060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5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722200" y="4246200"/>
              <a:ext cx="4824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796720" y="42156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0-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486400" y="2438280"/>
              <a:ext cx="3352680" cy="2514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"/>
          <p:cNvSpPr/>
          <p:nvPr/>
        </p:nvSpPr>
        <p:spPr>
          <a:xfrm>
            <a:off x="25718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8746560" y="5900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1" name=""/>
          <p:cNvGrpSpPr/>
          <p:nvPr/>
        </p:nvGrpSpPr>
        <p:grpSpPr>
          <a:xfrm>
            <a:off x="1295280" y="1981080"/>
            <a:ext cx="7619760" cy="4176360"/>
            <a:chOff x="1295280" y="1981080"/>
            <a:chExt cx="7619760" cy="4176360"/>
          </a:xfrm>
        </p:grpSpPr>
        <p:sp>
          <p:nvSpPr>
            <p:cNvPr id="3362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050560" y="2090880"/>
              <a:ext cx="5991480" cy="3431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050560" y="2673360"/>
              <a:ext cx="5991480" cy="2848680"/>
            </a:xfrm>
            <a:custGeom>
              <a:avLst/>
              <a:gdLst/>
              <a:ahLst/>
              <a:rect l="l" t="t" r="r" b="b"/>
              <a:pathLst>
                <a:path w="3506" h="1555">
                  <a:moveTo>
                    <a:pt x="0" y="1555"/>
                  </a:moveTo>
                  <a:lnTo>
                    <a:pt x="0" y="1555"/>
                  </a:lnTo>
                  <a:lnTo>
                    <a:pt x="220" y="1555"/>
                  </a:lnTo>
                  <a:lnTo>
                    <a:pt x="441" y="1520"/>
                  </a:lnTo>
                  <a:lnTo>
                    <a:pt x="656" y="1460"/>
                  </a:lnTo>
                  <a:lnTo>
                    <a:pt x="877" y="1314"/>
                  </a:lnTo>
                  <a:lnTo>
                    <a:pt x="1097" y="1213"/>
                  </a:lnTo>
                  <a:lnTo>
                    <a:pt x="1317" y="594"/>
                  </a:lnTo>
                  <a:lnTo>
                    <a:pt x="1533" y="0"/>
                  </a:lnTo>
                  <a:lnTo>
                    <a:pt x="1753" y="785"/>
                  </a:lnTo>
                  <a:lnTo>
                    <a:pt x="1973" y="1203"/>
                  </a:lnTo>
                  <a:lnTo>
                    <a:pt x="2189" y="1384"/>
                  </a:lnTo>
                  <a:lnTo>
                    <a:pt x="2409" y="1530"/>
                  </a:lnTo>
                  <a:lnTo>
                    <a:pt x="2630" y="1495"/>
                  </a:lnTo>
                  <a:lnTo>
                    <a:pt x="2845" y="1485"/>
                  </a:lnTo>
                  <a:lnTo>
                    <a:pt x="3065" y="1017"/>
                  </a:lnTo>
                  <a:lnTo>
                    <a:pt x="3286" y="1072"/>
                  </a:lnTo>
                  <a:lnTo>
                    <a:pt x="3506" y="1238"/>
                  </a:lnTo>
                  <a:lnTo>
                    <a:pt x="3506" y="1555"/>
                  </a:lnTo>
                  <a:lnTo>
                    <a:pt x="3286" y="1555"/>
                  </a:lnTo>
                  <a:lnTo>
                    <a:pt x="3065" y="1555"/>
                  </a:lnTo>
                  <a:lnTo>
                    <a:pt x="2845" y="1555"/>
                  </a:lnTo>
                  <a:lnTo>
                    <a:pt x="2630" y="1555"/>
                  </a:lnTo>
                  <a:lnTo>
                    <a:pt x="2409" y="1555"/>
                  </a:lnTo>
                  <a:lnTo>
                    <a:pt x="2189" y="1555"/>
                  </a:lnTo>
                  <a:lnTo>
                    <a:pt x="1973" y="1555"/>
                  </a:lnTo>
                  <a:lnTo>
                    <a:pt x="1753" y="1555"/>
                  </a:lnTo>
                  <a:lnTo>
                    <a:pt x="1533" y="1555"/>
                  </a:lnTo>
                  <a:lnTo>
                    <a:pt x="1317" y="1555"/>
                  </a:lnTo>
                  <a:lnTo>
                    <a:pt x="1097" y="1555"/>
                  </a:lnTo>
                  <a:lnTo>
                    <a:pt x="877" y="1555"/>
                  </a:lnTo>
                  <a:lnTo>
                    <a:pt x="656" y="1555"/>
                  </a:lnTo>
                  <a:lnTo>
                    <a:pt x="441" y="1555"/>
                  </a:lnTo>
                  <a:lnTo>
                    <a:pt x="220" y="1555"/>
                  </a:lnTo>
                  <a:lnTo>
                    <a:pt x="0" y="15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050560" y="3983400"/>
              <a:ext cx="5991480" cy="1538640"/>
            </a:xfrm>
            <a:custGeom>
              <a:avLst/>
              <a:gdLst/>
              <a:ahLst/>
              <a:rect l="l" t="t" r="r" b="b"/>
              <a:pathLst>
                <a:path w="3506" h="840">
                  <a:moveTo>
                    <a:pt x="0" y="840"/>
                  </a:moveTo>
                  <a:lnTo>
                    <a:pt x="0" y="840"/>
                  </a:lnTo>
                  <a:lnTo>
                    <a:pt x="220" y="840"/>
                  </a:lnTo>
                  <a:lnTo>
                    <a:pt x="441" y="815"/>
                  </a:lnTo>
                  <a:lnTo>
                    <a:pt x="656" y="775"/>
                  </a:lnTo>
                  <a:lnTo>
                    <a:pt x="877" y="674"/>
                  </a:lnTo>
                  <a:lnTo>
                    <a:pt x="1097" y="644"/>
                  </a:lnTo>
                  <a:lnTo>
                    <a:pt x="1317" y="226"/>
                  </a:lnTo>
                  <a:lnTo>
                    <a:pt x="1533" y="0"/>
                  </a:lnTo>
                  <a:lnTo>
                    <a:pt x="1753" y="412"/>
                  </a:lnTo>
                  <a:lnTo>
                    <a:pt x="1973" y="634"/>
                  </a:lnTo>
                  <a:lnTo>
                    <a:pt x="2189" y="740"/>
                  </a:lnTo>
                  <a:lnTo>
                    <a:pt x="2409" y="825"/>
                  </a:lnTo>
                  <a:lnTo>
                    <a:pt x="2630" y="800"/>
                  </a:lnTo>
                  <a:lnTo>
                    <a:pt x="2845" y="795"/>
                  </a:lnTo>
                  <a:lnTo>
                    <a:pt x="3065" y="594"/>
                  </a:lnTo>
                  <a:lnTo>
                    <a:pt x="3286" y="584"/>
                  </a:lnTo>
                  <a:lnTo>
                    <a:pt x="3506" y="669"/>
                  </a:lnTo>
                  <a:lnTo>
                    <a:pt x="3506" y="840"/>
                  </a:lnTo>
                  <a:lnTo>
                    <a:pt x="3286" y="840"/>
                  </a:lnTo>
                  <a:lnTo>
                    <a:pt x="3065" y="840"/>
                  </a:lnTo>
                  <a:lnTo>
                    <a:pt x="2845" y="840"/>
                  </a:lnTo>
                  <a:lnTo>
                    <a:pt x="2630" y="840"/>
                  </a:lnTo>
                  <a:lnTo>
                    <a:pt x="2409" y="840"/>
                  </a:lnTo>
                  <a:lnTo>
                    <a:pt x="2189" y="840"/>
                  </a:lnTo>
                  <a:lnTo>
                    <a:pt x="1973" y="840"/>
                  </a:lnTo>
                  <a:lnTo>
                    <a:pt x="1753" y="840"/>
                  </a:lnTo>
                  <a:lnTo>
                    <a:pt x="1533" y="840"/>
                  </a:lnTo>
                  <a:lnTo>
                    <a:pt x="1317" y="840"/>
                  </a:lnTo>
                  <a:lnTo>
                    <a:pt x="1097" y="840"/>
                  </a:lnTo>
                  <a:lnTo>
                    <a:pt x="877" y="840"/>
                  </a:lnTo>
                  <a:lnTo>
                    <a:pt x="656" y="840"/>
                  </a:lnTo>
                  <a:lnTo>
                    <a:pt x="441" y="840"/>
                  </a:lnTo>
                  <a:lnTo>
                    <a:pt x="220" y="840"/>
                  </a:lnTo>
                  <a:lnTo>
                    <a:pt x="0" y="84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041920" y="5504040"/>
              <a:ext cx="3420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041920" y="5504040"/>
              <a:ext cx="2052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37528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09120" y="5494680"/>
              <a:ext cx="172800" cy="45360"/>
            </a:xfrm>
            <a:custGeom>
              <a:avLst/>
              <a:gdLst/>
              <a:ahLst/>
              <a:rect l="l" t="t" r="r" b="b"/>
              <a:pathLst>
                <a:path w="101" h="25">
                  <a:moveTo>
                    <a:pt x="0" y="5"/>
                  </a:moveTo>
                  <a:lnTo>
                    <a:pt x="91" y="0"/>
                  </a:lnTo>
                  <a:lnTo>
                    <a:pt x="101" y="20"/>
                  </a:lnTo>
                  <a:lnTo>
                    <a:pt x="5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692800" y="5485680"/>
              <a:ext cx="119520" cy="4536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0" y="5"/>
                  </a:moveTo>
                  <a:lnTo>
                    <a:pt x="65" y="0"/>
                  </a:lnTo>
                  <a:lnTo>
                    <a:pt x="70" y="20"/>
                  </a:lnTo>
                  <a:lnTo>
                    <a:pt x="10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778480" y="5458320"/>
              <a:ext cx="128160" cy="63720"/>
            </a:xfrm>
            <a:custGeom>
              <a:avLst/>
              <a:gdLst/>
              <a:ahLst/>
              <a:rect l="l" t="t" r="r" b="b"/>
              <a:pathLst>
                <a:path w="75" h="35">
                  <a:moveTo>
                    <a:pt x="0" y="15"/>
                  </a:moveTo>
                  <a:lnTo>
                    <a:pt x="70" y="0"/>
                  </a:lnTo>
                  <a:lnTo>
                    <a:pt x="75" y="20"/>
                  </a:lnTo>
                  <a:lnTo>
                    <a:pt x="10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026160" y="5412600"/>
              <a:ext cx="162360" cy="6372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0" y="15"/>
                  </a:moveTo>
                  <a:lnTo>
                    <a:pt x="85" y="0"/>
                  </a:lnTo>
                  <a:lnTo>
                    <a:pt x="95" y="20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46040" y="5384880"/>
              <a:ext cx="85320" cy="637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0" y="15"/>
                  </a:moveTo>
                  <a:lnTo>
                    <a:pt x="40" y="0"/>
                  </a:lnTo>
                  <a:lnTo>
                    <a:pt x="50" y="15"/>
                  </a:lnTo>
                  <a:lnTo>
                    <a:pt x="5" y="3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33960" y="5218200"/>
              <a:ext cx="215280" cy="13896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0" y="61"/>
                  </a:moveTo>
                  <a:lnTo>
                    <a:pt x="121" y="0"/>
                  </a:lnTo>
                  <a:lnTo>
                    <a:pt x="126" y="20"/>
                  </a:lnTo>
                  <a:lnTo>
                    <a:pt x="5" y="7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634560" y="5117400"/>
              <a:ext cx="222120" cy="910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30"/>
                  </a:moveTo>
                  <a:lnTo>
                    <a:pt x="125" y="0"/>
                  </a:lnTo>
                  <a:lnTo>
                    <a:pt x="130" y="20"/>
                  </a:lnTo>
                  <a:lnTo>
                    <a:pt x="5" y="5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933720" y="4840920"/>
              <a:ext cx="128160" cy="23040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1"/>
                  </a:moveTo>
                  <a:lnTo>
                    <a:pt x="55" y="0"/>
                  </a:lnTo>
                  <a:lnTo>
                    <a:pt x="75" y="10"/>
                  </a:lnTo>
                  <a:lnTo>
                    <a:pt x="20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87800" y="4498200"/>
              <a:ext cx="110520" cy="230760"/>
            </a:xfrm>
            <a:custGeom>
              <a:avLst/>
              <a:gdLst/>
              <a:ahLst/>
              <a:rect l="l" t="t" r="r" b="b"/>
              <a:pathLst>
                <a:path w="65" h="126">
                  <a:moveTo>
                    <a:pt x="0" y="121"/>
                  </a:moveTo>
                  <a:lnTo>
                    <a:pt x="50" y="0"/>
                  </a:lnTo>
                  <a:lnTo>
                    <a:pt x="65" y="6"/>
                  </a:lnTo>
                  <a:lnTo>
                    <a:pt x="15" y="12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24600" y="4221360"/>
              <a:ext cx="93600" cy="16668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8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9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284000" y="4185000"/>
              <a:ext cx="59400" cy="932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0" y="46"/>
                  </a:moveTo>
                  <a:lnTo>
                    <a:pt x="15" y="0"/>
                  </a:lnTo>
                  <a:lnTo>
                    <a:pt x="35" y="10"/>
                  </a:lnTo>
                  <a:lnTo>
                    <a:pt x="20" y="5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343760" y="3825720"/>
              <a:ext cx="93960" cy="249120"/>
            </a:xfrm>
            <a:custGeom>
              <a:avLst/>
              <a:gdLst/>
              <a:ahLst/>
              <a:rect l="l" t="t" r="r" b="b"/>
              <a:pathLst>
                <a:path w="55" h="136">
                  <a:moveTo>
                    <a:pt x="0" y="131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15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38080" y="3457800"/>
              <a:ext cx="93600" cy="2469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130"/>
                  </a:moveTo>
                  <a:lnTo>
                    <a:pt x="35" y="0"/>
                  </a:lnTo>
                  <a:lnTo>
                    <a:pt x="55" y="5"/>
                  </a:lnTo>
                  <a:lnTo>
                    <a:pt x="20" y="13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531680" y="3087720"/>
              <a:ext cx="95400" cy="248760"/>
            </a:xfrm>
            <a:custGeom>
              <a:avLst/>
              <a:gdLst/>
              <a:ahLst/>
              <a:rect l="l" t="t" r="r" b="b"/>
              <a:pathLst>
                <a:path w="56" h="136">
                  <a:moveTo>
                    <a:pt x="0" y="131"/>
                  </a:moveTo>
                  <a:lnTo>
                    <a:pt x="41" y="0"/>
                  </a:lnTo>
                  <a:lnTo>
                    <a:pt x="56" y="5"/>
                  </a:lnTo>
                  <a:lnTo>
                    <a:pt x="21" y="13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644720" y="2856600"/>
              <a:ext cx="51480" cy="11160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56"/>
                  </a:moveTo>
                  <a:lnTo>
                    <a:pt x="10" y="0"/>
                  </a:lnTo>
                  <a:lnTo>
                    <a:pt x="30" y="5"/>
                  </a:lnTo>
                  <a:lnTo>
                    <a:pt x="15" y="6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661640" y="2856600"/>
              <a:ext cx="68400" cy="1479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0" y="0"/>
                  </a:moveTo>
                  <a:lnTo>
                    <a:pt x="20" y="76"/>
                  </a:lnTo>
                  <a:lnTo>
                    <a:pt x="40" y="81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730040" y="3124080"/>
              <a:ext cx="84960" cy="24912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0"/>
                  </a:moveTo>
                  <a:lnTo>
                    <a:pt x="30" y="131"/>
                  </a:lnTo>
                  <a:lnTo>
                    <a:pt x="50" y="136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815360" y="3485160"/>
              <a:ext cx="93960" cy="257760"/>
            </a:xfrm>
            <a:custGeom>
              <a:avLst/>
              <a:gdLst/>
              <a:ahLst/>
              <a:rect l="l" t="t" r="r" b="b"/>
              <a:pathLst>
                <a:path w="55" h="141">
                  <a:moveTo>
                    <a:pt x="0" y="0"/>
                  </a:moveTo>
                  <a:lnTo>
                    <a:pt x="35" y="136"/>
                  </a:lnTo>
                  <a:lnTo>
                    <a:pt x="55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909680" y="3853440"/>
              <a:ext cx="84960" cy="258120"/>
            </a:xfrm>
            <a:custGeom>
              <a:avLst/>
              <a:gdLst/>
              <a:ahLst/>
              <a:rect l="l" t="t" r="r" b="b"/>
              <a:pathLst>
                <a:path w="50" h="141">
                  <a:moveTo>
                    <a:pt x="0" y="0"/>
                  </a:moveTo>
                  <a:lnTo>
                    <a:pt x="30" y="131"/>
                  </a:lnTo>
                  <a:lnTo>
                    <a:pt x="50" y="141"/>
                  </a:lnTo>
                  <a:lnTo>
                    <a:pt x="1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995000" y="4221360"/>
              <a:ext cx="68400" cy="20340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0" y="0"/>
                  </a:moveTo>
                  <a:lnTo>
                    <a:pt x="25" y="106"/>
                  </a:lnTo>
                  <a:lnTo>
                    <a:pt x="40" y="111"/>
                  </a:lnTo>
                  <a:lnTo>
                    <a:pt x="1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020920" y="4370040"/>
              <a:ext cx="68040" cy="453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15" y="20"/>
                  </a:lnTo>
                  <a:lnTo>
                    <a:pt x="40" y="25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23160" y="4536720"/>
              <a:ext cx="153720" cy="2012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0" y="0"/>
                  </a:moveTo>
                  <a:lnTo>
                    <a:pt x="65" y="105"/>
                  </a:lnTo>
                  <a:lnTo>
                    <a:pt x="90" y="110"/>
                  </a:lnTo>
                  <a:lnTo>
                    <a:pt x="2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311080" y="4840920"/>
              <a:ext cx="128160" cy="1648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0"/>
                  </a:moveTo>
                  <a:lnTo>
                    <a:pt x="50" y="80"/>
                  </a:lnTo>
                  <a:lnTo>
                    <a:pt x="75" y="90"/>
                  </a:lnTo>
                  <a:lnTo>
                    <a:pt x="25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388120" y="4959720"/>
              <a:ext cx="59400" cy="7344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25"/>
                  </a:moveTo>
                  <a:lnTo>
                    <a:pt x="30" y="40"/>
                  </a:lnTo>
                  <a:lnTo>
                    <a:pt x="35" y="15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60560" y="5071320"/>
              <a:ext cx="204840" cy="17388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0" y="25"/>
                  </a:moveTo>
                  <a:lnTo>
                    <a:pt x="110" y="95"/>
                  </a:lnTo>
                  <a:lnTo>
                    <a:pt x="120" y="70"/>
                  </a:lnTo>
                  <a:lnTo>
                    <a:pt x="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816880" y="5264280"/>
              <a:ext cx="213840" cy="16632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0" y="26"/>
                  </a:moveTo>
                  <a:lnTo>
                    <a:pt x="120" y="91"/>
                  </a:lnTo>
                  <a:lnTo>
                    <a:pt x="125" y="66"/>
                  </a:lnTo>
                  <a:lnTo>
                    <a:pt x="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132960" y="5458320"/>
              <a:ext cx="59760" cy="63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20"/>
                  </a:moveTo>
                  <a:lnTo>
                    <a:pt x="25" y="35"/>
                  </a:lnTo>
                  <a:lnTo>
                    <a:pt x="35" y="15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150240" y="5448960"/>
              <a:ext cx="179280" cy="73080"/>
            </a:xfrm>
            <a:custGeom>
              <a:avLst/>
              <a:gdLst/>
              <a:ahLst/>
              <a:rect l="l" t="t" r="r" b="b"/>
              <a:pathLst>
                <a:path w="105" h="40">
                  <a:moveTo>
                    <a:pt x="0" y="20"/>
                  </a:moveTo>
                  <a:lnTo>
                    <a:pt x="100" y="0"/>
                  </a:lnTo>
                  <a:lnTo>
                    <a:pt x="105" y="20"/>
                  </a:lnTo>
                  <a:lnTo>
                    <a:pt x="5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449400" y="5403240"/>
              <a:ext cx="104040" cy="547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15"/>
                  </a:moveTo>
                  <a:lnTo>
                    <a:pt x="56" y="0"/>
                  </a:lnTo>
                  <a:lnTo>
                    <a:pt x="61" y="20"/>
                  </a:lnTo>
                  <a:lnTo>
                    <a:pt x="5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536520" y="54032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784200" y="53942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895440" y="5338800"/>
              <a:ext cx="8496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40"/>
                  </a:moveTo>
                  <a:lnTo>
                    <a:pt x="25" y="0"/>
                  </a:lnTo>
                  <a:lnTo>
                    <a:pt x="50" y="5"/>
                  </a:lnTo>
                  <a:lnTo>
                    <a:pt x="25" y="5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014960" y="5014800"/>
              <a:ext cx="153720" cy="22140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111"/>
                  </a:moveTo>
                  <a:lnTo>
                    <a:pt x="65" y="0"/>
                  </a:lnTo>
                  <a:lnTo>
                    <a:pt x="90" y="5"/>
                  </a:lnTo>
                  <a:lnTo>
                    <a:pt x="25" y="12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194600" y="4765680"/>
              <a:ext cx="119160" cy="12996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0" y="66"/>
                  </a:moveTo>
                  <a:lnTo>
                    <a:pt x="45" y="0"/>
                  </a:lnTo>
                  <a:lnTo>
                    <a:pt x="70" y="6"/>
                  </a:lnTo>
                  <a:lnTo>
                    <a:pt x="25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1280" y="4785840"/>
              <a:ext cx="93960" cy="547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20"/>
                  </a:moveTo>
                  <a:lnTo>
                    <a:pt x="50" y="30"/>
                  </a:lnTo>
                  <a:lnTo>
                    <a:pt x="55" y="15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67840" y="4840920"/>
              <a:ext cx="206640" cy="9108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20"/>
                  </a:moveTo>
                  <a:lnTo>
                    <a:pt x="116" y="50"/>
                  </a:lnTo>
                  <a:lnTo>
                    <a:pt x="121" y="30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632000" y="4895640"/>
              <a:ext cx="42480" cy="45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0"/>
                  </a:moveTo>
                  <a:lnTo>
                    <a:pt x="20" y="25"/>
                  </a:lnTo>
                  <a:lnTo>
                    <a:pt x="25" y="10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785360" y="4978440"/>
              <a:ext cx="213840" cy="138960"/>
            </a:xfrm>
            <a:custGeom>
              <a:avLst/>
              <a:gdLst/>
              <a:ahLst/>
              <a:rect l="l" t="t" r="r" b="b"/>
              <a:pathLst>
                <a:path w="125" h="76">
                  <a:moveTo>
                    <a:pt x="0" y="20"/>
                  </a:moveTo>
                  <a:lnTo>
                    <a:pt x="115" y="76"/>
                  </a:lnTo>
                  <a:lnTo>
                    <a:pt x="125" y="56"/>
                  </a:lnTo>
                  <a:lnTo>
                    <a:pt x="5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25120" y="5172480"/>
              <a:ext cx="33840" cy="24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030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657560" y="5504040"/>
              <a:ext cx="16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467840" y="5504040"/>
              <a:ext cx="206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279920" y="5504040"/>
              <a:ext cx="59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43120" y="5504040"/>
              <a:ext cx="153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903720" y="5504040"/>
              <a:ext cx="1108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810120" y="5504040"/>
              <a:ext cx="119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536520" y="5504040"/>
              <a:ext cx="145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474960" y="5504040"/>
              <a:ext cx="78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158520" y="5504040"/>
              <a:ext cx="187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150240" y="5504040"/>
              <a:ext cx="25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791320" y="5504040"/>
              <a:ext cx="230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64800" y="5504040"/>
              <a:ext cx="2239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13180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798440" y="5504040"/>
              <a:ext cx="222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661640" y="5504040"/>
              <a:ext cx="8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472280" y="5504040"/>
              <a:ext cx="215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284000" y="5504040"/>
              <a:ext cx="594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138920" y="5504040"/>
              <a:ext cx="17064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916800" y="5504040"/>
              <a:ext cx="9360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805560" y="5504040"/>
              <a:ext cx="128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540960" y="5504040"/>
              <a:ext cx="136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470760" y="5504040"/>
              <a:ext cx="871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1629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14604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7957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590560" y="5504040"/>
              <a:ext cx="2217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18120" y="5504040"/>
              <a:ext cx="424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255760" y="5504040"/>
              <a:ext cx="1792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041920" y="5504040"/>
              <a:ext cx="85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050560" y="2090880"/>
              <a:ext cx="1800" cy="343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99080" y="552204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999080" y="4941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999080" y="4370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99080" y="38077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99080" y="32360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99080" y="266436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99080" y="209088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050560" y="5522040"/>
              <a:ext cx="5991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20505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24267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280404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31716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35492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39254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43012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46706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504648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542232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579132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61671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654516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691236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7288200" y="55220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766620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8042040" y="55220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681200" y="5412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681200" y="4840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681200" y="4269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681200" y="37051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681200" y="31334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578960" y="2561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578960" y="1981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00664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383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761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1276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038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88152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25808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62636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002200" y="568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3179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6955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7248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44832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1696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192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7080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937640" y="5680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865400" y="597456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rot="16200000">
              <a:off x="1008360" y="4037400"/>
              <a:ext cx="75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ir quality [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1" name="" descr=""/>
            <p:cNvPicPr/>
            <p:nvPr/>
          </p:nvPicPr>
          <p:blipFill>
            <a:blip r:embed="rId1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2" name="" descr=""/>
            <p:cNvPicPr/>
            <p:nvPr/>
          </p:nvPicPr>
          <p:blipFill>
            <a:blip r:embed="rId2"/>
            <a:stretch/>
          </p:blipFill>
          <p:spPr>
            <a:xfrm>
              <a:off x="1297080" y="3530880"/>
              <a:ext cx="19620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3" name=""/>
            <p:cNvSpPr/>
            <p:nvPr/>
          </p:nvSpPr>
          <p:spPr>
            <a:xfrm rot="16200000">
              <a:off x="1194840" y="324108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g/m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281080" y="3400920"/>
              <a:ext cx="633960" cy="82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49840" y="3503520"/>
              <a:ext cx="102240" cy="109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493120" y="3437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49840" y="4012920"/>
              <a:ext cx="81720" cy="874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93120" y="3715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41200" y="374904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435160" y="3749040"/>
              <a:ext cx="3384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41200" y="3849480"/>
              <a:ext cx="11052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41200" y="3749040"/>
              <a:ext cx="25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493840" y="3992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49840" y="3749040"/>
              <a:ext cx="81720" cy="87480"/>
            </a:xfrm>
            <a:prstGeom prst="rect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5" name=""/>
          <p:cNvSpPr/>
          <p:nvPr/>
        </p:nvSpPr>
        <p:spPr>
          <a:xfrm>
            <a:off x="1066680" y="17460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alidad del aire logrados al aplicar instrumentos que reducen las concentraciones en 36% en la peor ce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6" name=""/>
          <p:cNvGraphicFramePr/>
          <p:nvPr/>
        </p:nvGraphicFramePr>
        <p:xfrm>
          <a:off x="2362320" y="1219320"/>
          <a:ext cx="464184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6418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8" name=""/>
          <p:cNvSpPr/>
          <p:nvPr/>
        </p:nvSpPr>
        <p:spPr>
          <a:xfrm>
            <a:off x="1295280" y="36180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unitarios de efecto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9" name=""/>
          <p:cNvGrpSpPr/>
          <p:nvPr/>
        </p:nvGrpSpPr>
        <p:grpSpPr>
          <a:xfrm>
            <a:off x="1219320" y="1523880"/>
            <a:ext cx="7850880" cy="4346280"/>
            <a:chOff x="1219320" y="1523880"/>
            <a:chExt cx="7850880" cy="4346280"/>
          </a:xfrm>
        </p:grpSpPr>
        <p:sp>
          <p:nvSpPr>
            <p:cNvPr id="3510" name=""/>
            <p:cNvSpPr/>
            <p:nvPr/>
          </p:nvSpPr>
          <p:spPr>
            <a:xfrm>
              <a:off x="1753560" y="1603080"/>
              <a:ext cx="6470640" cy="377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753560" y="4959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53560" y="454212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53560" y="41198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753560" y="37018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753560" y="32806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753560" y="286272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753560" y="244224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753560" y="2024280"/>
              <a:ext cx="64706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753560" y="160308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264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0470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69612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405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98960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63724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308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93072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576560" y="1603080"/>
              <a:ext cx="108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22420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753560" y="1603080"/>
              <a:ext cx="1440" cy="377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722240" y="538056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722240" y="4959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722240" y="454212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722240" y="41198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22240" y="37018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722240" y="32806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722240" y="286272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722240" y="244224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722240" y="2024280"/>
              <a:ext cx="30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722240" y="1603080"/>
              <a:ext cx="3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753560" y="5380560"/>
              <a:ext cx="647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175356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240264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30470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369612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43405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498960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563724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628308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693072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7576560" y="5380560"/>
              <a:ext cx="108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8224200" y="5380560"/>
              <a:ext cx="1440" cy="3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2562840" y="3444120"/>
              <a:ext cx="15804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2720880" y="3430800"/>
              <a:ext cx="325800" cy="136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3047040" y="341748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3368520" y="3385440"/>
              <a:ext cx="327600" cy="324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3696120" y="334332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4017600" y="3330360"/>
              <a:ext cx="321120" cy="126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4339080" y="3274200"/>
              <a:ext cx="325800" cy="558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4665240" y="3232800"/>
              <a:ext cx="321120" cy="41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4986720" y="3176280"/>
              <a:ext cx="325800" cy="561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312520" y="3176280"/>
              <a:ext cx="321120" cy="900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5634000" y="3169800"/>
              <a:ext cx="321120" cy="154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5955480" y="3071520"/>
              <a:ext cx="327600" cy="98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283080" y="3071880"/>
              <a:ext cx="321120" cy="5904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604560" y="3131280"/>
              <a:ext cx="325800" cy="1227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930720" y="3254400"/>
              <a:ext cx="321120" cy="12456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252200" y="3378960"/>
              <a:ext cx="111240" cy="2242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V="1">
              <a:off x="2562840" y="2957760"/>
              <a:ext cx="165960" cy="505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728800" y="2728800"/>
              <a:ext cx="317880" cy="2289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3047040" y="2561760"/>
              <a:ext cx="321120" cy="1666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3368520" y="2549520"/>
              <a:ext cx="32760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3696120" y="2537280"/>
              <a:ext cx="321120" cy="122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4017600" y="2435400"/>
              <a:ext cx="321120" cy="1011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4339080" y="2308320"/>
              <a:ext cx="325800" cy="127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4665240" y="2170800"/>
              <a:ext cx="329040" cy="1375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4994280" y="2114280"/>
              <a:ext cx="313560" cy="558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5307840" y="2105280"/>
              <a:ext cx="325800" cy="936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634000" y="2105280"/>
              <a:ext cx="327600" cy="36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961960" y="2141280"/>
              <a:ext cx="321120" cy="90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283080" y="2150640"/>
              <a:ext cx="321120" cy="31032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604560" y="2460960"/>
              <a:ext cx="325800" cy="12420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30720" y="2585520"/>
              <a:ext cx="440280" cy="946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2562840" y="3382200"/>
              <a:ext cx="257040" cy="806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2819880" y="3130920"/>
              <a:ext cx="236520" cy="250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3056760" y="2999880"/>
              <a:ext cx="141120" cy="13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3197880" y="2872440"/>
              <a:ext cx="133200" cy="127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3331080" y="2784960"/>
              <a:ext cx="350640" cy="871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3682080" y="2427840"/>
              <a:ext cx="326160" cy="356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4008600" y="2370240"/>
              <a:ext cx="120240" cy="57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4128840" y="2328480"/>
              <a:ext cx="677160" cy="417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4806360" y="2307960"/>
              <a:ext cx="38880" cy="198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4845240" y="2233080"/>
              <a:ext cx="454680" cy="748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300280" y="2233080"/>
              <a:ext cx="377640" cy="543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677920" y="2287800"/>
              <a:ext cx="84600" cy="13392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762880" y="2421720"/>
              <a:ext cx="735120" cy="2916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498000" y="2713320"/>
              <a:ext cx="827640" cy="35496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325640" y="3068640"/>
              <a:ext cx="37440" cy="34920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528280" y="341460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85240" y="340236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012480" y="33883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333960" y="33757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60480" y="3343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981600" y="330120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303080" y="32871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629240" y="32328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950720" y="31888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8"/>
                  </a:lnTo>
                  <a:lnTo>
                    <a:pt x="23" y="55"/>
                  </a:lnTo>
                  <a:lnTo>
                    <a:pt x="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277960" y="313452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599440" y="314352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27"/>
                  </a:lnTo>
                  <a:lnTo>
                    <a:pt x="22" y="55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920920" y="312804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2" y="0"/>
                  </a:moveTo>
                  <a:lnTo>
                    <a:pt x="45" y="27"/>
                  </a:lnTo>
                  <a:lnTo>
                    <a:pt x="22" y="54"/>
                  </a:lnTo>
                  <a:lnTo>
                    <a:pt x="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247440" y="30297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568920" y="308916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94720" y="32122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216200" y="333684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27"/>
                  </a:lnTo>
                  <a:lnTo>
                    <a:pt x="23" y="54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327440" y="35614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27"/>
                  </a:lnTo>
                  <a:lnTo>
                    <a:pt x="23" y="55"/>
                  </a:lnTo>
                  <a:lnTo>
                    <a:pt x="0" y="2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28280" y="342108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94240" y="291600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12480" y="268668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333960" y="252000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660480" y="250740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981600" y="249336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303080" y="239220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629240" y="2265840"/>
              <a:ext cx="720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959720" y="2128680"/>
              <a:ext cx="7056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272200" y="207288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599440" y="2063160"/>
              <a:ext cx="7056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25960" y="2099160"/>
              <a:ext cx="70200" cy="838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47440" y="2108520"/>
              <a:ext cx="7020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68920" y="2418840"/>
              <a:ext cx="70200" cy="853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894720" y="2543400"/>
              <a:ext cx="70200" cy="842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336800" y="3489840"/>
              <a:ext cx="70560" cy="85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528280" y="342108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783880" y="33400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20400" y="3089160"/>
              <a:ext cx="7056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161520" y="2958120"/>
              <a:ext cx="72000" cy="842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4720" y="2830320"/>
              <a:ext cx="72000" cy="853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46080" y="274320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73680" y="2386080"/>
              <a:ext cx="7056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93200" y="232848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771800" y="228456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2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809600" y="226584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264280" y="2191320"/>
              <a:ext cx="70200" cy="838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41920" y="2245680"/>
              <a:ext cx="72000" cy="85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23" y="0"/>
                  </a:moveTo>
                  <a:lnTo>
                    <a:pt x="46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726880" y="2379600"/>
              <a:ext cx="70200" cy="856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62000" y="2669760"/>
              <a:ext cx="70200" cy="853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23" y="0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289640" y="3026520"/>
              <a:ext cx="70200" cy="842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23" y="0"/>
                  </a:moveTo>
                  <a:lnTo>
                    <a:pt x="45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327440" y="3375720"/>
              <a:ext cx="72000" cy="838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3" y="0"/>
                  </a:moveTo>
                  <a:lnTo>
                    <a:pt x="46" y="54"/>
                  </a:lnTo>
                  <a:lnTo>
                    <a:pt x="0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441920" y="3546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721320" y="3427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707280" y="2396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451280" y="3474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727800" y="2788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423200" y="3248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462320" y="53028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401480" y="4880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401480" y="44625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401480" y="4041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401480" y="3623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401480" y="32029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401480" y="2783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401480" y="23641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7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401480" y="1946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401480" y="1523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0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645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2928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9379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5852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23144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87872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281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172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8202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46676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4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8114400" y="549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70280" y="5717520"/>
              <a:ext cx="28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ntage Reduction Relative to the Worst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rot="16200000">
              <a:off x="533160" y="3418200"/>
              <a:ext cx="152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t Benefits MMUS$/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8457840" y="3182400"/>
              <a:ext cx="604800" cy="62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8497080" y="3283920"/>
              <a:ext cx="26784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8597520" y="324504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25"/>
                  </a:lnTo>
                  <a:lnTo>
                    <a:pt x="21" y="50"/>
                  </a:lnTo>
                  <a:lnTo>
                    <a:pt x="0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790480" y="32122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497080" y="3489840"/>
              <a:ext cx="267840" cy="144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8597520" y="3450960"/>
              <a:ext cx="64080" cy="7776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8790480" y="341784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8497080" y="3695400"/>
              <a:ext cx="26784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8597520" y="3656520"/>
              <a:ext cx="64080" cy="777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21" y="0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790480" y="36237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7" name=""/>
          <p:cNvSpPr/>
          <p:nvPr/>
        </p:nvSpPr>
        <p:spPr>
          <a:xfrm>
            <a:off x="1295280" y="141120"/>
            <a:ext cx="754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Beneficios Netos de Reducir Material Particulado en Santiago Considerando Diferentes Instrumentos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"/>
          <p:cNvSpPr/>
          <p:nvPr/>
        </p:nvSpPr>
        <p:spPr>
          <a:xfrm>
            <a:off x="1203480" y="992160"/>
            <a:ext cx="763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127160" y="1371600"/>
            <a:ext cx="7254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valoración entrega información respecto de la posibilidad de exigir mayores reducciones </a:t>
            </a:r>
            <a:r>
              <a:rPr b="0" i="1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umando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 los beneficios de diversos impactos en salud (a diferencia del caso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 confirma que utilizar EPS es una buena op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ara seguir avanzando en esta línea es crítico consensu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es de dosis-respues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alor monetario de cada efecto (el “valor de la vida” por ejempl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0" dur="1" fill="hold"/>
                                  <p:tgtEl>
                                    <p:spTgt spid="36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"/>
          <p:cNvSpPr/>
          <p:nvPr/>
        </p:nvSpPr>
        <p:spPr>
          <a:xfrm>
            <a:off x="1143000" y="2209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Arial Black"/>
              </a:rPr>
              <a:t>INSTRUMENTOS DE REGULACIÓN AMBIENTAL: EL NUEVO MODELO Y CASOS PARA CH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0" dur="1" fill="hold"/>
                                  <p:tgtEl>
                                    <p:spTgt spid="36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NUEVO MODELO DE REGUL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1065600" y="1066680"/>
            <a:ext cx="8130600" cy="5562360"/>
            <a:chOff x="1065600" y="1066680"/>
            <a:chExt cx="8130600" cy="5562360"/>
          </a:xfrm>
        </p:grpSpPr>
        <p:sp>
          <p:nvSpPr>
            <p:cNvPr id="3694" name=""/>
            <p:cNvSpPr/>
            <p:nvPr/>
          </p:nvSpPr>
          <p:spPr>
            <a:xfrm>
              <a:off x="1072800" y="1066680"/>
              <a:ext cx="7974360" cy="5562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839600" y="5726520"/>
              <a:ext cx="15188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785040" y="5726520"/>
              <a:ext cx="2309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228320" y="2070720"/>
              <a:ext cx="3564000" cy="4314600"/>
            </a:xfrm>
            <a:custGeom>
              <a:avLst/>
              <a:gdLst/>
              <a:ahLst/>
              <a:rect l="l" t="t" r="r" b="b"/>
              <a:pathLst>
                <a:path w="2292" h="2600">
                  <a:moveTo>
                    <a:pt x="0" y="0"/>
                  </a:moveTo>
                  <a:lnTo>
                    <a:pt x="2283" y="898"/>
                  </a:lnTo>
                  <a:lnTo>
                    <a:pt x="2291" y="2599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791240" y="2070720"/>
              <a:ext cx="3591720" cy="4327920"/>
            </a:xfrm>
            <a:custGeom>
              <a:avLst/>
              <a:gdLst/>
              <a:ahLst/>
              <a:rect l="l" t="t" r="r" b="b"/>
              <a:pathLst>
                <a:path w="2310" h="2608">
                  <a:moveTo>
                    <a:pt x="2309" y="0"/>
                  </a:moveTo>
                  <a:lnTo>
                    <a:pt x="0" y="2607"/>
                  </a:lnTo>
                  <a:lnTo>
                    <a:pt x="0" y="897"/>
                  </a:lnTo>
                  <a:lnTo>
                    <a:pt x="2309" y="0"/>
                  </a:lnTo>
                </a:path>
              </a:pathLst>
            </a:custGeom>
            <a:solidFill>
              <a:srgbClr val="fb697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239120" y="2070720"/>
              <a:ext cx="7126920" cy="1501560"/>
            </a:xfrm>
            <a:custGeom>
              <a:avLst/>
              <a:gdLst/>
              <a:ahLst/>
              <a:rect l="l" t="t" r="r" b="b"/>
              <a:pathLst>
                <a:path w="4583" h="905">
                  <a:moveTo>
                    <a:pt x="0" y="0"/>
                  </a:moveTo>
                  <a:lnTo>
                    <a:pt x="2277" y="904"/>
                  </a:lnTo>
                  <a:lnTo>
                    <a:pt x="4582" y="5"/>
                  </a:lnTo>
                  <a:lnTo>
                    <a:pt x="0" y="0"/>
                  </a:lnTo>
                </a:path>
              </a:pathLst>
            </a:custGeom>
            <a:solidFill>
              <a:srgbClr val="60ff0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1" name=""/>
            <p:cNvGraphicFramePr/>
            <p:nvPr/>
          </p:nvGraphicFramePr>
          <p:xfrm>
            <a:off x="3753720" y="2970000"/>
            <a:ext cx="2142720" cy="79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3720" y="2970000"/>
                      <a:ext cx="2142720" cy="7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3" name=""/>
            <p:cNvSpPr/>
            <p:nvPr/>
          </p:nvSpPr>
          <p:spPr>
            <a:xfrm rot="2880000">
              <a:off x="2277360" y="3856320"/>
              <a:ext cx="23292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000" spc="-1" strike="noStrike">
                  <a:solidFill>
                    <a:srgbClr val="000000"/>
                  </a:solidFill>
                  <a:latin typeface="Times New Roman"/>
                </a:rPr>
                <a:t>Mercad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8720000">
              <a:off x="4728600" y="3853800"/>
              <a:ext cx="27514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000" spc="-1" strike="noStrike">
                  <a:solidFill>
                    <a:srgbClr val="000000"/>
                  </a:solidFill>
                  <a:latin typeface="Times New Roman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01840" y="2174760"/>
              <a:ext cx="1681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0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50440" y="28918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Plan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34120" y="1089360"/>
              <a:ext cx="44038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nstru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omando y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Económ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Información Públic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065600" y="3911040"/>
              <a:ext cx="196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Consumi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631600" y="5902560"/>
              <a:ext cx="189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Inversion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292040" y="4546440"/>
              <a:ext cx="157464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Repu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réd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Gana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468400" y="5902560"/>
              <a:ext cx="907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O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185960" y="3672000"/>
              <a:ext cx="1641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Ciudad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63480" y="4466880"/>
              <a:ext cx="223272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C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P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Normas Social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2193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Arial Black"/>
              </a:rPr>
              <a:t>Temas transversales a las áreas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Criterios de selección de instrumentos para la regulac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Diseño de 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Impacto dis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Evaluaciones parciales v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Problema de la optimalidad intertemporal (eficiencia dinámica vs eficiencia está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 Black"/>
              </a:rPr>
              <a:t>Técnicas de va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5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1143000" y="23623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strategia para el Control de Sustancias Agotadoras de la Capa de Ozono: no exactamente lo que ordenó el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7" dur="1" fill="hold"/>
                                  <p:tgtEl>
                                    <p:spTgt spid="3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"/>
          <p:cNvSpPr/>
          <p:nvPr/>
        </p:nvSpPr>
        <p:spPr>
          <a:xfrm>
            <a:off x="1143000" y="1143000"/>
            <a:ext cx="77724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 Marzo de 1990 Chile ratificó el Protocolo de Montreal sobre sustancias que Agotan la Capa de Ozono (SA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hile es básicamente un país importador de S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1 38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FC-12 32% 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Bromuro de metilo </a:t>
            </a: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22%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del consumo P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importación de CFC está concentrada en pocas empresas import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usuarios finales de CFC se concentran en empresas grandes y medianas (55%) y el resto está atomizado en empresas pequeñ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3" dur="1" fill="hold"/>
                                  <p:tgtEl>
                                    <p:spTgt spid="371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"/>
          <p:cNvSpPr/>
          <p:nvPr/>
        </p:nvSpPr>
        <p:spPr>
          <a:xfrm>
            <a:off x="1143000" y="114300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e pretende responder las siguientes pregunta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qué atributos son relevantes para la autoridad ambiental al momento de seleccionar instrumentos que permitan cumplir las obligaciones contraídas en el Protocol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Cuales son los costos de cumplir con las reducciones comprometida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¿Hace una diferencia significativa el aplicar instrumentos flexib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ntecedentes Sustancias Agotadoras de la Capa de Ozono en C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1" dur="1" fill="hold"/>
                                  <p:tgtEl>
                                    <p:spTgt spid="37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"/>
          <p:cNvSpPr/>
          <p:nvPr/>
        </p:nvSpPr>
        <p:spPr>
          <a:xfrm>
            <a:off x="1584360" y="1339920"/>
            <a:ext cx="733104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economistas prefieren usar instrumentos flexibles porque ellos son costo-efec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Los reguladores valoran atributos com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Efe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Simplicidad administrativa, legal e institu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</a:rPr>
              <a:t>Posibilidades de monitoreo y fiscal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Veremos que en este caso la costo efectividad no es lo más relevante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s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1" dur="1" fill="hold"/>
                                  <p:tgtEl>
                                    <p:spTgt spid="372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"/>
          <p:cNvSpPr/>
          <p:nvPr/>
        </p:nvSpPr>
        <p:spPr>
          <a:xfrm>
            <a:off x="17668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8001000" cy="4011480"/>
          </a:xfrm>
          <a:prstGeom prst="rect">
            <a:avLst/>
          </a:prstGeom>
          <a:ln w="0">
            <a:noFill/>
          </a:ln>
        </p:spPr>
      </p:pic>
      <p:sp>
        <p:nvSpPr>
          <p:cNvPr id="3724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mparación de Escenarios con Oblig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5" name=""/>
          <p:cNvGraphicFramePr/>
          <p:nvPr/>
        </p:nvGraphicFramePr>
        <p:xfrm>
          <a:off x="1143000" y="1295280"/>
          <a:ext cx="8001000" cy="43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8001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7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8" name=""/>
          <p:cNvGraphicFramePr/>
          <p:nvPr/>
        </p:nvGraphicFramePr>
        <p:xfrm>
          <a:off x="1371600" y="1219320"/>
          <a:ext cx="7620120" cy="50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76201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0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ón Cualitativa de Instrumentos Regulat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/>
          <p:nvPr/>
        </p:nvSpPr>
        <p:spPr>
          <a:xfrm>
            <a:off x="1295280" y="228600"/>
            <a:ext cx="75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stos de las opciones regulatorias para cada e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2" name=""/>
          <p:cNvGraphicFramePr/>
          <p:nvPr/>
        </p:nvGraphicFramePr>
        <p:xfrm>
          <a:off x="1371600" y="2125800"/>
          <a:ext cx="7467480" cy="16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25800"/>
                    <a:ext cx="74674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"/>
          <p:cNvSpPr/>
          <p:nvPr/>
        </p:nvSpPr>
        <p:spPr>
          <a:xfrm>
            <a:off x="1295280" y="1219320"/>
            <a:ext cx="76359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horros de costos de aplicar un SPIT no son muy significat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Discusiones con las autoridades de CONAMA señalan que este gasto adicional es un “mal menor” si con ello se evita llevar la discusión de la estrategia al Congr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no estima importantes los usos potenciales que se pueden dejar de realizar por adelantar prohibi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Al sopesar tanto los antecedentes cuantitativos y cualitativos, </a:t>
            </a:r>
            <a:r>
              <a:rPr b="0" i="1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a autoridad se inclina por aplicar prohibiciones por sustancia, adelantando la de CFC12 al 2007</a:t>
            </a: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  No exactamente lo que ordenó “el do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114300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7" dur="1" fill="hold"/>
                                  <p:tgtEl>
                                    <p:spTgt spid="37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"/>
          <p:cNvSpPr/>
          <p:nvPr/>
        </p:nvSpPr>
        <p:spPr>
          <a:xfrm>
            <a:off x="1295280" y="196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QUILIBRIO PARCIAL VS EQUILIBRI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7" dur="1" fill="hold"/>
                                  <p:tgtEl>
                                    <p:spTgt spid="37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385920"/>
            <a:ext cx="75438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CONTENIDOS PRES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143000"/>
            <a:ext cx="769608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foques para la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1: Costo Efectividad de Instrumentos para Reducir las Emisiones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2: Análisis Riesgo Costo de una Regulación Ambiental para el Arsé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3: Beneficios Netos de Reducir la Contaminación en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Instrumentos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Nuevo Modelo de Regul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4: Estrategia para el Control de Sustancias Agotadoras de la Capa de Ozono: no exactamente lo que ordenó el do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quilibrio parcial vs Equilibri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Modelo ECOGEM-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aso 5: Impuestos Ambi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Conclusiones y comentarios f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53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"/>
          <p:cNvSpPr/>
          <p:nvPr/>
        </p:nvSpPr>
        <p:spPr>
          <a:xfrm>
            <a:off x="1219320" y="1380960"/>
            <a:ext cx="7467480" cy="4956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055960" y="4267080"/>
            <a:ext cx="901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120760" y="3827520"/>
            <a:ext cx="965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1541520" y="2949480"/>
            <a:ext cx="1930320" cy="138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1541520" y="2949480"/>
            <a:ext cx="1930320" cy="138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876320" y="3075120"/>
            <a:ext cx="165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or Quin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1541520" y="3325680"/>
            <a:ext cx="1030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y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1541520" y="3678120"/>
            <a:ext cx="155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lificado y no Califi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948360" y="4392720"/>
            <a:ext cx="1287720" cy="94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nter-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 flipV="1">
            <a:off x="7205760" y="407808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978680" y="401652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9" name=""/>
          <p:cNvGrpSpPr/>
          <p:nvPr/>
        </p:nvGrpSpPr>
        <p:grpSpPr>
          <a:xfrm>
            <a:off x="2763720" y="4330800"/>
            <a:ext cx="3862440" cy="250560"/>
            <a:chOff x="2763720" y="4330800"/>
            <a:chExt cx="3862440" cy="250560"/>
          </a:xfrm>
        </p:grpSpPr>
        <p:sp>
          <p:nvSpPr>
            <p:cNvPr id="3750" name=""/>
            <p:cNvSpPr/>
            <p:nvPr/>
          </p:nvSpPr>
          <p:spPr>
            <a:xfrm>
              <a:off x="2763720" y="4581360"/>
              <a:ext cx="38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6372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V="1">
              <a:off x="6626160" y="4330800"/>
              <a:ext cx="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2378160" y="4330440"/>
            <a:ext cx="4441680" cy="501840"/>
            <a:chOff x="2378160" y="4330440"/>
            <a:chExt cx="4441680" cy="501840"/>
          </a:xfrm>
        </p:grpSpPr>
        <p:sp>
          <p:nvSpPr>
            <p:cNvPr id="3754" name=""/>
            <p:cNvSpPr/>
            <p:nvPr/>
          </p:nvSpPr>
          <p:spPr>
            <a:xfrm>
              <a:off x="6819840" y="4330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H="1">
              <a:off x="2378160" y="4832280"/>
              <a:ext cx="44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2378160" y="433044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3987720" y="4957920"/>
            <a:ext cx="15447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alarios y R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8" name=""/>
          <p:cNvGrpSpPr/>
          <p:nvPr/>
        </p:nvGrpSpPr>
        <p:grpSpPr>
          <a:xfrm>
            <a:off x="2635200" y="2322360"/>
            <a:ext cx="4184640" cy="501840"/>
            <a:chOff x="2635200" y="2322360"/>
            <a:chExt cx="4184640" cy="501840"/>
          </a:xfrm>
        </p:grpSpPr>
        <p:sp>
          <p:nvSpPr>
            <p:cNvPr id="3759" name=""/>
            <p:cNvSpPr/>
            <p:nvPr/>
          </p:nvSpPr>
          <p:spPr>
            <a:xfrm flipV="1">
              <a:off x="681984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H="1">
              <a:off x="2635200" y="2322360"/>
              <a:ext cx="41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635200" y="23223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2" name=""/>
          <p:cNvSpPr/>
          <p:nvPr/>
        </p:nvSpPr>
        <p:spPr>
          <a:xfrm>
            <a:off x="4116240" y="2133720"/>
            <a:ext cx="14162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iene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2892600" y="2572920"/>
            <a:ext cx="3670200" cy="313200"/>
            <a:chOff x="2892600" y="2572920"/>
            <a:chExt cx="3670200" cy="313200"/>
          </a:xfrm>
        </p:grpSpPr>
        <p:sp>
          <p:nvSpPr>
            <p:cNvPr id="3764" name=""/>
            <p:cNvSpPr/>
            <p:nvPr/>
          </p:nvSpPr>
          <p:spPr>
            <a:xfrm flipV="1">
              <a:off x="2892600" y="2572920"/>
              <a:ext cx="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892600" y="2573280"/>
              <a:ext cx="36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562800" y="257328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4245120" y="2384280"/>
            <a:ext cx="1093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6497640" y="2949480"/>
            <a:ext cx="1932120" cy="1381320"/>
            <a:chOff x="6497640" y="2949480"/>
            <a:chExt cx="1932120" cy="1381320"/>
          </a:xfrm>
        </p:grpSpPr>
        <p:sp>
          <p:nvSpPr>
            <p:cNvPr id="3769" name=""/>
            <p:cNvSpPr/>
            <p:nvPr/>
          </p:nvSpPr>
          <p:spPr>
            <a:xfrm>
              <a:off x="6497640" y="2949480"/>
              <a:ext cx="1932120" cy="138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720480" y="3363840"/>
              <a:ext cx="14860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mpre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1" name=""/>
          <p:cNvSpPr/>
          <p:nvPr/>
        </p:nvSpPr>
        <p:spPr>
          <a:xfrm>
            <a:off x="4373640" y="3263760"/>
            <a:ext cx="1093680" cy="68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2" name=""/>
          <p:cNvGrpSpPr/>
          <p:nvPr/>
        </p:nvGrpSpPr>
        <p:grpSpPr>
          <a:xfrm>
            <a:off x="1219320" y="1066680"/>
            <a:ext cx="7467480" cy="5334120"/>
            <a:chOff x="1219320" y="1066680"/>
            <a:chExt cx="7467480" cy="5334120"/>
          </a:xfrm>
        </p:grpSpPr>
        <p:sp>
          <p:nvSpPr>
            <p:cNvPr id="3773" name=""/>
            <p:cNvSpPr/>
            <p:nvPr/>
          </p:nvSpPr>
          <p:spPr>
            <a:xfrm>
              <a:off x="1219320" y="1066680"/>
              <a:ext cx="7467480" cy="533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12280" y="1191960"/>
              <a:ext cx="1287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Resto del Mu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5" name=""/>
          <p:cNvSpPr/>
          <p:nvPr/>
        </p:nvSpPr>
        <p:spPr>
          <a:xfrm>
            <a:off x="6562800" y="1506600"/>
            <a:ext cx="901800" cy="627120"/>
          </a:xfrm>
          <a:prstGeom prst="rightArrow">
            <a:avLst>
              <a:gd name="adj1" fmla="val 50000"/>
              <a:gd name="adj2" fmla="val 359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2249640" y="5584680"/>
            <a:ext cx="901440" cy="627120"/>
          </a:xfrm>
          <a:prstGeom prst="rightArrow">
            <a:avLst>
              <a:gd name="adj1" fmla="val 50000"/>
              <a:gd name="adj2" fmla="val 3593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mport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3600360" y="2760480"/>
            <a:ext cx="2639880" cy="1703160"/>
            <a:chOff x="3600360" y="2760480"/>
            <a:chExt cx="2639880" cy="1703160"/>
          </a:xfrm>
        </p:grpSpPr>
        <p:sp>
          <p:nvSpPr>
            <p:cNvPr id="3778" name=""/>
            <p:cNvSpPr/>
            <p:nvPr/>
          </p:nvSpPr>
          <p:spPr>
            <a:xfrm flipV="1">
              <a:off x="4888080" y="27604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888080" y="407808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H="1">
              <a:off x="360036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>
              <a:off x="5725440" y="357624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3600360" y="4643280"/>
            <a:ext cx="2254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rabajo y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6713640" y="251460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7185960" y="2573280"/>
            <a:ext cx="145512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rot="10800000">
            <a:off x="1538280" y="4265640"/>
            <a:ext cx="725040" cy="874800"/>
          </a:xfrm>
          <a:prstGeom prst="upArrow">
            <a:avLst>
              <a:gd name="adj1" fmla="val 50000"/>
              <a:gd name="adj2" fmla="val 3016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rot="10800000">
            <a:off x="2418120" y="4265280"/>
            <a:ext cx="1455840" cy="80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atu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438800" y="5735520"/>
            <a:ext cx="115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ECO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3808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Arial Black"/>
              </a:rPr>
              <a:t>CONCEPTUALIZACION MODELO ECOGEM: </a:t>
            </a:r>
            <a:r>
              <a:rPr b="0" lang="es-ES" sz="2700" spc="-1" strike="noStrike">
                <a:solidFill>
                  <a:srgbClr val="ffffff"/>
                </a:solidFill>
                <a:latin typeface="Arial Black"/>
              </a:rPr>
              <a:t>FLUJO CIRCULAR DE LA RE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4" dur="500"/>
                                        <p:tgtEl>
                                          <p:spTgt spid="3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500"/>
                                        <p:tgtEl>
                                          <p:spTgt spid="3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11430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Impuestos Ambient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1" dur="1" fill="hold"/>
                                  <p:tgtEl>
                                    <p:spTgt spid="3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2" name=""/>
          <p:cNvGraphicFramePr/>
          <p:nvPr/>
        </p:nvGraphicFramePr>
        <p:xfrm>
          <a:off x="2133720" y="1193760"/>
          <a:ext cx="5486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93760"/>
                    <a:ext cx="5486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4" name=""/>
          <p:cNvGraphicFramePr/>
          <p:nvPr/>
        </p:nvGraphicFramePr>
        <p:xfrm>
          <a:off x="2209680" y="1916280"/>
          <a:ext cx="5639040" cy="36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16280"/>
                    <a:ext cx="56390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6" name=""/>
          <p:cNvSpPr/>
          <p:nvPr/>
        </p:nvSpPr>
        <p:spPr>
          <a:xfrm>
            <a:off x="12952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Impactos de Incluir Impuestos al PM10 y Derivados del 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129528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y futuros desarrollos de la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1143000" y="1295280"/>
            <a:ext cx="78487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l análisis de equilibrio general entrega información útil para el análisis de políticas en que hay múltiples sectores involucr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Entre las falencias del modelo actual se cuenta su estaticidad, obviando las relaciones dinámicas de la economía, en especial la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Se está trabajando actualmente en el desarrollo de un modelo dinámico que permita capturar dichas interrelaciones de mediano y largo plaz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También se está trabajando en la estimación de parámetros del modelo, en especial las elasticidades que este emple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Adicionalmente se está trabajando en la incorporación de la calidad ambiental en la función de utilidad (preferencias de los consumidores por una mejor calidad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9" dur="1" fill="hold"/>
                                  <p:tgtEl>
                                    <p:spTgt spid="37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43000" y="1295280"/>
            <a:ext cx="784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fundamental incorporar más evaluaciones empíricas que permitan asegurar que las políticas aplicadas sean relativamente eficientes y eficaces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diseño e implementación de los instrumentos debe mejorars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Hace falta mayor investigación en “hacer cumplir” (enforcement), la que está desarrollándose en forma muy incipient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s necesario conocer los mercados con los que se está trabajando. No bastan las recetas simplistas de modelos de equilibrio parcial. Los economistas deben salir a terren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requiere una mayor capacidad para trabajo interdisciplinario (economistas, ingenieros, abogados), mejor informació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Los APL han permitido poner bajo control a algunos sectores que con otro tipo de instrumentos serían ineficaces debido a las dificultades de monitoreo y fiscalización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8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9" dur="1" fill="hold"/>
                                  <p:tgtEl>
                                    <p:spTgt spid="380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"/>
          <p:cNvSpPr/>
          <p:nvPr/>
        </p:nvSpPr>
        <p:spPr>
          <a:xfrm>
            <a:off x="1295280" y="3189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143000" y="1295280"/>
            <a:ext cx="784872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 Black"/>
              </a:rPr>
              <a:t>Por ahora la teoría económica ofrece pocas luces respecto de cuando conviene aplicar los APL, qué forma deben tomar y su comparación con la aplicación de instrumentos más tradicionales de reg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hile ha sido extremadamente descuidado en el tema de las exigencias ambientales internacionales a las que se están viendo sometidas las expor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tender la economía política detrás de ello es crítico para diseñar las instituciones, políticas e instrumentos que permitan defender nuestras exportaciones.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campo del manejo de recursos está prácticamente virgen (ejemplo cobre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n forma creciente veremos que la aplicación de buena economía a los problemas ambientales será una forma en que los académicos de Latinoamérica publiquen en los mejores Journals del área</a:t>
            </a:r>
            <a:r>
              <a:rPr b="0" lang="es-E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3" dur="1" fill="hold"/>
                                  <p:tgtEl>
                                    <p:spTgt spid="38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92200" y="152280"/>
            <a:ext cx="51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ENFOQUES DE REGUL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600200"/>
            <a:ext cx="59436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1) Asignación de Derechos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2) Análisis Costo-Bene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Enfoque optimiz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3) Análisis de Costo-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4) Análisis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 Black"/>
              </a:rPr>
              <a:t>(5) Enfoques Volu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0560" y="3132000"/>
            <a:ext cx="163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Enfo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      </a:t>
            </a: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 Black"/>
              </a:rPr>
              <a:t>Regu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89548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 Black"/>
              </a:rPr>
              <a:t>Acuerdos de Producción Limpia: Compromisos Asociados a Aspectos Normados y no Normado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676520"/>
          <a:ext cx="7772400" cy="36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777240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304920"/>
            <a:ext cx="75438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Costo Efectividad de Instrumentos para Reducir las Emisiones en Santiago</a:t>
            </a:r>
            <a:r>
              <a:rPr b="0" lang="es-ES" sz="2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1447920"/>
            <a:ext cx="76201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istema de compensaciones (desde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Una de las primeras aplicaciones urbanas significativas en el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isponible escasa (inventarios de emi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Información de opciones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Modelos emisiones – concentraciones (incipientes en la épo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El problema de la información y de los modelos es un problema hasta el día de hoy en este ámb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valuación de la costo efectividad del uso de permisos transables para Santia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1295280"/>
            <a:ext cx="76201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e consideraron 4 instrumentos y se compararon los costos asociados a cumplir diferentes m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A: Aplicación teóricamente óptima (de mínimo costo) de permisos tra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PE: Aplicación subóptima acepta intercambiar permisos sin importar localización de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Arial Black"/>
                <a:ea typeface="Times New Roman"/>
              </a:rPr>
              <a:t>Regula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PER: Exige reducción porcentual igual a cad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STD: Aplicación de estándares de emisión uniformes a las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ETODOLOGIA DE EVALU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0" dur="1" fill="hold"/>
                                  <p:tgtEl>
                                    <p:spTgt spid="6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19:05:05Z</dcterms:created>
  <dc:creator>V_Lira</dc:creator>
  <dc:description/>
  <dc:language>en-US</dc:language>
  <cp:lastModifiedBy>José Inostroza</cp:lastModifiedBy>
  <cp:lastPrinted>2002-04-01T16:27:05Z</cp:lastPrinted>
  <dcterms:modified xsi:type="dcterms:W3CDTF">2004-10-29T20:29:02Z</dcterms:modified>
  <cp:revision>109</cp:revision>
  <dc:subject/>
  <dc:title>Sin título de diapositiva</dc:title>
</cp:coreProperties>
</file>