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E698-8139-4045-8CDF-C8BA7F3EA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0F47-C442-42C7-81F1-A2E66365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E1E7-0622-4183-B852-C4724D25A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5B1F-F2A9-4436-8474-75935A341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A86F-A30D-4533-8FD4-00EBCB22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5F2F-D216-40D7-8611-B54F0BBA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4EE3-F5C1-43B9-861B-D47E9B69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06C7-EF7C-4825-A541-2C9A62D8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0773-7068-4F4B-ACC6-D1AD6F9B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A998-3E16-4115-9392-4C196E77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894E-D4B1-4BE9-B763-5FB0D1A4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86DB-0AA0-4EB1-8886-A24AFCA2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A029-DA32-4D98-B6F6-A198C701A07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2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42920" y="0"/>
            <a:ext cx="7416720" cy="76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22560" y="1628640"/>
            <a:ext cx="6121440" cy="28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CAMBIO CULTUR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11280" y="4349880"/>
            <a:ext cx="60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ALGUNAS TENDENCIAS ACTU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35280" y="1989000"/>
            <a:ext cx="640872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244000" y="5516640"/>
            <a:ext cx="53316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2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2920" y="0"/>
            <a:ext cx="7416720" cy="76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640" y="4035600"/>
            <a:ext cx="705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Transitamos de los colectivos a los individuos y de la historia a la biografí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0200" y="1484280"/>
            <a:ext cx="734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¿CUÁL ES EL EJE Y MOTOR DE LA SOCIEDA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3284640"/>
            <a:ext cx="698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2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0"/>
            <a:ext cx="7416720" cy="76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1484280"/>
            <a:ext cx="799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¿QUÉ ES VERDAD, QUÉ ILUSIÓN O FALSA PROMES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33440" y="4137120"/>
            <a:ext cx="719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asamos de la palabra a la experiencia y de la adhesión a la evaluació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58920" y="335772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2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0"/>
            <a:ext cx="7416720" cy="76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58920" y="1341360"/>
            <a:ext cx="756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¿CUAL ES EL TAMAÑO DE MI MUNDO Y EL LARGO DE MI VID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74920" y="3645000"/>
            <a:ext cx="727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85840" y="4307040"/>
            <a:ext cx="78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El tiempo y el espacio significativo se nos contra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2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42920" y="0"/>
            <a:ext cx="7416720" cy="76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36720" y="32130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1484280"/>
            <a:ext cx="68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¿CUÁL ES NUESTRA HUELLA EN EL MUN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5280" y="3860640"/>
            <a:ext cx="63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articipamos cada vez más para incidir cada vez men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2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0"/>
            <a:ext cx="7416720" cy="76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05080" y="3213000"/>
            <a:ext cx="719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1484280"/>
            <a:ext cx="741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¿QUÉ PASA CON LAS IDENTIDADES PERSONA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3860640"/>
            <a:ext cx="69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El cuerpo de mujer, el camino propio de los jóvenes y el desconcierto masculin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2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42920" y="0"/>
            <a:ext cx="7416720" cy="76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32000" y="1628640"/>
            <a:ext cx="72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¿QUÉ NOS MANTIENE JUNT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24000" y="3213000"/>
            <a:ext cx="57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0920" y="4076640"/>
            <a:ext cx="60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La reducción del miedo a las diferenci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2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42920" y="0"/>
            <a:ext cx="7416720" cy="76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87280" y="177336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EL DESAFÍO CULTURA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79640" y="2997360"/>
            <a:ext cx="590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3933720"/>
            <a:ext cx="63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Buscar nuevas formas de acoplar persona y socied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3:14:25Z</dcterms:created>
  <dc:creator>MSIERRA</dc:creator>
  <dc:description/>
  <dc:language>en-US</dc:language>
  <cp:lastModifiedBy>Dii</cp:lastModifiedBy>
  <dcterms:modified xsi:type="dcterms:W3CDTF">2004-09-24T15:56:56Z</dcterms:modified>
  <cp:revision>10</cp:revision>
  <dc:subject/>
  <dc:title>Diapositiva 1</dc:title>
</cp:coreProperties>
</file>