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21D-6946-452A-B502-676B5572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372-83F2-417C-8BAF-93FF56BE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A02-28CE-430A-A8B0-D67175D4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CAD-EF7E-4FBC-BAAE-CF2E4F37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2A7-D7C2-44C4-993E-1D9D3152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16F-0CA3-431C-B43F-99AFCEC4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943-9C28-4CE7-B583-33082CD9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593-7880-4080-A5F4-F142FF76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155-9B5D-4D55-A0A8-78679301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1BF-080C-46F3-BE22-0F4076E1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2FA-44A0-4C05-A785-51D19ACA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09D-2158-44F4-90AD-A89A6645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019B-E792-4568-87FA-971A5D56E5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2560" y="1628640"/>
            <a:ext cx="6121440" cy="28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AMBIO CULTU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43498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LGUNAS TENDENCIA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989000"/>
            <a:ext cx="6408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516640"/>
            <a:ext cx="533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0356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ansitamos de los colectivos a los individuos y de la historia a la biograf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0200" y="148428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EL EJE Y MOTOR DE LA SOCIE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84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148428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ES VERDAD, QUÉ ILUSIÓN O FALSA PROME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3440" y="4137120"/>
            <a:ext cx="71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samos de la palabra a la experiencia y de la adhesión a la evalu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357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34136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AL ES EL TAMAÑO DE MI MUNDO Y EL LARGO DE MI VI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4920" y="3645000"/>
            <a:ext cx="72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43070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tiempo y el espacio significativo se nos contra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6720" y="3213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8428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NUESTRA HUELLA EN EL MU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8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rticipamos cada vez más para incidir cada vez me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5080" y="3213000"/>
            <a:ext cx="71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484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PASA CON LAS IDENTIDADES PERSON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3860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cuerpo de mujer, el camino propio de los jóvenes y el desconcierto masculi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628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NOS MANTIENE JUN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1300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4076640"/>
            <a:ext cx="60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a reducción del miedo a las difere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17733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L DESAFÍO CULTU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2997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9337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uscar nuevas formas de acoplar persona y soci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14:25Z</dcterms:created>
  <dc:creator>MSIERRA</dc:creator>
  <dc:description/>
  <dc:language>en-US</dc:language>
  <cp:lastModifiedBy>Dii</cp:lastModifiedBy>
  <dcterms:modified xsi:type="dcterms:W3CDTF">2004-09-24T15:56:56Z</dcterms:modified>
  <cp:revision>10</cp:revision>
  <dc:subject/>
  <dc:title>Diapositiva 1</dc:title>
</cp:coreProperties>
</file>