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571-370C-426C-ACD8-41B8FF71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C29-E6F4-450F-AB62-59E39D19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2BD7-384C-40E1-9AD7-C3E5C794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1EF-460D-405D-8DA1-8615DC50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9AB4-7859-4D3E-A9BE-8DAA2974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2D4A-F9B3-41A3-9203-634AAA62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0782-DAF4-438F-A26A-EBC2C0D9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7754-5950-4AF5-8CB6-17F46311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7D65-F456-4718-8F82-FA41743B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21A7-8584-4239-AEA4-CEBBE046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5F36-8779-4858-8AC8-A9B34374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28A-1647-485D-A2FB-05811E49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50C2-9A23-4683-B72C-CD9A837A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1036-4EB9-4E81-9E20-871BD6F6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37C7-E570-461D-B5C0-E7BCC635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60F9-1E54-441B-B3B4-B13820C4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42E8-C89C-43DB-B164-26CFCDBE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137F-569A-4733-9B89-4BAB28DA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59F-89F7-4843-8482-95BCF7DB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977-0CF9-4F42-948F-C7E9D24B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CD2-F94B-411C-B510-E25DFF39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B9A-7EFC-4500-ABBA-23323953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EF8-1B94-4D7D-9376-B0A15575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042-47C1-402C-B35B-F490013A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1656-7C35-42E7-A766-636205B4D3E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4031-DE47-4E7D-8911-E2CD0B594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48A3-EB81-4209-88BD-68E36548D2E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BA40-4FA0-4827-B886-31CBE17C6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epal.c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ff"/>
                </a:solidFill>
                <a:latin typeface="Times New Roman"/>
              </a:rPr>
              <a:t>Descentralización en América Latina: Cómo Viabilizar el Desarrollo Local y Regional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99840" y="5257800"/>
            <a:ext cx="624852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ván Finot, NN.UU./CEPAL/IL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Universidad de Chile,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0 de septiembre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5257800" cy="2220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os procesos: el desaf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visión de la teo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valuación de los 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puesta de reori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ces y sombras pero escasa autonomía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lic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descentralización se orientó a la gest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 desequilibrios fiscale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mayor control, reducción de la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eyes de responsabilidad fiscal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gasto corr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Modificaciones a los sistemas de transferencias: Colomb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El Desafí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9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(re)orientar los procesos par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talecer las autonomías local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para viabilizar el desarrollo local a fin de hacer más competitiva a la economía nacion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Y a la vez avanzar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quidad: territorial y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ocratización, 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ficiencia: económica y fiscal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2. Revisión de la Teor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oble sombrero de los gobiernos loc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autonomía en las asignaciones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abezas de autonomí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ólo operan decisiones de gobiernos centrales, su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gent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bas convenientes, según características geográficas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eoría se refiere a la descentralización política (para descentralización operativa, sólo la del Principal – Age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 Polít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erencia de decisiones sobr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sign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n la provisión de bienes públicos a procesos democráticos lo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veniente cuando la demanda está geográficamente diferenciada según aspe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í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se cumplen condiciones de eficien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Mejor Adecuación a la Deman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229600" cy="5867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rrespondencia entre diferenciación geográfica de la demanda y circunscripciones de los respectivos procesos de provisión (a partir de Oat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acercamiento al ciudadano y asociación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velación efectiva de pre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Transferencia del proceso completo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decisiones colectivas sobre qué, cuánto y con qué parte de su ingreso</a:t>
            </a:r>
            <a:r>
              <a:rPr b="1" lang="es-ES_tradnl" sz="2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veer (a partir de Musgrave). </a:t>
            </a: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Inequidad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porcionales a aportes locales rela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cesos al menos tan democráticos y participativos como los cent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sistema electoral territorial + participación pop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 Territoriale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a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no condicionadas: “block grants”, para compensar diferencias en ingresos públicos por habita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condicionadas: “matched grants”, para igualar nivel de provisión de algunos servicios (generalmente se requiere aporte loc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las transferencias más adecuadas sería una combin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 libre disponibil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ondicionadas a aport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Subsidiarias respecto a decisiones locale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mportancia de las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265480"/>
          <a:ext cx="6476760" cy="4363920"/>
        </p:xfrm>
        <a:graphic>
          <a:graphicData uri="http://schemas.openxmlformats.org/drawingml/2006/table">
            <a:tbl>
              <a:tblPr/>
              <a:tblGrid>
                <a:gridCol w="121896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43000" y="1219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s tipos de condicionamientos: al aporte local (con qué parte del ingreso proveer) y a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valuación de los Procesos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cercamiento al Ciudadano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1476360"/>
          <a:ext cx="807696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76360"/>
                    <a:ext cx="8076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nculación de gastos con ingresos fiscales?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os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476360"/>
          <a:ext cx="868680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6360"/>
                    <a:ext cx="86868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3429000"/>
            <a:ext cx="3353040" cy="26668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905120"/>
            <a:ext cx="3353040" cy="190476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905120"/>
            <a:ext cx="2971800" cy="1904760"/>
          </a:xfrm>
          <a:prstGeom prst="rect">
            <a:avLst/>
          </a:prstGeom>
          <a:solidFill>
            <a:srgbClr val="99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98108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59092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809880"/>
            <a:ext cx="6781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 Ingr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Ga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22936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4765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528624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6019920"/>
            <a:ext cx="5335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5029200"/>
            <a:ext cx="121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stemas Bás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5715000"/>
            <a:ext cx="144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Sistemas Complemen-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4952880"/>
            <a:ext cx="1905120" cy="190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5229360"/>
            <a:ext cx="1371600" cy="3988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27840" y="5061960"/>
            <a:ext cx="789840" cy="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838840"/>
            <a:ext cx="320040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Colombia, Chile, (México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1981080"/>
            <a:ext cx="1447920" cy="398880"/>
          </a:xfrm>
          <a:prstGeom prst="rect">
            <a:avLst/>
          </a:prstGeom>
          <a:solidFill>
            <a:srgbClr val="ff3300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25756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58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9625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048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55800" y="5509080"/>
            <a:ext cx="279000" cy="25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autonomía?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81080"/>
            <a:ext cx="762120" cy="368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982880"/>
            <a:ext cx="99036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24382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18148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1. Los procesos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volución Histór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Antecedente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e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, Corporaciones de 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1) Desconcentración de la producción y de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2) Eficiencia administ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2004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Desde los 80’s: </a:t>
            </a: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Democratización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3) Participación ciudad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4) Equidad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5) 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lobaliza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6)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Mejor Expresión de Preferencia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, ausencia de estímulos a la asocia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 vinculado con ingresos sólo en (pocos) municipios con capacidad de generación de ingresos tribu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sistema electoral proporcional no propicia una representación adecu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Bajos niveles de autonomía local. Excepción relativa: Brasil, pero no se incentiva la eficiencia fiscal (vínculo con ingres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sistemas de transferencias básicas no propician la eficienci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excepto en transferencias a los estados en México, pero en este caso: los municipios dependen del  nivel estatal y además riesgo de  inequi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stos sistemas determinan, para cada municipio, distintas combinanciones de descentralización política y operativa, la autonomía depende de la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capacidad de generación de ingresos fiscales propios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desigualdad en derecho ciudadano a proveerse de bienes locales 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(en función de sus ingresos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imes New Roman"/>
              </a:rPr>
              <a:t>4. Propuesta  (Modelo normativo)</a:t>
            </a:r>
            <a:br>
              <a:rPr sz="3600"/>
            </a:b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polí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diferenciar funcionalmente la demanda respecto a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, cuánto y con 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recursos prove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raestructura básica y servicios públic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rvicios de educación y salu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 =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igu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 en Colom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066680"/>
            <a:ext cx="8458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eunir todas las transferencias existentes y conformar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dos sistemas subsidiari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*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1) Sistema de redistribución social: para canasta social, respecto a ingresos familiares, integrado y operado por gobiernos subnacionales (Chile, Colomb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2) Sistema de redistribución territorial,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para desarrollo local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(a partir de infraestructura básica,  </a:t>
            </a:r>
            <a:r>
              <a:rPr b="1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ferencias proporcionales a los aport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en principio: respecto a ingresos geográf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iderar incluir “cuasi-impuestos”: aportes en “tiempo”, trabajo, materiales, dinero (cuantificados por Fondos de Desarrol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a propuesta desde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Profundización y Regionaliz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unitarios y feder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formar procesos de decisión autónoma en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niveles submun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: elección de asambleas, transferencia de potestades y recursos (Ej. Brasil, Ecuad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centivar -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través de transferencias de tipo 1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mancomunidades muni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ionales, de derecho público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función de regionaliz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; la base: cuencas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ir potestades a estas mancomunidades region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certación intra e inter del desarrollo reg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Uso del suelo y organización de servicios de utilidad pública, incluid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ovisión de infraestructura básica 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Mayor Participación Ciudada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lección de representantes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, con obligación de informarse e informar, en los tres nivel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+ externalización de avalúo de bienes inmuebles, Ej. Españ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ega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sulta obligatoria para compromisos de mediano y largo plazo: por ejemplo,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. Incentiv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directa: en organizacione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indirecta: a través de organizacio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 asequible: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22280" y="1828800"/>
            <a:ext cx="75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zación del desarrollo local/regional: competi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quidad social y territorial: igualdad de oportun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arrollo de ciudadan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ficiencia fiscal y 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dad política? - Debate y consenso para reforma estruc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ates, Wallace (1972) “Fiscal federalism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Federalismo fisca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IEAL (Madrid), 197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usgrave, Richard A.; Peggy Musgrave (1984) “Public finance in theory and practice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Hacienda pública, trótica y aplicada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McGraw (Madrid),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not, Iván (2001)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Descentralización en América Latina: teoría y práctica.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PAL (LC./L. 1521-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Síntesis en  “Descentralización en América Latina: una mirada desde la economía”</a:t>
            </a:r>
            <a:r>
              <a:rPr b="0" i="1" lang="es-ES" sz="2200" spc="-1" strike="noStrike">
                <a:solidFill>
                  <a:srgbClr val="ffff00"/>
                </a:solidFill>
                <a:latin typeface="Times New Roman"/>
              </a:rPr>
              <a:t> Revista de la CEPAL, 78, 200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Resumen y aplicación: 2003: “Descentralización en América Latina: cómo hacer viable el desarrollo local”. CEPAL (LC/L. 1986-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tio web CEPAL: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c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Publicaciones, Series de la CEPAL, Gesti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spectos Comunes y Di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ué se descentralizó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de educación y salu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fraestructura v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públicos (en menor medid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cia qué ni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ederales (menos Brasil): nivel intermedio y grandes ciud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Unitarios: nivel municip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Brasil: énfasis </a:t>
            </a:r>
            <a:r>
              <a:rPr b="0" lang="es-ES_tradnl" sz="2600" spc="-1" strike="noStrike">
                <a:solidFill>
                  <a:srgbClr val="ffff99"/>
                </a:solidFill>
                <a:latin typeface="Times New Roman"/>
              </a:rPr>
              <a:t>en el municipal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Descentralización jerárquica y descentralización democrática (Brasi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304560"/>
            <a:ext cx="759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uces y sombras:</a:t>
            </a:r>
            <a:br>
              <a:rPr sz="4000"/>
            </a:b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1) Desconcentr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752480"/>
          <a:ext cx="76964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657600" y="60199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Times New Roman"/>
              </a:rPr>
              <a:t>Elaborado en base a datos oficiales de cada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2) Eficiencia administ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adecuación a características territo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y evidencias de mejoras en relación beneficio/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rrup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ente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bre-co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3) Particip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vance en derecho al vo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er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iesgo de nuevos centralismos s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Orientada a niveles intermed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Megamunicip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blemas de representación: Concej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66"/>
                </a:solidFill>
                <a:latin typeface="Times New Roman"/>
              </a:rPr>
              <a:t>Social?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- Aún escas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Excep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lanificación participativa”: consulta para gasto y control a través de OTB’s (Boliv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Y casos puntuales: Ej. presupuesto participativo en Brasil (Porto Alegre: reducción de la evas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4)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Territor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icial, muy importante, pero limit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oncentración del gasto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centración del produ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 avance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ivada de redistribu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mento de cobertura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 diferenciación en calida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5) Eficiencia Fisc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asi todos los paí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gastos &gt; aumento ingreso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sistemas de transferencias como % de impuestos son procíclicos: inducen desequilibrios macroeconómicos (CEPAL, 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del endeudamiento sub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0" lang="es-ES_tradnl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déficit fisc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cepción: Ch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ólo transferencias intermunicip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hibición de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muy escasa descentralizació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6) Autonomía para Desarrollo Loc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centralización “política”: ¿“transferencia de competencias a autoridades electas”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basta, en la mayoría de los municipios las decisiones no son autónom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casa generación de 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gasto depende de transferencias condicionadas:  operan decisione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no están condicionadas, no están vinculadas con el esfuerzo local: origen de desequilib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0:04:26Z</dcterms:created>
  <dc:creator>Iván Finot</dc:creator>
  <dc:description/>
  <dc:language>en-US</dc:language>
  <cp:lastModifiedBy>IFINOT</cp:lastModifiedBy>
  <cp:lastPrinted>2002-10-21T16:43:52Z</cp:lastPrinted>
  <dcterms:modified xsi:type="dcterms:W3CDTF">2004-09-10T15:13:57Z</dcterms:modified>
  <cp:revision>130</cp:revision>
  <dc:subject/>
  <dc:title>Descentralización a Comunidades y a Mercados: un Nuevo Enfoque para América Latina </dc:title>
</cp:coreProperties>
</file>