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740-1373-4548-AF86-F7CBC858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581-3CD4-4F70-A646-455C55FD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E08-E61F-4A63-9B57-AB8863E4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5F2-9736-4BD0-9FDB-281D815B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DEF7-FF60-450A-B30F-7A2CF0C1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8D23-1DF8-4438-BE13-F268BCD7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A10C-A3B4-4B94-8CE6-094C316E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8086-585E-4814-B143-C6BD1E7D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3B46-4554-4355-86E9-6403D178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0680-AAFB-41EA-8DF5-6721C1F4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48C9-2B67-4BA0-B262-E254DF40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B7E-AF00-4746-AF5B-0BCE9E0F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C263-A693-485A-B1A8-5DF51CBC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0602-3432-4FC8-A492-2D721589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8C01-8927-4F15-B6C3-7FC87636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8F2C-99BD-4602-8083-8B359FBD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63E8-A9BA-4242-882B-20280616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C0F-7AA8-4D05-B762-43B26DD1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548-8C5E-4A02-8487-148D7757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ED4-8A36-475A-85FC-A733B7B4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9CC-BB45-4FD8-B315-6EA9A33F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C63-5108-4FE4-BFA5-B018F958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BC2-E74E-447A-825C-AAAE9D55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3F1-9296-4689-B65F-4E44DB82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72EB-DBA1-4FB3-A297-3597CA08826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2DF6-5DAF-4CCD-BF28-9433E334E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FF0F-D915-4FF8-8535-B4750A43019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555D-55F3-4C5C-97CE-72DFF9EEB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epal.c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ff"/>
                </a:solidFill>
                <a:latin typeface="Times New Roman"/>
              </a:rPr>
              <a:t>Descentralización en América Latina: Cómo Viabilizar el Desarrollo Local y Regional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599840" y="5257800"/>
            <a:ext cx="6248520" cy="1371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Iván Finot, NN.UU./CEPAL/IL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Universidad de Chile, Magíster en Gestión y Políticas 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0 de septiembre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819520"/>
            <a:ext cx="5257800" cy="2220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os procesos: el desafí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visión de la teor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valuación de los proc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puesta de reori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ala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ces y sombras pero escasa autonomía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lic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descentralización se orientó a la gest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 desequilibrios fiscales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mayor control, reducción de la autonom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eyes de responsabilidad fiscal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gasto corr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Modificaciones a los sistemas de transferencias: Colomb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El Desafí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97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(re)orientar los procesos par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talecer las autonomías locale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para viabilizar el desarrollo local a fin de hacer más competitiva a la economía nacion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Y a la vez avanzar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quidad: territorial y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mocratización, ciudadan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ficiencia: económica y fiscal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2. Revisión de la Teor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doble sombrero de los gobiernos loc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autonomía en las asignaciones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abezas de autonomí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ólo operan decisiones de gobiernos centrales, su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gent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Ope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mbas convenientes, según características geográficas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eoría se refiere a la descentralización política (para descentralización operativa, sólo la del Principal – Age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escentralización Polít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erencia de decisiones sobr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sign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en la provisión de bienes públicos a procesos democráticos loc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veniente cuando la demanda está geográficamente diferenciada según aspec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ís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ltu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se cumplen condiciones de eficienc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 adecuación a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eneficios superiores a economías de escala por centr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Times New Roman"/>
              </a:rPr>
              <a:t>Mejor Adecuación a la Deman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8229600" cy="5867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rrespondencia entre diferenciación geográfica de la demanda y circunscripciones de los respectivos procesos de provisión (a partir de Oat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acercamiento al ciudadano y asociación territo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velación efectiva de pre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Transferencia del proceso completo: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decisiones colectivas sobre qué, cuánto y con qué parte de su ingreso</a:t>
            </a:r>
            <a:r>
              <a:rPr b="1" lang="es-ES_tradnl" sz="2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veer (a partir de Musgrave). </a:t>
            </a: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Inequidad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porcionales a aportes locales rela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cesos al menos tan democráticos y participativos como los cent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sistema electoral territorial + participación popul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Transferencias Territoriales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a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no condicionadas: “block grants”, para compensar diferencias en ingresos públicos por habita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condicionadas: “matched grants”, para igualar nivel de provisión de algunos servicios (generalmente se requiere aporte loc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embargo, las transferencias más adecuadas sería una combin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 libre disponibilida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ondicionadas a aport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Subsidiarias respecto a decisiones locales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mportancia de las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76520" y="2265480"/>
          <a:ext cx="6476760" cy="4363920"/>
        </p:xfrm>
        <a:graphic>
          <a:graphicData uri="http://schemas.openxmlformats.org/drawingml/2006/table">
            <a:tbl>
              <a:tblPr/>
              <a:tblGrid>
                <a:gridCol w="121896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perativ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43000" y="1219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os tipos de condicionamientos: al aporte local (con qué parte del ingreso proveer) y a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Evaluación de los Procesos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cercamiento al Ciudadano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62120" y="1476360"/>
          <a:ext cx="807696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76360"/>
                    <a:ext cx="8076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nculación de gastos con ingresos fiscales?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os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476360"/>
          <a:ext cx="868680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6360"/>
                    <a:ext cx="868680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3429000"/>
            <a:ext cx="3353040" cy="26668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905120"/>
            <a:ext cx="3353040" cy="190476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905120"/>
            <a:ext cx="2971800" cy="1904760"/>
          </a:xfrm>
          <a:prstGeom prst="rect">
            <a:avLst/>
          </a:prstGeom>
          <a:solidFill>
            <a:srgbClr val="99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98108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19720" y="1676520"/>
            <a:ext cx="0" cy="5029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259092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3809880"/>
            <a:ext cx="6781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 Ingre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Ga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259092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22936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347652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528624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6019920"/>
            <a:ext cx="5335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5029200"/>
            <a:ext cx="121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istemas Bás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5715000"/>
            <a:ext cx="1447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Sistemas Complemen-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4952880"/>
            <a:ext cx="1905120" cy="1905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5229360"/>
            <a:ext cx="1371600" cy="3988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657600"/>
            <a:ext cx="114300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327840" y="5061960"/>
            <a:ext cx="789840" cy="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838840"/>
            <a:ext cx="3200400" cy="1008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inanciamiento Directo de Servicios Sociales: Colombia, Chile, (México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1981080"/>
            <a:ext cx="1447920" cy="398880"/>
          </a:xfrm>
          <a:prstGeom prst="rect">
            <a:avLst/>
          </a:prstGeom>
          <a:solidFill>
            <a:srgbClr val="ff3300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257560"/>
            <a:ext cx="14479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536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358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96252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3048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55800" y="5509080"/>
            <a:ext cx="279000" cy="25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autonomía?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981080"/>
            <a:ext cx="762120" cy="3682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1982880"/>
            <a:ext cx="99036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24382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2133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18148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1. Los procesos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volución Históric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Antecedente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e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, Corporaciones de Desar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1) Desconcentración de la producción y de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2) Eficiencia administ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2004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Desde los 80’s: </a:t>
            </a: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Democratización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3) Participación ciudad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4) Equidad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5) 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638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lobaliza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6)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Autonomía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Mejor Expresión de Preferencia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caso acercamiento a niveles más próximos al ciudadano (submunicipales), ausencia de estímulos a la asocia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to vinculado con ingresos sólo en (pocos) municipios con capacidad de generación de ingresos tribu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sistema electoral proporcional no propicia una representación adecu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0769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Bajos niveles de autonomía local. Excepción relativa: Brasil, pero no se incentiva la eficiencia fiscal (vínculo con ingreso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os sistemas de transferencias básicas no propician la eficienci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excepto en transferencias a los estados en México, pero en este caso: los municipios dependen del  nivel estatal y además riesgo de  inequi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stos sistemas determinan, para cada municipio, distintas combinanciones de descentralización política y operativa, la autonomía depende de la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capacidad de generación de ingresos fiscales propios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desigualdad en derecho ciudadano a proveerse de bienes locales 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(en función de sus ingresos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imes New Roman"/>
              </a:rPr>
              <a:t>4. Propuesta  (Modelo normativo)</a:t>
            </a:r>
            <a:br>
              <a:rPr sz="3600"/>
            </a:br>
            <a:r>
              <a:rPr b="0" lang="es-ES_tradnl" sz="4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iferenciaciones Bás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polí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diferenciar funcionalmente la demanda respecto a 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, cuánto y con 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recursos prove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raestructura básica y servicios públic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: nivele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rvicios de educación y salu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 = nivele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igua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erenciación establecida en México y ahora en Colom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066680"/>
            <a:ext cx="8458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eunir todas las transferencias existentes y conformar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dos sistemas subsidiarios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*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1) Sistema de redistribución social: para canasta social, respecto a ingresos familiares, integrado y operado por gobiernos subnacionales (Chile, Colomb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2) Sistema de redistribución territorial,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para desarrollo local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(a partir de infraestructura básica,  </a:t>
            </a:r>
            <a:r>
              <a:rPr b="1" i="1" lang="es-ES_tradnl" sz="2600" spc="-1" strike="noStrike">
                <a:solidFill>
                  <a:srgbClr val="ffffff"/>
                </a:solidFill>
                <a:latin typeface="Times New Roman"/>
              </a:rPr>
              <a:t>sobre experiencia de México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ferencias proporcionales a los aport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lativos</a:t>
            </a:r>
            <a:r>
              <a:rPr b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en principio: respecto a ingresos geográf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siderar incluir “cuasi-impuestos”: aportes en “tiempo”, trabajo, materiales, dinero (cuantificados por Fondos de Desarroll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a propuesta desde 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Profundización y Regionaliz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unitarios y feder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formar procesos de decisión autónoma en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niveles submun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: elección de asambleas, transferencia de potestades y recursos (Ej. Brasil, Ecuad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centivar -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 través de transferencias de tipo 1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mancomunidades muni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egionales, de derecho público 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función de regionalizació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; la base: cuencas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ansferir potestades a estas mancomunidades region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certación intra e inter del desarrollo regio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Uso del suelo y organización de servicios de utilidad pública, incluido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ovisión de infraestructura básica  y servicios públ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Mayor Participación Ciudadan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 y mayor autonomía fisc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lección de representantes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sistema territorial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, con obligación de informarse e informar, en los tres nivel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otestades de autoim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a modificar alícuotas (+ externalización de avalúo de bienes inmuebles, Ej. Españ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egalización de cuasi-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sulta obligatoria para compromisos de mediano y largo plazo: por ejemplo,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. Incentiv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directa: en organizacione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indirecta: a través de organizacion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s de información asequible: de base y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22280" y="1828800"/>
            <a:ext cx="75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zación del desarrollo local/regional: competi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quidad social y territorial: igualdad de oportun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arrollo de ciudadan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ficiencia fiscal y glob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dad política? - Debate y consenso para reforma estruc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ates, Wallace (1972) “Fiscal federalism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Federalismo fisca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IEAL (Madrid), 1977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usgrave, Richard A.; Peggy Musgrave (1984) “Public finance in theory and practice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Hacienda pública, trótica y aplicada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McGraw (Madrid),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not, Iván (2001)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Descentralización en América Latina: teoría y práctica.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EPAL (LC./L. 1521-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Síntesis en  “Descentralización en América Latina: una mirada desde la economía”</a:t>
            </a:r>
            <a:r>
              <a:rPr b="0" i="1" lang="es-ES" sz="2200" spc="-1" strike="noStrike">
                <a:solidFill>
                  <a:srgbClr val="ffff00"/>
                </a:solidFill>
                <a:latin typeface="Times New Roman"/>
              </a:rPr>
              <a:t> Revista de la CEPAL, 78, 200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Resumen y aplicación: 2003: “Descentralización en América Latina: cómo hacer viable el desarrollo local”. CEPAL (LC/L. 1986-P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tio web CEPAL: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epal.c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Publicaciones, Series de la CEPAL, Gesti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spectos Comunes y Di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Qué se descentralizó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de educación y salu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nfraestructura v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públicos (en menor medid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cia qué ni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Federales (menos Brasil): nivel intermedio y grandes ciuda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Unitarios: nivel municip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Brasil: énfasis </a:t>
            </a:r>
            <a:r>
              <a:rPr b="0" lang="es-ES_tradnl" sz="2600" spc="-1" strike="noStrike">
                <a:solidFill>
                  <a:srgbClr val="ffff99"/>
                </a:solidFill>
                <a:latin typeface="Times New Roman"/>
              </a:rPr>
              <a:t>en el municipal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Descentralización jerárquica y descentralización democrática (Brasi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5920" y="304560"/>
            <a:ext cx="7594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uces y sombras:</a:t>
            </a:r>
            <a:br>
              <a:rPr sz="4000"/>
            </a:b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1) Desconcentr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1752480"/>
          <a:ext cx="76964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696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657600" y="60199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Times New Roman"/>
              </a:rPr>
              <a:t>Elaborado en base a datos oficiales de cada paí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2) Eficiencia administra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jor adecuación a características territo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hay evidencias de mejoras en relación beneficio/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Corrup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ente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bre-co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3) Particip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Avance en derecho al vo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er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iesgo de nuevos centralismos si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Orientada a niveles intermed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Megamunicip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blemas de representación: Concej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66"/>
                </a:solidFill>
                <a:latin typeface="Times New Roman"/>
              </a:rPr>
              <a:t>Social?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- Aún escas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Except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lanificación participativa”: consulta para gasto y control a través de OTB’s (Boliv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Y casos puntuales: Ej. presupuesto participativo en Brasil (Porto Alegre: reducción de la evasión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4)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Territor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icial, muy importante, pero limit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concentración del gasto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centración del produ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 avance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rivada de redistribu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umento de cobertura 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 diferenciación en calida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5) Eficiencia Fisc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asi todos los paí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gastos &gt; aumento ingreso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sistemas de transferencias como % de impuestos son procíclicos: inducen desequilibrios macroeconómicos (CEPAL, 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del endeudamiento sub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=&gt;</a:t>
            </a:r>
            <a:r>
              <a:rPr b="0" lang="es-ES_tradnl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déficit fisc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xcepción: Ch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ólo transferencias intermunicip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ohibición de endeud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muy escasa descentralizació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6) Autonomía para Desarrollo Loc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centralización “política”: ¿“transferencia de competencias a autoridades electas”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basta, en la mayoría de los municipios las decisiones no son autónom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casa generación de ingres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gasto depende de transferencias condicionadas:  operan decisione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si no están condicionadas, no están vinculadas con el esfuerzo local: origen de desequilib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0:04:26Z</dcterms:created>
  <dc:creator>Iván Finot</dc:creator>
  <dc:description/>
  <dc:language>en-US</dc:language>
  <cp:lastModifiedBy>IFINOT</cp:lastModifiedBy>
  <cp:lastPrinted>2002-10-21T16:43:52Z</cp:lastPrinted>
  <dcterms:modified xsi:type="dcterms:W3CDTF">2004-09-10T15:13:57Z</dcterms:modified>
  <cp:revision>130</cp:revision>
  <dc:subject/>
  <dc:title>Descentralización a Comunidades y a Mercados: un Nuevo Enfoque para América Latina </dc:title>
</cp:coreProperties>
</file>