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F02-1B70-46B2-AE31-37CF9457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801-69C3-4D90-90C0-9B90CA2A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144-D72D-42E0-8EED-AC9E1097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BCEE-A0D6-4703-8F56-967B7357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5B5B-A2B1-4D3A-8674-CC73F967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A4A5-0FCD-49DC-B2DF-933A22B0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FB48-8BED-4842-983E-D052FED5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CF6D-E805-4A9A-832E-00CB5E70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3AA5-1461-4FC2-9BBF-22EEF57C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75960"/>
            <a:ext cx="8163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EC6D-59D1-43F5-BB20-A0F6501E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4C55-4496-4CA7-9639-1A91025D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A87-AE55-42E5-B111-D6FE6B80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6E0B-ED21-4B7F-948E-98B44F19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E6F3-EB3A-4582-AFFA-ED096007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4559-86D8-4998-A1D1-D353BEC1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DCA4-7EE8-404A-AD92-271840AB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B743-A29B-4958-93D5-496FD844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9E3-22E0-4F9F-9318-3F77D853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808-188B-4EEF-9AC5-96D4D700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538-4B9C-4DA0-8389-CC29B880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75960"/>
            <a:ext cx="8163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6C9-1DDC-4B4E-A065-07AF80C4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007-4AFC-419C-881C-859F254F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FD4-14F2-4F03-9D76-8CD615F1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288-3499-4F60-A21A-77E1E180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95280"/>
            <a:ext cx="6950160" cy="748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C5FB-ECA1-4F2E-8088-3CAC5ECEF216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338120"/>
            <a:ext cx="76788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0C6C-EC75-477B-BF1D-EE746FCD3F1C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0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177228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Los Desafíos del Mercado </a:t>
            </a:r>
            <a:br>
              <a:rPr sz="3600"/>
            </a:b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del Trabajo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4235400"/>
            <a:ext cx="65530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Verdana"/>
              </a:rPr>
              <a:t>27 de Agosto,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Verdana"/>
              </a:rPr>
              <a:t>Germán Acevedo 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Regió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42920" y="1633680"/>
            <a:ext cx="741672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Tipo de Contrat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4228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Tramo de Rent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62920" cy="47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1699920"/>
            <a:ext cx="81630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Análisis de las Características y Dinámicas del Mercado del Trabajo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590560" y="4235400"/>
            <a:ext cx="65530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tizantes por Rama de Actividad Económic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5013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356000" y="3357720"/>
            <a:ext cx="720720" cy="2592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492280"/>
            <a:ext cx="2087640" cy="3241800"/>
            <a:chOff x="1476360" y="2492280"/>
            <a:chExt cx="2087640" cy="3241800"/>
          </a:xfrm>
        </p:grpSpPr>
        <p:sp>
          <p:nvSpPr>
            <p:cNvPr id="257" name=""/>
            <p:cNvSpPr/>
            <p:nvPr/>
          </p:nvSpPr>
          <p:spPr>
            <a:xfrm>
              <a:off x="2843280" y="2492280"/>
              <a:ext cx="720720" cy="316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6360" y="3141720"/>
              <a:ext cx="720720" cy="2592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26920" y="1835280"/>
            <a:ext cx="7274160" cy="39495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44136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ntratos Creados según Rama de Actividad</a:t>
            </a:r>
            <a:br>
              <a:rPr sz="2400"/>
            </a:b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9a0000"/>
                </a:solidFill>
                <a:latin typeface="Verdana"/>
              </a:rPr>
              <a:t>(oct-02 a jun-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26920" y="2421000"/>
            <a:ext cx="5832720" cy="863640"/>
            <a:chOff x="826920" y="2421000"/>
            <a:chExt cx="5832720" cy="863640"/>
          </a:xfrm>
        </p:grpSpPr>
        <p:sp>
          <p:nvSpPr>
            <p:cNvPr id="262" name=""/>
            <p:cNvSpPr/>
            <p:nvPr/>
          </p:nvSpPr>
          <p:spPr>
            <a:xfrm>
              <a:off x="826920" y="2421000"/>
              <a:ext cx="5832720" cy="287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6920" y="2997360"/>
              <a:ext cx="5832720" cy="287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826920" y="3500280"/>
            <a:ext cx="5832720" cy="576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19640" y="1844640"/>
            <a:ext cx="1511280" cy="3960720"/>
          </a:xfrm>
          <a:prstGeom prst="rect">
            <a:avLst/>
          </a:prstGeom>
          <a:noFill/>
          <a:ln w="38160">
            <a:solidFill>
              <a:srgbClr val="26f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670040" y="4653000"/>
            <a:ext cx="5423040" cy="16095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44136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ntratos Creados según Tamaño de Empresa</a:t>
            </a:r>
            <a:br>
              <a:rPr sz="2400"/>
            </a:b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9a0000"/>
                </a:solidFill>
                <a:latin typeface="Verdana"/>
              </a:rPr>
              <a:t>(oct-02 a jun-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93640" y="1758960"/>
            <a:ext cx="8442360" cy="1393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26920" y="3645000"/>
            <a:ext cx="756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1/ El Seguro de Cesantía define el tamaño de empresas en términos del número de trabajadores “pequeña” = de 1 a 49 t , “mediana” = de 50 a 199 t y "grande" = más de 200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348000" y="2133720"/>
            <a:ext cx="719280" cy="3309840"/>
            <a:chOff x="3348000" y="2133720"/>
            <a:chExt cx="719280" cy="3309840"/>
          </a:xfrm>
        </p:grpSpPr>
        <p:sp>
          <p:nvSpPr>
            <p:cNvPr id="271" name=""/>
            <p:cNvSpPr/>
            <p:nvPr/>
          </p:nvSpPr>
          <p:spPr>
            <a:xfrm>
              <a:off x="3348000" y="2133720"/>
              <a:ext cx="719280" cy="358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157720"/>
              <a:ext cx="719280" cy="28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645080" y="2637000"/>
            <a:ext cx="1798560" cy="3384360"/>
            <a:chOff x="4645080" y="2637000"/>
            <a:chExt cx="1798560" cy="3384360"/>
          </a:xfrm>
        </p:grpSpPr>
        <p:sp>
          <p:nvSpPr>
            <p:cNvPr id="274" name=""/>
            <p:cNvSpPr/>
            <p:nvPr/>
          </p:nvSpPr>
          <p:spPr>
            <a:xfrm>
              <a:off x="5724360" y="2637000"/>
              <a:ext cx="719280" cy="358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45080" y="5735520"/>
              <a:ext cx="718920" cy="28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tizantes por Tamaño de Empres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55840" y="6345360"/>
            <a:ext cx="657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amaño de empresa según número de trabajadores: Micro = de 1 a 9 trabajadores, Pequeña = de 10 a 49, Mediana = 50 a 199 y Grande = más de 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9850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Tipo de Contrat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991560" cy="478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292720" y="4292640"/>
            <a:ext cx="358920" cy="1511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979640" y="4797360"/>
            <a:ext cx="5616720" cy="1152720"/>
            <a:chOff x="1979640" y="4797360"/>
            <a:chExt cx="5616720" cy="1152720"/>
          </a:xfrm>
        </p:grpSpPr>
        <p:sp>
          <p:nvSpPr>
            <p:cNvPr id="283" name=""/>
            <p:cNvSpPr/>
            <p:nvPr/>
          </p:nvSpPr>
          <p:spPr>
            <a:xfrm>
              <a:off x="1979640" y="4797360"/>
              <a:ext cx="56167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6000" y="4797360"/>
              <a:ext cx="360360" cy="11527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Géner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187280" y="1677960"/>
            <a:ext cx="6840720" cy="46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oblación Objetivo del seguro de Desemple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03124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9640" y="3357720"/>
            <a:ext cx="1656000" cy="12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Tramos de E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57080" y="1549440"/>
            <a:ext cx="7560000" cy="51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ensidad de Cotizaciones de Relaciones Laboral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5931000" cy="431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7020000" y="1839960"/>
            <a:ext cx="201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56% de las relaciones laborales dura la mitad del tiempo o me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24% ha cotizado todos los meses desde la afili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6920" y="6078600"/>
            <a:ext cx="56167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Densidad =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Verdana"/>
              </a:rPr>
              <a:t>número de meses cot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número de meses desde afil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Relación Salario Promedio y Antigüedad en Emple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26920" y="1811160"/>
            <a:ext cx="748044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Jornada Parcia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407280" cy="36576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860840" y="6237360"/>
            <a:ext cx="60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El 52% de los Afiliados no reporta las horas trabajadas según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Jornada Parcia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3924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racterización de Cotizantes por Grupo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1935000"/>
            <a:ext cx="181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54120" y="2440080"/>
            <a:ext cx="55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os salarios ($1 a $200 mil mensuales) = $109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de 1 a 6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1.091.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55560" y="3879720"/>
            <a:ext cx="665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arios promedio ($200 mil a $400 mil mensuales) = $ 27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de 7 a 12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126.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25400" y="5392800"/>
            <a:ext cx="580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os salarios (más de $400 mil mensuales) = $757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más de 12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78.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300720" y="1413000"/>
            <a:ext cx="2625840" cy="82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racterización de Cotizantes por Grupo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40728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bertura del Seguro de Desempleo Junio/04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1714680"/>
            <a:ext cx="6388200" cy="1066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65520" y="6381720"/>
            <a:ext cx="318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 INE Mar-May 2004, SAFP Jun-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26920" y="3284640"/>
            <a:ext cx="7250400" cy="3379320"/>
            <a:chOff x="826920" y="3284640"/>
            <a:chExt cx="7250400" cy="3379320"/>
          </a:xfrm>
        </p:grpSpPr>
        <p:sp>
          <p:nvSpPr>
            <p:cNvPr id="222" name=""/>
            <p:cNvSpPr/>
            <p:nvPr/>
          </p:nvSpPr>
          <p:spPr>
            <a:xfrm>
              <a:off x="7769160" y="3463920"/>
              <a:ext cx="308160" cy="1946160"/>
            </a:xfrm>
            <a:custGeom>
              <a:avLst/>
              <a:gdLst/>
              <a:ahLst/>
              <a:rect l="l" t="t" r="r" b="b"/>
              <a:pathLst>
                <a:path w="194" h="1226">
                  <a:moveTo>
                    <a:pt x="46" y="1226"/>
                  </a:moveTo>
                  <a:lnTo>
                    <a:pt x="194" y="1017"/>
                  </a:lnTo>
                  <a:lnTo>
                    <a:pt x="19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1200" y="5356080"/>
              <a:ext cx="4608000" cy="520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tizantes al Seguro de Cesantía a Jun ’04 = 1.3513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filiados al Seguro de Cesantía a Jun ’04    = 2.735.75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68160" y="6021360"/>
              <a:ext cx="285552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Cobertura Cotizantes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3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Cobertura Afiliados  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7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6920" y="3284640"/>
              <a:ext cx="6769440" cy="28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900000" y="3348000"/>
            <a:ext cx="6537600" cy="17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Evolución Afiliados y Cotizant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73240" y="1665360"/>
            <a:ext cx="692784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SEN 2000 – Cobertur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68680" cy="3870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031840" y="5823000"/>
            <a:ext cx="513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42% de los asalariados privados dura 24 meses o menos en el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700360" y="1773360"/>
            <a:ext cx="0" cy="324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99640" y="1628280"/>
            <a:ext cx="53197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Caracterización de los Afiliados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Género y E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1120" y="1341360"/>
            <a:ext cx="3819600" cy="2841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427640" y="3911760"/>
            <a:ext cx="431784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Nivel Educativ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5840" y="1765440"/>
            <a:ext cx="7401240" cy="47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Rama de Activi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44640" y="1660680"/>
            <a:ext cx="7299360" cy="486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6:21:58Z</dcterms:created>
  <dc:creator>Patricio Cerda - SAFP</dc:creator>
  <dc:description/>
  <dc:language>en-US</dc:language>
  <cp:lastModifiedBy>José Inostroza</cp:lastModifiedBy>
  <dcterms:modified xsi:type="dcterms:W3CDTF">2004-08-30T14:28:12Z</dcterms:modified>
  <cp:revision>257</cp:revision>
  <dc:subject/>
  <dc:title>Seguro de Cesantí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960B44930DC4541A1861A716A8D7F0384342E00</vt:lpwstr>
  </property>
  <property fmtid="{D5CDD505-2E9C-101B-9397-08002B2CF9AE}" pid="3" name="_ReviewCycleID">
    <vt:r8>-461839552</vt:r8>
  </property>
  <property fmtid="{D5CDD505-2E9C-101B-9397-08002B2CF9AE}" pid="4" name="_ReviewingToolsShownOnce">
    <vt:lpwstr/>
  </property>
</Properties>
</file>