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
        <p:nvSpPr>
          <p:cNvPr id="40"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8000"/>
          </a:bodyPr>
          <a:p>
            <a:pPr marL="335880" indent="-3358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alicemos el siguiente ejemplo para una empresa que desesa evaluar una inversión de 1200 y que tiene una tasa de impuesto de 40% y tasa de descuento del 10%.</a:t>
            </a:r>
            <a:endParaRPr b="0" lang="en-US" sz="2000" spc="-1" strike="noStrike">
              <a:solidFill>
                <a:srgbClr val="000000"/>
              </a:solidFill>
              <a:latin typeface="Times New Roman"/>
            </a:endParaRPr>
          </a:p>
          <a:p>
            <a:pPr marL="335880" indent="-3358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do se financia con capital propio:</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6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9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5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preciac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A. Impt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5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Net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9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de ca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3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6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90</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VAN = -74,34</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6000"/>
          </a:bodyPr>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 (1) se obtiene:</a:t>
            </a: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VANo = (r * I - B1)/(1+r) + Bn+1/(1+r)^n+1</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momento óptimo de inversión se produce cuando el delta VAN es igual a 0</a:t>
            </a:r>
            <a:endParaRPr b="0" lang="en-US" sz="2000" spc="-1" strike="noStrike">
              <a:solidFill>
                <a:srgbClr val="000000"/>
              </a:solidFill>
              <a:latin typeface="Times New Roman"/>
            </a:endParaRPr>
          </a:p>
          <a:p>
            <a:pPr marL="329040" indent="-329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PUESTO: Hacer el análisis para los dos casos anteriors asumiendo que el monto de inversión cambia dependiendo del momento en que se realice.</a:t>
            </a:r>
            <a:endParaRPr b="0" lang="en-US" sz="2000" spc="-1" strike="noStrike">
              <a:solidFill>
                <a:srgbClr val="000000"/>
              </a:solidFill>
              <a:latin typeface="Times New Roman"/>
            </a:endParaRPr>
          </a:p>
          <a:p>
            <a:pPr marL="329040" indent="-3290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gen otras variantes a analizar para este caso como son:</a:t>
            </a:r>
            <a:endParaRPr b="0" lang="en-US" sz="2000" spc="-1" strike="noStrike">
              <a:solidFill>
                <a:srgbClr val="000000"/>
              </a:solidFill>
              <a:latin typeface="Times New Roman"/>
            </a:endParaRPr>
          </a:p>
          <a:p>
            <a:pPr lvl="1" marL="713160" indent="-2743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versión tiene una vida útil finita y los beneficios son función del tiempo y del momento en que se realiza la inversión</a:t>
            </a:r>
            <a:endParaRPr b="0" lang="en-US" sz="1800" spc="-1" strike="noStrike">
              <a:solidFill>
                <a:srgbClr val="000000"/>
              </a:solidFill>
              <a:latin typeface="Times New Roman"/>
            </a:endParaRPr>
          </a:p>
          <a:p>
            <a:pPr lvl="1" marL="713160" indent="-2743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eríodo de construcción dura más de un año ( caso de proyectos eléctricos)</a:t>
            </a:r>
            <a:endParaRPr b="0" lang="en-US" sz="18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TAMAÑO OPTIMO DE LA INVERSIÓN</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75000"/>
          </a:bodyPr>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blema surge en este caso para aquellos proyectos en que sus beneficios dependen de la inversión que se realice.</a:t>
            </a: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evamente el problema lo resolvemos planteando el problema para dos tamaños diferentes y haciendo la diferencia.</a:t>
            </a: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N para una inversión I1 es:</a:t>
            </a: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N1 = -I1 + </a:t>
            </a:r>
            <a:r>
              <a:rPr b="0" lang="en-US" sz="2000" spc="-1" strike="noStrike">
                <a:solidFill>
                  <a:srgbClr val="000000"/>
                </a:solidFill>
                <a:latin typeface="Symbol"/>
                <a:ea typeface="Symbol"/>
              </a:rPr>
              <a:t></a:t>
            </a:r>
            <a:r>
              <a:rPr b="0" lang="en-US" sz="2000" spc="-1" strike="noStrike">
                <a:solidFill>
                  <a:srgbClr val="000000"/>
                </a:solidFill>
                <a:latin typeface="Times New Roman"/>
              </a:rPr>
              <a:t> BNi</a:t>
            </a:r>
            <a:r>
              <a:rPr b="0" lang="en-US" sz="2000" spc="-1" strike="noStrike" baseline="30000">
                <a:solidFill>
                  <a:srgbClr val="000000"/>
                </a:solidFill>
                <a:latin typeface="Times New Roman"/>
              </a:rPr>
              <a:t>1</a:t>
            </a:r>
            <a:r>
              <a:rPr b="0" lang="en-US" sz="2000" spc="-1" strike="noStrike">
                <a:solidFill>
                  <a:srgbClr val="000000"/>
                </a:solidFill>
                <a:latin typeface="Times New Roman"/>
              </a:rPr>
              <a:t>/(1+r)</a:t>
            </a:r>
            <a:r>
              <a:rPr b="0" lang="en-US" sz="2000" spc="-1" strike="noStrike" baseline="30000">
                <a:solidFill>
                  <a:srgbClr val="000000"/>
                </a:solidFill>
                <a:latin typeface="Times New Roman"/>
              </a:rPr>
              <a:t>i</a:t>
            </a: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N para una inversión I2 es:</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N2 = -I2 + </a:t>
            </a:r>
            <a:r>
              <a:rPr b="0" lang="en-US" sz="2000" spc="-1" strike="noStrike">
                <a:solidFill>
                  <a:srgbClr val="000000"/>
                </a:solidFill>
                <a:latin typeface="Symbol"/>
                <a:ea typeface="Symbol"/>
              </a:rPr>
              <a:t></a:t>
            </a:r>
            <a:r>
              <a:rPr b="0" lang="en-US" sz="2000" spc="-1" strike="noStrike">
                <a:solidFill>
                  <a:srgbClr val="000000"/>
                </a:solidFill>
                <a:latin typeface="Times New Roman"/>
              </a:rPr>
              <a:t> BN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r)</a:t>
            </a:r>
            <a:r>
              <a:rPr b="0" lang="en-US" sz="2000" spc="-1" strike="noStrike" baseline="30000">
                <a:solidFill>
                  <a:srgbClr val="000000"/>
                </a:solidFill>
                <a:latin typeface="Times New Roman"/>
              </a:rPr>
              <a:t>i</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tamaño óptimo se obtiene cuando VAN2 - VAN1 = 0</a:t>
            </a:r>
            <a:endParaRPr b="0" lang="en-US" sz="2000" spc="-1" strike="noStrike">
              <a:solidFill>
                <a:srgbClr val="000000"/>
              </a:solidFill>
              <a:latin typeface="Times New Roman"/>
            </a:endParaRPr>
          </a:p>
          <a:p>
            <a:pPr marL="257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57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1000"/>
          </a:bodyPr>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de otro punto de vista.</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define Tasa marginal interna de retorno (TMIR) como aquella tasa que hace igual a cero la diferencia VAN2 - VAN1.</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el tamaño óptimo de inversión se obtiene cuando la TMIR es igual a la tasa de descuento del proyecto.</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 TMIR por calcularse en forma similar a la TIR tiene problemas similares.</a:t>
            </a:r>
            <a:endParaRPr b="0" lang="en-US" sz="2000" spc="-1" strike="noStrike">
              <a:solidFill>
                <a:srgbClr val="000000"/>
              </a:solidFill>
              <a:latin typeface="Times New Roman"/>
            </a:endParaRPr>
          </a:p>
          <a:p>
            <a:pPr marL="312120" indent="-3121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se sugiere siempre realizar la diferencia de VAN para determinar el tamaño óptimo de inversión.</a:t>
            </a: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TAMAÑO OPTIMO DE LA INVERSIÓN</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
        <p:nvSpPr>
          <p:cNvPr id="69"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67000"/>
          </a:bodyPr>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variables relevantes en el problema de reemplazo de equipos son:</a:t>
            </a:r>
            <a:endParaRPr b="0" lang="en-US" sz="20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eración</a:t>
            </a:r>
            <a:endParaRPr b="0" lang="en-US" sz="18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imiento</a:t>
            </a:r>
            <a:endParaRPr b="0" lang="en-US" sz="1800" spc="-1" strike="noStrike">
              <a:solidFill>
                <a:srgbClr val="000000"/>
              </a:solidFill>
              <a:latin typeface="Times New Roman"/>
            </a:endParaRPr>
          </a:p>
          <a:p>
            <a:pPr lvl="1" marL="497520" indent="-1911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 de capital.</a:t>
            </a:r>
            <a:endParaRPr b="0" lang="en-US" sz="18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el siguiente ejemplo para los próximos tres años:</a:t>
            </a: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quine vie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quina Nuev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 = 10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 1180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 Neto = 4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ngreso Neto = 4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0:11800   Años 1-3:400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97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67000"/>
          </a:bodyPr>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os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0:10000   Años 1-3:4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jos Neto de reemplazar la maquina vieja</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 0: -1800  Años 1-3 : 740</a:t>
            </a: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ste caso resulta un VAN positivo el reemplazar la máquina.</a:t>
            </a: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resumen el problema de reemplazo de equipos dependerá del los ingresos marginales que me genere la nueva máquina, el ahorro de costos y el diferencial entre el valor de la máquina nueva y la vieja.</a:t>
            </a:r>
            <a:endParaRPr b="0" lang="en-US" sz="2000" spc="-1" strike="noStrike">
              <a:solidFill>
                <a:srgbClr val="000000"/>
              </a:solidFill>
              <a:latin typeface="Times New Roman"/>
            </a:endParaRPr>
          </a:p>
          <a:p>
            <a:pPr marL="229680" indent="-2296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as estas variables son función del tiempo por lo cual hay que determinar el momento óptimo de reemplazo de equipos.</a:t>
            </a: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97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2"/>
          <a:stretch/>
        </p:blipFill>
        <p:spPr>
          <a:xfrm>
            <a:off x="1447920" y="5715000"/>
            <a:ext cx="7515000" cy="727200"/>
          </a:xfrm>
          <a:prstGeom prst="rect">
            <a:avLst/>
          </a:prstGeom>
          <a:ln w="0">
            <a:noFill/>
          </a:ln>
        </p:spPr>
      </p:pic>
      <p:sp>
        <p:nvSpPr>
          <p:cNvPr id="72" name="PlaceHolder 2"/>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295280" y="2025720"/>
            <a:ext cx="6629400" cy="4667040"/>
          </a:xfrm>
          <a:prstGeom prst="rect">
            <a:avLst/>
          </a:prstGeom>
          <a:ln w="0">
            <a:noFill/>
          </a:ln>
        </p:spPr>
      </p:pic>
      <p:sp>
        <p:nvSpPr>
          <p:cNvPr id="74" name="PlaceHolder 1"/>
          <p:cNvSpPr>
            <a:spLocks noGrp="1"/>
          </p:cNvSpPr>
          <p:nvPr>
            <p:ph type="title"/>
          </p:nvPr>
        </p:nvSpPr>
        <p:spPr>
          <a:xfrm>
            <a:off x="1181160" y="0"/>
            <a:ext cx="678168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REEMPLAZO DE EQUIPO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9000"/>
          </a:bodyPr>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y capital prestado y la deuda se devuelve al final</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tam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gres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6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9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5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ese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preciación</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40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A. Impt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5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dad Net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de caj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4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570</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VAN = 25,14</a:t>
            </a:r>
            <a:endParaRPr b="0" lang="en-US" sz="2000" spc="-1" strike="noStrike">
              <a:solidFill>
                <a:srgbClr val="000000"/>
              </a:solidFill>
              <a:latin typeface="Times New Roman"/>
            </a:endParaRPr>
          </a:p>
        </p:txBody>
      </p:sp>
      <p:sp>
        <p:nvSpPr>
          <p:cNvPr id="42" name="PlaceHolder 2"/>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vemos el resultado de nuestro ejemplo es que resulta más conveniente pedir prestados los fondos.</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e efecto se conoce como apalancamiento financiero.</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roduce por el hecho que los intereses permiten reducir impuestos y por el hecho de diferir la inversión en el tiempo. Al pedir prestado el desembolso lo realizo en el tercer año en el caso del ejemplo.</a:t>
            </a:r>
            <a:endParaRPr b="0" lang="en-US" sz="2400" spc="-1" strike="noStrike">
              <a:solidFill>
                <a:srgbClr val="000000"/>
              </a:solidFill>
              <a:latin typeface="Times New Roman"/>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regunta que surge aquí ¿es correcto descontar en ambos casos con la misma tasa los flujos?</a:t>
            </a: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1143000" y="-360"/>
            <a:ext cx="685800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RAGE FINANCIERO</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9000"/>
          </a:bodyPr>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y inversiones que tienen implícita una determinada tasa de crecimiento del stock del capital invertido (plantaciones de árboles, añejamiento de vinos, cría de animales, etc.)</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ge el problema de determinar entonces cual es el momento óptimo para liquidar la inversión.</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alicemos a través de un ejemplo numérico.</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la tasa de interés del mercado es del 5% y que la inversión inicial es de $ 100 para comprar un bosque que crecerá a una tasa Ki% por año.</a:t>
            </a:r>
            <a:endParaRPr b="0" lang="en-US" sz="2000" spc="-1" strike="noStrike">
              <a:solidFill>
                <a:srgbClr val="000000"/>
              </a:solidFill>
              <a:latin typeface="Times New Roman"/>
            </a:endParaRPr>
          </a:p>
          <a:p>
            <a:pPr marL="339480" indent="-3394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uede construir la siguiente tabla:</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1: Valor del bosque al final de cada añ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2: Tasa de crecimiento del bosque </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3: Costo alternativo de la inversión cuando la tasa de interés es del 5%.</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la 4: Beneficio neto que se obtiene si se vende el producto de la inversión comparado con la mejor alternativa (Fila 1 - Fila3)</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a 5: Valor actual del beneficio neto obtenido descontado al 5%.</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a 6: Indica la tasa interna de retorno (TIR) cuando se liquida la inversión el año i.</a:t>
            </a:r>
            <a:endParaRPr b="0" lang="en-US" sz="18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izando los números se concluye:</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iqueza del inversionista se maximiza cuando la tasa de crecimiento del valor del producto se iguala con la tasa de descuento. </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 tasa de mercado puede no ser la tasa relevante para el inversionista.</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el inversionista reinvierte sus fondos en el mismo proyecto el momento óptimo de liquidar el proyecto es cuando la TIR se hace máxima. </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o puede demostrarse de la siguiente manera:</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 cabo de 24 años al liquidar al 6 año alcanza a hacer 4 rotaciones y obtiene una riqueza de 791,11</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 liquidar al 8 solo alcanza a hacer 3 rotaciones y alcanza solo 707,97.</a:t>
            </a:r>
            <a:endParaRPr b="0" lang="en-US" sz="1800" spc="-1" strike="noStrike">
              <a:solidFill>
                <a:srgbClr val="000000"/>
              </a:solidFill>
              <a:latin typeface="Times New Roman"/>
            </a:endParaRPr>
          </a:p>
        </p:txBody>
      </p:sp>
      <p:sp>
        <p:nvSpPr>
          <p:cNvPr id="48"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ede ocurrir que un proyecto tenga VAN positivo, pero aun siendo rentable hoy convenga postergar su inversión.</a:t>
            </a: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jemplo de esto puede ser una carretera cuya evaluación depende del número de vehículos que circulan y estos son función del tiem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flipV="1">
            <a:off x="1981080" y="2971440"/>
            <a:ext cx="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981080" y="5486400"/>
            <a:ext cx="4038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76560" y="56037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ños</a:t>
            </a:r>
            <a:endParaRPr b="0" lang="en-US" sz="2400" spc="-1" strike="noStrike">
              <a:solidFill>
                <a:srgbClr val="000000"/>
              </a:solidFill>
              <a:latin typeface="Times New Roman"/>
            </a:endParaRPr>
          </a:p>
        </p:txBody>
      </p:sp>
      <p:sp>
        <p:nvSpPr>
          <p:cNvPr id="53" name=""/>
          <p:cNvSpPr/>
          <p:nvPr/>
        </p:nvSpPr>
        <p:spPr>
          <a:xfrm>
            <a:off x="842400" y="30132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a:t>
            </a:r>
            <a:endParaRPr b="0" lang="en-US" sz="2400" spc="-1" strike="noStrike">
              <a:solidFill>
                <a:srgbClr val="000000"/>
              </a:solidFill>
              <a:latin typeface="Times New Roman"/>
            </a:endParaRPr>
          </a:p>
        </p:txBody>
      </p:sp>
      <p:sp>
        <p:nvSpPr>
          <p:cNvPr id="54" name=""/>
          <p:cNvSpPr/>
          <p:nvPr/>
        </p:nvSpPr>
        <p:spPr>
          <a:xfrm flipV="1">
            <a:off x="-380160" y="1065960"/>
            <a:ext cx="457128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7000"/>
          </a:bodyPr>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ongamos un proyecto de vida útil infinita y que no cambia el monto de la inversión independiente de cuando se realice.</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a una inversión de I, una tasa de descuento r y los beneficios aumentan 1 cada año:</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invierto ahora el VAN del proyecto será:</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o = -I + 1/(1+r) + 2/(1+r)^2 + ……….        (1)</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postergo 1 año la inversión el VAN será:</a:t>
            </a: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I/(1+r) + 2/(1+r) + 3/(1+r)^2 + ……..  (2)</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ganancia de VAN de postergar la inversión se obtiene restando (2) menos (1).</a:t>
            </a:r>
            <a:endParaRPr b="0" lang="en-US" sz="2000" spc="-1" strike="noStrike">
              <a:solidFill>
                <a:srgbClr val="000000"/>
              </a:solidFill>
              <a:latin typeface="Times New Roman"/>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 (1) se obtiene:</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VANo = I - (I+1)/(1+r) = I - (I+B1)/(1+r)</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esto se desprende que el resultado seguirá siendo positivo hasta que Bi = r * I. En este punto la diferencia de VAN se hace 0.</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en el caso de un proyecto de vida útil infinita que no cambia el monto de su inversión debe realizarse cuando los beneficios del primer año son iguales al costo de capital de la inversión comprometida en el proyect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447560"/>
            <a:ext cx="7772400" cy="5181480"/>
          </a:xfrm>
          <a:prstGeom prst="rect">
            <a:avLst/>
          </a:prstGeom>
          <a:noFill/>
          <a:ln w="0">
            <a:noFill/>
          </a:ln>
        </p:spPr>
        <p:txBody>
          <a:bodyPr lIns="90360" rIns="90360" tIns="44280" bIns="44280" anchor="t">
            <a:normAutofit fontScale="97000"/>
          </a:bodyPr>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ongamos  ahora que el proyecto tiene vida útil finita y que no cambia el monto de la inversión independiente de cuando se realice. Se asume que la vida útil del proyecto no cambia si se posterga la inversión.</a:t>
            </a: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invierto ahora el VAN del proyecto será:</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o = -I + B1/(1+r) + B2/(1+r)^2 + …….Bn/(1+r)^n        (1)</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postergo 1 año la inversión el VAN será:</a:t>
            </a: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VAN1 = -I/(1+r) + B2/(1+r) + B3/(1+r)^2 +.Bn+1/(1+r)^n+1  (2)</a:t>
            </a:r>
            <a:endParaRPr b="0" lang="en-US" sz="2000" spc="-1" strike="noStrike">
              <a:solidFill>
                <a:srgbClr val="000000"/>
              </a:solidFill>
              <a:latin typeface="Times New Roman"/>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ganancia de VAN de postergar la inversión se obtiene restando (2) menos (1).</a:t>
            </a:r>
            <a:endParaRPr b="0" lang="en-US" sz="2000" spc="-1" strike="noStrike">
              <a:solidFill>
                <a:srgbClr val="000000"/>
              </a:solidFill>
              <a:latin typeface="Times New Roman"/>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PlaceHolder 2"/>
          <p:cNvSpPr>
            <a:spLocks noGrp="1"/>
          </p:cNvSpPr>
          <p:nvPr>
            <p:ph type="title"/>
          </p:nvPr>
        </p:nvSpPr>
        <p:spPr>
          <a:xfrm>
            <a:off x="1143000" y="0"/>
            <a:ext cx="685800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LICACIONES: MOMENTO OPTIMO PARA LIQUIDAR UNA INVERSIÓ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2000-08-10T13:24:25Z</cp:lastPrinted>
  <dcterms:modified xsi:type="dcterms:W3CDTF">2003-10-17T16:26:12Z</dcterms:modified>
  <cp:revision>22</cp:revision>
  <dc:subject>Planificación financiera</dc:subject>
  <dc:title>PLANIFICACION FINANCIERA</dc:title>
</cp:coreProperties>
</file>