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685800" y="41148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42920" y="5013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or: Eduardo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drigo La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ualidades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8928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09360" y="475452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F (1/(1+i)^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890720" y="2286000"/>
            <a:ext cx="3017160" cy="1983600"/>
            <a:chOff x="1890720" y="2286000"/>
            <a:chExt cx="3017160" cy="1983600"/>
          </a:xfrm>
        </p:grpSpPr>
        <p:sp>
          <p:nvSpPr>
            <p:cNvPr id="47" name=""/>
            <p:cNvSpPr/>
            <p:nvPr/>
          </p:nvSpPr>
          <p:spPr>
            <a:xfrm>
              <a:off x="1981080" y="31590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981080" y="24728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3159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9680" y="228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579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907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053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752480" y="4648320"/>
            <a:ext cx="31244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alidades  con cuotas ig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65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36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57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4852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86160" y="209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86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25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695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413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1960" y="505476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* [{(1+i)^n-1}/{i*(1+i)^n}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920" y="580536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P * [{i*(1+i)^n}/{(1+i)^n-1}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952880"/>
            <a:ext cx="525780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6172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46720" y="560376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de R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Gradiente uniforme (aumento unifor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4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2920" y="4343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69880" y="4572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4096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n-1)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040" y="5729400"/>
            <a:ext cx="84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(A+G/i) * [{(1+i)^n-1}/{i*(1+i)^n}]-[G/i*n/(1+i)^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638680"/>
            <a:ext cx="83818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4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1840" y="43434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68440" y="457200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9880" y="5029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7120" y="572940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* [(1+g)^n/(1+i)^n-1]/(g-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638680"/>
            <a:ext cx="51055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petu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65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523880" y="236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7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6160" y="209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86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25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695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413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2680" y="50547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/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5280" y="580536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P *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952880"/>
            <a:ext cx="213336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53080" y="34290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360" y="342900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538600">
            <a:off x="7147080" y="316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15000">
            <a:off x="7147080" y="289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1840" y="43434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68440" y="457200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9880" y="5029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49520" y="572940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/ (i-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5638680"/>
            <a:ext cx="2361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86040" y="32004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638320" y="32004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dc:language>en-US</dc:language>
  <cp:lastModifiedBy>cl144313585</cp:lastModifiedBy>
  <cp:lastPrinted>1997-04-16T17:24:08Z</cp:lastPrinted>
  <dcterms:modified xsi:type="dcterms:W3CDTF">2004-07-28T13:48:44Z</dcterms:modified>
  <cp:revision>10</cp:revision>
  <dc:subject>Planificación financiera</dc:subject>
  <dc:title>PLANIFICACION FINANCIERA</dc:title>
</cp:coreProperties>
</file>