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397-B035-4CA7-8146-926AD200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83B-0889-48DD-887C-C9BE77B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6DF-4DE6-436F-997D-935C1425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D41-0C56-401C-9F38-BFE0E308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621-9110-45CD-A3AF-294C68B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487-A0EE-4B7C-9BE3-F6313B2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824-F2FD-4A14-9A19-1C75EB4D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B21-0A7D-4985-8A0B-1AC820B1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D0D-FC8E-4B6A-B4E6-D723A70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2A0-B7F6-4529-9EF0-BD947D4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434-E121-4AFD-975F-DC865AA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C32-3843-4A91-A242-98C2DB4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DE0-A1C7-48BC-AD90-C31A2DE2702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7080" y="1430280"/>
            <a:ext cx="51116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Gestión Estratégica en el 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ector Público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Organización Focalizada en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400" y="990720"/>
            <a:ext cx="2819520" cy="304776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1752480"/>
            <a:ext cx="1676520" cy="140364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7200" y="3200400"/>
            <a:ext cx="1466640" cy="65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Gestión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120" y="1230480"/>
            <a:ext cx="253080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1. LIDERAZGO EJECU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4080" y="1067040"/>
            <a:ext cx="1752840" cy="5202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5. PROCESO  CONTINU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25000" y="3954600"/>
            <a:ext cx="216792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4. TRABAJO DE TO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4217760"/>
            <a:ext cx="1855800" cy="7333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. ALINEAMIENTO DE LA 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520" y="3776040"/>
            <a:ext cx="1651320" cy="6314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2. TRADUCIR 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480" y="1751400"/>
            <a:ext cx="2923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atrocinio de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quipo Ejecutivo compromet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Nueva forma de administr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sponsable por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ultura del 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00720" y="1757520"/>
            <a:ext cx="2590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presu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uniones de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istema retroali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ceso de 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50040" y="4402800"/>
            <a:ext cx="2490840" cy="8589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onciencia 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Alineación de 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centivos vincul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68720" y="5150160"/>
            <a:ext cx="3029040" cy="1229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de unidades de nego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unidades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ocios 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4530960"/>
            <a:ext cx="241776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isión /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apa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Balanced Score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043520" y="1447920"/>
            <a:ext cx="14666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o 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8240" y="2749680"/>
            <a:ext cx="2273400" cy="2431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11440" y="996840"/>
            <a:ext cx="2273400" cy="151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11440" y="4730760"/>
            <a:ext cx="2273400" cy="143496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8680" y="2749680"/>
            <a:ext cx="2273040" cy="2508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2133720"/>
            <a:ext cx="0" cy="250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4572000"/>
            <a:ext cx="1365120" cy="98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936760" y="4495680"/>
            <a:ext cx="1530360" cy="113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0760" y="1066680"/>
            <a:ext cx="223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La visión de l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pósitos y valores esen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7560" y="2836800"/>
            <a:ext cx="2236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913120"/>
            <a:ext cx="1931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ortunidades y amenaz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13040" y="4800600"/>
            <a:ext cx="1932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pacidad de implantación de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importancia de la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2368440"/>
            <a:ext cx="8026560" cy="3492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57200"/>
            <a:ext cx="6553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808280"/>
            <a:ext cx="84456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Ideología de la 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Valores Esen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levar la Cultura Japonesa y el Estatus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Ser un Pionero-no seguir a otros; haciendo lo im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Innovadora creatividad y habilidad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xperimentar la completa alegría de la innovación y la aplicación de la tecnología para el beneficio y placer de los de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960" y="2476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" y="1238400"/>
            <a:ext cx="826956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Visionar el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M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Llegar a ser la Compañía más conocida por cambiar la imagen mundial de la pobre calidad de los productos japon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escripción v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Nosotros crearemos  productos que penetrarán en todo el mundo... Nosotros llegaremos a ser la primera compañía japonesa en introducirse en el mercado norteamericano y distribuirles directamente... Nosotros tendremos éxito con innovaciones que compañías norteamericanas han fallado- tales como radiotransistores... y significará  innovación y calidad que competirá con las más innovadoras compañías de cualquier parte... “Hecho en Japón” significará algo fino, no algo de pacot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1295280"/>
            <a:ext cx="823428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olucionar innovadoramente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blemas no res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il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Mejorar el nivel de vida alrededor d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ewlett-Packard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Hacer contribuciones técnicas para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eso y bienestar de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t Arrow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er un rol modelo y una herramient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cial par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cific Theatr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Proveer un lugar para las person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florecer y realzar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y Kay Cosmetic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Dar ilimitadas oportunidades a l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j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9280" y="1143000"/>
            <a:ext cx="80676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c Kinsey &amp; Compa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Ayudar a las corporaciones líderes y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obiernos a ser más exit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k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ervar y mejorar la vida hu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xperimentar la alegría de aventajar y aplica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ecnología  para el beneficio de las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lecare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yudar a las personas con deficiencia menta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darse cuenta de sus máximos pot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-Mart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rle a la gente común las mism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hances de compra que la gente r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t Disne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personas fe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1fa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47600"/>
            <a:ext cx="1219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 la marc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1487520"/>
            <a:ext cx="15242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productiv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5240" y="1468440"/>
            <a:ext cx="18446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crecimiento ingr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1116000"/>
            <a:ext cx="51055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Valor para Agentes Clav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0160" y="1954080"/>
            <a:ext cx="15080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1955880"/>
            <a:ext cx="17524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estructura de cos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947600"/>
            <a:ext cx="1896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 para 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40516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5680" y="1490760"/>
            <a:ext cx="12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Valor para accionis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O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83120" y="2152800"/>
            <a:ext cx="144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Nuevas fuentes de ingres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28520" y="2162160"/>
            <a:ext cx="134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ntabilidad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3760" y="2209680"/>
            <a:ext cx="88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sto unit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4520" y="217980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33560" y="1371600"/>
            <a:ext cx="1805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5000" y="25765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22800" y="25765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Liderazgo de produc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5080" y="27241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3240" y="2733840"/>
            <a:ext cx="135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Intimidad con clien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895480"/>
            <a:ext cx="5186520" cy="935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Proposición de valor a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3146400"/>
            <a:ext cx="2881440" cy="66348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Atributos Producto/Servic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3120" y="3147840"/>
            <a:ext cx="150336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6480" y="3147840"/>
            <a:ext cx="79884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Ima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46600" y="28987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Excelencia Oper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33880" y="2382840"/>
            <a:ext cx="130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Adquisi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7360" y="2373480"/>
            <a:ext cx="120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ten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08132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3440" y="38527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atisfacción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840" y="2963880"/>
            <a:ext cx="1769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95560" y="4395960"/>
            <a:ext cx="6435720" cy="51732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81360" y="5310360"/>
            <a:ext cx="4800600" cy="48096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Una fuerza de trabajo preparada y moti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1360" y="5691240"/>
            <a:ext cx="4800600" cy="55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06640" y="5845320"/>
            <a:ext cx="1467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mpetenci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5845320"/>
            <a:ext cx="136188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ecnologí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6680" y="5845320"/>
            <a:ext cx="1080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lima para ac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5181480"/>
            <a:ext cx="7086600" cy="14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8120" y="424008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ROCES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INTER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5480" y="5410080"/>
            <a:ext cx="2130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R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Y APRENDIZA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42900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7242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0958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91520" y="50716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600520" y="3852360"/>
            <a:ext cx="7596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347720" y="3852360"/>
            <a:ext cx="1098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457000" y="3852360"/>
            <a:ext cx="954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2481120"/>
            <a:ext cx="2247840" cy="1752840"/>
          </a:xfrm>
          <a:custGeom>
            <a:avLst/>
            <a:gdLst/>
            <a:ahLst/>
            <a:rect l="l" t="t" r="r" b="b"/>
            <a:pathLst>
              <a:path w="1416" h="1104">
                <a:moveTo>
                  <a:pt x="0" y="1104"/>
                </a:moveTo>
                <a:cubicBezTo>
                  <a:pt x="492" y="1052"/>
                  <a:pt x="984" y="1000"/>
                  <a:pt x="1200" y="816"/>
                </a:cubicBezTo>
                <a:cubicBezTo>
                  <a:pt x="1416" y="632"/>
                  <a:pt x="1356" y="316"/>
                  <a:pt x="129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224000"/>
            <a:ext cx="2324160" cy="2990880"/>
          </a:xfrm>
          <a:custGeom>
            <a:avLst/>
            <a:gdLst/>
            <a:ahLst/>
            <a:rect l="l" t="t" r="r" b="b"/>
            <a:pathLst>
              <a:path w="1080" h="1728">
                <a:moveTo>
                  <a:pt x="0" y="1728"/>
                </a:moveTo>
                <a:cubicBezTo>
                  <a:pt x="300" y="1592"/>
                  <a:pt x="600" y="1456"/>
                  <a:pt x="768" y="1248"/>
                </a:cubicBezTo>
                <a:cubicBezTo>
                  <a:pt x="936" y="1040"/>
                  <a:pt x="1080" y="688"/>
                  <a:pt x="1008" y="480"/>
                </a:cubicBezTo>
                <a:cubicBezTo>
                  <a:pt x="936" y="272"/>
                  <a:pt x="448" y="80"/>
                  <a:pt x="33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933960" y="17092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19920" y="171900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33920" y="1690560"/>
            <a:ext cx="185760" cy="23832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84480" y="168876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0480" y="118584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56" y="240"/>
                </a:moveTo>
                <a:cubicBezTo>
                  <a:pt x="28" y="188"/>
                  <a:pt x="0" y="136"/>
                  <a:pt x="8" y="96"/>
                </a:cubicBezTo>
                <a:cubicBezTo>
                  <a:pt x="16" y="56"/>
                  <a:pt x="88" y="16"/>
                  <a:pt x="104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1230480"/>
            <a:ext cx="16488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0" y="192"/>
                </a:moveTo>
                <a:cubicBezTo>
                  <a:pt x="44" y="160"/>
                  <a:pt x="88" y="128"/>
                  <a:pt x="96" y="96"/>
                </a:cubicBezTo>
                <a:cubicBezTo>
                  <a:pt x="104" y="64"/>
                  <a:pt x="56" y="16"/>
                  <a:pt x="48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733560" y="235224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86000" y="234756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76320"/>
            <a:ext cx="7413840" cy="7808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Arial"/>
              </a:rPr>
              <a:t>LOS MAPAS DE ESTRATEGIA PROMUEVEN EL ALINEAMIENTO Y EFICIENCIA DEL EQUIPO GEREN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47840" y="4175280"/>
            <a:ext cx="1465200" cy="9284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13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9040" y="4348440"/>
            <a:ext cx="88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r la marca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novació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19440" y="4175280"/>
            <a:ext cx="1673280" cy="9284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81600" y="4219560"/>
            <a:ext cx="8982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l cliente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dminist. 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lient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67360" y="4175280"/>
            <a:ext cx="1557360" cy="9284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0200" y="4284720"/>
            <a:ext cx="873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Logr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xcelenci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4176720"/>
            <a:ext cx="1725480" cy="90972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50000" y="4172040"/>
            <a:ext cx="116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Ser buen ciudadan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orporativo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Regulatori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y ambientales)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1480" y="3454560"/>
            <a:ext cx="4827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Pre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2280" y="3454560"/>
            <a:ext cx="5461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2920" y="3454560"/>
            <a:ext cx="5446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iemp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30680" y="3454560"/>
            <a:ext cx="841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Funcion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91240" y="3454560"/>
            <a:ext cx="5331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ervi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8000" y="3454560"/>
            <a:ext cx="744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38880" y="3454560"/>
            <a:ext cx="5317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Mar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320" y="4740120"/>
            <a:ext cx="619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990720"/>
            <a:ext cx="18954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1050840"/>
            <a:ext cx="17622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050840"/>
            <a:ext cx="169416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14300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ACTIVITY BASED COS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106668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1066680"/>
            <a:ext cx="162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BENCHMAR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ECONOMIC VALUE AD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16240" y="129528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CALIDAD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1120" y="1981080"/>
            <a:ext cx="4724280" cy="1752480"/>
            <a:chOff x="411120" y="1981080"/>
            <a:chExt cx="4724280" cy="1752480"/>
          </a:xfrm>
        </p:grpSpPr>
        <p:sp>
          <p:nvSpPr>
            <p:cNvPr id="405" name=""/>
            <p:cNvSpPr/>
            <p:nvPr/>
          </p:nvSpPr>
          <p:spPr>
            <a:xfrm>
              <a:off x="41112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9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35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11120" y="3733920"/>
            <a:ext cx="5227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1600200"/>
            <a:ext cx="5335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1219320"/>
            <a:ext cx="2895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560" y="5256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Integración de Objetivos y Herramientas de Gest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61246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  <a:ea typeface="Arial"/>
              </a:rPr>
              <a:t>OPINIONES DE REFERENTES: BALANCED SCORECARD COLLABORATIVE, STERN &amp; STEWARD, INDUSTRIA DE SOFTWARE Y DESARROLLO DE “SUITES SEM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4437000"/>
            <a:ext cx="4679640" cy="1618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Cultura y capacidad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Definición y desarrollo de estrateg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l  valor agreg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calidad y  cli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excelencia en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575320" y="2077920"/>
            <a:ext cx="3492360" cy="3863880"/>
            <a:chOff x="5575320" y="2077920"/>
            <a:chExt cx="3492360" cy="3863880"/>
          </a:xfrm>
        </p:grpSpPr>
        <p:sp>
          <p:nvSpPr>
            <p:cNvPr id="415" name=""/>
            <p:cNvSpPr/>
            <p:nvPr/>
          </p:nvSpPr>
          <p:spPr>
            <a:xfrm>
              <a:off x="6870600" y="2077920"/>
              <a:ext cx="92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ueñ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776640" y="2408400"/>
              <a:ext cx="1006200" cy="1395720"/>
              <a:chOff x="6776640" y="2408400"/>
              <a:chExt cx="1006200" cy="139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6776640" y="2408400"/>
                <a:ext cx="1006200" cy="139572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0760" y="2419920"/>
                <a:ext cx="96804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5575320" y="3058560"/>
              <a:ext cx="100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630760" y="3399120"/>
              <a:ext cx="1234440" cy="1097280"/>
              <a:chOff x="5630760" y="3399120"/>
              <a:chExt cx="1234440" cy="109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5630760" y="3399120"/>
                <a:ext cx="1234440" cy="10972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2720" y="3416760"/>
                <a:ext cx="1208520" cy="107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6865200" y="3943800"/>
              <a:ext cx="1006200" cy="1410480"/>
              <a:chOff x="6865200" y="3943800"/>
              <a:chExt cx="1006200" cy="1410480"/>
            </a:xfrm>
          </p:grpSpPr>
          <p:sp>
            <p:nvSpPr>
              <p:cNvPr id="424" name=""/>
              <p:cNvSpPr/>
              <p:nvPr/>
            </p:nvSpPr>
            <p:spPr>
              <a:xfrm>
                <a:off x="6865200" y="3943800"/>
                <a:ext cx="1006200" cy="14104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9320" y="3966840"/>
                <a:ext cx="96948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"/>
            <p:cNvSpPr/>
            <p:nvPr/>
          </p:nvSpPr>
          <p:spPr>
            <a:xfrm>
              <a:off x="6600240" y="5362560"/>
              <a:ext cx="1589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rendizaje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c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7871760" y="2995920"/>
              <a:ext cx="1147680" cy="1420200"/>
              <a:chOff x="7871760" y="2995920"/>
              <a:chExt cx="1147680" cy="1420200"/>
            </a:xfrm>
          </p:grpSpPr>
          <p:sp>
            <p:nvSpPr>
              <p:cNvPr id="428" name=""/>
              <p:cNvSpPr/>
              <p:nvPr/>
            </p:nvSpPr>
            <p:spPr>
              <a:xfrm>
                <a:off x="7871760" y="2995920"/>
                <a:ext cx="1147680" cy="142020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93000" y="3008520"/>
                <a:ext cx="1119960" cy="139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"/>
            <p:cNvSpPr/>
            <p:nvPr/>
          </p:nvSpPr>
          <p:spPr>
            <a:xfrm>
              <a:off x="7913520" y="2411640"/>
              <a:ext cx="115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88000" y="3213000"/>
            <a:ext cx="182880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4320" y="327816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64320" y="3278160"/>
            <a:ext cx="162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GESTIÓN ESTRATEGICA CON B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8823" r="28113" b="0"/>
          <a:stretch/>
        </p:blipFill>
        <p:spPr>
          <a:xfrm>
            <a:off x="0" y="0"/>
            <a:ext cx="32004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Arial Narrow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4480" y="1276200"/>
            <a:ext cx="57895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Herramientas de Gestión Estratég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Ejemplos de apl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624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080" y="378000"/>
            <a:ext cx="54133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7621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08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80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3080" y="3745080"/>
            <a:ext cx="3770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4160" y="374508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Aplic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23160" y="37450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3480" y="3745080"/>
            <a:ext cx="177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correctivas&amp;adaptar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16360" y="2808360"/>
            <a:ext cx="1800" cy="4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2725560"/>
            <a:ext cx="98280" cy="111240"/>
          </a:xfrm>
          <a:custGeom>
            <a:avLst/>
            <a:gdLst/>
            <a:ahLst/>
            <a:rect l="l" t="t" r="r" b="b"/>
            <a:pathLst>
              <a:path w="62" h="70">
                <a:moveTo>
                  <a:pt x="62" y="70"/>
                </a:moveTo>
                <a:lnTo>
                  <a:pt x="31" y="58"/>
                </a:lnTo>
                <a:lnTo>
                  <a:pt x="0" y="70"/>
                </a:lnTo>
                <a:lnTo>
                  <a:pt x="31" y="0"/>
                </a:lnTo>
                <a:lnTo>
                  <a:pt x="62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994200" y="3914280"/>
            <a:ext cx="473040" cy="4050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35520" y="4272120"/>
            <a:ext cx="114120" cy="110880"/>
          </a:xfrm>
          <a:custGeom>
            <a:avLst/>
            <a:gdLst/>
            <a:ahLst/>
            <a:rect l="l" t="t" r="r" b="b"/>
            <a:pathLst>
              <a:path w="72" h="70">
                <a:moveTo>
                  <a:pt x="31" y="0"/>
                </a:moveTo>
                <a:lnTo>
                  <a:pt x="44" y="27"/>
                </a:lnTo>
                <a:lnTo>
                  <a:pt x="72" y="42"/>
                </a:lnTo>
                <a:lnTo>
                  <a:pt x="0" y="7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979880" y="3914640"/>
            <a:ext cx="503280" cy="395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29160" y="4257720"/>
            <a:ext cx="123840" cy="106200"/>
          </a:xfrm>
          <a:custGeom>
            <a:avLst/>
            <a:gdLst/>
            <a:ahLst/>
            <a:rect l="l" t="t" r="r" b="b"/>
            <a:pathLst>
              <a:path w="78" h="67">
                <a:moveTo>
                  <a:pt x="0" y="45"/>
                </a:moveTo>
                <a:lnTo>
                  <a:pt x="31" y="30"/>
                </a:lnTo>
                <a:lnTo>
                  <a:pt x="40" y="0"/>
                </a:lnTo>
                <a:lnTo>
                  <a:pt x="78" y="67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1360" y="1320840"/>
            <a:ext cx="208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8840" y="1320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Fij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3200" y="132084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03720" y="1538280"/>
            <a:ext cx="9666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04800" y="153360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08400" y="3305160"/>
            <a:ext cx="1055880" cy="681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73640" y="3475080"/>
            <a:ext cx="70164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67240" y="3508200"/>
            <a:ext cx="662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6520" y="3503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3638520"/>
            <a:ext cx="3141720" cy="152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2080" y="3735360"/>
            <a:ext cx="3097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280" y="3730680"/>
            <a:ext cx="87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dició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6840" y="3730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l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52440" y="373068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sempeñ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2080" y="3981600"/>
            <a:ext cx="1605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1360" y="39765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7240" y="3981600"/>
            <a:ext cx="2638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0840" y="397656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92080" y="4194000"/>
            <a:ext cx="160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1360" y="4194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7240" y="4194000"/>
            <a:ext cx="2997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2280" y="419400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2080" y="44118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360" y="44118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7240" y="4411800"/>
            <a:ext cx="2817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7240" y="4411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8360" y="4411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3520" y="4411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4629240"/>
            <a:ext cx="160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1360" y="462924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57240" y="4629240"/>
            <a:ext cx="281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7240" y="4629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EVA/VB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080" y="48420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1360" y="4842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4842000"/>
            <a:ext cx="2997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9760" y="4842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066680"/>
            <a:ext cx="3032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40" y="335268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60440" y="3344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&amp;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880" y="334476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imension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9040" y="334476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esvia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97280" y="3049200"/>
            <a:ext cx="1800" cy="260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0" y="2967120"/>
            <a:ext cx="95400" cy="110880"/>
          </a:xfrm>
          <a:custGeom>
            <a:avLst/>
            <a:gdLst/>
            <a:ahLst/>
            <a:rect l="l" t="t" r="r" b="b"/>
            <a:pathLst>
              <a:path w="60" h="70">
                <a:moveTo>
                  <a:pt x="60" y="70"/>
                </a:moveTo>
                <a:lnTo>
                  <a:pt x="29" y="61"/>
                </a:lnTo>
                <a:lnTo>
                  <a:pt x="0" y="70"/>
                </a:lnTo>
                <a:lnTo>
                  <a:pt x="29" y="0"/>
                </a:lnTo>
                <a:lnTo>
                  <a:pt x="6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1557360"/>
            <a:ext cx="2803680" cy="141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7320" y="1576440"/>
            <a:ext cx="2852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94080" y="1576440"/>
            <a:ext cx="25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Clarificación&amp;comunic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7320" y="1822320"/>
            <a:ext cx="248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50600" y="18176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2840" y="181764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Visión y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05120" y="18176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Estrateg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7320" y="2070000"/>
            <a:ext cx="15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6600" y="2070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62480" y="2070000"/>
            <a:ext cx="2463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2120" y="2070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3240" y="20700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8760" y="2070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, AB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97320" y="2286000"/>
            <a:ext cx="15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6600" y="22813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2480" y="2286000"/>
            <a:ext cx="248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67520" y="22813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alue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98760"/>
            <a:ext cx="158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96600" y="24987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62480" y="2498760"/>
            <a:ext cx="264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2120" y="2498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2520" y="249876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25040" y="249876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Indicadore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9680" y="2498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laves 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7320" y="2716200"/>
            <a:ext cx="252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0920" y="271620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2480" y="3976560"/>
            <a:ext cx="3143160" cy="8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7520" y="4035600"/>
            <a:ext cx="3302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25720" y="4035600"/>
            <a:ext cx="148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joramiento &amp;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76240" y="4035600"/>
            <a:ext cx="103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Adapt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281480"/>
            <a:ext cx="158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26800" y="428148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2680" y="4281480"/>
            <a:ext cx="328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2680" y="4281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3840" y="42814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90000" y="42814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9520" y="42814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6200" y="42814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orrectiv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4498920"/>
            <a:ext cx="1587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800" y="44989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92680" y="4498920"/>
            <a:ext cx="2405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96280" y="4498920"/>
            <a:ext cx="19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Budge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71440" y="1595520"/>
            <a:ext cx="1990800" cy="1690560"/>
            <a:chOff x="1171440" y="1595520"/>
            <a:chExt cx="1990800" cy="1690560"/>
          </a:xfrm>
        </p:grpSpPr>
        <p:sp>
          <p:nvSpPr>
            <p:cNvPr id="149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03160" y="1595520"/>
              <a:ext cx="1459080" cy="1130040"/>
            </a:xfrm>
            <a:custGeom>
              <a:avLst/>
              <a:gdLst/>
              <a:ahLst/>
              <a:rect l="l" t="t" r="r" b="b"/>
              <a:pathLst>
                <a:path w="919" h="712">
                  <a:moveTo>
                    <a:pt x="919" y="597"/>
                  </a:moveTo>
                  <a:lnTo>
                    <a:pt x="872" y="518"/>
                  </a:lnTo>
                  <a:lnTo>
                    <a:pt x="825" y="445"/>
                  </a:lnTo>
                  <a:lnTo>
                    <a:pt x="775" y="375"/>
                  </a:lnTo>
                  <a:lnTo>
                    <a:pt x="722" y="311"/>
                  </a:lnTo>
                  <a:lnTo>
                    <a:pt x="669" y="250"/>
                  </a:lnTo>
                  <a:lnTo>
                    <a:pt x="615" y="198"/>
                  </a:lnTo>
                  <a:lnTo>
                    <a:pt x="559" y="149"/>
                  </a:lnTo>
                  <a:lnTo>
                    <a:pt x="502" y="107"/>
                  </a:lnTo>
                  <a:lnTo>
                    <a:pt x="446" y="73"/>
                  </a:lnTo>
                  <a:lnTo>
                    <a:pt x="393" y="43"/>
                  </a:lnTo>
                  <a:lnTo>
                    <a:pt x="339" y="22"/>
                  </a:lnTo>
                  <a:lnTo>
                    <a:pt x="286" y="6"/>
                  </a:lnTo>
                  <a:lnTo>
                    <a:pt x="236" y="0"/>
                  </a:lnTo>
                  <a:lnTo>
                    <a:pt x="186" y="0"/>
                  </a:lnTo>
                  <a:lnTo>
                    <a:pt x="142" y="6"/>
                  </a:lnTo>
                  <a:lnTo>
                    <a:pt x="98" y="25"/>
                  </a:lnTo>
                  <a:lnTo>
                    <a:pt x="69" y="40"/>
                  </a:lnTo>
                  <a:lnTo>
                    <a:pt x="44" y="61"/>
                  </a:lnTo>
                  <a:lnTo>
                    <a:pt x="22" y="89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44" y="122"/>
                  </a:lnTo>
                  <a:lnTo>
                    <a:pt x="85" y="131"/>
                  </a:lnTo>
                  <a:lnTo>
                    <a:pt x="132" y="146"/>
                  </a:lnTo>
                  <a:lnTo>
                    <a:pt x="176" y="165"/>
                  </a:lnTo>
                  <a:lnTo>
                    <a:pt x="223" y="192"/>
                  </a:lnTo>
                  <a:lnTo>
                    <a:pt x="267" y="219"/>
                  </a:lnTo>
                  <a:lnTo>
                    <a:pt x="314" y="253"/>
                  </a:lnTo>
                  <a:lnTo>
                    <a:pt x="361" y="289"/>
                  </a:lnTo>
                  <a:lnTo>
                    <a:pt x="405" y="332"/>
                  </a:lnTo>
                  <a:lnTo>
                    <a:pt x="449" y="375"/>
                  </a:lnTo>
                  <a:lnTo>
                    <a:pt x="493" y="423"/>
                  </a:lnTo>
                  <a:lnTo>
                    <a:pt x="537" y="475"/>
                  </a:lnTo>
                  <a:lnTo>
                    <a:pt x="578" y="530"/>
                  </a:lnTo>
                  <a:lnTo>
                    <a:pt x="618" y="588"/>
                  </a:lnTo>
                  <a:lnTo>
                    <a:pt x="694" y="712"/>
                  </a:lnTo>
                  <a:lnTo>
                    <a:pt x="919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3160" y="1635120"/>
              <a:ext cx="155520" cy="14400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98" y="0"/>
                  </a:moveTo>
                  <a:lnTo>
                    <a:pt x="69" y="15"/>
                  </a:lnTo>
                  <a:lnTo>
                    <a:pt x="44" y="36"/>
                  </a:lnTo>
                  <a:lnTo>
                    <a:pt x="22" y="64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8480" y="4924440"/>
            <a:ext cx="3863880" cy="1438200"/>
            <a:chOff x="3138480" y="4924440"/>
            <a:chExt cx="3863880" cy="1438200"/>
          </a:xfrm>
        </p:grpSpPr>
        <p:sp>
          <p:nvSpPr>
            <p:cNvPr id="154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8480" y="5449680"/>
              <a:ext cx="2365200" cy="912960"/>
            </a:xfrm>
            <a:custGeom>
              <a:avLst/>
              <a:gdLst/>
              <a:ahLst/>
              <a:rect l="l" t="t" r="r" b="b"/>
              <a:pathLst>
                <a:path w="1490" h="575">
                  <a:moveTo>
                    <a:pt x="0" y="110"/>
                  </a:moveTo>
                  <a:lnTo>
                    <a:pt x="19" y="174"/>
                  </a:lnTo>
                  <a:lnTo>
                    <a:pt x="47" y="231"/>
                  </a:lnTo>
                  <a:lnTo>
                    <a:pt x="84" y="289"/>
                  </a:lnTo>
                  <a:lnTo>
                    <a:pt x="125" y="338"/>
                  </a:lnTo>
                  <a:lnTo>
                    <a:pt x="175" y="387"/>
                  </a:lnTo>
                  <a:lnTo>
                    <a:pt x="232" y="429"/>
                  </a:lnTo>
                  <a:lnTo>
                    <a:pt x="292" y="466"/>
                  </a:lnTo>
                  <a:lnTo>
                    <a:pt x="357" y="496"/>
                  </a:lnTo>
                  <a:lnTo>
                    <a:pt x="426" y="523"/>
                  </a:lnTo>
                  <a:lnTo>
                    <a:pt x="502" y="545"/>
                  </a:lnTo>
                  <a:lnTo>
                    <a:pt x="580" y="560"/>
                  </a:lnTo>
                  <a:lnTo>
                    <a:pt x="662" y="569"/>
                  </a:lnTo>
                  <a:lnTo>
                    <a:pt x="743" y="575"/>
                  </a:lnTo>
                  <a:lnTo>
                    <a:pt x="828" y="572"/>
                  </a:lnTo>
                  <a:lnTo>
                    <a:pt x="916" y="560"/>
                  </a:lnTo>
                  <a:lnTo>
                    <a:pt x="1004" y="545"/>
                  </a:lnTo>
                  <a:lnTo>
                    <a:pt x="1490" y="435"/>
                  </a:lnTo>
                  <a:lnTo>
                    <a:pt x="1402" y="450"/>
                  </a:lnTo>
                  <a:lnTo>
                    <a:pt x="1314" y="463"/>
                  </a:lnTo>
                  <a:lnTo>
                    <a:pt x="1229" y="466"/>
                  </a:lnTo>
                  <a:lnTo>
                    <a:pt x="1148" y="460"/>
                  </a:lnTo>
                  <a:lnTo>
                    <a:pt x="1066" y="450"/>
                  </a:lnTo>
                  <a:lnTo>
                    <a:pt x="988" y="435"/>
                  </a:lnTo>
                  <a:lnTo>
                    <a:pt x="913" y="414"/>
                  </a:lnTo>
                  <a:lnTo>
                    <a:pt x="844" y="387"/>
                  </a:lnTo>
                  <a:lnTo>
                    <a:pt x="778" y="356"/>
                  </a:lnTo>
                  <a:lnTo>
                    <a:pt x="718" y="320"/>
                  </a:lnTo>
                  <a:lnTo>
                    <a:pt x="662" y="277"/>
                  </a:lnTo>
                  <a:lnTo>
                    <a:pt x="611" y="228"/>
                  </a:lnTo>
                  <a:lnTo>
                    <a:pt x="571" y="180"/>
                  </a:lnTo>
                  <a:lnTo>
                    <a:pt x="533" y="122"/>
                  </a:lnTo>
                  <a:lnTo>
                    <a:pt x="505" y="64"/>
                  </a:lnTo>
                  <a:lnTo>
                    <a:pt x="486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6140160"/>
              <a:ext cx="398520" cy="44640"/>
            </a:xfrm>
            <a:custGeom>
              <a:avLst/>
              <a:gdLst/>
              <a:ahLst/>
              <a:rect l="l" t="t" r="r" b="b"/>
              <a:pathLst>
                <a:path w="251" h="28">
                  <a:moveTo>
                    <a:pt x="251" y="0"/>
                  </a:moveTo>
                  <a:lnTo>
                    <a:pt x="188" y="12"/>
                  </a:lnTo>
                  <a:lnTo>
                    <a:pt x="125" y="22"/>
                  </a:lnTo>
                  <a:lnTo>
                    <a:pt x="62" y="25"/>
                  </a:lnTo>
                  <a:lnTo>
                    <a:pt x="0" y="28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64440" y="1706400"/>
            <a:ext cx="1782720" cy="1865520"/>
            <a:chOff x="6364440" y="1706400"/>
            <a:chExt cx="1782720" cy="1865520"/>
          </a:xfrm>
        </p:grpSpPr>
        <p:sp>
          <p:nvSpPr>
            <p:cNvPr id="159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70920" y="1987560"/>
              <a:ext cx="876240" cy="1584360"/>
            </a:xfrm>
            <a:custGeom>
              <a:avLst/>
              <a:gdLst/>
              <a:ahLst/>
              <a:rect l="l" t="t" r="r" b="b"/>
              <a:pathLst>
                <a:path w="552" h="998">
                  <a:moveTo>
                    <a:pt x="188" y="998"/>
                  </a:moveTo>
                  <a:lnTo>
                    <a:pt x="248" y="931"/>
                  </a:lnTo>
                  <a:lnTo>
                    <a:pt x="304" y="861"/>
                  </a:lnTo>
                  <a:lnTo>
                    <a:pt x="355" y="794"/>
                  </a:lnTo>
                  <a:lnTo>
                    <a:pt x="402" y="724"/>
                  </a:lnTo>
                  <a:lnTo>
                    <a:pt x="439" y="654"/>
                  </a:lnTo>
                  <a:lnTo>
                    <a:pt x="474" y="587"/>
                  </a:lnTo>
                  <a:lnTo>
                    <a:pt x="502" y="520"/>
                  </a:lnTo>
                  <a:lnTo>
                    <a:pt x="524" y="453"/>
                  </a:lnTo>
                  <a:lnTo>
                    <a:pt x="540" y="392"/>
                  </a:lnTo>
                  <a:lnTo>
                    <a:pt x="549" y="331"/>
                  </a:lnTo>
                  <a:lnTo>
                    <a:pt x="552" y="274"/>
                  </a:lnTo>
                  <a:lnTo>
                    <a:pt x="549" y="222"/>
                  </a:lnTo>
                  <a:lnTo>
                    <a:pt x="540" y="173"/>
                  </a:lnTo>
                  <a:lnTo>
                    <a:pt x="524" y="128"/>
                  </a:lnTo>
                  <a:lnTo>
                    <a:pt x="499" y="88"/>
                  </a:lnTo>
                  <a:lnTo>
                    <a:pt x="467" y="55"/>
                  </a:lnTo>
                  <a:lnTo>
                    <a:pt x="442" y="36"/>
                  </a:lnTo>
                  <a:lnTo>
                    <a:pt x="414" y="21"/>
                  </a:lnTo>
                  <a:lnTo>
                    <a:pt x="383" y="9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58" y="39"/>
                  </a:lnTo>
                  <a:lnTo>
                    <a:pt x="364" y="82"/>
                  </a:lnTo>
                  <a:lnTo>
                    <a:pt x="364" y="128"/>
                  </a:lnTo>
                  <a:lnTo>
                    <a:pt x="358" y="176"/>
                  </a:lnTo>
                  <a:lnTo>
                    <a:pt x="348" y="228"/>
                  </a:lnTo>
                  <a:lnTo>
                    <a:pt x="336" y="280"/>
                  </a:lnTo>
                  <a:lnTo>
                    <a:pt x="320" y="331"/>
                  </a:lnTo>
                  <a:lnTo>
                    <a:pt x="298" y="386"/>
                  </a:lnTo>
                  <a:lnTo>
                    <a:pt x="273" y="441"/>
                  </a:lnTo>
                  <a:lnTo>
                    <a:pt x="245" y="496"/>
                  </a:lnTo>
                  <a:lnTo>
                    <a:pt x="213" y="553"/>
                  </a:lnTo>
                  <a:lnTo>
                    <a:pt x="176" y="608"/>
                  </a:lnTo>
                  <a:lnTo>
                    <a:pt x="138" y="666"/>
                  </a:lnTo>
                  <a:lnTo>
                    <a:pt x="94" y="721"/>
                  </a:lnTo>
                  <a:lnTo>
                    <a:pt x="50" y="776"/>
                  </a:lnTo>
                  <a:lnTo>
                    <a:pt x="0" y="830"/>
                  </a:lnTo>
                  <a:lnTo>
                    <a:pt x="188" y="99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23520" y="1987560"/>
              <a:ext cx="189000" cy="8712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119" y="55"/>
                  </a:moveTo>
                  <a:lnTo>
                    <a:pt x="94" y="36"/>
                  </a:lnTo>
                  <a:lnTo>
                    <a:pt x="66" y="21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572000"/>
            <a:ext cx="2349720" cy="14349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1968480" cy="901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4863960" cy="3416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040" y="1668600"/>
            <a:ext cx="50115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ciones de factores de gestión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la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y retención del cl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vilidad de los emple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pacidad del 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rsiones en 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roductividad d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rrollo de nuevos produ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recimiento y éxito en el merc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ompetitividad respecto al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otras medidas específicas para cad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2813040"/>
            <a:ext cx="1843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Logro del objetiv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2040" y="4641840"/>
            <a:ext cx="26668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da Tradici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(desempeño financie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ana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050920"/>
            <a:ext cx="1066680" cy="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5720" y="2050920"/>
            <a:ext cx="0" cy="68580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9760" y="3727440"/>
            <a:ext cx="0" cy="137160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9760" y="5099040"/>
            <a:ext cx="380880" cy="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384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0"/>
            <a:ext cx="1676160" cy="1257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2247840"/>
            <a:ext cx="3124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08200" y="133344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41960" y="1785960"/>
            <a:ext cx="1630440" cy="2098800"/>
            <a:chOff x="5241960" y="1785960"/>
            <a:chExt cx="1630440" cy="2098800"/>
          </a:xfrm>
        </p:grpSpPr>
        <p:sp>
          <p:nvSpPr>
            <p:cNvPr id="187" name=""/>
            <p:cNvSpPr/>
            <p:nvPr/>
          </p:nvSpPr>
          <p:spPr>
            <a:xfrm>
              <a:off x="5241960" y="178596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281560" y="180360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144960" y="255276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0" y="2957400"/>
            <a:ext cx="2117520" cy="1650960"/>
            <a:chOff x="3240000" y="2957400"/>
            <a:chExt cx="2117520" cy="1650960"/>
          </a:xfrm>
        </p:grpSpPr>
        <p:sp>
          <p:nvSpPr>
            <p:cNvPr id="191" name=""/>
            <p:cNvSpPr/>
            <p:nvPr/>
          </p:nvSpPr>
          <p:spPr>
            <a:xfrm>
              <a:off x="3240000" y="295740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277800" y="298440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261040" y="4140360"/>
            <a:ext cx="1439640" cy="2120760"/>
            <a:chOff x="5261040" y="4140360"/>
            <a:chExt cx="1439640" cy="2120760"/>
          </a:xfrm>
        </p:grpSpPr>
        <p:sp>
          <p:nvSpPr>
            <p:cNvPr id="194" name=""/>
            <p:cNvSpPr/>
            <p:nvPr/>
          </p:nvSpPr>
          <p:spPr>
            <a:xfrm>
              <a:off x="5261040" y="4140360"/>
              <a:ext cx="1439640" cy="21207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295600" y="4175280"/>
              <a:ext cx="138708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3035160" y="550224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13640" y="2720880"/>
            <a:ext cx="1697040" cy="2135160"/>
            <a:chOff x="6713640" y="2720880"/>
            <a:chExt cx="1697040" cy="2135160"/>
          </a:xfrm>
        </p:grpSpPr>
        <p:sp>
          <p:nvSpPr>
            <p:cNvPr id="198" name=""/>
            <p:cNvSpPr/>
            <p:nvPr/>
          </p:nvSpPr>
          <p:spPr>
            <a:xfrm>
              <a:off x="6713640" y="272088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45320" y="273996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7403040" y="179064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74520" y="5143680"/>
            <a:ext cx="914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2320" y="41904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238880" y="0"/>
            <a:ext cx="1676520" cy="1371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16480" y="1671480"/>
            <a:ext cx="1630440" cy="2098800"/>
            <a:chOff x="5316480" y="1671480"/>
            <a:chExt cx="1630440" cy="2098800"/>
          </a:xfrm>
        </p:grpSpPr>
        <p:sp>
          <p:nvSpPr>
            <p:cNvPr id="209" name=""/>
            <p:cNvSpPr/>
            <p:nvPr/>
          </p:nvSpPr>
          <p:spPr>
            <a:xfrm>
              <a:off x="5316480" y="167148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356080" y="168912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314880" y="2843280"/>
            <a:ext cx="2117520" cy="1650960"/>
            <a:chOff x="3314880" y="2843280"/>
            <a:chExt cx="2117520" cy="1650960"/>
          </a:xfrm>
        </p:grpSpPr>
        <p:sp>
          <p:nvSpPr>
            <p:cNvPr id="212" name=""/>
            <p:cNvSpPr/>
            <p:nvPr/>
          </p:nvSpPr>
          <p:spPr>
            <a:xfrm>
              <a:off x="3314880" y="284328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352680" y="287028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335560" y="4025880"/>
            <a:ext cx="1440000" cy="2120760"/>
            <a:chOff x="5335560" y="4025880"/>
            <a:chExt cx="1440000" cy="2120760"/>
          </a:xfrm>
        </p:grpSpPr>
        <p:sp>
          <p:nvSpPr>
            <p:cNvPr id="215" name=""/>
            <p:cNvSpPr/>
            <p:nvPr/>
          </p:nvSpPr>
          <p:spPr>
            <a:xfrm>
              <a:off x="5335560" y="4025880"/>
              <a:ext cx="1440000" cy="2120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370480" y="4060800"/>
              <a:ext cx="138744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6788160" y="2606760"/>
            <a:ext cx="1697040" cy="2135160"/>
            <a:chOff x="6788160" y="2606760"/>
            <a:chExt cx="1697040" cy="2135160"/>
          </a:xfrm>
        </p:grpSpPr>
        <p:sp>
          <p:nvSpPr>
            <p:cNvPr id="218" name=""/>
            <p:cNvSpPr/>
            <p:nvPr/>
          </p:nvSpPr>
          <p:spPr>
            <a:xfrm>
              <a:off x="6788160" y="260676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819840" y="262584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34920" y="21337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02920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4120" y="1682640"/>
            <a:ext cx="1600200" cy="2021040"/>
            <a:chOff x="5334120" y="1682640"/>
            <a:chExt cx="1600200" cy="2021040"/>
          </a:xfrm>
        </p:grpSpPr>
        <p:sp>
          <p:nvSpPr>
            <p:cNvPr id="223" name=""/>
            <p:cNvSpPr/>
            <p:nvPr/>
          </p:nvSpPr>
          <p:spPr>
            <a:xfrm>
              <a:off x="5335560" y="1682640"/>
              <a:ext cx="1592280" cy="2021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1844640"/>
              <a:ext cx="1600200" cy="153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Resultados para los accionist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/ dueñ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E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76720" y="2819520"/>
            <a:ext cx="2127240" cy="2076120"/>
            <a:chOff x="3276720" y="2819520"/>
            <a:chExt cx="2127240" cy="2076120"/>
          </a:xfrm>
        </p:grpSpPr>
        <p:sp>
          <p:nvSpPr>
            <p:cNvPr id="226" name=""/>
            <p:cNvSpPr/>
            <p:nvPr/>
          </p:nvSpPr>
          <p:spPr>
            <a:xfrm>
              <a:off x="3278160" y="2819520"/>
              <a:ext cx="2125800" cy="1668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951280"/>
              <a:ext cx="2057400" cy="194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Clientes, mercado, segmentos de mercado, propuesta de valo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Calidad de Servic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81480" y="4076640"/>
            <a:ext cx="1752840" cy="2125800"/>
            <a:chOff x="5181480" y="4076640"/>
            <a:chExt cx="1752840" cy="2125800"/>
          </a:xfrm>
        </p:grpSpPr>
        <p:sp>
          <p:nvSpPr>
            <p:cNvPr id="229" name=""/>
            <p:cNvSpPr/>
            <p:nvPr/>
          </p:nvSpPr>
          <p:spPr>
            <a:xfrm>
              <a:off x="5184720" y="4076640"/>
              <a:ext cx="1679760" cy="212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159440"/>
              <a:ext cx="1752840" cy="13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Infraestructura, gente, sistemas,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81680" y="2666880"/>
            <a:ext cx="1676520" cy="2049480"/>
            <a:chOff x="6781680" y="2666880"/>
            <a:chExt cx="1676520" cy="2049480"/>
          </a:xfrm>
        </p:grpSpPr>
        <p:sp>
          <p:nvSpPr>
            <p:cNvPr id="232" name=""/>
            <p:cNvSpPr/>
            <p:nvPr/>
          </p:nvSpPr>
          <p:spPr>
            <a:xfrm>
              <a:off x="6781680" y="2666880"/>
              <a:ext cx="1676520" cy="204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9160" y="2747880"/>
              <a:ext cx="1508040" cy="194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Procesos internos que diferencian al negoci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AB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82720" y="121932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19480" y="2438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3881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77560" y="167652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7200" y="30492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10666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33"/>
                </a:solidFill>
                <a:latin typeface="Arial"/>
                <a:ea typeface="Arial"/>
              </a:rPr>
              <a:t>La capacidad de implantar la Estrategia es lo cent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3480" y="493560"/>
            <a:ext cx="7817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 Valor de Poder Hacer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828800"/>
            <a:ext cx="47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bffff"/>
                </a:solidFill>
                <a:latin typeface="Arial"/>
              </a:rPr>
              <a:t>FACTORES QUE INFLUENCIAN LA VALORIZACION DE LA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pacidad de ejecución de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redibilidad de la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lidad de la estrategia</a:t>
            </a:r>
            <a:r>
              <a:rPr b="1" lang="es-ES_tradnl" sz="2400" spc="-1" strike="noStrike">
                <a:solidFill>
                  <a:srgbClr val="fb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Innovación (nuevos produc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pacidad para atraer gente talent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09680"/>
            <a:ext cx="3657600" cy="2057400"/>
          </a:xfrm>
          <a:prstGeom prst="cloudCallout">
            <a:avLst>
              <a:gd name="adj1" fmla="val 26564"/>
              <a:gd name="adj2" fmla="val 52236"/>
            </a:avLst>
          </a:prstGeom>
          <a:solidFill>
            <a:srgbClr val="6d6fc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2589120"/>
            <a:ext cx="2863800" cy="103140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Mayor proporc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lementos no Financie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n valor de l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52680" y="2209680"/>
            <a:ext cx="2438640" cy="1600200"/>
          </a:xfrm>
          <a:prstGeom prst="ellipse">
            <a:avLst/>
          </a:prstGeom>
          <a:gradFill rotWithShape="0">
            <a:gsLst>
              <a:gs pos="0">
                <a:srgbClr val="33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2514600"/>
            <a:ext cx="23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de cada 10 fallan al ejecutar la estrategia (Fortu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76320"/>
            <a:ext cx="9144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desafío es traducir la estrategia en acción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atro barreras para la implementación de la 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576252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respuesta  es “una organización focalizada en la estrategia”. BSC facilita llevar a la organización desde un sistema de control enfocado al corto plazo hacia la gestión estratégica involucrando a todo el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762120"/>
            <a:ext cx="30477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838080"/>
            <a:ext cx="2895840" cy="114300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9144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5% de la fuerza de trabajo comprende la estrategia</a:t>
            </a:r>
            <a:r>
              <a:rPr b="1" lang="es-ES" sz="1600" spc="-1" strike="noStrike">
                <a:solidFill>
                  <a:srgbClr val="fbffff"/>
                </a:solidFill>
                <a:latin typeface="Arial"/>
                <a:ea typeface="Osaka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212724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20356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266920"/>
            <a:ext cx="281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85% de los equipos ejecutivos pasan menos de una hora al mes discutiendo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13372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0968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e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 de 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la g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25% de los gerentes tiene incentivos vinculad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886200"/>
            <a:ext cx="2971800" cy="14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962520"/>
            <a:ext cx="2819520" cy="13017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3968640"/>
            <a:ext cx="2889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os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60% de las organizaciones no vincula sus presupuest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6:08:51Z</dcterms:created>
  <dc:creator>Juan Ramon Samaniego</dc:creator>
  <dc:description/>
  <dc:language>en-US</dc:language>
  <cp:lastModifiedBy>Gastón L'Huilllier</cp:lastModifiedBy>
  <dcterms:modified xsi:type="dcterms:W3CDTF">2004-11-10T02:34:56Z</dcterms:modified>
  <cp:revision>124</cp:revision>
  <dc:subject/>
  <dc:title>Diapositiva 1</dc:title>
</cp:coreProperties>
</file>