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11D7-2820-4C8A-A5E5-52679FC6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9952-4F6D-4654-985D-28DE3D6E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0F76-1CD9-4EDA-B2CF-52FCEBB7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68E7-1723-4940-BFDC-EAAEC9DE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675C-11E8-4942-ACE9-ED2119B8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8840-DA68-4910-A7BA-D9DCD73F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D348-D926-4585-A3BE-199ADE1E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12BB-4033-4AEF-9BB0-B2D88EDE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4591-AAE4-4CD2-8ACC-28D08C5C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3920-6D51-4D82-BC72-A92EDBE1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B1BD-F737-4AF7-872D-757E5F35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2FBB-C1BB-4E04-8E2A-AB81788C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A571-EFBA-439C-BA15-433A8AE7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68E5-28A3-4FF4-B8B1-4D87DFAE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FA0A-A0A1-4980-B5F4-5EA53735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EAD9-6CD9-4472-8A3E-16832F8E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61B6-B5F5-403A-AEA7-B692A7F1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5730-3067-43D0-8C31-E17A9EEB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9104-9220-4001-A96E-EA09CCD6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20DC-B36C-464C-9448-E92243E1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26AB-4516-4653-B71C-C57DC110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5D56-DDD7-4AF9-BD5C-0C54F37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7E18-3CDD-4B7D-BE42-C85E9D3F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7794-BFA6-4B08-91DC-2A94535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AC7C-13B7-4867-927C-31E20721B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622F-0A04-4545-A8F5-AC7A853D74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gpp.cl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42920" y="1699920"/>
            <a:ext cx="58388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ffffff"/>
                </a:solidFill>
                <a:latin typeface="Verdana"/>
              </a:rPr>
              <a:t>PAUTA de TRABAJO DEL </a:t>
            </a:r>
            <a:br>
              <a:rPr sz="3300"/>
            </a:br>
            <a:r>
              <a:rPr b="1" lang="es-CL" sz="3300" spc="-1" strike="noStrike">
                <a:solidFill>
                  <a:srgbClr val="ffffff"/>
                </a:solidFill>
                <a:latin typeface="Verdana"/>
              </a:rPr>
              <a:t>CURSO DE GESTIÓN PÚBLICA 2004</a:t>
            </a:r>
            <a:br>
              <a:rPr sz="3300"/>
            </a:br>
            <a:r>
              <a:rPr b="1" lang="es-CL" sz="3300" spc="-1" strike="noStrike">
                <a:solidFill>
                  <a:srgbClr val="ff3300"/>
                </a:solidFill>
                <a:latin typeface="Verdana"/>
              </a:rPr>
              <a:t>(sujeta a  las modificaciones del documento que se enviará)</a:t>
            </a:r>
            <a:br>
              <a:rPr sz="3300"/>
            </a:br>
            <a:r>
              <a:rPr b="1" i="1" lang="es-CL" sz="1800" spc="-1" strike="noStrike">
                <a:solidFill>
                  <a:srgbClr val="ffffff"/>
                </a:solidFill>
                <a:latin typeface="Verdana"/>
              </a:rPr>
              <a:t>MGGP</a:t>
            </a:r>
            <a:br>
              <a:rPr sz="1800"/>
            </a:br>
            <a:r>
              <a:rPr b="1" i="1" lang="es-CL" sz="1800" spc="-1" strike="noStrike">
                <a:solidFill>
                  <a:srgbClr val="ffffff"/>
                </a:solidFill>
                <a:latin typeface="Verdana"/>
              </a:rPr>
              <a:t>julio de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4. Contenido de los informes: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Primer Inform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berá contener una revisión sobre el propósito, entorno y capacidades, según se explica en esta pauta. Desde esta revisión, se debe formular un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diagnóstico general y preliminar de la organizació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Este diagnóstico tiene que estar inclinado a ir trazando los desafíos de la institu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egundo Inform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: Deberá contener los contenidos del primer informe mejorados, más un desarrollo completo de las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comendaciones y líneas de acción y el desarrollo de un cuadro de mando integral para la organización (mapa estratégico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5. Fuentes de Informació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59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trevista con Directivos Superiores, intermedios, funcionario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visar prensa (Ej. Internet-Googl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trevistar a algunos actores del entorn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Leer documentos oficiales (Ej. Balance de Gestión Integral, Presupuestos </a:t>
            </a:r>
            <a:r>
              <a:rPr b="0" lang="es-CL" sz="1600" spc="-1" strike="noStrike" u="sng">
                <a:solidFill>
                  <a:srgbClr val="3399ff"/>
                </a:solidFill>
                <a:uFillTx/>
                <a:latin typeface="Verdana"/>
                <a:hlinkClick r:id="rId1"/>
              </a:rPr>
              <a:t>www.dipres.c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ocumentos legales (Ley orgánica, reglamentos, instructivos presidenciales, etc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uscar antecedentes en organismos que controlan (www.dipres.cl, www.segpres.cl, www.contraloría.cl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Conseguir informes de gestió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s de caso(</a:t>
            </a:r>
            <a:r>
              <a:rPr b="0" lang="es-CL" sz="1600" spc="-1" strike="noStrike" u="sng">
                <a:solidFill>
                  <a:srgbClr val="3399ff"/>
                </a:solidFill>
                <a:uFillTx/>
                <a:latin typeface="Verdana"/>
                <a:hlinkClick r:id="rId2"/>
              </a:rPr>
              <a:t>www.mgpp.c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ferencias teóricas claves: Clases de Cátedra, exposiciones de invitados, bibliografía del Curso, especialmente Mark Moore , “Ventaja competitiva, Michael Porter” y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“Cómo utilizar el Cuadro de Mando Integral”,  Kaplan y Nort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640" y="69228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6. Formato, entrega y fechas: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Número de Págin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20 máximo tamaño  carta (no se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cuentan anex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Tipo de letr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Arial o Times New Roman, número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12. Interlineado sencill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Ortografía y Redacción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Cuidar la redacción y ortografí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porque será considerada en l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valua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Fech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Pendien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Forma de Entreg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Se deberá entregar dos ejemplares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 secretaria de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  del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MGPP  de cada informe, más un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versión  en archivo Word (disquete)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640" y="1700280"/>
            <a:ext cx="70106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lacionar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teoría con aplicación práctica en el análisis de casos específico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 de caso sobre alguna organización pública chilena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Se espera que de esta manera se aclare la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pertinencia y relevanci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 los planteamientos teóricos de clas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perspectiva genera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e se deberá asumir de manera obligada por los alumnos es la de un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consultor  estratégico de gestión pública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l cual se requiere sus servicios por un Consejo de Ministros que solicita un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informe analítico,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asado en información seleccionada y relevan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l informe deberá realizar recomendaciones que apunten a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mejorar la producción de valor público de la institución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 otras palabras, se debe desarrollar un documento bien escrito, rico en análisis y en antecedentes significativos que permitan finalmente entregar una consejería estratégica respecto de los problemas o desafíos fundamentales de la Organización y  cómo enfrentarlos.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estándar general de calidad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del trabajo deberá ser equivalente a un </a:t>
            </a:r>
            <a:r>
              <a:rPr b="0" i="1" lang="es-CL" sz="1600" spc="-1" strike="noStrike">
                <a:solidFill>
                  <a:srgbClr val="ffffff"/>
                </a:solidFill>
                <a:latin typeface="Verdana"/>
              </a:rPr>
              <a:t>trabajo profesiona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de un consultor estratégico en Gestión Pública contratado para entregar su asesorí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ffffff"/>
                </a:solidFill>
                <a:latin typeface="Verdana"/>
              </a:rPr>
              <a:t>2.  Elección de la Organización:</a:t>
            </a:r>
            <a:r>
              <a:rPr b="0" lang="es-CL" sz="3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Puede ser un </a:t>
            </a:r>
            <a:r>
              <a:rPr b="1" i="1" lang="es-CL" sz="1600" spc="-1" strike="noStrike">
                <a:solidFill>
                  <a:srgbClr val="ffffff"/>
                </a:solidFill>
                <a:latin typeface="Verdana"/>
              </a:rPr>
              <a:t>servicio público centralizado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1" i="1" lang="es-CL" sz="1600" spc="-1" strike="noStrike">
                <a:solidFill>
                  <a:srgbClr val="ffffff"/>
                </a:solidFill>
                <a:latin typeface="Verdana"/>
              </a:rPr>
              <a:t>descentralizado chileno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, eventualmente alguna organización no gubernamenta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No debe ser una institución donde el alumno trabaje o lo haya hecho recientement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as condiciones deben ser aprobadas por el equipo docen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 preferencia no se debe elegir un Ministerio debido a la multiplicidad de objetivos y la complejidad de obtener información. De todos modos puede hacerse alguna excep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92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78f0"/>
              </a:buClr>
              <a:buSzPct val="8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Descripción de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Propósito de la Institució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el </a:t>
            </a:r>
            <a:r>
              <a:rPr b="0" i="1" lang="es-CL" sz="1600" spc="-1" strike="noStrike">
                <a:solidFill>
                  <a:srgbClr val="ffffff"/>
                </a:solidFill>
                <a:latin typeface="Verdana"/>
              </a:rPr>
              <a:t>valor público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e debe generar la organización según ella misma?(revisar definiciones estratégicas, hacer entrevistas. Un método propuesto es cancelar el propósito e imaginar qué ocurriría en la sociedad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el conjunto de servicios que la institución produc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es son los lineamientos estratégicos declarado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la consistencia con relación a otras declaracion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ómo es la consistencia de lo declarado con los hecho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Está bien formulado el propósito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2001600"/>
            <a:ext cx="87487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b.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Análisis de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Entorno Relevante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para la organización: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nalizar situación con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actores que deciden y/o controlan la política o program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. Analizar la situación con el parlamento, partidos político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Identificar a los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Clientes / Usuarios: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iénes son, cómo son, caracterizar demanda, identificar tendencias de largo plazo, expectativas no satisfecha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Se deberá identificar otros actores externos relevantes, características y propósitos de éstos;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scribir tipos de relaciones con y entre los actores, describir expectativas de estos actores respecto de la organización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nalizar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coyuntura económica y tecnológic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Qué ocurre y cómo afecta y analizar la tecnología.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7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c.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Análisis de las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Capacidades de la Organización: Recursos y Sistemas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¿Cuáles son los servicios prestados o bienes que produce la institución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¿Quiénes son los clientes de la institución? ¿Existen servicios distintos para distintos cliente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adena del Valor”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procesos productivos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de apoy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)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uáles son los procesos productivos  principales para lograr la prestación del servicio o producción del bien? ¿Cómo se llevan a cabo estos proceso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uáles son los procesos o funciones de apoyo para ello? ¿Cómo se llevan a cabo estos procesos? (describir los procesos de apoyo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Qué recursos se utilizan? RRHH, $, informa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ómo es el </a:t>
            </a:r>
            <a:r>
              <a:rPr b="0" i="1" lang="es-ES" sz="1400" spc="-1" strike="noStrike">
                <a:solidFill>
                  <a:srgbClr val="ffffff"/>
                </a:solidFill>
                <a:latin typeface="Verdana"/>
              </a:rPr>
              <a:t>proceso de toma de decisiones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respecto a la asignación de los recurso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ómo se organiza la institución? (relaciones de autoridad, distribución de responsabilidades y comunicación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765000"/>
            <a:ext cx="7524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675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. Cuadro de Mando Integral, Recomendaciones y Nuevas Líneas de Acción (se debe fundamenta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pecto a las nuevas líneas de acción, lo primero es definir una orientación del cambio y establecer una visión futura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 los objetivos definidos establecer los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ámbitos prioritarios en los cuales interveni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Ámbitos que eventualmente se deben intervenir (recomendaciones específicas)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sión, Visión, Productos, Proyectos estratégic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ianzas estratégicas, Recursos Estratégico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rketing Público, Cambios en la interacción con el client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cesos de toma de decisiones, mejora de los procesos principales y de apoyo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tación y características de los RHH, $ y de información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diseño institucional (legal o no legal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odo lo anterior deberá ser traducido en una aplicación del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uadro de Mando Integr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1:20:06Z</dcterms:created>
  <dc:creator>Administrador</dc:creator>
  <dc:description/>
  <dc:language>en-US</dc:language>
  <cp:lastModifiedBy>José Inostroza</cp:lastModifiedBy>
  <dcterms:modified xsi:type="dcterms:W3CDTF">2004-07-27T17:26:45Z</dcterms:modified>
  <cp:revision>3</cp:revision>
  <dc:subject/>
  <dc:title>PAUTA de TRABAJO DEL  CURSO DE GESTIÓN PÚBLICA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85075619</vt:r8>
  </property>
  <property fmtid="{D5CDD505-2E9C-101B-9397-08002B2CF9AE}" pid="3" name="_AuthorEmail">
    <vt:lpwstr>jose.inostroza@ine.cl</vt:lpwstr>
  </property>
  <property fmtid="{D5CDD505-2E9C-101B-9397-08002B2CF9AE}" pid="4" name="_AuthorEmailDisplayName">
    <vt:lpwstr>José Inostroza</vt:lpwstr>
  </property>
  <property fmtid="{D5CDD505-2E9C-101B-9397-08002B2CF9AE}" pid="5" name="_EmailSubject">
    <vt:lpwstr>Listado de organizaciones públicas/Pauta preliminar Trabajo(IN74a)</vt:lpwstr>
  </property>
  <property fmtid="{D5CDD505-2E9C-101B-9397-08002B2CF9AE}" pid="6" name="_PreviousAdHocReviewCycleID">
    <vt:r8>-345294462</vt:r8>
  </property>
</Properties>
</file>