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50EC-CD46-4EFF-B403-AB88E884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22C3-6C35-464D-9DEA-2598CF0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F093-E155-4972-90BC-19E7EB8F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FC9F-374A-4AD1-B1BF-2475C054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778F-F012-4CA1-BDD2-96F635BD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C1B-076B-475D-8D18-FA0BBBCB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0246-233C-4517-927E-E5E0F198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F9D9-9C26-4392-A9A3-550D3F64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86FC-FD8C-42D0-B7FC-18495AE4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D88C-FB9A-443D-A3FE-A8322EE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42F6-2400-462D-994E-94F0C55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4298-2082-499D-B369-05C1DA1F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B8E7-AE8C-462C-A458-DF91A40F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95D7-1960-4BA0-A62D-74C1A65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D5F1-1143-41C0-BA59-BFF4919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855-947A-4B5A-9A79-E61A09CB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F7F-C213-4E55-BE43-C8184E54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8489-5056-4617-AE5C-68BC7532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4EFB-A397-4648-B0C2-8A1140BF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CAF4-5520-40BF-B4FC-9BB353FB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BE1E-102D-433F-9330-181CAEB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248D-B380-439D-8403-2A2924F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4D1A-29C0-4F4E-8550-0668D0D8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0807-BAF1-4F7E-8CCD-042B715C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E765-E0E6-4346-8580-E16A4FA06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2C3-AD51-4718-9F14-8C5CBF58F5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gpp.cl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2920" y="1699920"/>
            <a:ext cx="58388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PAUTA de TRABAJO DEL </a:t>
            </a:r>
            <a:br>
              <a:rPr sz="3300"/>
            </a:b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CURSO DE GESTIÓN PÚBLICA 2004</a:t>
            </a:r>
            <a:br>
              <a:rPr sz="3300"/>
            </a:br>
            <a:r>
              <a:rPr b="1" lang="es-CL" sz="3300" spc="-1" strike="noStrike">
                <a:solidFill>
                  <a:srgbClr val="ff3300"/>
                </a:solidFill>
                <a:latin typeface="Verdana"/>
              </a:rPr>
              <a:t>(sujeta a  las modificaciones del documento que se enviará)</a:t>
            </a:r>
            <a:br>
              <a:rPr sz="33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MGGP</a:t>
            </a:r>
            <a:br>
              <a:rPr sz="18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julio de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. Contenido de los informes: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Primer Inform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berá contener una revisión sobre el propósito, entorno y capacidades, según se explica en esta pauta. Desde esta revisión, se debe formular un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iagnóstico general y preliminar de la organizació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Este diagnóstico tiene que estar inclinado a ir trazando los desafíos de la institu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gundo Inform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 Deberá contener los contenidos del primer informe mejorados, más un desarrollo completo de la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comendaciones y líneas de acción y el desarrollo de un cuadro de mando integral para la organización (mapa estratégic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5. Fuentes de Informació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59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 con Directivos Superiores, intermedios, funcionari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visar prensa (Ej. Internet-Googl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r a algunos actores del entor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eer documentos oficiales (Ej. Balance de Gestión Integral, Presupuestos 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www.dipres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ocumentos legales (Ley orgánica, reglamentos, instructivos presidenciales, etc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uscar antecedentes en organismos que controlan (www.dipres.cl, www.segpres.cl, www.contraloría.c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onseguir informes de gestió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s de caso(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2"/>
              </a:rPr>
              <a:t>www.mgpp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ferencias teóricas claves: Clases de Cátedra, exposiciones de invitados, bibliografía del Curso, especialmente Mark Moore , “Ventaja competitiva, Michael Porter” y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“Cómo utilizar el Cuadro de Mando Integral”,  Kaplan y Nort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6. Formato, entrega y fechas: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Número de Págin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20 máximo tamaño  carta (no s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uentan anex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Tipo de letr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Arial o Times New Roman, número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12. Interlineado sencill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Ortografía y Redac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Cuidar la redacción y ortografí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orque será considerada en l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valua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ech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Pendie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orma de Entreg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Se deberá entregar dos ejemplares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secretaria d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 del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MGPP  de cada informe, más un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versión  en archivo Word (disquete)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70106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lacion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oría con aplicación práctica en el análisis de casos específico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de caso sobre alguna organización pública chilena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espera que de esta manera se aclare 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tinencia y relevanci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los planteamientos teóricos de clas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spectiva gener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se deberá asumir de manera obligada por los alumnos es la de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consultor  estratégico de gestión pública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l cual se requiere sus servicios por un Consejo de Ministros que solicita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informe analítico,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asado en información seleccionada y releva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informe deberá realizar recomendaciones que apunten a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mejorar la producción de valor público de la institu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otras palabras, se debe desarrollar un documento bien escrito, rico en análisis y en antecedentes significativos que permitan finalmente entregar una consejería estratégica respecto de los problemas o desafíos fundamentales de la Organización y  cómo enfrentarlos.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stándar general de calidad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l trabajo deberá ser equivalente a un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trabajo profesion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 un consultor estratégico en Gestión Pública contratado para entregar su asesorí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ffffff"/>
                </a:solidFill>
                <a:latin typeface="Verdana"/>
              </a:rPr>
              <a:t>2.  Elección de la Organización:</a:t>
            </a:r>
            <a:r>
              <a:rPr b="0" lang="es-CL" sz="3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uede ser un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servicio público centralizado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descentralizado chilen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, eventualmente alguna organización no gubernament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No debe ser una institución donde el alumno trabaje o lo haya hecho recientemen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as condiciones deben ser aprobadas por el equipo docen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preferencia no se debe elegir un Ministerio debido a la multiplicidad de objetivos y la complejidad de obtener información. De todos modos puede hacerse alguna excep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78f0"/>
              </a:buClr>
              <a:buSzPct val="8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Descripción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Propósito de la Institució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valor públic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debe generar la organización según ella misma?(revisar definiciones estratégicas, hacer entrevistas. Un método propuesto es cancelar el propósito e imaginar qué ocurriría en la sociedad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conjunto de servicios que la institución produ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es son los lineamientos estratégicos declarad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la consistencia con relación a otras declaracion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ómo es la consistencia de lo declarado con los hech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Está bien formulado el propósito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001600"/>
            <a:ext cx="87487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Entorno Relevante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ara la organización: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situación con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actores que deciden y/o controlan la política o program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Analizar la situación con el parlamento, partidos polític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Identificar a los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lientes / Usuarios: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iénes son, cómo son, caracterizar demanda, identificar tendencias de largo plazo, expectativas no satisfecha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deberá identificar otros actores externos relevantes, características y propósitos de éstos;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scribir tipos de relaciones con y entre los actores, describir expectativas de estos actores respecto de la organización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oyuntura económica y tecnológic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Qué ocurre y cómo afecta y analizar la tecnología.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 las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Capacidades de la Organización: Recursos y Sistemas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Cuáles son los servicios prestados o bienes que produce la institución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Quiénes son los clientes de la institución? ¿Existen servicios distintos para distintos cliente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dena del Valor”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procesos productivo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de apoy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productivos  principales para lograr la prestación del servicio o producción del bien? ¿Cómo se llevan a cabo estos proce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o funciones de apoyo para ello? ¿Cómo se llevan a cabo estos procesos? (describir los procesos de apoyo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Qué recursos se utilizan? RRHH, $, informa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es el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proceso de toma de decisiones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respecto a la asignación de los recur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se organiza la institución? (relaciones de autoridad, distribución de responsabilidades y comunicació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524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. Cuadro de Mando Integral, Recomendaciones y Nuevas Líneas de Acción (se debe fundamenta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o a las nuevas líneas de acción, lo primero es definir una orientación del cambio y establecer una visión futura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 los objetivos definidos establecer los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prioritarios en los cuales interveni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que eventualmente se deben intervenir (recomendaciones específicas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sión, Visión, Productos, Proyectos estratégic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ianzas estratégicas, Recursos Estratégico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rketing Público, Cambios en la interacción con el client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os de toma de decisiones, mejora de los procesos principales y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tación y características de los RHH, $ y de información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diseño institucional (legal o no legal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do lo anterior deberá ser traducido en una aplicación del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uadro de Mando Integr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1:20:06Z</dcterms:created>
  <dc:creator>Administrador</dc:creator>
  <dc:description/>
  <dc:language>en-US</dc:language>
  <cp:lastModifiedBy>José Inostroza</cp:lastModifiedBy>
  <dcterms:modified xsi:type="dcterms:W3CDTF">2004-07-27T17:26:45Z</dcterms:modified>
  <cp:revision>3</cp:revision>
  <dc:subject/>
  <dc:title>PAUTA de TRABAJO DEL  CURSO DE GESTIÓN PÚBLICA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5075619</vt:r8>
  </property>
  <property fmtid="{D5CDD505-2E9C-101B-9397-08002B2CF9AE}" pid="3" name="_AuthorEmail">
    <vt:lpwstr>jose.inostroza@ine.cl</vt:lpwstr>
  </property>
  <property fmtid="{D5CDD505-2E9C-101B-9397-08002B2CF9AE}" pid="4" name="_AuthorEmailDisplayName">
    <vt:lpwstr>José Inostroza</vt:lpwstr>
  </property>
  <property fmtid="{D5CDD505-2E9C-101B-9397-08002B2CF9AE}" pid="5" name="_EmailSubject">
    <vt:lpwstr>Listado de organizaciones públicas/Pauta preliminar Trabajo(IN74a)</vt:lpwstr>
  </property>
  <property fmtid="{D5CDD505-2E9C-101B-9397-08002B2CF9AE}" pid="6" name="_PreviousAdHocReviewCycleID">
    <vt:r8>-345294462</vt:r8>
  </property>
</Properties>
</file>