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E91E-7F53-4022-A04E-3C831C14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2C78-D4A9-4F11-B101-0C6E70C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174E-AF5F-47A5-8B04-B17DCB0B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8E31-77AD-40F7-A6B8-36D811BA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DBF3-E964-4676-A154-8114307C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7F52-81B3-4D1D-B54D-2646713B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7F83-CD29-4514-91A8-BF7E9F71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F7C-D618-4DC8-A52E-66839570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D6F2-7EC6-4417-8ADD-36773C76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B6E3-6CE7-42E3-AA0A-CF3FDBA9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548C-65C0-40D3-86A2-CAAC240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D84B-EC13-4DAB-B820-BE2CC0DF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A374-1657-4A69-8A80-CA0A378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589C-80DE-4CC5-A239-8861BC8E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4CC0-66DB-450C-A341-0CF021A4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0B15-91A0-4D0B-9B1C-6534954A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EF7B-0AA1-4700-89EF-F4CA2F29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8199-DB05-4F52-90CD-F8B8412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79E9-C2BC-4D6C-AB6F-B6CC4DD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29F4-50C7-4E3E-9F9B-665D687A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29D7-66C1-4FDD-A86F-8DDA8C31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C8A6-3BAD-4883-AADE-E619EE0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5129-C217-4A2B-AFF7-2AF5CA4F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1AEE-62BC-42DD-BD67-9F075A54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1B7-8E9B-4C0C-9AF1-994F375CB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404-01A0-492C-BF85-5CD2216183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gpp.cl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42920" y="1699920"/>
            <a:ext cx="58388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PAUTA de TRABAJO DEL </a:t>
            </a:r>
            <a:br>
              <a:rPr sz="3300"/>
            </a:br>
            <a:r>
              <a:rPr b="1" lang="es-CL" sz="3300" spc="-1" strike="noStrike">
                <a:solidFill>
                  <a:srgbClr val="ffffff"/>
                </a:solidFill>
                <a:latin typeface="Verdana"/>
              </a:rPr>
              <a:t>CURSO DE GESTIÓN PÚBLICA 2004</a:t>
            </a:r>
            <a:br>
              <a:rPr sz="3300"/>
            </a:br>
            <a:r>
              <a:rPr b="1" lang="es-CL" sz="3300" spc="-1" strike="noStrike">
                <a:solidFill>
                  <a:srgbClr val="ff3300"/>
                </a:solidFill>
                <a:latin typeface="Verdana"/>
              </a:rPr>
              <a:t>(sujeta a  las modificaciones del documento que se enviará)</a:t>
            </a:r>
            <a:br>
              <a:rPr sz="33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MGGP</a:t>
            </a:r>
            <a:br>
              <a:rPr sz="1800"/>
            </a:br>
            <a:r>
              <a:rPr b="1" i="1" lang="es-CL" sz="1800" spc="-1" strike="noStrike">
                <a:solidFill>
                  <a:srgbClr val="ffffff"/>
                </a:solidFill>
                <a:latin typeface="Verdana"/>
              </a:rPr>
              <a:t>julio de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. Contenido de los informes: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Primer Informe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berá contener una revisión sobre el propósito, entorno y capacidades, según se explica en esta pauta. Desde esta revisión, se debe formular un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diagnóstico general y preliminar de la organizació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Este diagnóstico tiene que estar inclinado a ir trazando los desafíos de la institu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gundo Inform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 Deberá contener los contenidos del primer informe mejorados, más un desarrollo completo de la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comendaciones y líneas de acción y el desarrollo de un cuadro de mando integral para la organización (mapa estratégic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5. Fuentes de Informació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59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 con Directivos Superiores, intermedios, funcionari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visar prensa (Ej. Internet-Googl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trevistar a algunos actores del entor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eer documentos oficiales (Ej. Balance de Gestión Integral, Presupuestos 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www.dipres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ocumentos legales (Ley orgánica, reglamentos, instructivos presidenciales, etc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uscar antecedentes en organismos que controlan (www.dipres.cl, www.segpres.cl, www.contraloría.cl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onseguir informes de gestió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s de caso(</a:t>
            </a:r>
            <a:r>
              <a:rPr b="0" lang="es-CL" sz="1600" spc="-1" strike="noStrike" u="sng">
                <a:solidFill>
                  <a:srgbClr val="3399ff"/>
                </a:solidFill>
                <a:uFillTx/>
                <a:latin typeface="Verdana"/>
                <a:hlinkClick r:id="rId2"/>
              </a:rPr>
              <a:t>www.mgpp.c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ferencias teóricas claves: Clases de Cátedra, exposiciones de invitados, bibliografía del Curso, especialmente Mark Moore , “Ventaja competitiva, Michael Porter” y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“Cómo utilizar el Cuadro de Mando Integral”,  Kaplan y Nort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6. Formato, entrega y fechas: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Número de Págin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20 máximo tamaño  carta (no s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cuentan anex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Tipo de letr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Arial o Times New Roman, número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12. Interlineado sencill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Ortografía y Redac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Cuidar la redacción y ortografí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orque será considerada en l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valua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ech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Pendie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Forma de Entreg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Se deberá entregar dos ejemplares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secretaria de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 del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MGPP  de cada informe, más un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versión  en archivo Word (disquete)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70106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Relacion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oría con aplicación práctica en el análisis de casos específico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udio de caso sobre alguna organización pública chilena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espera que de esta manera se aclare 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tinencia y relevancia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los planteamientos teóricos de clas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perspectiva gener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se deberá asumir de manera obligada por los alumnos es la de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consultor  estratégico de gestión pública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l cual se requiere sus servicios por un Consejo de Ministros que solicita un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informe analítico,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basado en información seleccionada y relevan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informe deberá realizar recomendaciones que apunten a </a:t>
            </a:r>
            <a:r>
              <a:rPr b="0" lang="es-CL" sz="1600" spc="-1" strike="noStrike" u="sng">
                <a:solidFill>
                  <a:srgbClr val="ffffff"/>
                </a:solidFill>
                <a:uFillTx/>
                <a:latin typeface="Verdana"/>
              </a:rPr>
              <a:t>mejorar la producción de valor público de la institución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n otras palabras, se debe desarrollar un documento bien escrito, rico en análisis y en antecedentes significativos que permitan finalmente entregar una consejería estratégica respecto de los problemas o desafíos fundamentales de la Organización y  cómo enfrentarlos.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1. Objetivos y Características Generales del Trabajo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stándar general de calidad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l trabajo deberá ser equivalente a un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trabajo profesional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de un consultor estratégico en Gestión Pública contratado para entregar su asesorí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ffffff"/>
                </a:solidFill>
                <a:latin typeface="Verdana"/>
              </a:rPr>
              <a:t>2.  Elección de la Organización:</a:t>
            </a:r>
            <a:r>
              <a:rPr b="0" lang="es-CL" sz="3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Puede ser un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servicio público centralizado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1" i="1" lang="es-CL" sz="1600" spc="-1" strike="noStrike">
                <a:solidFill>
                  <a:srgbClr val="ffffff"/>
                </a:solidFill>
                <a:latin typeface="Verdana"/>
              </a:rPr>
              <a:t>descentralizado chilen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, eventualmente alguna organización no gubernamental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No debe ser una institución donde el alumno trabaje o lo haya hecho recientemen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Estas condiciones deben ser aprobadas por el equipo docen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 preferencia no se debe elegir un Ministerio debido a la multiplicidad de objetivos y la complejidad de obtener información. De todos modos puede hacerse alguna excepció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92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78f0"/>
              </a:buClr>
              <a:buSzPct val="8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Descripción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Propósito de la Institució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</a:t>
            </a:r>
            <a:r>
              <a:rPr b="0" i="1" lang="es-CL" sz="1600" spc="-1" strike="noStrike">
                <a:solidFill>
                  <a:srgbClr val="ffffff"/>
                </a:solidFill>
                <a:latin typeface="Verdana"/>
              </a:rPr>
              <a:t>valor público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e debe generar la organización según ella misma?(revisar definiciones estratégicas, hacer entrevistas. Un método propuesto es cancelar el propósito e imaginar qué ocurriría en la sociedad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el conjunto de servicios que la institución produ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es son los lineamientos estratégicos declarad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uál es la consistencia con relación a otras declaracion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Cómo es la consistencia de lo declarado con los hecho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57160" indent="-39996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¿Está bien formulado el propósito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001600"/>
            <a:ext cx="87487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b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Entorno Relevante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ara la organización: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situación con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actores que deciden y/o controlan la política o programas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. Analizar la situación con el parlamento, partidos político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Identificar a los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lientes / Usuarios: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 Quiénes son, cómo son, caracterizar demanda, identificar tendencias de largo plazo, expectativas no satisfecha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Se deberá identificar otros actores externos relevantes, características y propósitos de éstos;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Describir tipos de relaciones con y entre los actores, describir expectativas de estos actores respecto de la organización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78f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Analizar </a:t>
            </a: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coyuntura económica y tecnológica</a:t>
            </a:r>
            <a:r>
              <a:rPr b="0" lang="es-CL" sz="1600" spc="-1" strike="noStrike">
                <a:solidFill>
                  <a:srgbClr val="ffffff"/>
                </a:solidFill>
                <a:latin typeface="Verdana"/>
              </a:rPr>
              <a:t>: Qué ocurre y cómo afecta y analizar la tecnología.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Análisis de las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Verdana"/>
              </a:rPr>
              <a:t>Capacidades de la Organización: Recursos y Sistemas</a:t>
            </a: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Cuáles son los servicios prestados o bienes que produce la institución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¿Quiénes son los clientes de la institución? ¿Existen servicios distintos para distintos cliente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adena del Valor”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procesos productivos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de apoy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productivos  principales para lograr la prestación del servicio o producción del bien? ¿Cómo se llevan a cabo estos proce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uáles son los procesos o funciones de apoyo para ello? ¿Cómo se llevan a cabo estos procesos? (describir los procesos de apoyo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Qué recursos se utilizan? RRHH, $, informa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es el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proceso de toma de decisiones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respecto a la asignación de los recurso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¿Cómo se organiza la institución? (relaciones de autoridad, distribución de responsabilidades y comunicación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524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Verdana"/>
              </a:rPr>
              <a:t>3.  Estructura y contenidos mínimos del Trabaj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675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. Cuadro de Mando Integral, Recomendaciones y Nuevas Líneas de Acción (se debe fundamenta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o a las nuevas líneas de acción, lo primero es definir una orientación del cambio y establecer una visión futura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 los objetivos definidos establecer los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prioritarios en los cuales interveni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Ámbitos que eventualmente se deben intervenir (recomendaciones específicas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sión, Visión, Productos, Proyectos estratégic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ianzas estratégicas, Recursos Estratégico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rketing Público, Cambios en la interacción con el cliente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cesos de toma de decisiones, mejora de los procesos principales y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tación y características de los RHH, $ y de información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diseño institucional (legal o no legal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odo lo anterior deberá ser traducido en una aplicación del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uadro de Mando Integr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1:20:06Z</dcterms:created>
  <dc:creator>Administrador</dc:creator>
  <dc:description/>
  <dc:language>en-US</dc:language>
  <cp:lastModifiedBy>José Inostroza</cp:lastModifiedBy>
  <dcterms:modified xsi:type="dcterms:W3CDTF">2004-07-27T17:26:45Z</dcterms:modified>
  <cp:revision>3</cp:revision>
  <dc:subject/>
  <dc:title>PAUTA de TRABAJO DEL  CURSO DE GESTIÓN PÚBLICA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5075619</vt:r8>
  </property>
  <property fmtid="{D5CDD505-2E9C-101B-9397-08002B2CF9AE}" pid="3" name="_AuthorEmail">
    <vt:lpwstr>jose.inostroza@ine.cl</vt:lpwstr>
  </property>
  <property fmtid="{D5CDD505-2E9C-101B-9397-08002B2CF9AE}" pid="4" name="_AuthorEmailDisplayName">
    <vt:lpwstr>José Inostroza</vt:lpwstr>
  </property>
  <property fmtid="{D5CDD505-2E9C-101B-9397-08002B2CF9AE}" pid="5" name="_EmailSubject">
    <vt:lpwstr>Listado de organizaciones públicas/Pauta preliminar Trabajo(IN74a)</vt:lpwstr>
  </property>
  <property fmtid="{D5CDD505-2E9C-101B-9397-08002B2CF9AE}" pid="6" name="_PreviousAdHocReviewCycleID">
    <vt:r8>-345294462</vt:r8>
  </property>
</Properties>
</file>