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C44-49E3-437C-89A5-562788BB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385A-0DA9-4100-BDF3-08253E57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265-D6EE-431E-95B2-639A566A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C93-AC3C-4D1C-89A8-CC69BB14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AF1-C456-41F6-9647-20F2BFDD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376-5642-4A5A-B86C-4BFE65D3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63D-7234-4EC5-A2AF-0CD68C96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5C7-AB88-48FE-8B52-98A50A7C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8A7-3C8C-4C52-B0FB-7616EBCB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604-936E-4E73-B756-97C2D6E4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EB4-FFBC-41AC-A9EA-1848190C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A39F-F1D1-4277-975E-764869E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37BF-C870-459A-96AF-672A077CE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ystems of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12536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- set of alternatives (perhaps as functions of states of natur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- set of lotter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- set of attrib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6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lateral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of preferences over a set of ele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50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arison reveals the order (relation) between pairs of elements. The comparison process checks all the entries in a ta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437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 is ordered before y then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65560" y="1633680"/>
          <a:ext cx="5460840" cy="143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5560" y="1633680"/>
                    <a:ext cx="546084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0" y="566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implicity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f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f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complement 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t is also a binary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844640"/>
            <a:ext cx="28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92280"/>
            <a:ext cx="9144000" cy="63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X=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&gt;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≯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X=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x=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y=(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&gt;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&gt;y  if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Times New Roman"/>
              </a:rPr>
              <a:t>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Times New Roman"/>
              </a:rPr>
              <a:t>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 if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≯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X=A: 4 possible statements and 3 binary rel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is better than y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x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MS Mincho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;     (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MS Mincho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MS Mincho"/>
              </a:rPr>
              <a:t>⊁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y, “x is not better than 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 is not worse than y” -  x≽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;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=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y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“x is worse than y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 is equivalent to y”    -  x~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 and y are incomparabl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binary order rel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796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roperties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x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me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X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flex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for all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rreflex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for all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mme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ymme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 connected)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or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for all x,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1484280"/>
            <a:ext cx="4356000" cy="13816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y implies irreflexiv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which is im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3710160"/>
          <a:ext cx="5251320" cy="317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710160"/>
                    <a:ext cx="52513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859280" y="386064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≽   define: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≻y: x≽y and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;                            x~y: x≽y and y≽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421020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5951520"/>
          <a:ext cx="5292720" cy="1090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951520"/>
                    <a:ext cx="5292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788000" y="5373720"/>
            <a:ext cx="4105080" cy="1557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≻ (and 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≽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e:                                        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≽y: y⊁x;                                         x~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≽y and y≽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-324000" y="0"/>
          <a:ext cx="456912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00" y="0"/>
                    <a:ext cx="45691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576600" y="0"/>
          <a:ext cx="5567400" cy="1765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6600" y="0"/>
                    <a:ext cx="556740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0" y="1484280"/>
            <a:ext cx="9144000" cy="27504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n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ry x,y,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nd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gatively tran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ry x,y,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nd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Acyc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ry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221000"/>
            <a:ext cx="91440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vity and irreflexiv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ycli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ransitivity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y irreflexivity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516640"/>
            <a:ext cx="9144000" cy="13816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y and negative transitiv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v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nd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and suppose that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 By asymmetry 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nd by negative transitivity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which is a contradiction, hence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2120" y="299880"/>
          <a:ext cx="6988320" cy="441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99880"/>
                    <a:ext cx="698832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0" y="299736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near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ic, transitive and comple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ak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ic  and negatively tra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Partial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ic and a tra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near ord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ak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Partial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656320" y="339840"/>
          <a:ext cx="5538600" cy="2944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6320" y="339840"/>
                    <a:ext cx="553860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6442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157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Complete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ransitive and 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Equivalence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lexive, symmetric and tra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21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vity is not sufficient to transform partial order to we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0:44:36Z</dcterms:created>
  <dc:creator>Moti Henig</dc:creator>
  <dc:description/>
  <dc:language>en-US</dc:language>
  <cp:lastModifiedBy>Henig</cp:lastModifiedBy>
  <dcterms:modified xsi:type="dcterms:W3CDTF">2004-11-02T14:32:50Z</dcterms:modified>
  <cp:revision>129</cp:revision>
  <dc:subject/>
  <dc:title>Slide 1</dc:title>
</cp:coreProperties>
</file>