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EBB3-62F0-431B-98FA-7237285D5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DA13-ECB9-446F-A79D-EDDBADAB6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59305-0C53-4E03-912E-D0A2AA180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33CD1-670C-4BD5-9BF9-45676634E7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40D98-4BCB-44B6-B0B3-1BCA05071E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BE5E6-B825-42D7-A6C6-3DC81503F1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4065D-2AD1-448D-97C6-850D1692DB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179B7-4179-4F28-9FAF-EA96F9EC7C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BB2EB-5566-47C5-8287-B4A73BE898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3549A-0DDD-4774-ACA1-2125BD6527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7F8B7-5DAC-4FA5-BC77-2C915DAF90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0CC25-C043-4779-8310-41469D7BA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A9700-43B9-4D3B-9266-D588748B7B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3F325-D016-47A8-ADD2-69D37C14C2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54BCD-9C8D-4C30-A336-832B3C892F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5B878-1A25-4F34-BEC3-393E8875CA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A4DA0-558A-43E8-B84F-FB0F88D6FF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1D5AC-370E-424E-B95A-CF91BD7CE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19FD0-1CA6-4D33-A9E3-50EB6FCDE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A0958-0003-4835-A085-CFA12845B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776B-5D3C-4545-B948-D2455A11F4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291D1-B330-4ED8-B529-B50981AAC2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0F5A5-82B0-45A1-92A6-7E7442D77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B79D-E10C-431D-B789-1D1358FD0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34652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5443-E18D-45D2-BD82-BABBD2CAFE10}" type="slidenum">
              <a:rPr b="0" lang="he-IL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ldNum" idx="2"/>
          </p:nvPr>
        </p:nvSpPr>
        <p:spPr>
          <a:xfrm>
            <a:off x="742968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35C1-E03A-4B38-B137-CDC70EEF86F7}" type="slidenum">
              <a:rPr b="0" lang="he-IL" sz="1400" spc="-1" strike="noStrike">
                <a:solidFill>
                  <a:srgbClr val="1c1c1c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549360"/>
            <a:ext cx="990612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A be a set of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lternati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f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m&gt;1, be a vector valued fun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 is the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attrib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ulti-</a:t>
            </a:r>
            <a:r>
              <a:rPr b="0" lang="en-US" sz="2800" spc="-1" strike="noStrike" u="sng">
                <a:solidFill>
                  <a:srgbClr val="9966ff"/>
                </a:solidFill>
                <a:uFillTx/>
                <a:latin typeface="Times New Roman"/>
                <a:ea typeface="Times New Roman"/>
              </a:rPr>
              <a:t>attribut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decision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0520" y="242100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(x),f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00160" y="2565360"/>
            <a:ext cx="4033800" cy="3314880"/>
            <a:chOff x="200160" y="2565360"/>
            <a:chExt cx="4033800" cy="3314880"/>
          </a:xfrm>
        </p:grpSpPr>
        <p:sp>
          <p:nvSpPr>
            <p:cNvPr id="78" name=""/>
            <p:cNvSpPr/>
            <p:nvPr/>
          </p:nvSpPr>
          <p:spPr>
            <a:xfrm>
              <a:off x="415800" y="3213000"/>
              <a:ext cx="0" cy="2160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415800" y="3284280"/>
              <a:ext cx="0" cy="21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415800" y="4149720"/>
              <a:ext cx="37450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5800" y="5445000"/>
              <a:ext cx="3429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105800">
              <a:off x="836280" y="4887720"/>
              <a:ext cx="1800360" cy="5284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00160" y="3357720"/>
              <a:ext cx="5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57600" y="4076640"/>
              <a:ext cx="576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1240" y="5300640"/>
              <a:ext cx="576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84520" y="436572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96880" y="2565360"/>
              <a:ext cx="14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 flipH="1">
            <a:off x="7616520" y="3357720"/>
            <a:ext cx="431640" cy="295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032520" y="3213000"/>
            <a:ext cx="2879640" cy="2521080"/>
            <a:chOff x="6032520" y="3213000"/>
            <a:chExt cx="2879640" cy="2521080"/>
          </a:xfrm>
        </p:grpSpPr>
        <p:sp>
          <p:nvSpPr>
            <p:cNvPr id="90" name=""/>
            <p:cNvSpPr/>
            <p:nvPr/>
          </p:nvSpPr>
          <p:spPr>
            <a:xfrm>
              <a:off x="6032520" y="3213000"/>
              <a:ext cx="2879640" cy="2521080"/>
            </a:xfrm>
            <a:custGeom>
              <a:avLst/>
              <a:gdLst/>
              <a:ahLst/>
              <a:rect l="l" t="t" r="r" b="b"/>
              <a:pathLst>
                <a:path w="1814" h="1588">
                  <a:moveTo>
                    <a:pt x="408" y="0"/>
                  </a:moveTo>
                  <a:lnTo>
                    <a:pt x="1225" y="182"/>
                  </a:lnTo>
                  <a:lnTo>
                    <a:pt x="1588" y="544"/>
                  </a:lnTo>
                  <a:lnTo>
                    <a:pt x="1814" y="1225"/>
                  </a:lnTo>
                  <a:lnTo>
                    <a:pt x="1043" y="1588"/>
                  </a:lnTo>
                  <a:lnTo>
                    <a:pt x="182" y="1316"/>
                  </a:lnTo>
                  <a:lnTo>
                    <a:pt x="0" y="272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99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13600" y="4221000"/>
              <a:ext cx="6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376880" y="3428640"/>
            <a:ext cx="5184720" cy="3057840"/>
            <a:chOff x="4376880" y="3428640"/>
            <a:chExt cx="5184720" cy="3057840"/>
          </a:xfrm>
        </p:grpSpPr>
        <p:sp>
          <p:nvSpPr>
            <p:cNvPr id="93" name=""/>
            <p:cNvSpPr/>
            <p:nvPr/>
          </p:nvSpPr>
          <p:spPr>
            <a:xfrm flipH="1" flipV="1">
              <a:off x="5024520" y="3428640"/>
              <a:ext cx="17280" cy="249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41800" y="5919840"/>
              <a:ext cx="451980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48520" y="5661000"/>
              <a:ext cx="144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66ff"/>
                  </a:solidFill>
                  <a:latin typeface="Tahoma"/>
                  <a:ea typeface="Tahoma"/>
                </a:rPr>
                <a:t>attribut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76880" y="4508640"/>
              <a:ext cx="140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66ff"/>
                  </a:solidFill>
                  <a:latin typeface="Tahoma"/>
                  <a:ea typeface="Tahoma"/>
                </a:rPr>
                <a:t>attribut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537240" y="2492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24160" y="3273480"/>
            <a:ext cx="3673440" cy="731880"/>
          </a:xfrm>
          <a:custGeom>
            <a:avLst/>
            <a:gdLst/>
            <a:ahLst/>
            <a:rect l="l" t="t" r="r" b="b"/>
            <a:pathLst>
              <a:path w="2314" h="461">
                <a:moveTo>
                  <a:pt x="0" y="461"/>
                </a:moveTo>
                <a:cubicBezTo>
                  <a:pt x="238" y="237"/>
                  <a:pt x="476" y="14"/>
                  <a:pt x="862" y="7"/>
                </a:cubicBezTo>
                <a:cubicBezTo>
                  <a:pt x="1248" y="0"/>
                  <a:pt x="2072" y="348"/>
                  <a:pt x="2314" y="41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338880"/>
            <a:ext cx="71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a maximal point in Y does not exi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079800" y="4210200"/>
            <a:ext cx="3673440" cy="731520"/>
          </a:xfrm>
          <a:custGeom>
            <a:avLst/>
            <a:gdLst/>
            <a:ahLst/>
            <a:rect l="l" t="t" r="r" b="b"/>
            <a:pathLst>
              <a:path w="2314" h="461">
                <a:moveTo>
                  <a:pt x="0" y="461"/>
                </a:moveTo>
                <a:cubicBezTo>
                  <a:pt x="238" y="237"/>
                  <a:pt x="476" y="14"/>
                  <a:pt x="862" y="7"/>
                </a:cubicBezTo>
                <a:cubicBezTo>
                  <a:pt x="1248" y="0"/>
                  <a:pt x="2072" y="348"/>
                  <a:pt x="2314" y="41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65960" y="1628640"/>
            <a:ext cx="264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A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197000"/>
            <a:ext cx="9906120" cy="13737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ination order </a:t>
            </a:r>
            <a:r>
              <a:rPr b="1" lang="en-US" sz="2800" spc="-1" strike="noStrike">
                <a:solidFill>
                  <a:srgbClr val="9966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                                              </a:t>
            </a:r>
            <a:r>
              <a:rPr b="0" lang="en-US" sz="28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asymmetr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1" lang="en-US" sz="2800" spc="-1" strike="noStrike">
                <a:solidFill>
                  <a:srgbClr val="9966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⇒ y≱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</a:t>
            </a:r>
            <a:r>
              <a:rPr b="0" lang="en-US" sz="28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transi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x </a:t>
            </a:r>
            <a:r>
              <a:rPr b="1" lang="en-US" sz="2800" spc="-1" strike="noStrike">
                <a:solidFill>
                  <a:srgbClr val="9966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1" lang="en-US" sz="2800" spc="-1" strike="noStrike">
                <a:solidFill>
                  <a:srgbClr val="9966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  <a:ea typeface="Arial Unicode MS"/>
              </a:rPr>
              <a:t>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 </a:t>
            </a:r>
            <a:r>
              <a:rPr b="1" lang="en-US" sz="2800" spc="-1" strike="noStrike">
                <a:solidFill>
                  <a:srgbClr val="9966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04640"/>
            <a:ext cx="9906120" cy="597240"/>
          </a:xfrm>
          <a:prstGeom prst="rect">
            <a:avLst/>
          </a:prstGeom>
          <a:noFill/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9966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in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for i=1,…,m,  but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712880" y="3787920"/>
            <a:ext cx="4189320" cy="1611000"/>
            <a:chOff x="1712880" y="3787920"/>
            <a:chExt cx="4189320" cy="1611000"/>
          </a:xfrm>
        </p:grpSpPr>
        <p:sp>
          <p:nvSpPr>
            <p:cNvPr id="105" name=""/>
            <p:cNvSpPr/>
            <p:nvPr/>
          </p:nvSpPr>
          <p:spPr>
            <a:xfrm>
              <a:off x="1712880" y="3787920"/>
              <a:ext cx="4189320" cy="1611000"/>
            </a:xfrm>
            <a:custGeom>
              <a:avLst/>
              <a:gdLst/>
              <a:ahLst/>
              <a:rect l="l" t="t" r="r" b="b"/>
              <a:pathLst>
                <a:path w="2639" h="2117">
                  <a:moveTo>
                    <a:pt x="689" y="144"/>
                  </a:moveTo>
                  <a:cubicBezTo>
                    <a:pt x="1082" y="46"/>
                    <a:pt x="2095" y="0"/>
                    <a:pt x="2367" y="280"/>
                  </a:cubicBezTo>
                  <a:cubicBezTo>
                    <a:pt x="2639" y="560"/>
                    <a:pt x="2602" y="1542"/>
                    <a:pt x="2322" y="1822"/>
                  </a:cubicBezTo>
                  <a:cubicBezTo>
                    <a:pt x="2042" y="2102"/>
                    <a:pt x="1075" y="2117"/>
                    <a:pt x="689" y="1958"/>
                  </a:cubicBezTo>
                  <a:cubicBezTo>
                    <a:pt x="303" y="1799"/>
                    <a:pt x="0" y="1172"/>
                    <a:pt x="8" y="870"/>
                  </a:cubicBezTo>
                  <a:cubicBezTo>
                    <a:pt x="16" y="568"/>
                    <a:pt x="296" y="242"/>
                    <a:pt x="689" y="144"/>
                  </a:cubicBezTo>
                  <a:close/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09480" y="4411800"/>
              <a:ext cx="863280" cy="5814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0" y="3787920"/>
            <a:ext cx="8537040" cy="2164680"/>
            <a:chOff x="0" y="3787920"/>
            <a:chExt cx="8537040" cy="2164680"/>
          </a:xfrm>
        </p:grpSpPr>
        <p:sp>
          <p:nvSpPr>
            <p:cNvPr id="108" name=""/>
            <p:cNvSpPr/>
            <p:nvPr/>
          </p:nvSpPr>
          <p:spPr>
            <a:xfrm flipV="1">
              <a:off x="1539360" y="378792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39360" y="5492880"/>
              <a:ext cx="551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8320" y="5492880"/>
              <a:ext cx="190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66ff"/>
                  </a:solidFill>
                  <a:latin typeface="Tahoma"/>
                  <a:ea typeface="Tahoma"/>
                </a:rPr>
                <a:t>attribut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3787920"/>
              <a:ext cx="190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66ff"/>
                  </a:solidFill>
                  <a:latin typeface="Tahoma"/>
                  <a:ea typeface="Tahoma"/>
                </a:rPr>
                <a:t>attribut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073240" y="4437000"/>
            <a:ext cx="934560" cy="604080"/>
            <a:chOff x="2073240" y="4437000"/>
            <a:chExt cx="934560" cy="604080"/>
          </a:xfrm>
        </p:grpSpPr>
        <p:sp>
          <p:nvSpPr>
            <p:cNvPr id="113" name=""/>
            <p:cNvSpPr/>
            <p:nvPr/>
          </p:nvSpPr>
          <p:spPr>
            <a:xfrm>
              <a:off x="2073240" y="4581360"/>
              <a:ext cx="3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2289240" y="4437000"/>
              <a:ext cx="718560" cy="387360"/>
              <a:chOff x="2289240" y="4437000"/>
              <a:chExt cx="718560" cy="387360"/>
            </a:xfrm>
          </p:grpSpPr>
          <p:sp>
            <p:nvSpPr>
              <p:cNvPr id="115" name=""/>
              <p:cNvSpPr/>
              <p:nvPr/>
            </p:nvSpPr>
            <p:spPr>
              <a:xfrm flipV="1">
                <a:off x="2289240" y="4779000"/>
                <a:ext cx="44280" cy="442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333520" y="4437000"/>
                <a:ext cx="0" cy="387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333520" y="4824360"/>
                <a:ext cx="67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2576520" y="3621240"/>
            <a:ext cx="1584000" cy="1204200"/>
            <a:chOff x="2576520" y="3621240"/>
            <a:chExt cx="1584000" cy="1204200"/>
          </a:xfrm>
        </p:grpSpPr>
        <p:grpSp>
          <p:nvGrpSpPr>
            <p:cNvPr id="119" name=""/>
            <p:cNvGrpSpPr/>
            <p:nvPr/>
          </p:nvGrpSpPr>
          <p:grpSpPr>
            <a:xfrm>
              <a:off x="3441600" y="3621240"/>
              <a:ext cx="718920" cy="388800"/>
              <a:chOff x="3441600" y="3621240"/>
              <a:chExt cx="718920" cy="388800"/>
            </a:xfrm>
          </p:grpSpPr>
          <p:sp>
            <p:nvSpPr>
              <p:cNvPr id="120" name=""/>
              <p:cNvSpPr/>
              <p:nvPr/>
            </p:nvSpPr>
            <p:spPr>
              <a:xfrm flipV="1">
                <a:off x="3441600" y="3965400"/>
                <a:ext cx="44280" cy="446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485880" y="3621240"/>
                <a:ext cx="0" cy="3888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485880" y="4010040"/>
                <a:ext cx="674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2576520" y="3789360"/>
              <a:ext cx="1007640" cy="1036080"/>
              <a:chOff x="2576520" y="3789360"/>
              <a:chExt cx="1007640" cy="1036080"/>
            </a:xfrm>
          </p:grpSpPr>
          <p:sp>
            <p:nvSpPr>
              <p:cNvPr id="124" name=""/>
              <p:cNvSpPr/>
              <p:nvPr/>
            </p:nvSpPr>
            <p:spPr>
              <a:xfrm>
                <a:off x="3224160" y="37893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576520" y="4365720"/>
                <a:ext cx="3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2865600" y="4149720"/>
                <a:ext cx="718560" cy="388800"/>
                <a:chOff x="2865600" y="4149720"/>
                <a:chExt cx="718560" cy="388800"/>
              </a:xfrm>
            </p:grpSpPr>
            <p:sp>
              <p:nvSpPr>
                <p:cNvPr id="127" name=""/>
                <p:cNvSpPr/>
                <p:nvPr/>
              </p:nvSpPr>
              <p:spPr>
                <a:xfrm flipV="1">
                  <a:off x="2865600" y="4493880"/>
                  <a:ext cx="44280" cy="4464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909880" y="4149720"/>
                  <a:ext cx="0" cy="38880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909880" y="4538520"/>
                  <a:ext cx="674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0" name=""/>
          <p:cNvSpPr/>
          <p:nvPr/>
        </p:nvSpPr>
        <p:spPr>
          <a:xfrm>
            <a:off x="6392880" y="3429000"/>
            <a:ext cx="3513240" cy="180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to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(non-dominated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 if y≱x  for all 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76880" y="3859200"/>
            <a:ext cx="1368360" cy="792000"/>
          </a:xfrm>
          <a:custGeom>
            <a:avLst/>
            <a:gdLst/>
            <a:ahLst/>
            <a:rect l="l" t="t" r="r" b="b"/>
            <a:pathLst>
              <a:path w="1043" h="953">
                <a:moveTo>
                  <a:pt x="0" y="0"/>
                </a:moveTo>
                <a:cubicBezTo>
                  <a:pt x="260" y="15"/>
                  <a:pt x="521" y="31"/>
                  <a:pt x="680" y="91"/>
                </a:cubicBezTo>
                <a:cubicBezTo>
                  <a:pt x="839" y="151"/>
                  <a:pt x="892" y="219"/>
                  <a:pt x="953" y="363"/>
                </a:cubicBezTo>
                <a:cubicBezTo>
                  <a:pt x="1014" y="507"/>
                  <a:pt x="1028" y="855"/>
                  <a:pt x="1043" y="953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881600" y="2637000"/>
            <a:ext cx="3313080" cy="1368360"/>
            <a:chOff x="4881600" y="2637000"/>
            <a:chExt cx="3313080" cy="1368360"/>
          </a:xfrm>
        </p:grpSpPr>
        <p:sp>
          <p:nvSpPr>
            <p:cNvPr id="133" name=""/>
            <p:cNvSpPr/>
            <p:nvPr/>
          </p:nvSpPr>
          <p:spPr>
            <a:xfrm>
              <a:off x="4881600" y="2637000"/>
              <a:ext cx="331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Pareto se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457960" y="3069000"/>
              <a:ext cx="43200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657600" y="4076640"/>
            <a:ext cx="934560" cy="675720"/>
            <a:chOff x="3657600" y="4076640"/>
            <a:chExt cx="934560" cy="675720"/>
          </a:xfrm>
        </p:grpSpPr>
        <p:grpSp>
          <p:nvGrpSpPr>
            <p:cNvPr id="136" name=""/>
            <p:cNvGrpSpPr/>
            <p:nvPr/>
          </p:nvGrpSpPr>
          <p:grpSpPr>
            <a:xfrm>
              <a:off x="3873600" y="4076640"/>
              <a:ext cx="718560" cy="387360"/>
              <a:chOff x="3873600" y="4076640"/>
              <a:chExt cx="718560" cy="387360"/>
            </a:xfrm>
          </p:grpSpPr>
          <p:sp>
            <p:nvSpPr>
              <p:cNvPr id="137" name=""/>
              <p:cNvSpPr/>
              <p:nvPr/>
            </p:nvSpPr>
            <p:spPr>
              <a:xfrm flipV="1">
                <a:off x="3873600" y="4418640"/>
                <a:ext cx="44280" cy="442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917880" y="4076640"/>
                <a:ext cx="0" cy="387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917880" y="4464000"/>
                <a:ext cx="67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3657600" y="4292640"/>
              <a:ext cx="3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2205000"/>
            <a:ext cx="990612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exists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that x </a:t>
            </a:r>
            <a:r>
              <a:rPr b="1" lang="en-US" sz="2800" spc="-1" strike="noStrike">
                <a:solidFill>
                  <a:srgbClr val="9966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&gt;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)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, v(x)=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&gt;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) does not necessarily imply that x </a:t>
            </a:r>
            <a:r>
              <a:rPr b="1" lang="en-US" sz="2800" spc="-1" strike="noStrike">
                <a:solidFill>
                  <a:srgbClr val="9966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normative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484280"/>
            <a:ext cx="9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“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uper-criter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which aggregates the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attribu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500280"/>
            <a:ext cx="990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“stronger” preference order ≻ is needed to get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lue 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eser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preference order:      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&gt;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76280"/>
            <a:ext cx="990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ation of the preferences (over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attribu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                            by a real-valued function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4005360"/>
            <a:ext cx="3025800" cy="431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338880"/>
            <a:ext cx="9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hen 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.e.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≻ or ~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ransi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complet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21240" y="1052640"/>
            <a:ext cx="2736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508640"/>
            <a:ext cx="9906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ea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der (asymmetric and negatively transitiv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ation: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=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⊁y and y⊁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Denote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⊁y and y⊁x) by x~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~ is 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48160" y="981000"/>
            <a:ext cx="2592360" cy="432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13372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681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very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ne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fference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y~x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843440"/>
            <a:ext cx="9906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ishburn (1970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re is a preserving order value function if and only if ≽ is complete and                                                                 there is a countable set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fference s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is dense in it.  (if “there are no more indifference sets than real numbers”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852640"/>
            <a:ext cx="9906120" cy="1936080"/>
          </a:xfrm>
          <a:prstGeom prst="rect">
            <a:avLst/>
          </a:prstGeom>
          <a:noFill/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xicographic order in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if [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x}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no indifference curves”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 function which represents the 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cographic ord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392880" y="-100080"/>
            <a:ext cx="3048120" cy="2590920"/>
            <a:chOff x="6392880" y="-100080"/>
            <a:chExt cx="3048120" cy="2590920"/>
          </a:xfrm>
        </p:grpSpPr>
        <p:sp>
          <p:nvSpPr>
            <p:cNvPr id="156" name=""/>
            <p:cNvSpPr/>
            <p:nvPr/>
          </p:nvSpPr>
          <p:spPr>
            <a:xfrm>
              <a:off x="6411960" y="-10008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92880" y="249084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73960" y="160200"/>
              <a:ext cx="1905120" cy="1928880"/>
            </a:xfrm>
            <a:custGeom>
              <a:avLst/>
              <a:gdLst/>
              <a:ahLst/>
              <a:rect l="l" t="t" r="r" b="b"/>
              <a:pathLst>
                <a:path w="1200" h="1152">
                  <a:moveTo>
                    <a:pt x="0" y="0"/>
                  </a:moveTo>
                  <a:cubicBezTo>
                    <a:pt x="20" y="342"/>
                    <a:pt x="40" y="684"/>
                    <a:pt x="240" y="876"/>
                  </a:cubicBezTo>
                  <a:cubicBezTo>
                    <a:pt x="440" y="1068"/>
                    <a:pt x="1038" y="1106"/>
                    <a:pt x="1200" y="115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89960" y="1025280"/>
              <a:ext cx="86364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0" y="1484280"/>
            <a:ext cx="646596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very x,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ither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ϕ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bsets can b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arly ord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608880" y="160200"/>
            <a:ext cx="2374920" cy="2228760"/>
            <a:chOff x="6608880" y="160200"/>
            <a:chExt cx="2374920" cy="2228760"/>
          </a:xfrm>
        </p:grpSpPr>
        <p:sp>
          <p:nvSpPr>
            <p:cNvPr id="162" name=""/>
            <p:cNvSpPr/>
            <p:nvPr/>
          </p:nvSpPr>
          <p:spPr>
            <a:xfrm>
              <a:off x="6608880" y="160200"/>
              <a:ext cx="2374920" cy="2228760"/>
            </a:xfrm>
            <a:custGeom>
              <a:avLst/>
              <a:gdLst/>
              <a:ahLst/>
              <a:rect l="l" t="t" r="r" b="b"/>
              <a:pathLst>
                <a:path w="1496" h="1332">
                  <a:moveTo>
                    <a:pt x="8" y="0"/>
                  </a:moveTo>
                  <a:cubicBezTo>
                    <a:pt x="4" y="387"/>
                    <a:pt x="0" y="774"/>
                    <a:pt x="248" y="996"/>
                  </a:cubicBezTo>
                  <a:cubicBezTo>
                    <a:pt x="496" y="1218"/>
                    <a:pt x="1286" y="1276"/>
                    <a:pt x="1496" y="13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24520" y="1168200"/>
              <a:ext cx="71928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248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inuity Condi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sets {b : b≽a} and {b : a≽b} are closed for all a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breu (1954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re exists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inuou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 function if ≽ is weak and the continuity condition is satisfied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392880" y="0"/>
            <a:ext cx="3048120" cy="2590920"/>
            <a:chOff x="6392880" y="0"/>
            <a:chExt cx="3048120" cy="2590920"/>
          </a:xfrm>
        </p:grpSpPr>
        <p:sp>
          <p:nvSpPr>
            <p:cNvPr id="166" name=""/>
            <p:cNvSpPr/>
            <p:nvPr/>
          </p:nvSpPr>
          <p:spPr>
            <a:xfrm>
              <a:off x="6411960" y="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92880" y="259092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81960" y="83664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  <a:ea typeface="Times New Roman"/>
                </a:rPr>
                <a:t>a   </a:t>
              </a:r>
              <a:r>
                <a:rPr b="0" lang="ar-SA" sz="2800" spc="-1" strike="noStrike">
                  <a:solidFill>
                    <a:srgbClr val="ff0033"/>
                  </a:solidFill>
                  <a:latin typeface="Times New Roman"/>
                  <a:cs typeface="Times New Roman"/>
                </a:rPr>
                <a:t>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0" y="3068640"/>
            <a:ext cx="990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alue function is unique up to monotone transformation: i.e., 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value function so is u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v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u is a monotone increasing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896160" y="404640"/>
            <a:ext cx="2520720" cy="1295640"/>
            <a:chOff x="6896160" y="404640"/>
            <a:chExt cx="2520720" cy="1295640"/>
          </a:xfrm>
        </p:grpSpPr>
        <p:sp>
          <p:nvSpPr>
            <p:cNvPr id="171" name=""/>
            <p:cNvSpPr/>
            <p:nvPr/>
          </p:nvSpPr>
          <p:spPr>
            <a:xfrm>
              <a:off x="6896160" y="404640"/>
              <a:ext cx="1657440" cy="1295640"/>
            </a:xfrm>
            <a:custGeom>
              <a:avLst/>
              <a:gdLst/>
              <a:ahLst/>
              <a:rect l="l" t="t" r="r" b="b"/>
              <a:pathLst>
                <a:path w="1044" h="816">
                  <a:moveTo>
                    <a:pt x="0" y="0"/>
                  </a:moveTo>
                  <a:cubicBezTo>
                    <a:pt x="117" y="227"/>
                    <a:pt x="235" y="454"/>
                    <a:pt x="409" y="590"/>
                  </a:cubicBezTo>
                  <a:cubicBezTo>
                    <a:pt x="583" y="726"/>
                    <a:pt x="938" y="778"/>
                    <a:pt x="1044" y="8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61240" y="692280"/>
              <a:ext cx="165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b:b≽a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7040520" y="620640"/>
            <a:ext cx="2865600" cy="863640"/>
            <a:chOff x="7040520" y="620640"/>
            <a:chExt cx="2865600" cy="863640"/>
          </a:xfrm>
        </p:grpSpPr>
        <p:sp>
          <p:nvSpPr>
            <p:cNvPr id="174" name=""/>
            <p:cNvSpPr/>
            <p:nvPr/>
          </p:nvSpPr>
          <p:spPr>
            <a:xfrm>
              <a:off x="7040520" y="620640"/>
              <a:ext cx="230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84880" y="836640"/>
              <a:ext cx="230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57960" y="1052640"/>
              <a:ext cx="230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45240" y="1268280"/>
              <a:ext cx="230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04160" y="1484280"/>
              <a:ext cx="2001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0" y="5084640"/>
            <a:ext cx="99061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when is i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ve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30T03:42:18Z</dcterms:created>
  <dc:creator>School of Management Studies</dc:creator>
  <dc:description/>
  <dc:language>en-US</dc:language>
  <cp:lastModifiedBy>Henig</cp:lastModifiedBy>
  <cp:lastPrinted>2000-07-05T12:30:12Z</cp:lastPrinted>
  <dcterms:modified xsi:type="dcterms:W3CDTF">2004-11-02T17:05:20Z</dcterms:modified>
  <cp:revision>1018</cp:revision>
  <dc:subject/>
  <dc:title>From Mechanistic to Social Systemic Thin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mngt.waikato.ac.nz/depts/mnss/john</vt:lpwstr>
  </property>
  <property fmtid="{D5CDD505-2E9C-101B-9397-08002B2CF9AE}" pid="9" name="LinkColor">
    <vt:r8>16711782</vt:r8>
  </property>
  <property fmtid="{D5CDD505-2E9C-101B-9397-08002B2CF9AE}" pid="10" name="MailAddress">
    <vt:lpwstr>jtb@waikato.ac.nz</vt:lpwstr>
  </property>
  <property fmtid="{D5CDD505-2E9C-101B-9397-08002B2CF9AE}" pid="11" name="NavBtnPos">
    <vt:r8>3</vt:r8>
  </property>
  <property fmtid="{D5CDD505-2E9C-101B-9397-08002B2CF9AE}" pid="12" name="Other">
    <vt:lpwstr>Presentation at the APORS '97 Meeting, Melbourne, Australia, 30 November - 04 December, 1997
</vt:lpwstr>
  </property>
  <property fmtid="{D5CDD505-2E9C-101B-9397-08002B2CF9AE}" pid="13" name="OutputDir">
    <vt:lpwstr>C:\document\PowerPoint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