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A260-2836-430D-A4A6-B82C150D0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77D8-6977-42E4-90DC-2ACBE7B23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AC7E-75CB-43E7-81E7-49F50BB5D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82FB-5B5C-4708-B52E-5BFEA0C8C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D8B56-2F98-4E7C-A23D-2C3CBE2954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8E6A-9503-4E16-8259-47CD80A34A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F691C-E1A8-474E-8DB1-57D34A4A86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3C80E-9E4D-4B44-B078-94A17FFA20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8F3DA-FD86-409B-981D-093E8A4290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22CB2-F4D5-4EBD-B864-9564D4C524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F77A-AB52-4F34-BD9D-CB59573F60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7B91-3387-48A7-97CA-E9DC10B45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26E4B-D276-4A61-9737-FCFB83348A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9105-68B7-4BB2-8D6C-CAFEABEE91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13B3C-8C11-4625-9644-F17DAA0228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55143-B712-4BD6-BC30-1B02090D97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C3B1-D4D6-4146-9C1A-ED3394FF11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2E4D-916E-46FC-9CD6-64094906E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AC68-61A1-47CA-BBF4-C801B8D50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A47A-0A2F-47A5-8150-19B39C25C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D7188-0BDE-4C7B-9DDC-22097D74D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83DC-87FF-44D8-B8EC-912964C48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BCDCF-FFAC-4CD2-A6F0-08E047B6D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DCF5-4C2E-4A80-9530-DB908827C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34652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417F-8BEC-4C95-BCE2-1C97FDF79E09}" type="slidenum">
              <a:rPr b="0" lang="he-IL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ldNum" idx="2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E13F-BB86-402D-8B7D-EA6ACBE31865}" type="slidenum">
              <a:rPr b="0" lang="he-IL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549360"/>
            <a:ext cx="990612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A be a set of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lternati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m&gt;1, be a vector valued fun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is 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lti-</a:t>
            </a:r>
            <a:r>
              <a:rPr b="0" lang="en-US" sz="2800" spc="-1" strike="noStrike" u="sng">
                <a:solidFill>
                  <a:srgbClr val="9966ff"/>
                </a:solidFill>
                <a:uFillTx/>
                <a:latin typeface="Times New Roman"/>
                <a:ea typeface="Times New Roman"/>
              </a:rPr>
              <a:t>attribut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0520" y="24210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(x),f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00160" y="2565360"/>
            <a:ext cx="4033800" cy="3314880"/>
            <a:chOff x="200160" y="2565360"/>
            <a:chExt cx="4033800" cy="3314880"/>
          </a:xfrm>
        </p:grpSpPr>
        <p:sp>
          <p:nvSpPr>
            <p:cNvPr id="78" name=""/>
            <p:cNvSpPr/>
            <p:nvPr/>
          </p:nvSpPr>
          <p:spPr>
            <a:xfrm>
              <a:off x="415800" y="3213000"/>
              <a:ext cx="0" cy="216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15800" y="3284280"/>
              <a:ext cx="0" cy="21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415800" y="4149720"/>
              <a:ext cx="3745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5800" y="5445000"/>
              <a:ext cx="3429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105800">
              <a:off x="836280" y="4887720"/>
              <a:ext cx="1800360" cy="5284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0160" y="3357720"/>
              <a:ext cx="5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57600" y="4076640"/>
              <a:ext cx="576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1240" y="5300640"/>
              <a:ext cx="576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84520" y="43657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96880" y="2565360"/>
              <a:ext cx="14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 flipH="1">
            <a:off x="7616520" y="3357720"/>
            <a:ext cx="431640" cy="295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032520" y="3213000"/>
            <a:ext cx="2879640" cy="2521080"/>
            <a:chOff x="6032520" y="3213000"/>
            <a:chExt cx="2879640" cy="2521080"/>
          </a:xfrm>
        </p:grpSpPr>
        <p:sp>
          <p:nvSpPr>
            <p:cNvPr id="90" name=""/>
            <p:cNvSpPr/>
            <p:nvPr/>
          </p:nvSpPr>
          <p:spPr>
            <a:xfrm>
              <a:off x="6032520" y="3213000"/>
              <a:ext cx="2879640" cy="2521080"/>
            </a:xfrm>
            <a:custGeom>
              <a:avLst/>
              <a:gdLst/>
              <a:ahLst/>
              <a:rect l="l" t="t" r="r" b="b"/>
              <a:pathLst>
                <a:path w="1814" h="1588">
                  <a:moveTo>
                    <a:pt x="408" y="0"/>
                  </a:moveTo>
                  <a:lnTo>
                    <a:pt x="1225" y="182"/>
                  </a:lnTo>
                  <a:lnTo>
                    <a:pt x="1588" y="544"/>
                  </a:lnTo>
                  <a:lnTo>
                    <a:pt x="1814" y="1225"/>
                  </a:lnTo>
                  <a:lnTo>
                    <a:pt x="1043" y="1588"/>
                  </a:lnTo>
                  <a:lnTo>
                    <a:pt x="182" y="1316"/>
                  </a:lnTo>
                  <a:lnTo>
                    <a:pt x="0" y="27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13600" y="422100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376880" y="3428640"/>
            <a:ext cx="5184720" cy="3057840"/>
            <a:chOff x="4376880" y="3428640"/>
            <a:chExt cx="5184720" cy="3057840"/>
          </a:xfrm>
        </p:grpSpPr>
        <p:sp>
          <p:nvSpPr>
            <p:cNvPr id="93" name=""/>
            <p:cNvSpPr/>
            <p:nvPr/>
          </p:nvSpPr>
          <p:spPr>
            <a:xfrm flipH="1" flipV="1">
              <a:off x="5024520" y="3428640"/>
              <a:ext cx="17280" cy="249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41800" y="5919840"/>
              <a:ext cx="451980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48520" y="5661000"/>
              <a:ext cx="144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66ff"/>
                  </a:solidFill>
                  <a:latin typeface="Tahoma"/>
                  <a:ea typeface="Tahoma"/>
                </a:rPr>
                <a:t>attribut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76880" y="4508640"/>
              <a:ext cx="140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66ff"/>
                  </a:solidFill>
                  <a:latin typeface="Tahoma"/>
                  <a:ea typeface="Tahoma"/>
                </a:rPr>
                <a:t>attribut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537240" y="2492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24160" y="3273480"/>
            <a:ext cx="3673440" cy="731880"/>
          </a:xfrm>
          <a:custGeom>
            <a:avLst/>
            <a:gdLst/>
            <a:ahLst/>
            <a:rect l="l" t="t" r="r" b="b"/>
            <a:pathLst>
              <a:path w="2314" h="461">
                <a:moveTo>
                  <a:pt x="0" y="461"/>
                </a:moveTo>
                <a:cubicBezTo>
                  <a:pt x="238" y="237"/>
                  <a:pt x="476" y="14"/>
                  <a:pt x="862" y="7"/>
                </a:cubicBezTo>
                <a:cubicBezTo>
                  <a:pt x="1248" y="0"/>
                  <a:pt x="2072" y="348"/>
                  <a:pt x="2314" y="4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338880"/>
            <a:ext cx="71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a maximal point in Y does not exi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079800" y="4210200"/>
            <a:ext cx="3673440" cy="731520"/>
          </a:xfrm>
          <a:custGeom>
            <a:avLst/>
            <a:gdLst/>
            <a:ahLst/>
            <a:rect l="l" t="t" r="r" b="b"/>
            <a:pathLst>
              <a:path w="2314" h="461">
                <a:moveTo>
                  <a:pt x="0" y="461"/>
                </a:moveTo>
                <a:cubicBezTo>
                  <a:pt x="238" y="237"/>
                  <a:pt x="476" y="14"/>
                  <a:pt x="862" y="7"/>
                </a:cubicBezTo>
                <a:cubicBezTo>
                  <a:pt x="1248" y="0"/>
                  <a:pt x="2072" y="348"/>
                  <a:pt x="2314" y="4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65960" y="1628640"/>
            <a:ext cx="264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A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197000"/>
            <a:ext cx="9906120" cy="1373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nation order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                                            </a:t>
            </a:r>
            <a:r>
              <a:rPr b="0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asymmetr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⇒ y≱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</a:t>
            </a:r>
            <a:r>
              <a:rPr b="0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tran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  <a:ea typeface="Arial Unicode MS"/>
              </a:rPr>
              <a:t>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4640"/>
            <a:ext cx="9906120" cy="597240"/>
          </a:xfrm>
          <a:prstGeom prst="rect">
            <a:avLst/>
          </a:prstGeom>
          <a:noFill/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n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or i=1,…,m,  but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712880" y="3787920"/>
            <a:ext cx="4189320" cy="1611000"/>
            <a:chOff x="1712880" y="3787920"/>
            <a:chExt cx="4189320" cy="1611000"/>
          </a:xfrm>
        </p:grpSpPr>
        <p:sp>
          <p:nvSpPr>
            <p:cNvPr id="105" name=""/>
            <p:cNvSpPr/>
            <p:nvPr/>
          </p:nvSpPr>
          <p:spPr>
            <a:xfrm>
              <a:off x="1712880" y="3787920"/>
              <a:ext cx="4189320" cy="1611000"/>
            </a:xfrm>
            <a:custGeom>
              <a:avLst/>
              <a:gdLst/>
              <a:ahLst/>
              <a:rect l="l" t="t" r="r" b="b"/>
              <a:pathLst>
                <a:path w="2639" h="2117">
                  <a:moveTo>
                    <a:pt x="689" y="144"/>
                  </a:moveTo>
                  <a:cubicBezTo>
                    <a:pt x="1082" y="46"/>
                    <a:pt x="2095" y="0"/>
                    <a:pt x="2367" y="280"/>
                  </a:cubicBezTo>
                  <a:cubicBezTo>
                    <a:pt x="2639" y="560"/>
                    <a:pt x="2602" y="1542"/>
                    <a:pt x="2322" y="1822"/>
                  </a:cubicBezTo>
                  <a:cubicBezTo>
                    <a:pt x="2042" y="2102"/>
                    <a:pt x="1075" y="2117"/>
                    <a:pt x="689" y="1958"/>
                  </a:cubicBezTo>
                  <a:cubicBezTo>
                    <a:pt x="303" y="1799"/>
                    <a:pt x="0" y="1172"/>
                    <a:pt x="8" y="870"/>
                  </a:cubicBezTo>
                  <a:cubicBezTo>
                    <a:pt x="16" y="568"/>
                    <a:pt x="296" y="242"/>
                    <a:pt x="689" y="144"/>
                  </a:cubicBez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09480" y="4411800"/>
              <a:ext cx="863280" cy="5814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0" y="3787920"/>
            <a:ext cx="8537040" cy="2164680"/>
            <a:chOff x="0" y="3787920"/>
            <a:chExt cx="8537040" cy="2164680"/>
          </a:xfrm>
        </p:grpSpPr>
        <p:sp>
          <p:nvSpPr>
            <p:cNvPr id="108" name=""/>
            <p:cNvSpPr/>
            <p:nvPr/>
          </p:nvSpPr>
          <p:spPr>
            <a:xfrm flipV="1">
              <a:off x="1539360" y="378792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39360" y="5492880"/>
              <a:ext cx="55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8320" y="5492880"/>
              <a:ext cx="19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66ff"/>
                  </a:solidFill>
                  <a:latin typeface="Tahoma"/>
                  <a:ea typeface="Tahoma"/>
                </a:rPr>
                <a:t>attribut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3787920"/>
              <a:ext cx="19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66ff"/>
                  </a:solidFill>
                  <a:latin typeface="Tahoma"/>
                  <a:ea typeface="Tahoma"/>
                </a:rPr>
                <a:t>attribut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073240" y="4437000"/>
            <a:ext cx="934560" cy="604080"/>
            <a:chOff x="2073240" y="4437000"/>
            <a:chExt cx="934560" cy="604080"/>
          </a:xfrm>
        </p:grpSpPr>
        <p:sp>
          <p:nvSpPr>
            <p:cNvPr id="113" name=""/>
            <p:cNvSpPr/>
            <p:nvPr/>
          </p:nvSpPr>
          <p:spPr>
            <a:xfrm>
              <a:off x="2073240" y="458136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289240" y="4437000"/>
              <a:ext cx="718560" cy="387360"/>
              <a:chOff x="2289240" y="4437000"/>
              <a:chExt cx="718560" cy="387360"/>
            </a:xfrm>
          </p:grpSpPr>
          <p:sp>
            <p:nvSpPr>
              <p:cNvPr id="115" name=""/>
              <p:cNvSpPr/>
              <p:nvPr/>
            </p:nvSpPr>
            <p:spPr>
              <a:xfrm flipV="1">
                <a:off x="2289240" y="4779000"/>
                <a:ext cx="44280" cy="44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333520" y="4437000"/>
                <a:ext cx="0" cy="387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33520" y="4824360"/>
                <a:ext cx="67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2576520" y="3621240"/>
            <a:ext cx="1584000" cy="1204200"/>
            <a:chOff x="2576520" y="3621240"/>
            <a:chExt cx="1584000" cy="1204200"/>
          </a:xfrm>
        </p:grpSpPr>
        <p:grpSp>
          <p:nvGrpSpPr>
            <p:cNvPr id="119" name=""/>
            <p:cNvGrpSpPr/>
            <p:nvPr/>
          </p:nvGrpSpPr>
          <p:grpSpPr>
            <a:xfrm>
              <a:off x="3441600" y="3621240"/>
              <a:ext cx="718920" cy="388800"/>
              <a:chOff x="3441600" y="3621240"/>
              <a:chExt cx="718920" cy="388800"/>
            </a:xfrm>
          </p:grpSpPr>
          <p:sp>
            <p:nvSpPr>
              <p:cNvPr id="120" name=""/>
              <p:cNvSpPr/>
              <p:nvPr/>
            </p:nvSpPr>
            <p:spPr>
              <a:xfrm flipV="1">
                <a:off x="3441600" y="3965400"/>
                <a:ext cx="44280" cy="446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485880" y="3621240"/>
                <a:ext cx="0" cy="388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485880" y="4010040"/>
                <a:ext cx="67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2576520" y="3789360"/>
              <a:ext cx="1007640" cy="1036080"/>
              <a:chOff x="2576520" y="3789360"/>
              <a:chExt cx="1007640" cy="1036080"/>
            </a:xfrm>
          </p:grpSpPr>
          <p:sp>
            <p:nvSpPr>
              <p:cNvPr id="124" name=""/>
              <p:cNvSpPr/>
              <p:nvPr/>
            </p:nvSpPr>
            <p:spPr>
              <a:xfrm>
                <a:off x="3224160" y="37893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76520" y="436572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2865600" y="4149720"/>
                <a:ext cx="718560" cy="388800"/>
                <a:chOff x="2865600" y="4149720"/>
                <a:chExt cx="718560" cy="388800"/>
              </a:xfrm>
            </p:grpSpPr>
            <p:sp>
              <p:nvSpPr>
                <p:cNvPr id="127" name=""/>
                <p:cNvSpPr/>
                <p:nvPr/>
              </p:nvSpPr>
              <p:spPr>
                <a:xfrm flipV="1">
                  <a:off x="2865600" y="4493880"/>
                  <a:ext cx="44280" cy="4464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909880" y="4149720"/>
                  <a:ext cx="0" cy="3888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909880" y="4538520"/>
                  <a:ext cx="674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0" name=""/>
          <p:cNvSpPr/>
          <p:nvPr/>
        </p:nvSpPr>
        <p:spPr>
          <a:xfrm>
            <a:off x="6392880" y="3429000"/>
            <a:ext cx="351324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to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non-dominated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 if y≱x  for all 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76880" y="3859200"/>
            <a:ext cx="1368360" cy="792000"/>
          </a:xfrm>
          <a:custGeom>
            <a:avLst/>
            <a:gdLst/>
            <a:ahLst/>
            <a:rect l="l" t="t" r="r" b="b"/>
            <a:pathLst>
              <a:path w="1043" h="953">
                <a:moveTo>
                  <a:pt x="0" y="0"/>
                </a:moveTo>
                <a:cubicBezTo>
                  <a:pt x="260" y="15"/>
                  <a:pt x="521" y="31"/>
                  <a:pt x="680" y="91"/>
                </a:cubicBezTo>
                <a:cubicBezTo>
                  <a:pt x="839" y="151"/>
                  <a:pt x="892" y="219"/>
                  <a:pt x="953" y="363"/>
                </a:cubicBezTo>
                <a:cubicBezTo>
                  <a:pt x="1014" y="507"/>
                  <a:pt x="1028" y="855"/>
                  <a:pt x="1043" y="953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881600" y="2637000"/>
            <a:ext cx="3313080" cy="1368360"/>
            <a:chOff x="4881600" y="2637000"/>
            <a:chExt cx="3313080" cy="1368360"/>
          </a:xfrm>
        </p:grpSpPr>
        <p:sp>
          <p:nvSpPr>
            <p:cNvPr id="133" name=""/>
            <p:cNvSpPr/>
            <p:nvPr/>
          </p:nvSpPr>
          <p:spPr>
            <a:xfrm>
              <a:off x="4881600" y="2637000"/>
              <a:ext cx="33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Pareto s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457960" y="3069000"/>
              <a:ext cx="43200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657600" y="4076640"/>
            <a:ext cx="934560" cy="675720"/>
            <a:chOff x="3657600" y="4076640"/>
            <a:chExt cx="934560" cy="675720"/>
          </a:xfrm>
        </p:grpSpPr>
        <p:grpSp>
          <p:nvGrpSpPr>
            <p:cNvPr id="136" name=""/>
            <p:cNvGrpSpPr/>
            <p:nvPr/>
          </p:nvGrpSpPr>
          <p:grpSpPr>
            <a:xfrm>
              <a:off x="3873600" y="4076640"/>
              <a:ext cx="718560" cy="387360"/>
              <a:chOff x="3873600" y="4076640"/>
              <a:chExt cx="718560" cy="387360"/>
            </a:xfrm>
          </p:grpSpPr>
          <p:sp>
            <p:nvSpPr>
              <p:cNvPr id="137" name=""/>
              <p:cNvSpPr/>
              <p:nvPr/>
            </p:nvSpPr>
            <p:spPr>
              <a:xfrm flipV="1">
                <a:off x="3873600" y="4418640"/>
                <a:ext cx="44280" cy="44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17880" y="4076640"/>
                <a:ext cx="0" cy="387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917880" y="4464000"/>
                <a:ext cx="67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3657600" y="429264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205000"/>
            <a:ext cx="990612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exist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x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&gt;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v(x)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&gt;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 does not necessarily imply that x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normative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8428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“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uper-criter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which aggregates the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500280"/>
            <a:ext cx="990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“stronger” preference order ≻ is needed to get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lue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ser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preference order:      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&gt;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76280"/>
            <a:ext cx="990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on of the preferences (over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                     by a real-valued function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4005360"/>
            <a:ext cx="3025800" cy="431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33888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hen 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.e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≻ or ~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ran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complet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21240" y="1052640"/>
            <a:ext cx="2736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508640"/>
            <a:ext cx="9906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ea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der (asymmetric and negatively transitiv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⊁y and y⊁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Denote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⊁y and y⊁x) by x~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~ is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48160" y="981000"/>
            <a:ext cx="2592360" cy="432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13372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681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very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e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fference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y~x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843440"/>
            <a:ext cx="990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shburn (197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re is a preserving order value function if and only if ≽ is complete and                                                                 there is a countable set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fference s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is dense in it.  (if “there are no more indifference sets than real numbers”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852640"/>
            <a:ext cx="9906120" cy="193608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xicographic order in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if [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x}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no indifference curves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function which represents the 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cographic ord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392880" y="-100080"/>
            <a:ext cx="3048120" cy="2590920"/>
            <a:chOff x="6392880" y="-100080"/>
            <a:chExt cx="3048120" cy="2590920"/>
          </a:xfrm>
        </p:grpSpPr>
        <p:sp>
          <p:nvSpPr>
            <p:cNvPr id="156" name=""/>
            <p:cNvSpPr/>
            <p:nvPr/>
          </p:nvSpPr>
          <p:spPr>
            <a:xfrm>
              <a:off x="6411960" y="-10008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92880" y="24908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73960" y="160200"/>
              <a:ext cx="1905120" cy="1928880"/>
            </a:xfrm>
            <a:custGeom>
              <a:avLst/>
              <a:gdLst/>
              <a:ahLst/>
              <a:rect l="l" t="t" r="r" b="b"/>
              <a:pathLst>
                <a:path w="1200" h="1152">
                  <a:moveTo>
                    <a:pt x="0" y="0"/>
                  </a:moveTo>
                  <a:cubicBezTo>
                    <a:pt x="20" y="342"/>
                    <a:pt x="40" y="684"/>
                    <a:pt x="240" y="876"/>
                  </a:cubicBezTo>
                  <a:cubicBezTo>
                    <a:pt x="440" y="1068"/>
                    <a:pt x="1038" y="1106"/>
                    <a:pt x="1200" y="11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89960" y="1025280"/>
              <a:ext cx="8636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0" y="1484280"/>
            <a:ext cx="64659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very x,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ither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ϕ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bsets can b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ly ord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608880" y="160200"/>
            <a:ext cx="2374920" cy="2228760"/>
            <a:chOff x="6608880" y="160200"/>
            <a:chExt cx="2374920" cy="2228760"/>
          </a:xfrm>
        </p:grpSpPr>
        <p:sp>
          <p:nvSpPr>
            <p:cNvPr id="162" name=""/>
            <p:cNvSpPr/>
            <p:nvPr/>
          </p:nvSpPr>
          <p:spPr>
            <a:xfrm>
              <a:off x="6608880" y="160200"/>
              <a:ext cx="2374920" cy="2228760"/>
            </a:xfrm>
            <a:custGeom>
              <a:avLst/>
              <a:gdLst/>
              <a:ahLst/>
              <a:rect l="l" t="t" r="r" b="b"/>
              <a:pathLst>
                <a:path w="1496" h="1332">
                  <a:moveTo>
                    <a:pt x="8" y="0"/>
                  </a:moveTo>
                  <a:cubicBezTo>
                    <a:pt x="4" y="387"/>
                    <a:pt x="0" y="774"/>
                    <a:pt x="248" y="996"/>
                  </a:cubicBezTo>
                  <a:cubicBezTo>
                    <a:pt x="496" y="1218"/>
                    <a:pt x="1286" y="1276"/>
                    <a:pt x="1496" y="13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24520" y="1168200"/>
              <a:ext cx="71928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248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inuity Condi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sets {b : b≽a} and {b : a≽b} are closed for all a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breu (1954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re exists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inuou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function if ≽ is weak and the continuity condition is satisfied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392880" y="0"/>
            <a:ext cx="3048120" cy="2590920"/>
            <a:chOff x="6392880" y="0"/>
            <a:chExt cx="3048120" cy="2590920"/>
          </a:xfrm>
        </p:grpSpPr>
        <p:sp>
          <p:nvSpPr>
            <p:cNvPr id="166" name=""/>
            <p:cNvSpPr/>
            <p:nvPr/>
          </p:nvSpPr>
          <p:spPr>
            <a:xfrm>
              <a:off x="6411960" y="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92880" y="259092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81960" y="83664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  <a:ea typeface="Times New Roman"/>
                </a:rPr>
                <a:t>a   </a:t>
              </a:r>
              <a:r>
                <a:rPr b="0" lang="ar-SA" sz="2800" spc="-1" strike="noStrike">
                  <a:solidFill>
                    <a:srgbClr val="ff0033"/>
                  </a:solidFill>
                  <a:latin typeface="Times New Roman"/>
                  <a:cs typeface="Times New Roman"/>
                </a:rPr>
                <a:t>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0" y="3068640"/>
            <a:ext cx="990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lue function is unique up to monotone transformation: i.e.,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value function so is u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u is a monotone increasing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896160" y="404640"/>
            <a:ext cx="2520720" cy="1295640"/>
            <a:chOff x="6896160" y="404640"/>
            <a:chExt cx="2520720" cy="1295640"/>
          </a:xfrm>
        </p:grpSpPr>
        <p:sp>
          <p:nvSpPr>
            <p:cNvPr id="171" name=""/>
            <p:cNvSpPr/>
            <p:nvPr/>
          </p:nvSpPr>
          <p:spPr>
            <a:xfrm>
              <a:off x="6896160" y="404640"/>
              <a:ext cx="1657440" cy="1295640"/>
            </a:xfrm>
            <a:custGeom>
              <a:avLst/>
              <a:gdLst/>
              <a:ahLst/>
              <a:rect l="l" t="t" r="r" b="b"/>
              <a:pathLst>
                <a:path w="1044" h="816">
                  <a:moveTo>
                    <a:pt x="0" y="0"/>
                  </a:moveTo>
                  <a:cubicBezTo>
                    <a:pt x="117" y="227"/>
                    <a:pt x="235" y="454"/>
                    <a:pt x="409" y="590"/>
                  </a:cubicBezTo>
                  <a:cubicBezTo>
                    <a:pt x="583" y="726"/>
                    <a:pt x="938" y="778"/>
                    <a:pt x="1044" y="8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61240" y="692280"/>
              <a:ext cx="16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b:b≽a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040520" y="620640"/>
            <a:ext cx="2865600" cy="863640"/>
            <a:chOff x="7040520" y="620640"/>
            <a:chExt cx="2865600" cy="863640"/>
          </a:xfrm>
        </p:grpSpPr>
        <p:sp>
          <p:nvSpPr>
            <p:cNvPr id="174" name=""/>
            <p:cNvSpPr/>
            <p:nvPr/>
          </p:nvSpPr>
          <p:spPr>
            <a:xfrm>
              <a:off x="7040520" y="62064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84880" y="83664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57960" y="105264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45240" y="126828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04160" y="1484280"/>
              <a:ext cx="2001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0" y="5084640"/>
            <a:ext cx="9906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when is i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v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30T03:42:18Z</dcterms:created>
  <dc:creator>School of Management Studies</dc:creator>
  <dc:description/>
  <dc:language>en-US</dc:language>
  <cp:lastModifiedBy>Henig</cp:lastModifiedBy>
  <cp:lastPrinted>2000-07-05T12:30:12Z</cp:lastPrinted>
  <dcterms:modified xsi:type="dcterms:W3CDTF">2004-11-02T17:05:20Z</dcterms:modified>
  <cp:revision>1018</cp:revision>
  <dc:subject/>
  <dc:title>From Mechanistic to Social Systemic Thin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mngt.waikato.ac.nz/depts/mnss/john</vt:lpwstr>
  </property>
  <property fmtid="{D5CDD505-2E9C-101B-9397-08002B2CF9AE}" pid="9" name="LinkColor">
    <vt:r8>16711782</vt:r8>
  </property>
  <property fmtid="{D5CDD505-2E9C-101B-9397-08002B2CF9AE}" pid="10" name="MailAddress">
    <vt:lpwstr>jtb@waikato.ac.nz</vt:lpwstr>
  </property>
  <property fmtid="{D5CDD505-2E9C-101B-9397-08002B2CF9AE}" pid="11" name="NavBtnPos">
    <vt:r8>3</vt:r8>
  </property>
  <property fmtid="{D5CDD505-2E9C-101B-9397-08002B2CF9AE}" pid="12" name="Other">
    <vt:lpwstr>Presentation at the APORS '97 Meeting, Melbourne, Australia, 30 November - 04 December, 1997
</vt:lpwstr>
  </property>
  <property fmtid="{D5CDD505-2E9C-101B-9397-08002B2CF9AE}" pid="13" name="OutputDir">
    <vt:lpwstr>C:\document\PowerPoint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