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CD7A-99DB-4774-94FB-AABF84D6F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7853-DF3E-4030-9212-79E82FF09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29DF-1140-4A34-8D01-B0DCFFCCE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DF71-C6DE-42CF-9A5D-D77A96567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B6341-75BF-44EE-8ADE-ABAFE05D08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E1FF-AEEC-47C8-8C41-A52331DF0F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1FD1-B039-46DC-8E5F-8ED9FCC1CC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2AF2-7CC7-4803-A0DA-254C4B6F14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A248-3C3E-4306-882E-7B1A6AFFE4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B8BA-96CA-4919-8C92-0CD84F410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0601-CA5E-4C3E-9CE4-27DF9666E3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C213-A52E-44BA-BDF7-A71613A06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82F8-6E83-458A-9546-501DA83C3A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53A9-36DB-41DC-9650-15BF9AFFDE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8EFB-6E9B-4775-8ACD-A650AD7DDE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FEE1-2864-431A-9A17-92DA1CE359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E4A0-B3E6-4E2C-A254-4B98C184F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AAC9-8569-4BEE-BD4B-B67320D4E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258D-F5E5-4AED-8EE0-E3CC65928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471A-1CA1-4440-8FA5-21AE8B873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0279-D3BA-4ECA-8063-A548C888E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5971-2AC9-4A5C-BABA-8EF635CC0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5D82-91DA-4BD4-BF4B-57473D388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E485-36E2-4D91-8F9C-C6F8F4A5C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34652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BF0C-B9CB-4EC0-9F43-5E4162C56722}" type="slidenum">
              <a:rPr b="0" lang="he-IL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4FBD-37EF-4532-A677-E4C8307329D0}" type="slidenum">
              <a:rPr b="0" lang="he-IL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49360"/>
            <a:ext cx="990612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A be a set of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ltern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m&gt;1, be a vector valued fun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is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-</a:t>
            </a:r>
            <a:r>
              <a:rPr b="0" lang="en-US" sz="2800" spc="-1" strike="noStrike" u="sng">
                <a:solidFill>
                  <a:srgbClr val="9966ff"/>
                </a:solidFill>
                <a:uFillTx/>
                <a:latin typeface="Times New Roman"/>
                <a:ea typeface="Times New Roman"/>
              </a:rPr>
              <a:t>attribut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0520" y="24210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x),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00160" y="2565360"/>
            <a:ext cx="4033800" cy="3314880"/>
            <a:chOff x="200160" y="2565360"/>
            <a:chExt cx="4033800" cy="3314880"/>
          </a:xfrm>
        </p:grpSpPr>
        <p:sp>
          <p:nvSpPr>
            <p:cNvPr id="78" name=""/>
            <p:cNvSpPr/>
            <p:nvPr/>
          </p:nvSpPr>
          <p:spPr>
            <a:xfrm>
              <a:off x="415800" y="3213000"/>
              <a:ext cx="0" cy="216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5800" y="3284280"/>
              <a:ext cx="0" cy="21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15800" y="4149720"/>
              <a:ext cx="3745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5800" y="5445000"/>
              <a:ext cx="3429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105800">
              <a:off x="836280" y="4887720"/>
              <a:ext cx="1800360" cy="5284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0160" y="3357720"/>
              <a:ext cx="5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4076640"/>
              <a:ext cx="57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1240" y="5300640"/>
              <a:ext cx="57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84520" y="4365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96880" y="256536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 flipH="1">
            <a:off x="7616520" y="3357720"/>
            <a:ext cx="431640" cy="29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32520" y="3213000"/>
            <a:ext cx="2879640" cy="2521080"/>
            <a:chOff x="6032520" y="3213000"/>
            <a:chExt cx="2879640" cy="2521080"/>
          </a:xfrm>
        </p:grpSpPr>
        <p:sp>
          <p:nvSpPr>
            <p:cNvPr id="90" name=""/>
            <p:cNvSpPr/>
            <p:nvPr/>
          </p:nvSpPr>
          <p:spPr>
            <a:xfrm>
              <a:off x="6032520" y="3213000"/>
              <a:ext cx="2879640" cy="2521080"/>
            </a:xfrm>
            <a:custGeom>
              <a:avLst/>
              <a:gdLst/>
              <a:ahLst/>
              <a:rect l="l" t="t" r="r" b="b"/>
              <a:pathLst>
                <a:path w="1814" h="1588">
                  <a:moveTo>
                    <a:pt x="408" y="0"/>
                  </a:moveTo>
                  <a:lnTo>
                    <a:pt x="1225" y="182"/>
                  </a:lnTo>
                  <a:lnTo>
                    <a:pt x="1588" y="544"/>
                  </a:lnTo>
                  <a:lnTo>
                    <a:pt x="1814" y="1225"/>
                  </a:lnTo>
                  <a:lnTo>
                    <a:pt x="1043" y="1588"/>
                  </a:lnTo>
                  <a:lnTo>
                    <a:pt x="182" y="1316"/>
                  </a:lnTo>
                  <a:lnTo>
                    <a:pt x="0" y="27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13600" y="42210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76880" y="3428640"/>
            <a:ext cx="5184720" cy="3057840"/>
            <a:chOff x="4376880" y="3428640"/>
            <a:chExt cx="5184720" cy="3057840"/>
          </a:xfrm>
        </p:grpSpPr>
        <p:sp>
          <p:nvSpPr>
            <p:cNvPr id="93" name=""/>
            <p:cNvSpPr/>
            <p:nvPr/>
          </p:nvSpPr>
          <p:spPr>
            <a:xfrm flipH="1" flipV="1">
              <a:off x="5024520" y="3428640"/>
              <a:ext cx="17280" cy="24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41800" y="5919840"/>
              <a:ext cx="45198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48520" y="5661000"/>
              <a:ext cx="14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76880" y="4508640"/>
              <a:ext cx="140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537240" y="2492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24160" y="3273480"/>
            <a:ext cx="3673440" cy="731880"/>
          </a:xfrm>
          <a:custGeom>
            <a:avLst/>
            <a:gdLst/>
            <a:ahLst/>
            <a:rect l="l" t="t" r="r" b="b"/>
            <a:pathLst>
              <a:path w="2314" h="461">
                <a:moveTo>
                  <a:pt x="0" y="461"/>
                </a:moveTo>
                <a:cubicBezTo>
                  <a:pt x="238" y="237"/>
                  <a:pt x="476" y="14"/>
                  <a:pt x="862" y="7"/>
                </a:cubicBezTo>
                <a:cubicBezTo>
                  <a:pt x="1248" y="0"/>
                  <a:pt x="2072" y="348"/>
                  <a:pt x="2314" y="4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338880"/>
            <a:ext cx="71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a maximal point in Y does not exi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79800" y="4210200"/>
            <a:ext cx="3673440" cy="731520"/>
          </a:xfrm>
          <a:custGeom>
            <a:avLst/>
            <a:gdLst/>
            <a:ahLst/>
            <a:rect l="l" t="t" r="r" b="b"/>
            <a:pathLst>
              <a:path w="2314" h="461">
                <a:moveTo>
                  <a:pt x="0" y="461"/>
                </a:moveTo>
                <a:cubicBezTo>
                  <a:pt x="238" y="237"/>
                  <a:pt x="476" y="14"/>
                  <a:pt x="862" y="7"/>
                </a:cubicBezTo>
                <a:cubicBezTo>
                  <a:pt x="1248" y="0"/>
                  <a:pt x="2072" y="348"/>
                  <a:pt x="2314" y="4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5960" y="1628640"/>
            <a:ext cx="26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A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197000"/>
            <a:ext cx="9906120" cy="1373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tion order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                                         </a:t>
            </a:r>
            <a:r>
              <a:rPr b="0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asymmet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⇒ y≱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</a:t>
            </a:r>
            <a:r>
              <a:rPr b="0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tran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  <a:ea typeface="Arial Unicode MS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4640"/>
            <a:ext cx="9906120" cy="59724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or i=1,…,m,  bu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712880" y="3787920"/>
            <a:ext cx="4189320" cy="1611000"/>
            <a:chOff x="1712880" y="3787920"/>
            <a:chExt cx="4189320" cy="1611000"/>
          </a:xfrm>
        </p:grpSpPr>
        <p:sp>
          <p:nvSpPr>
            <p:cNvPr id="105" name=""/>
            <p:cNvSpPr/>
            <p:nvPr/>
          </p:nvSpPr>
          <p:spPr>
            <a:xfrm>
              <a:off x="1712880" y="3787920"/>
              <a:ext cx="4189320" cy="1611000"/>
            </a:xfrm>
            <a:custGeom>
              <a:avLst/>
              <a:gdLst/>
              <a:ahLst/>
              <a:rect l="l" t="t" r="r" b="b"/>
              <a:pathLst>
                <a:path w="2639" h="2117">
                  <a:moveTo>
                    <a:pt x="689" y="144"/>
                  </a:moveTo>
                  <a:cubicBezTo>
                    <a:pt x="1082" y="46"/>
                    <a:pt x="2095" y="0"/>
                    <a:pt x="2367" y="280"/>
                  </a:cubicBezTo>
                  <a:cubicBezTo>
                    <a:pt x="2639" y="560"/>
                    <a:pt x="2602" y="1542"/>
                    <a:pt x="2322" y="1822"/>
                  </a:cubicBezTo>
                  <a:cubicBezTo>
                    <a:pt x="2042" y="2102"/>
                    <a:pt x="1075" y="2117"/>
                    <a:pt x="689" y="1958"/>
                  </a:cubicBezTo>
                  <a:cubicBezTo>
                    <a:pt x="303" y="1799"/>
                    <a:pt x="0" y="1172"/>
                    <a:pt x="8" y="870"/>
                  </a:cubicBezTo>
                  <a:cubicBezTo>
                    <a:pt x="16" y="568"/>
                    <a:pt x="296" y="242"/>
                    <a:pt x="689" y="144"/>
                  </a:cubicBez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09480" y="4411800"/>
              <a:ext cx="863280" cy="5814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0" y="3787920"/>
            <a:ext cx="8537040" cy="2164680"/>
            <a:chOff x="0" y="3787920"/>
            <a:chExt cx="8537040" cy="2164680"/>
          </a:xfrm>
        </p:grpSpPr>
        <p:sp>
          <p:nvSpPr>
            <p:cNvPr id="108" name=""/>
            <p:cNvSpPr/>
            <p:nvPr/>
          </p:nvSpPr>
          <p:spPr>
            <a:xfrm flipV="1">
              <a:off x="1539360" y="378792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39360" y="5492880"/>
              <a:ext cx="55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8320" y="5492880"/>
              <a:ext cx="19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3787920"/>
              <a:ext cx="19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ff"/>
                  </a:solidFill>
                  <a:latin typeface="Tahoma"/>
                  <a:ea typeface="Tahoma"/>
                </a:rPr>
                <a:t>attribut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073240" y="4437000"/>
            <a:ext cx="934560" cy="604080"/>
            <a:chOff x="2073240" y="4437000"/>
            <a:chExt cx="934560" cy="604080"/>
          </a:xfrm>
        </p:grpSpPr>
        <p:sp>
          <p:nvSpPr>
            <p:cNvPr id="113" name=""/>
            <p:cNvSpPr/>
            <p:nvPr/>
          </p:nvSpPr>
          <p:spPr>
            <a:xfrm>
              <a:off x="2073240" y="458136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289240" y="4437000"/>
              <a:ext cx="718560" cy="387360"/>
              <a:chOff x="2289240" y="4437000"/>
              <a:chExt cx="718560" cy="38736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2289240" y="4779000"/>
                <a:ext cx="44280" cy="44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333520" y="4437000"/>
                <a:ext cx="0" cy="387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33520" y="4824360"/>
                <a:ext cx="67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2576520" y="3621240"/>
            <a:ext cx="1584000" cy="1204200"/>
            <a:chOff x="2576520" y="3621240"/>
            <a:chExt cx="1584000" cy="1204200"/>
          </a:xfrm>
        </p:grpSpPr>
        <p:grpSp>
          <p:nvGrpSpPr>
            <p:cNvPr id="119" name=""/>
            <p:cNvGrpSpPr/>
            <p:nvPr/>
          </p:nvGrpSpPr>
          <p:grpSpPr>
            <a:xfrm>
              <a:off x="3441600" y="3621240"/>
              <a:ext cx="718920" cy="388800"/>
              <a:chOff x="3441600" y="3621240"/>
              <a:chExt cx="718920" cy="388800"/>
            </a:xfrm>
          </p:grpSpPr>
          <p:sp>
            <p:nvSpPr>
              <p:cNvPr id="120" name=""/>
              <p:cNvSpPr/>
              <p:nvPr/>
            </p:nvSpPr>
            <p:spPr>
              <a:xfrm flipV="1">
                <a:off x="3441600" y="3965400"/>
                <a:ext cx="44280" cy="446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85880" y="3621240"/>
                <a:ext cx="0" cy="388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85880" y="4010040"/>
                <a:ext cx="67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576520" y="3789360"/>
              <a:ext cx="1007640" cy="1036080"/>
              <a:chOff x="2576520" y="3789360"/>
              <a:chExt cx="1007640" cy="1036080"/>
            </a:xfrm>
          </p:grpSpPr>
          <p:sp>
            <p:nvSpPr>
              <p:cNvPr id="124" name=""/>
              <p:cNvSpPr/>
              <p:nvPr/>
            </p:nvSpPr>
            <p:spPr>
              <a:xfrm>
                <a:off x="3224160" y="3789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76520" y="4365720"/>
                <a:ext cx="3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865600" y="4149720"/>
                <a:ext cx="718560" cy="388800"/>
                <a:chOff x="2865600" y="4149720"/>
                <a:chExt cx="718560" cy="388800"/>
              </a:xfrm>
            </p:grpSpPr>
            <p:sp>
              <p:nvSpPr>
                <p:cNvPr id="127" name=""/>
                <p:cNvSpPr/>
                <p:nvPr/>
              </p:nvSpPr>
              <p:spPr>
                <a:xfrm flipV="1">
                  <a:off x="2865600" y="4493880"/>
                  <a:ext cx="44280" cy="4464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909880" y="4149720"/>
                  <a:ext cx="0" cy="3888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09880" y="4538520"/>
                  <a:ext cx="67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0" name=""/>
          <p:cNvSpPr/>
          <p:nvPr/>
        </p:nvSpPr>
        <p:spPr>
          <a:xfrm>
            <a:off x="6392880" y="3429000"/>
            <a:ext cx="35132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t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non-dominate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 if y≱x  for all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76880" y="3859200"/>
            <a:ext cx="1368360" cy="792000"/>
          </a:xfrm>
          <a:custGeom>
            <a:avLst/>
            <a:gdLst/>
            <a:ahLst/>
            <a:rect l="l" t="t" r="r" b="b"/>
            <a:pathLst>
              <a:path w="1043" h="953">
                <a:moveTo>
                  <a:pt x="0" y="0"/>
                </a:moveTo>
                <a:cubicBezTo>
                  <a:pt x="260" y="15"/>
                  <a:pt x="521" y="31"/>
                  <a:pt x="680" y="91"/>
                </a:cubicBezTo>
                <a:cubicBezTo>
                  <a:pt x="839" y="151"/>
                  <a:pt x="892" y="219"/>
                  <a:pt x="953" y="363"/>
                </a:cubicBezTo>
                <a:cubicBezTo>
                  <a:pt x="1014" y="507"/>
                  <a:pt x="1028" y="855"/>
                  <a:pt x="1043" y="953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81600" y="2637000"/>
            <a:ext cx="3313080" cy="1368360"/>
            <a:chOff x="4881600" y="2637000"/>
            <a:chExt cx="3313080" cy="1368360"/>
          </a:xfrm>
        </p:grpSpPr>
        <p:sp>
          <p:nvSpPr>
            <p:cNvPr id="133" name=""/>
            <p:cNvSpPr/>
            <p:nvPr/>
          </p:nvSpPr>
          <p:spPr>
            <a:xfrm>
              <a:off x="4881600" y="263700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Pareto s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457960" y="3069000"/>
              <a:ext cx="43200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657600" y="4076640"/>
            <a:ext cx="934560" cy="675720"/>
            <a:chOff x="3657600" y="4076640"/>
            <a:chExt cx="934560" cy="675720"/>
          </a:xfrm>
        </p:grpSpPr>
        <p:grpSp>
          <p:nvGrpSpPr>
            <p:cNvPr id="136" name=""/>
            <p:cNvGrpSpPr/>
            <p:nvPr/>
          </p:nvGrpSpPr>
          <p:grpSpPr>
            <a:xfrm>
              <a:off x="3873600" y="4076640"/>
              <a:ext cx="718560" cy="387360"/>
              <a:chOff x="3873600" y="4076640"/>
              <a:chExt cx="718560" cy="38736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3873600" y="4418640"/>
                <a:ext cx="44280" cy="44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17880" y="4076640"/>
                <a:ext cx="0" cy="387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17880" y="4464000"/>
                <a:ext cx="67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657600" y="42926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05000"/>
            <a:ext cx="99061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exist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v(x)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 does not necessarily imply that x </a:t>
            </a:r>
            <a:r>
              <a:rPr b="1" lang="en-US" sz="2800" spc="-1" strike="noStrike">
                <a:solidFill>
                  <a:srgbClr val="9966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normativ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8428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“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uper-criter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which aggregates the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500280"/>
            <a:ext cx="990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“stronger” preference order ≻ is needed to get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ue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r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reference order:     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76280"/>
            <a:ext cx="990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of the preferences (over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                 by a real-valued function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005360"/>
            <a:ext cx="3025800" cy="431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33888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n 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.e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 or ~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ran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complet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1240" y="1052640"/>
            <a:ext cx="273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08640"/>
            <a:ext cx="9906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ea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 (asymmetric and negatively transitiv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⊁y and y⊁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enote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⊁y and y⊁x) by x~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~ i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8160" y="981000"/>
            <a:ext cx="2592360" cy="432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13372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681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fferenc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y~x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843440"/>
            <a:ext cx="990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shburn (197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is a preserving order value function if and only if ≽ is complete and                                                                 there is a countable se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fference s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dense in it.  (if “there are no more indifference sets than real numbers”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52640"/>
            <a:ext cx="9906120" cy="193608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xicographic order in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if [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x}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no indifference curves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function which represents the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cographic ord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392880" y="-100080"/>
            <a:ext cx="3048120" cy="2590920"/>
            <a:chOff x="6392880" y="-100080"/>
            <a:chExt cx="3048120" cy="2590920"/>
          </a:xfrm>
        </p:grpSpPr>
        <p:sp>
          <p:nvSpPr>
            <p:cNvPr id="156" name=""/>
            <p:cNvSpPr/>
            <p:nvPr/>
          </p:nvSpPr>
          <p:spPr>
            <a:xfrm>
              <a:off x="6411960" y="-10008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92880" y="24908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73960" y="160200"/>
              <a:ext cx="1905120" cy="1928880"/>
            </a:xfrm>
            <a:custGeom>
              <a:avLst/>
              <a:gdLst/>
              <a:ahLst/>
              <a:rect l="l" t="t" r="r" b="b"/>
              <a:pathLst>
                <a:path w="1200" h="1152">
                  <a:moveTo>
                    <a:pt x="0" y="0"/>
                  </a:moveTo>
                  <a:cubicBezTo>
                    <a:pt x="20" y="342"/>
                    <a:pt x="40" y="684"/>
                    <a:pt x="240" y="876"/>
                  </a:cubicBezTo>
                  <a:cubicBezTo>
                    <a:pt x="440" y="1068"/>
                    <a:pt x="1038" y="1106"/>
                    <a:pt x="1200" y="11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89960" y="1025280"/>
              <a:ext cx="8636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1484280"/>
            <a:ext cx="64659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x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ither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sets can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ly ord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608880" y="160200"/>
            <a:ext cx="2374920" cy="2228760"/>
            <a:chOff x="6608880" y="160200"/>
            <a:chExt cx="2374920" cy="2228760"/>
          </a:xfrm>
        </p:grpSpPr>
        <p:sp>
          <p:nvSpPr>
            <p:cNvPr id="162" name=""/>
            <p:cNvSpPr/>
            <p:nvPr/>
          </p:nvSpPr>
          <p:spPr>
            <a:xfrm>
              <a:off x="6608880" y="160200"/>
              <a:ext cx="2374920" cy="2228760"/>
            </a:xfrm>
            <a:custGeom>
              <a:avLst/>
              <a:gdLst/>
              <a:ahLst/>
              <a:rect l="l" t="t" r="r" b="b"/>
              <a:pathLst>
                <a:path w="1496" h="1332">
                  <a:moveTo>
                    <a:pt x="8" y="0"/>
                  </a:moveTo>
                  <a:cubicBezTo>
                    <a:pt x="4" y="387"/>
                    <a:pt x="0" y="774"/>
                    <a:pt x="248" y="996"/>
                  </a:cubicBezTo>
                  <a:cubicBezTo>
                    <a:pt x="496" y="1218"/>
                    <a:pt x="1286" y="1276"/>
                    <a:pt x="1496" y="13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24520" y="1168200"/>
              <a:ext cx="71928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248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inuity Condi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ts {b : b≽a} and {b : a≽b} are closed for all a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breu (1954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exist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inuou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function if ≽ is weak and the continuity condition is satisfied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392880" y="0"/>
            <a:ext cx="3048120" cy="2590920"/>
            <a:chOff x="6392880" y="0"/>
            <a:chExt cx="3048120" cy="2590920"/>
          </a:xfrm>
        </p:grpSpPr>
        <p:sp>
          <p:nvSpPr>
            <p:cNvPr id="166" name=""/>
            <p:cNvSpPr/>
            <p:nvPr/>
          </p:nvSpPr>
          <p:spPr>
            <a:xfrm>
              <a:off x="6411960" y="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92880" y="259092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81960" y="8366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a   </a:t>
              </a:r>
              <a:r>
                <a:rPr b="0" lang="ar-SA" sz="2800" spc="-1" strike="noStrike">
                  <a:solidFill>
                    <a:srgbClr val="ff0033"/>
                  </a:solidFill>
                  <a:latin typeface="Times New Roman"/>
                  <a:cs typeface="Times New Roman"/>
                </a:rPr>
                <a:t>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3068640"/>
            <a:ext cx="990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function is unique up to monotone transformation: i.e.,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value function so is u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u is a monotone increasing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96160" y="404640"/>
            <a:ext cx="2520720" cy="1295640"/>
            <a:chOff x="6896160" y="404640"/>
            <a:chExt cx="2520720" cy="1295640"/>
          </a:xfrm>
        </p:grpSpPr>
        <p:sp>
          <p:nvSpPr>
            <p:cNvPr id="171" name=""/>
            <p:cNvSpPr/>
            <p:nvPr/>
          </p:nvSpPr>
          <p:spPr>
            <a:xfrm>
              <a:off x="6896160" y="404640"/>
              <a:ext cx="1657440" cy="1295640"/>
            </a:xfrm>
            <a:custGeom>
              <a:avLst/>
              <a:gdLst/>
              <a:ahLst/>
              <a:rect l="l" t="t" r="r" b="b"/>
              <a:pathLst>
                <a:path w="1044" h="816">
                  <a:moveTo>
                    <a:pt x="0" y="0"/>
                  </a:moveTo>
                  <a:cubicBezTo>
                    <a:pt x="117" y="227"/>
                    <a:pt x="235" y="454"/>
                    <a:pt x="409" y="590"/>
                  </a:cubicBezTo>
                  <a:cubicBezTo>
                    <a:pt x="583" y="726"/>
                    <a:pt x="938" y="778"/>
                    <a:pt x="1044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61240" y="69228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b:b≽a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040520" y="620640"/>
            <a:ext cx="2865600" cy="863640"/>
            <a:chOff x="7040520" y="620640"/>
            <a:chExt cx="2865600" cy="863640"/>
          </a:xfrm>
        </p:grpSpPr>
        <p:sp>
          <p:nvSpPr>
            <p:cNvPr id="174" name=""/>
            <p:cNvSpPr/>
            <p:nvPr/>
          </p:nvSpPr>
          <p:spPr>
            <a:xfrm>
              <a:off x="7040520" y="62064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84880" y="83664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57960" y="105264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45240" y="126828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04160" y="1484280"/>
              <a:ext cx="200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0" y="5084640"/>
            <a:ext cx="9906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hen is 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v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30T03:42:18Z</dcterms:created>
  <dc:creator>School of Management Studies</dc:creator>
  <dc:description/>
  <dc:language>en-US</dc:language>
  <cp:lastModifiedBy>Henig</cp:lastModifiedBy>
  <cp:lastPrinted>2000-07-05T12:30:12Z</cp:lastPrinted>
  <dcterms:modified xsi:type="dcterms:W3CDTF">2004-11-02T17:05:20Z</dcterms:modified>
  <cp:revision>1018</cp:revision>
  <dc:subject/>
  <dc:title>From Mechanistic to Social Systemic Thin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mngt.waikato.ac.nz/depts/mnss/john</vt:lpwstr>
  </property>
  <property fmtid="{D5CDD505-2E9C-101B-9397-08002B2CF9AE}" pid="9" name="LinkColor">
    <vt:r8>16711782</vt:r8>
  </property>
  <property fmtid="{D5CDD505-2E9C-101B-9397-08002B2CF9AE}" pid="10" name="MailAddress">
    <vt:lpwstr>jtb@waikato.ac.nz</vt:lpwstr>
  </property>
  <property fmtid="{D5CDD505-2E9C-101B-9397-08002B2CF9AE}" pid="11" name="NavBtnPos">
    <vt:r8>3</vt:r8>
  </property>
  <property fmtid="{D5CDD505-2E9C-101B-9397-08002B2CF9AE}" pid="12" name="Other">
    <vt:lpwstr>Presentation at the APORS '97 Meeting, Melbourne, Australia, 30 November - 04 December, 1997
</vt:lpwstr>
  </property>
  <property fmtid="{D5CDD505-2E9C-101B-9397-08002B2CF9AE}" pid="13" name="OutputDir">
    <vt:lpwstr>C:\document\PowerPoin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